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8EE-3A1A-4ACC-B3D9-E0CED07F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611-E5F8-4534-B2EA-0B4E1471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43B-89FD-407A-BEE1-10BAE48F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1BC-D8AE-4D67-B090-F25C30F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E81A-54CD-4251-A569-8BAADD86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C3F1-8139-48AB-AC2B-28D95C2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510-1D60-4581-8D49-4D3E43A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EEF-AD07-41A5-8FD7-DAF3564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C45-730B-4E34-A534-9156C63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A1C7-671B-4A83-A869-D239E29B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767-8D6C-4905-B664-DBFFB02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66D-2342-4595-BF10-159BA6D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8829-26B0-4105-A502-43D2283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94B6-6718-4925-8437-52719A7E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01C-EF04-4B9D-A11F-A807DF6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CB2D-B635-4C14-A015-BE639AF4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17DB-B1B4-46FF-AAA0-0A5A2075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1B8E0-C1BB-4E84-A249-D4543722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DB6B1-96D6-41F9-8040-F6437B9D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668C2-2890-4A15-B7EF-CAC7A05B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1A87B-EF66-4A4F-89E1-7E5A2C6C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DCA14-363F-409A-9D1F-7314662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AAA-D1CF-47FE-8EEB-E7B8DF39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134D-058E-40E3-885A-A96254E7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2AE04-7419-4889-8DD2-7AEB88E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0190-D2FB-46C1-A43D-059AF37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76ABF-E078-41E3-BB14-30E3ACE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DDF0F-AF60-4955-9948-6148863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33315-6BC9-4088-B6F1-DA7A3850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F92E7-6506-492C-8261-A0FA23F7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03E9C-1B56-4BA5-8CC4-F6000D19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4FF8D-A845-48B5-9FC6-50E78B55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16852-AA83-476A-9A07-18F6B0F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054-9790-4C68-9297-3F1763E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91571-05EF-41F6-B4BC-2F32172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19F2B-D325-4C12-A47A-DB02E41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7D6CF-914C-4E36-B751-918E67A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51A9F-3635-41FD-9F40-B31DBC2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72798-2F3E-4314-BEC6-8854D6A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B4257-9B76-422F-AF76-FD74365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4C2BF-16FD-42BF-8F38-DCC370A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0F581-DF65-4237-B322-9FCA1F73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6EE9C-5E27-4C62-A169-1A95A710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6A36B-6032-4BF0-A012-51A3CAB0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90F-FCB1-4DA4-8239-E1E789AC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2287B-B69F-465E-B460-1611FFF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DD724-C671-451A-8E60-DD2F3F2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CC904-BE47-4B4A-84C9-7C74E88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8E95C-4B9E-46D6-92BE-A5A758C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61444-99B2-4786-8E15-D4B47AB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91C56-94B1-434D-92A3-A81257F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A94E3-694A-49A6-AA78-BB5FFEA1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339B0-65AC-48D6-A248-4F132B8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67E82-31EB-4AE3-A3F5-57DD66C1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508D4-407B-461D-A8EC-0548860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7D6-D438-4B36-AA40-94EC9D2D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BECA8-B0CE-4615-A17F-FF2072CB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D286-6AC7-4155-81B5-9D6B9D2B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39CA9-AB26-4D01-8401-0D1559D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09ED-7217-405D-AF9D-00BDBAB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3DFE-1FA0-4574-BF54-E14DC4A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43E1-6790-43F0-8530-921323AC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3C14-D5FC-4CBC-A4EB-6B680A3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5F7C-AABA-4F2D-AF9D-D2EAE0D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AB38-9B55-43BF-BD7A-A85348F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25D0-BEE8-46FC-A5B1-5B1C339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5AF-9E88-4ABB-92C9-0F03F8CC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D108-C6CF-4B0E-BD43-8244033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C62E1-89BE-4391-B457-B35411E7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7AE9F-CF34-4CCD-B068-33108BE3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C1A2B-A1FD-43B5-ADD0-E1B1BAD8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48DE7-A4FC-4DBE-89EC-FEF883B9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A28AC-FCAA-4E11-B1D5-AC0A1DF6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FC8D9-0A23-4307-9255-237B953E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5BB94-22F4-4DC5-A35F-E856FA47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EA3BE-E5A5-41A1-9E77-0B630057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659A7-F94A-4741-AB07-19E7FC2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39D-E9CA-4D67-9DB8-4265AAD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49C7E-9E48-47B1-85BF-E4DB08F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B89B7-0D25-401B-ADB6-A62C70A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F81EE-311C-4440-BC35-BC7C9A0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2A0F2-F7C7-42B9-95BE-5197F079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90C7A-4C49-4F1C-B73B-376C5C09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B010C-B922-4B0E-8497-6E4A91C1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D10B-FBE7-48B1-8393-36898555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4F07-44ED-409D-B746-D86366B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72786-6E28-42A8-97E5-57342EF7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7B833-C7BB-4227-A7C7-884DFC60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207-F735-449F-8C37-0DA5A5E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1E2F-F4D2-4F5F-8AE0-412AA5D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76A17-35D0-4864-A3AA-5648E1C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9DF4-F35E-47B8-982A-B0F0FAF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25E6-3C28-4AA5-93EC-2B224B4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F9F0D-7E1A-4193-979E-F7A3759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A5157-2840-425B-850F-D5B51208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21E1-0ADA-4C7A-972D-83D1E3DA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6E5-4C3E-4A7A-BB5C-26898069A4B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5E60-3156-4652-80CF-341D9B1D4BAB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DC1E-4E0A-41DD-B1EF-C28D7521BAB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7FF-C5E4-4717-BB72-FF6D2671928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13DC-1027-4956-AA49-751E610809F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113A-A593-4DFC-BC6B-D28563CA159F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BC3-8B3C-4AFD-9C8E-E6519BDAA6C0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5639-ECD2-45C4-8343-B54ED49DA6A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7358040" cy="53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7b3d17"/>
                </a:solidFill>
                <a:latin typeface="Impact"/>
              </a:rPr>
              <a:t>ПРОБЛЕМА СНИЖЕНИЯ МОТИВАЦИИ К УЧЕНИЮ И ПУТИ ЕЁ РЕШЕНИЯ </a:t>
            </a:r>
            <a:br>
              <a:rPr sz="4900"/>
            </a:br>
            <a:br>
              <a:rPr sz="4000"/>
            </a:br>
            <a:endParaRPr b="0" lang="en-US" sz="4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Расслабляющий Музыка Мастер - Музыка для Работы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3d17"/>
                </a:solidFill>
                <a:latin typeface="Impact"/>
              </a:rPr>
              <a:t>Для успешного проведения уроков необходимо создавать атмосферу заинтересованности и творчества: например, мы не учителя, они не ученики, а путешественники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Одним из важных средств формирования мотивации и   раскрытия возможностей первоклассника является широкое использование игровых ситуаций на уроке. Игра на уроке – это метод обучения, а не средство развлечения учащих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Impact"/>
              </a:rPr>
              <a:t>Важно на уроках использовать приёмы</a:t>
            </a:r>
            <a:r>
              <a:rPr b="0" lang="ru-RU" sz="2800" spc="-1" strike="noStrike">
                <a:solidFill>
                  <a:srgbClr val="7b3d17"/>
                </a:solidFill>
                <a:latin typeface="Impact"/>
              </a:rPr>
              <a:t>, которые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вают познавательную активность, вызывают интерес к предмету, - помогают сделать уроки занимательным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ют ситуацию успех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положительный эмоциональный настрой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доброжелательную атмосферу доверия и сотрудничества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создают проблемные ситуации, через анализ, сравнение учебных объект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2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7b3d17"/>
                </a:solidFill>
                <a:uFillTx/>
                <a:latin typeface="Impact"/>
              </a:rPr>
              <a:t>Приёмы повышения мотивации школьников.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сроченная отгадка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рогноз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Оратор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Автор»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рофи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умир»  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Фантазёр»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Верные - неверные утвержд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Лови ошибк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осмотри на мир чужими глазами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нтастическая добавка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дивля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-нетку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а уроках математик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Рисунок 4" descr=""/>
          <p:cNvPicPr/>
          <p:nvPr/>
        </p:nvPicPr>
        <p:blipFill>
          <a:blip r:embed="rId1"/>
          <a:stretch/>
        </p:blipFill>
        <p:spPr>
          <a:xfrm>
            <a:off x="539640" y="1573200"/>
            <a:ext cx="79930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3" name="Объект 1" descr=""/>
          <p:cNvPicPr/>
          <p:nvPr/>
        </p:nvPicPr>
        <p:blipFill>
          <a:blip r:embed="rId1"/>
          <a:stretch/>
        </p:blipFill>
        <p:spPr>
          <a:xfrm>
            <a:off x="395280" y="20520"/>
            <a:ext cx="849780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324000" y="181080"/>
            <a:ext cx="871200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Рисунок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0" name="Picture 2" descr="https://sun9-7.userapi.com/c848528/v848528976/4e65d/7w9y2pK8lkA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2" name="Picture 2" descr="C:\Documents and Settings\User\Мои документы\Downloads\toJZ1xnb3ew.jpg"/>
          <p:cNvPicPr/>
          <p:nvPr/>
        </p:nvPicPr>
        <p:blipFill>
          <a:blip r:embed="rId1"/>
          <a:stretch/>
        </p:blipFill>
        <p:spPr>
          <a:xfrm>
            <a:off x="395280" y="333360"/>
            <a:ext cx="848988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400" y="1428840"/>
            <a:ext cx="8296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7b3d17"/>
                </a:solidFill>
                <a:latin typeface="Impact"/>
              </a:rPr>
              <a:t>Мотивация - это побуждения, вызывающие активность, определяющие направленность личност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а уроках обучения грамоте (чтение, письмо, развитие речи)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4" name="Объект 3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2951280" cy="41767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901960" cy="41054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"/>
          <p:cNvPicPr/>
          <p:nvPr/>
        </p:nvPicPr>
        <p:blipFill>
          <a:blip r:embed="rId3"/>
          <a:stretch/>
        </p:blipFill>
        <p:spPr>
          <a:xfrm>
            <a:off x="5961240" y="1316160"/>
            <a:ext cx="318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8" name="Объект 3" descr=""/>
          <p:cNvPicPr/>
          <p:nvPr/>
        </p:nvPicPr>
        <p:blipFill>
          <a:blip r:embed="rId1"/>
          <a:stretch/>
        </p:blipFill>
        <p:spPr>
          <a:xfrm>
            <a:off x="108000" y="1825560"/>
            <a:ext cx="3095640" cy="4299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"/>
          <p:cNvPicPr/>
          <p:nvPr/>
        </p:nvPicPr>
        <p:blipFill>
          <a:blip r:embed="rId2"/>
          <a:stretch/>
        </p:blipFill>
        <p:spPr>
          <a:xfrm>
            <a:off x="3244680" y="1806480"/>
            <a:ext cx="3054600" cy="43214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"/>
          <p:cNvPicPr/>
          <p:nvPr/>
        </p:nvPicPr>
        <p:blipFill>
          <a:blip r:embed="rId3"/>
          <a:stretch/>
        </p:blipFill>
        <p:spPr>
          <a:xfrm>
            <a:off x="6311880" y="1806480"/>
            <a:ext cx="2763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2" name="Объект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4" name="Объект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6" name="Объект 5" descr=""/>
          <p:cNvPicPr/>
          <p:nvPr/>
        </p:nvPicPr>
        <p:blipFill>
          <a:blip r:embed="rId1"/>
          <a:stretch/>
        </p:blipFill>
        <p:spPr>
          <a:xfrm>
            <a:off x="468360" y="-41400"/>
            <a:ext cx="835164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Знаки реч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ук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жно ли их показать по – другому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вритм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кусство видимого зву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, выраженный в движени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ется в вальдорфской педагогической систем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2" name="Picture 2" descr="C:\Documents and Settings\User\Рабочий стол\1428002094.png"/>
          <p:cNvPicPr/>
          <p:nvPr/>
        </p:nvPicPr>
        <p:blipFill>
          <a:blip r:embed="rId1"/>
          <a:stretch/>
        </p:blipFill>
        <p:spPr>
          <a:xfrm>
            <a:off x="395280" y="61920"/>
            <a:ext cx="84247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4" name="Объект 3" descr=""/>
          <p:cNvPicPr/>
          <p:nvPr/>
        </p:nvPicPr>
        <p:blipFill>
          <a:blip r:embed="rId1"/>
          <a:stretch/>
        </p:blipFill>
        <p:spPr>
          <a:xfrm>
            <a:off x="28440" y="28440"/>
            <a:ext cx="91155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6" name="Picture 2" descr="C:\Documents and Settings\User\Мои документы\Downloads\nQZGuMAbMOE.jpg"/>
          <p:cNvPicPr/>
          <p:nvPr/>
        </p:nvPicPr>
        <p:blipFill>
          <a:blip r:embed="rId1"/>
          <a:stretch/>
        </p:blipFill>
        <p:spPr>
          <a:xfrm>
            <a:off x="611280" y="177840"/>
            <a:ext cx="8367480" cy="2674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User\Мои документы\Downloads\DvoZ2cWEoFo.jpg"/>
          <p:cNvPicPr/>
          <p:nvPr/>
        </p:nvPicPr>
        <p:blipFill>
          <a:blip r:embed="rId2"/>
          <a:stretch/>
        </p:blipFill>
        <p:spPr>
          <a:xfrm>
            <a:off x="590400" y="4437000"/>
            <a:ext cx="8374320" cy="226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Documents and Settings\User\Мои документы\Downloads\IdL2NY3qTXE.jpg"/>
          <p:cNvPicPr/>
          <p:nvPr/>
        </p:nvPicPr>
        <p:blipFill>
          <a:blip r:embed="rId3"/>
          <a:stretch/>
        </p:blipFill>
        <p:spPr>
          <a:xfrm>
            <a:off x="611280" y="2852640"/>
            <a:ext cx="8353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85520" y="1999800"/>
            <a:ext cx="79801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правильный отбор содержания учебного материала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владение методами обучения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умение строить отношения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особенности личности учител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71680" y="0"/>
            <a:ext cx="7572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Impact"/>
              </a:rPr>
              <a:t>Причины снижения мотив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Impact"/>
              </a:rPr>
              <a:t>зависящие от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0" name="Picture 2" descr="C:\Documents and Settings\User\Мои документы\Downloads\cVm3vsq9hCc.jpg"/>
          <p:cNvPicPr/>
          <p:nvPr/>
        </p:nvPicPr>
        <p:blipFill>
          <a:blip r:embed="rId1"/>
          <a:stretch/>
        </p:blipFill>
        <p:spPr>
          <a:xfrm>
            <a:off x="324000" y="144360"/>
            <a:ext cx="8351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642960" y="2428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94740"/>
                </a:solidFill>
                <a:latin typeface="Impact"/>
              </a:rPr>
              <a:t>Спасибо    за   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ba8f2d"/>
                </a:solidFill>
                <a:latin typeface="Impact"/>
              </a:rPr>
              <a:t>Причины снижения мотивации, зависящие от ученика 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28800" y="1214280"/>
            <a:ext cx="78372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низкий уровень знаний;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не сложившиеся отношения с классом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задержка развития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аномальное развити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Impact"/>
              </a:rPr>
              <a:t>Пути решения проблем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2720" y="1600200"/>
          <a:ext cx="8153280" cy="514368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4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Создание условий развития учебной мотивации современного шк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свобода выбора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снятие внешнего контрол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значимые результаты обучени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удовольствие от процесса обучени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личность учителя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Создание условий развития учебной мотивации современного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осмысленная деятельность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внутренняя мотивация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мотивация на успех;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познавательный интерес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взаимоотношение учителя с класс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071720"/>
            <a:ext cx="8429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Задача учителя начальных классов – создать для ребенка комфортные, благоприятные условия для учебы, когда всем интересно, уютно, тепло от общения с учителем и одноклассниками, когда каждый ребенок чувствует любовь и уважение к се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3d17"/>
                </a:solidFill>
                <a:latin typeface="Impact"/>
              </a:rPr>
              <a:t>Девиз 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моей педагогической деятельности звучит та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« Учение без принуждения 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а главную </a:t>
            </a:r>
            <a:r>
              <a:rPr b="1" lang="ru-RU" sz="3600" spc="-1" strike="noStrike">
                <a:solidFill>
                  <a:srgbClr val="7b3d17"/>
                </a:solidFill>
                <a:latin typeface="Impact"/>
              </a:rPr>
              <a:t>задачу 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вижу в том, чтобы сделать процесс обучения занима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3d17"/>
                </a:solidFill>
                <a:latin typeface="Impact"/>
              </a:rPr>
              <a:t>Для мотивации учения, формирования умения учиться, развития творческих способностей учащихся я применяю нетрадиционные методы и приёмы, которые помогают детям не только усваивать материал, но позволяют это делать с интересом, увлечённ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428760" y="1859040"/>
            <a:ext cx="85723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3d17"/>
                </a:solidFill>
                <a:latin typeface="Impact"/>
              </a:rPr>
              <a:t>В формировании учебной мотивации существенную роль играет уровень взаимоотношений в классном коллективе, насколько комфортно ощущает себя ребенок в среде сверстников.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5:54:07Z</dcterms:created>
  <dc:creator>Интернет</dc:creator>
  <dc:description/>
  <dc:language>en-US</dc:language>
  <cp:lastModifiedBy>User</cp:lastModifiedBy>
  <dcterms:modified xsi:type="dcterms:W3CDTF">2018-10-30T17:43:27Z</dcterms:modified>
  <cp:revision>47</cp:revision>
  <dc:subject/>
  <dc:title>Причины снижения мотивации к учению и пути решения этой проблемы.</dc:title>
</cp:coreProperties>
</file>