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B73-0A0C-4D5B-8396-1F43B1C4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F76-B328-4F64-9AB7-5C28FB91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FB9-CA96-4734-A946-D255660F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91C-7F39-4175-B77B-F32F14C0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DFCC-B414-4536-B0DA-5544B2DE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9248-02C9-498B-919F-B2FF0205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7A48-FC72-4215-89DC-F54A6591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D178-CEBD-41E1-9DD1-C792C706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3290-7251-465F-ACAF-D09587BC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0268-8A60-4DE9-BD85-4D81A992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BDAF-6401-4394-8292-70531F0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C33-910B-4DBE-AAF1-9B4EBA77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5452-132C-4805-BA8F-AC0ADF33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21E6-D4B6-488A-B89F-62AC8456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645A-090A-43FF-8A92-225E55DF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E6B8-C76E-4F33-BE79-01415EFA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28C3-9EF2-416A-A449-86B51D2E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66EEB-43F1-4758-A35A-6485EF2F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E1E69-7F88-4343-B755-41D9DEB1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B7A29-FA63-49A3-8ABD-86088362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86ED9-EAFE-47F9-A90F-B401520A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C5E27-6805-4486-9C39-75C9B864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060-DC3C-4554-BA7A-7BE638CB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09EEC-4080-48CF-A5B8-5351F24A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FF90C-9586-4D06-A861-4272F584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3090C-BE74-4074-9CB9-82B7123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2B3E3-6349-4B59-9F21-2BF1775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73CCD-77C8-4502-9F7D-3EC3AF00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73DFF-8FC0-41FE-AB1E-80C860ED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209B8-0536-42DC-B027-8B708356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C67DD-9724-4F4D-BF3A-EC219880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8B91A-6D18-45E0-935A-CFEC4C3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50FDF-3D14-4AE1-B820-BFB8D4D6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AAC-7678-406A-868E-A95CFD3E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FA4FC-CBF3-4985-A396-AEEF41D1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4FD3F-B4D9-45D7-9FAF-6D6C8422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ED7E1-C047-446D-A093-6B617FBF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7E518-9C8F-429D-A52F-5C6565D2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23DFF-BF79-4F6B-9BA2-2C16E3FF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B5DFF-81A4-4E58-B993-B202D103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BA98B-0636-4492-9BAF-786058AB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1CEA0-157E-47BC-B16F-33FF7FFA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AB67D-745E-4728-9C64-324C8F31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0218D-A63A-4C33-94CF-D248A27F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88B-1E10-4CF1-938B-03AAF342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D40A2-2F39-4118-928D-D4A52891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C05C1-DB1D-4967-9E5F-23F301E3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3725F-5416-4F48-93D6-23C54BE2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1E33E-1311-4E98-971B-3C115181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5029C-442C-438D-BB53-8B6917B5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07947-7E99-4405-9B38-E56B3E7C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1F153-220C-4D65-B6AC-B3E66EE6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D42DF-D285-4678-9A3F-D7BFB269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F72A2-6484-4C2E-BF2A-70FFF594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FF252-0D4B-4193-99A9-8A384C56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AD0-FEFC-4E3B-A53E-569A70D6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73FA2-15F8-4F18-B0E9-8ECB7246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5C221-BB4A-46DE-B265-1561C7DC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F0B2E-B6A0-47D5-8152-608F6387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81C7B-F37D-42E7-B3B0-8C957D99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37129-E2A0-4EA4-8F95-94D103D4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455D3-0FBF-45F2-A7AB-05BE4753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C6DF-1197-457C-9C14-A0B77F06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C7A8-8CCA-4463-8528-47A9596D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2D3B1-BB55-4AC5-A7FB-04EAA051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713A-E8D4-4E48-BE0B-4CF13107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51C-63AE-4DBB-B2D4-5A847934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AA346-FFFF-49AA-852E-827CCBDA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23AF7-8604-49B2-B6D3-CEA48C4E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ADF3-7914-4719-8B72-C27BA552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67C34-CDA6-4AFF-8CA9-9054DCCE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7D703-4705-478F-A674-1131F9AB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6D700-73FD-47AE-8B73-5081169D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545D5-68D8-4978-90FC-7D42DD90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592E8-77BC-45CB-B602-93CF88D6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802C2-65B7-4A7E-B393-DBF9C1B8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AF456-410A-48A0-BE77-9205D36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828-BCD2-4275-A402-DB1C3B7C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EE706-1BE8-4FEC-9EA4-BBA33610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3BD20-8514-42E1-9881-F1738949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F2219-5E99-4A86-83CE-C705C03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47439-8060-4A70-8D97-AF85412C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9611C-8711-4E57-8140-0221BD22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2892A-22CF-4476-9F5E-C9A91E8C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8C3A1-E663-4814-96F8-E3660DB2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96142-CD96-49BC-946C-6DD1E806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80122-1D07-4C93-96E5-0BBBF62E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669D0-6C0D-453F-A94A-78317090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776-7CB8-4960-98EE-B5B616A1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A0894-25D6-4CC3-AA08-B3268087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E4FB2-9068-4E92-A80E-221169F5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639EB-6442-4725-816D-E97DE008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5EE00-E60C-4D48-9881-5175B4E6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64D98-B07A-410E-B58F-5E7BFA0E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E9809-C73D-4661-B0F0-85725803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51842-5EC6-478D-AF94-CD5FF5E8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9AB9-EB0D-4CDF-B360-2B61C667CD6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559F-821B-44C8-BDDD-6A823A6B1385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6AEF-4670-462C-AE4F-A345A246AB43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553C-7785-4617-93A6-FEB82D7DEFA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4551-592D-45AF-BDDF-E643500185D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A120-D2A2-47FC-BBB9-8AB97B39663D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25FF-49A4-494A-9A19-151D4ADDA6D3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5EDE-77BB-4DC2-B362-2E741E617DC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9720" y="571680"/>
            <a:ext cx="7358040" cy="53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7b3d17"/>
                </a:solidFill>
                <a:latin typeface="Impact"/>
              </a:rPr>
              <a:t>ПРОБЛЕМА СНИЖЕНИЯ МОТИВАЦИИ К УЧЕНИЮ И ПУТИ ЕЁ РЕШЕНИЯ </a:t>
            </a:r>
            <a:br>
              <a:rPr sz="4900"/>
            </a:br>
            <a:br>
              <a:rPr sz="4000"/>
            </a:br>
            <a:endParaRPr b="0" lang="en-US" sz="49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Расслабляющий Музыка Мастер - Музыка для Работы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Impac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3d17"/>
                </a:solidFill>
                <a:latin typeface="Impact"/>
              </a:rPr>
              <a:t>Для успешного проведения уроков необходимо создавать атмосферу заинтересованности и творчества: например, мы не учителя, они не ученики, а путешественники 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Одним из важных средств формирования мотивации и   раскрытия возможностей первоклассника является широкое использование игровых ситуаций на уроке. Игра на уроке – это метод обучения, а не средство развлечения учащих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Impact"/>
              </a:rPr>
              <a:t>Важно на уроках использовать приёмы</a:t>
            </a:r>
            <a:r>
              <a:rPr b="0" lang="ru-RU" sz="2800" spc="-1" strike="noStrike">
                <a:solidFill>
                  <a:srgbClr val="7b3d17"/>
                </a:solidFill>
                <a:latin typeface="Impact"/>
              </a:rPr>
              <a:t>, которые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вивают познавательную активность, вызывают интерес к предмету, - помогают сделать уроки занимательными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ют ситуацию успех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положительный эмоциональный настрой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доброжелательную атмосферу доверия и сотрудничества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создают проблемные ситуации, через анализ, сравнение учебных объект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2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7b3d17"/>
                </a:solidFill>
                <a:uFillTx/>
                <a:latin typeface="Impact"/>
              </a:rPr>
              <a:t>Приёмы повышения мотивации школьников.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сроченная отгадка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Прогнозирова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Оратор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Автор»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Профи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Кумир»  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Фантазёр»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Верные - неверные утвержд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Лови ошибку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Посмотри на мир чужими глазами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нтастическая добавка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дивля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-нетку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а уроках математик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Рисунок 4" descr=""/>
          <p:cNvPicPr/>
          <p:nvPr/>
        </p:nvPicPr>
        <p:blipFill>
          <a:blip r:embed="rId1"/>
          <a:stretch/>
        </p:blipFill>
        <p:spPr>
          <a:xfrm>
            <a:off x="539640" y="1573200"/>
            <a:ext cx="79930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3" name="Объект 1" descr=""/>
          <p:cNvPicPr/>
          <p:nvPr/>
        </p:nvPicPr>
        <p:blipFill>
          <a:blip r:embed="rId1"/>
          <a:stretch/>
        </p:blipFill>
        <p:spPr>
          <a:xfrm>
            <a:off x="395280" y="20520"/>
            <a:ext cx="8497800" cy="65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5" name="Объект 3" descr=""/>
          <p:cNvPicPr/>
          <p:nvPr/>
        </p:nvPicPr>
        <p:blipFill>
          <a:blip r:embed="rId1"/>
          <a:stretch/>
        </p:blipFill>
        <p:spPr>
          <a:xfrm>
            <a:off x="324000" y="181080"/>
            <a:ext cx="871200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Рисунок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0" name="Picture 2" descr="https://sun9-7.userapi.com/c848528/v848528976/4e65d/7w9y2pK8lkA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2" name="Picture 2" descr="C:\Documents and Settings\User\Мои документы\Downloads\toJZ1xnb3ew.jpg"/>
          <p:cNvPicPr/>
          <p:nvPr/>
        </p:nvPicPr>
        <p:blipFill>
          <a:blip r:embed="rId1"/>
          <a:stretch/>
        </p:blipFill>
        <p:spPr>
          <a:xfrm>
            <a:off x="395280" y="333360"/>
            <a:ext cx="848988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75f55"/>
              </a:solidFill>
              <a:latin typeface="Impac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28400" y="1428840"/>
            <a:ext cx="8296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7b3d17"/>
                </a:solidFill>
                <a:latin typeface="Impact"/>
              </a:rPr>
              <a:t>Мотивация - это побуждения, вызывающие активность, определяющие направленность личности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а уроках обучения грамоте (чтение, письмо, развитие речи)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4" name="Объект 3" descr=""/>
          <p:cNvPicPr/>
          <p:nvPr/>
        </p:nvPicPr>
        <p:blipFill>
          <a:blip r:embed="rId1"/>
          <a:stretch/>
        </p:blipFill>
        <p:spPr>
          <a:xfrm>
            <a:off x="34920" y="1484280"/>
            <a:ext cx="2951280" cy="41767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2901960" cy="41054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5" descr=""/>
          <p:cNvPicPr/>
          <p:nvPr/>
        </p:nvPicPr>
        <p:blipFill>
          <a:blip r:embed="rId3"/>
          <a:stretch/>
        </p:blipFill>
        <p:spPr>
          <a:xfrm>
            <a:off x="5961240" y="1316160"/>
            <a:ext cx="3182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8" name="Объект 3" descr=""/>
          <p:cNvPicPr/>
          <p:nvPr/>
        </p:nvPicPr>
        <p:blipFill>
          <a:blip r:embed="rId1"/>
          <a:stretch/>
        </p:blipFill>
        <p:spPr>
          <a:xfrm>
            <a:off x="108000" y="1825560"/>
            <a:ext cx="3095640" cy="429912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4" descr=""/>
          <p:cNvPicPr/>
          <p:nvPr/>
        </p:nvPicPr>
        <p:blipFill>
          <a:blip r:embed="rId2"/>
          <a:stretch/>
        </p:blipFill>
        <p:spPr>
          <a:xfrm>
            <a:off x="3244680" y="1806480"/>
            <a:ext cx="3054600" cy="43214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6" descr=""/>
          <p:cNvPicPr/>
          <p:nvPr/>
        </p:nvPicPr>
        <p:blipFill>
          <a:blip r:embed="rId3"/>
          <a:stretch/>
        </p:blipFill>
        <p:spPr>
          <a:xfrm>
            <a:off x="6311880" y="1806480"/>
            <a:ext cx="2763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2" name="Объект 6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9912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4" name="Объект 3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6" name="Объект 5" descr=""/>
          <p:cNvPicPr/>
          <p:nvPr/>
        </p:nvPicPr>
        <p:blipFill>
          <a:blip r:embed="rId1"/>
          <a:stretch/>
        </p:blipFill>
        <p:spPr>
          <a:xfrm>
            <a:off x="468360" y="-41400"/>
            <a:ext cx="835164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Знаки реч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в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Бук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жно ли их показать по – другому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вритм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кусство видимого зву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вук, выраженный в движени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пользуется в вальдорфской педагогической систем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12" name="Picture 2" descr="C:\Documents and Settings\User\Рабочий стол\1428002094.png"/>
          <p:cNvPicPr/>
          <p:nvPr/>
        </p:nvPicPr>
        <p:blipFill>
          <a:blip r:embed="rId1"/>
          <a:stretch/>
        </p:blipFill>
        <p:spPr>
          <a:xfrm>
            <a:off x="395280" y="61920"/>
            <a:ext cx="842472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14" name="Объект 3" descr=""/>
          <p:cNvPicPr/>
          <p:nvPr/>
        </p:nvPicPr>
        <p:blipFill>
          <a:blip r:embed="rId1"/>
          <a:stretch/>
        </p:blipFill>
        <p:spPr>
          <a:xfrm>
            <a:off x="28440" y="28440"/>
            <a:ext cx="91155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16" name="Picture 2" descr="C:\Documents and Settings\User\Мои документы\Downloads\nQZGuMAbMOE.jpg"/>
          <p:cNvPicPr/>
          <p:nvPr/>
        </p:nvPicPr>
        <p:blipFill>
          <a:blip r:embed="rId1"/>
          <a:stretch/>
        </p:blipFill>
        <p:spPr>
          <a:xfrm>
            <a:off x="611280" y="177840"/>
            <a:ext cx="8367480" cy="26748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Documents and Settings\User\Мои документы\Downloads\DvoZ2cWEoFo.jpg"/>
          <p:cNvPicPr/>
          <p:nvPr/>
        </p:nvPicPr>
        <p:blipFill>
          <a:blip r:embed="rId2"/>
          <a:stretch/>
        </p:blipFill>
        <p:spPr>
          <a:xfrm>
            <a:off x="590400" y="4437000"/>
            <a:ext cx="8374320" cy="2268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Documents and Settings\User\Мои документы\Downloads\IdL2NY3qTXE.jpg"/>
          <p:cNvPicPr/>
          <p:nvPr/>
        </p:nvPicPr>
        <p:blipFill>
          <a:blip r:embed="rId3"/>
          <a:stretch/>
        </p:blipFill>
        <p:spPr>
          <a:xfrm>
            <a:off x="611280" y="2852640"/>
            <a:ext cx="8353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85520" y="1999800"/>
            <a:ext cx="79801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4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a5750"/>
                </a:solidFill>
                <a:latin typeface="Calibri"/>
              </a:rPr>
              <a:t>неправильный отбор содержания учебного материала;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4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a5750"/>
                </a:solidFill>
                <a:latin typeface="Calibri"/>
              </a:rPr>
              <a:t>невладение методами обучения;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4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a5750"/>
                </a:solidFill>
                <a:latin typeface="Calibri"/>
              </a:rPr>
              <a:t>неумение строить отношения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4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a575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3a5750"/>
                </a:solidFill>
                <a:latin typeface="Calibri"/>
              </a:rPr>
              <a:t>особенности личности учител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71680" y="0"/>
            <a:ext cx="7572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Impact"/>
              </a:rPr>
              <a:t>Причины снижения мотив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Impact"/>
              </a:rPr>
              <a:t>зависящие от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20" name="Picture 2" descr="C:\Documents and Settings\User\Мои документы\Downloads\cVm3vsq9hCc.jpg"/>
          <p:cNvPicPr/>
          <p:nvPr/>
        </p:nvPicPr>
        <p:blipFill>
          <a:blip r:embed="rId1"/>
          <a:stretch/>
        </p:blipFill>
        <p:spPr>
          <a:xfrm>
            <a:off x="324000" y="144360"/>
            <a:ext cx="8351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642960" y="2428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94740"/>
                </a:solidFill>
                <a:latin typeface="Impact"/>
              </a:rPr>
              <a:t>Спасибо    за   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ba8f2d"/>
                </a:solidFill>
                <a:latin typeface="Impact"/>
              </a:rPr>
              <a:t>Причины снижения мотивации, зависящие от ученика </a:t>
            </a:r>
            <a:br>
              <a:rPr sz="4000"/>
            </a:b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28800" y="1214280"/>
            <a:ext cx="78372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a5750"/>
                </a:solidFill>
                <a:latin typeface="Calibri"/>
              </a:rPr>
              <a:t>низкий уровень знаний;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a5750"/>
                </a:solidFill>
                <a:latin typeface="Calibri"/>
              </a:rPr>
              <a:t>не сложившиеся отношения с классом;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a5750"/>
                </a:solidFill>
                <a:latin typeface="Calibri"/>
              </a:rPr>
              <a:t> </a:t>
            </a:r>
            <a:r>
              <a:rPr b="1" lang="ru-RU" sz="3700" spc="-1" strike="noStrike">
                <a:solidFill>
                  <a:srgbClr val="3a5750"/>
                </a:solidFill>
                <a:latin typeface="Calibri"/>
              </a:rPr>
              <a:t>задержка развития;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a5750"/>
                </a:solidFill>
                <a:latin typeface="Calibri"/>
              </a:rPr>
              <a:t>аномальное развитие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Impact"/>
              </a:rPr>
              <a:t>Пути решения проблемы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12720" y="1600200"/>
          <a:ext cx="8153280" cy="514368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54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Создание условий развития учебной мотивации современного школь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свобода выбора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снятие внешнего контроля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значимые результаты обучения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удовольствие от процесса обучения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личность учителя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Создание условий развития учебной мотивации современного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осмысленная деятельность 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внутренняя мотивация 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мотивация на успех;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познавательный интерес 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a5750"/>
                          </a:solidFill>
                          <a:latin typeface="Calibri"/>
                        </a:rPr>
                        <a:t>взаимоотношение учителя с класс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a57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8400" y="1071720"/>
            <a:ext cx="8429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Задача учителя начальных классов – создать для ребенка комфортные, благоприятные условия для учебы, когда всем интересно, уютно, тепло от общения с учителем и одноклассниками, когда каждый ребенок чувствует любовь и уважение к себ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3d17"/>
                </a:solidFill>
                <a:latin typeface="Impact"/>
              </a:rPr>
              <a:t>Девиз </a:t>
            </a: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моей педагогической деятельности звучит та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 </a:t>
            </a: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« Учение без принуждения 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 </a:t>
            </a: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а главную </a:t>
            </a:r>
            <a:r>
              <a:rPr b="1" lang="ru-RU" sz="3600" spc="-1" strike="noStrike">
                <a:solidFill>
                  <a:srgbClr val="7b3d17"/>
                </a:solidFill>
                <a:latin typeface="Impact"/>
              </a:rPr>
              <a:t>задачу </a:t>
            </a:r>
            <a:r>
              <a:rPr b="0" lang="ru-RU" sz="3600" spc="-1" strike="noStrike">
                <a:solidFill>
                  <a:srgbClr val="7b3d17"/>
                </a:solidFill>
                <a:latin typeface="Impact"/>
              </a:rPr>
              <a:t>вижу в том, чтобы сделать процесс обучения заниматель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b3d17"/>
                </a:solidFill>
                <a:latin typeface="Impact"/>
              </a:rPr>
              <a:t>Для мотивации учения, формирования умения учиться, развития творческих способностей учащихся я применяю нетрадиционные методы и приёмы, которые помогают детям не только усваивать материал, но позволяют это делать с интересом, увлечённо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428760" y="1859040"/>
            <a:ext cx="85723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3d17"/>
                </a:solidFill>
                <a:latin typeface="Impact"/>
              </a:rPr>
              <a:t>В формировании учебной мотивации существенную роль играет уровень взаимоотношений в классном коллективе, насколько комфортно ощущает себя ребенок в среде сверстников.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05:54:07Z</dcterms:created>
  <dc:creator>Интернет</dc:creator>
  <dc:description/>
  <dc:language>en-US</dc:language>
  <cp:lastModifiedBy>User</cp:lastModifiedBy>
  <dcterms:modified xsi:type="dcterms:W3CDTF">2018-10-30T17:43:27Z</dcterms:modified>
  <cp:revision>47</cp:revision>
  <dc:subject/>
  <dc:title>Причины снижения мотивации к учению и пути решения этой проблемы.</dc:title>
</cp:coreProperties>
</file>