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32E-AD70-4EBD-9886-D0D75922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C25-416D-48E0-A429-D410C268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C83-8E0F-4E1C-A576-1BC07D3C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930-54D1-4DEA-96EA-A617411C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E811-B1A7-4EF7-8FE4-D90467CE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B682-97D0-4387-A7BB-21D0F832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DEA4-90AB-41B5-8F08-5254889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459-9B77-4EB0-9781-9CF54D2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8B82-173C-43A3-856F-05C16B7C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32D5-E487-43EE-BDE0-9399AA7B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A43-DC29-4D4F-B37D-9AFDEF3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104-7911-451F-A658-045F330E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1F9E-5589-43B3-A026-95FB487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0B30-BCB6-46A5-92FC-BAC1B1D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F2F-CB1F-4A0C-B3A9-A04FACBA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0EF-EB1F-484E-8CCC-924F2A9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BB2-C718-4700-965C-F1F4B5C1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7160-4123-4DEA-B0EB-86D7DADA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50F2-1897-44D1-874F-01103A65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288D-944A-4E02-838E-330DAFA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C798-7701-499B-A487-4F5B0E1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EB84-1A57-4042-B5C5-706C9FD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DFB-7049-4C93-94C4-DF27046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B8D8-804B-42BD-A04C-05B579C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8E44-AF8F-4CE9-84BC-FC8503A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BDBC-4B46-4C50-930B-5D2F247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6FC7-0735-4383-86DF-3AAD5357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C9C1-4025-4B30-A166-B87624C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7C36-D7C9-47B3-8C98-0E19AB9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9669-9BAE-4ECC-8755-ED1FBCE3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B351-5392-44C4-B919-4A6E555F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C475-5552-4E60-A2F5-F2C2F40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9086-B219-48FF-A917-0D682B7E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562-3F97-447B-B3B9-E714DDC6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C409-0191-4C5D-910D-3DE03A35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0664-9BDA-4309-B62D-26C26FB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6AE5-FE16-4E0F-9CA4-08C4B0E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09E6-6036-4205-8488-6B88317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480D-BBE4-458C-9B61-B558B9E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185E-67A7-4DE5-AF31-9B9E3C2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823B-0E18-4A71-8C3A-A3FD6C2A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6270-533B-4061-A720-0C717FD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D78C-4FA2-4CA3-A079-CEDC92B5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09C-3369-43BA-A0B6-21298C8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44A-1DC8-4D78-A911-E28003B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A0C-B2F0-477A-9B64-B9582F9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26E-7BD0-4D13-9962-021F108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448-2E21-4ECE-AE27-656C825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084D-EEC8-47A0-8B6A-7A7BAB19E9D4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4DE7-91E0-4E22-8B7F-3E720198BC2B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206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4f68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4f68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4f682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D38F-D2A4-473E-B7BD-C613DCFD1E95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ce00">
                  <a:alpha val="45098"/>
                </a:srgbClr>
              </a:gs>
              <a:gs pos="100000">
                <a:srgbClr val="00b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ccb">
                  <a:alpha val="45098"/>
                </a:srgbClr>
              </a:gs>
              <a:gs pos="100000">
                <a:srgbClr val="ffff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b0f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ff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b0f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4FC-FE73-4346-A521-86962883C606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f0000"/>
                </a:solidFill>
                <a:latin typeface="Calibri"/>
              </a:rPr>
              <a:t>Тарихи милли кием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3995640" y="4221000"/>
            <a:ext cx="485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Әлмәт шәһәре прогимназиянең 4 сыйныфы укучысы Девитаева Айгөл эше, 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1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Укытучы: Вилданова А.И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97" name="Салих Сайдашев - Вальс.mp3" descr=""/>
          <p:cNvPicPr/>
          <p:nvPr/>
        </p:nvPicPr>
        <p:blipFill>
          <a:blip r:embed="rId1"/>
          <a:stretch/>
        </p:blipFill>
        <p:spPr>
          <a:xfrm>
            <a:off x="824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Documents and Settings\Тансылу\Рабочий стол\Новая папка (2)\089194_641.jpg"/>
          <p:cNvPicPr/>
          <p:nvPr/>
        </p:nvPicPr>
        <p:blipFill>
          <a:blip r:embed="rId1"/>
          <a:stretch/>
        </p:blipFill>
        <p:spPr>
          <a:xfrm>
            <a:off x="684360" y="1415880"/>
            <a:ext cx="2950920" cy="46659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187280" y="260280"/>
            <a:ext cx="69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Музейлардагы экспонатлар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00" name="Picture 2" descr="C:\Documents and Settings\Тансылу\Рабочий стол\Новая папка (2)\z03.jpg"/>
          <p:cNvPicPr/>
          <p:nvPr/>
        </p:nvPicPr>
        <p:blipFill>
          <a:blip r:embed="rId2"/>
          <a:stretch/>
        </p:blipFill>
        <p:spPr>
          <a:xfrm>
            <a:off x="4657680" y="1415880"/>
            <a:ext cx="3568680" cy="45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Documents and Settings\Тансылу\Рабочий стол\Новая папка (2)\s640x480.gif"/>
          <p:cNvPicPr/>
          <p:nvPr/>
        </p:nvPicPr>
        <p:blipFill>
          <a:blip r:embed="rId1"/>
          <a:stretch/>
        </p:blipFill>
        <p:spPr>
          <a:xfrm>
            <a:off x="4716360" y="1413000"/>
            <a:ext cx="3816360" cy="4117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Тансылу\Рабочий стол\Новая папка (2)\336.jpg"/>
          <p:cNvPicPr/>
          <p:nvPr/>
        </p:nvPicPr>
        <p:blipFill>
          <a:blip r:embed="rId2"/>
          <a:stretch/>
        </p:blipFill>
        <p:spPr>
          <a:xfrm>
            <a:off x="773280" y="3535200"/>
            <a:ext cx="3456000" cy="19954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866880" y="18900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Чигешле түбәтәй, кәләпүш, калфак, читекл</a:t>
            </a:r>
            <a:r>
              <a:rPr b="1" lang="tt-RU" sz="2000" spc="-1" strike="noStrike">
                <a:solidFill>
                  <a:srgbClr val="002060"/>
                </a:solidFill>
                <a:latin typeface="Constantia"/>
              </a:rPr>
              <a:t>әр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04" name="Picture 4" descr="C:\Documents and Settings\Тансылу\Рабочий стол\Новая папка (2)\imgB.jpg"/>
          <p:cNvPicPr/>
          <p:nvPr/>
        </p:nvPicPr>
        <p:blipFill>
          <a:blip r:embed="rId3"/>
          <a:stretch/>
        </p:blipFill>
        <p:spPr>
          <a:xfrm>
            <a:off x="896760" y="1125360"/>
            <a:ext cx="2881440" cy="200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Тансылу\Рабочий стол\Новая папка (2)\l1003f.jpg"/>
          <p:cNvPicPr/>
          <p:nvPr/>
        </p:nvPicPr>
        <p:blipFill>
          <a:blip r:embed="rId1"/>
          <a:stretch/>
        </p:blipFill>
        <p:spPr>
          <a:xfrm>
            <a:off x="250920" y="1197000"/>
            <a:ext cx="4105080" cy="511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Тансылу\Рабочий стол\Новая папка (2)\Xatin-ir-3.jpg"/>
          <p:cNvPicPr/>
          <p:nvPr/>
        </p:nvPicPr>
        <p:blipFill>
          <a:blip r:embed="rId2"/>
          <a:stretch/>
        </p:blipFill>
        <p:spPr>
          <a:xfrm>
            <a:off x="4675320" y="1197000"/>
            <a:ext cx="4159080" cy="511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979640" y="333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Милли кием үрнәкләре</a:t>
            </a:r>
            <a:endParaRPr b="0" lang="en-US" sz="36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5280120" y="3357720"/>
            <a:ext cx="2340000" cy="317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Тансылу\Рабочий стол\Новая папка (2)\250px-Kulmek.jpg"/>
          <p:cNvPicPr/>
          <p:nvPr/>
        </p:nvPicPr>
        <p:blipFill>
          <a:blip r:embed="rId2"/>
          <a:stretch/>
        </p:blipFill>
        <p:spPr>
          <a:xfrm>
            <a:off x="1030320" y="3357720"/>
            <a:ext cx="2246400" cy="3187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25600" y="623736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Жилет, күлмәк, ыштан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4716360" y="623736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әләпүш, читек, камзул</a:t>
            </a:r>
            <a:endParaRPr b="0" lang="en-US" sz="20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12" name="Picture 4" descr="C:\Documents and Settings\Тансылу\Рабочий стол\Новая папка (2)\11.jpg"/>
          <p:cNvPicPr/>
          <p:nvPr/>
        </p:nvPicPr>
        <p:blipFill>
          <a:blip r:embed="rId3"/>
          <a:stretch/>
        </p:blipFill>
        <p:spPr>
          <a:xfrm>
            <a:off x="1030320" y="209520"/>
            <a:ext cx="2246400" cy="2840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Documents and Settings\Тансылу\Рабочий стол\Новая папка (2)\xatyn01z.jpg"/>
          <p:cNvPicPr/>
          <p:nvPr/>
        </p:nvPicPr>
        <p:blipFill>
          <a:blip r:embed="rId4"/>
          <a:stretch/>
        </p:blipFill>
        <p:spPr>
          <a:xfrm>
            <a:off x="5280120" y="209520"/>
            <a:ext cx="2340000" cy="28702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6477120" y="2530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мзул, шәлъяулык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622600" y="2598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Камзул, шәлъяулык.</a:t>
            </a:r>
            <a:endParaRPr b="0" lang="en-US" sz="18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C:\Documents and Settings\Тансылу\Рабочий стол\Новая папка (2)\tatary.jpg"/>
          <p:cNvPicPr/>
          <p:nvPr/>
        </p:nvPicPr>
        <p:blipFill>
          <a:blip r:embed="rId1"/>
          <a:stretch/>
        </p:blipFill>
        <p:spPr>
          <a:xfrm>
            <a:off x="4932360" y="1089000"/>
            <a:ext cx="3629160" cy="478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Documents and Settings\Тансылу\Рабочий стол\Новая папка (2)\burberry_prorsum_pre_fall_2012-21.jpg"/>
          <p:cNvPicPr/>
          <p:nvPr/>
        </p:nvPicPr>
        <p:blipFill>
          <a:blip r:embed="rId2"/>
          <a:stretch/>
        </p:blipFill>
        <p:spPr>
          <a:xfrm>
            <a:off x="971640" y="1089000"/>
            <a:ext cx="3095640" cy="46800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3"/>
          <p:cNvSpPr/>
          <p:nvPr/>
        </p:nvSpPr>
        <p:spPr>
          <a:xfrm>
            <a:off x="2050920" y="372960"/>
            <a:ext cx="441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Хәзерге көндә киенү    </a:t>
            </a:r>
            <a:endParaRPr b="0" lang="en-US" sz="28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5:09:04Z</dcterms:created>
  <dc:creator>Тансылу</dc:creator>
  <dc:description/>
  <dc:language>en-US</dc:language>
  <cp:lastModifiedBy>Ayaz</cp:lastModifiedBy>
  <dcterms:modified xsi:type="dcterms:W3CDTF">2018-11-13T17:08:04Z</dcterms:modified>
  <cp:revision>63</cp:revision>
  <dc:subject/>
  <dc:title>Тарихи милли кием</dc:title>
</cp:coreProperties>
</file>