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4716-9F5E-4AC3-A497-A70B4077B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D854-73DD-4FE9-9C00-46C9EAC3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8B4B-3A29-4C5C-8085-6ABFE3503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04A6-433A-4BA9-A2B0-3988FA756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558E-FE8C-4AF3-B0D6-74594179F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01C6-8E69-4D3C-AE17-85936746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CC1A-3231-45B7-820F-A4DE626E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D553-5084-40D0-906C-B3AB7FD8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51D2-52FB-4625-858D-9B1DE88F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872E-CFCA-42F0-BE4F-E4FB62BA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0685-2B7C-4ABF-9DA6-A39EEED5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E215-5F7B-456A-811C-681F7C5E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4AB2-3690-4A13-9251-5DD300AC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0899-6C02-4CBE-B9CD-EAD7BDF9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D855-B146-410B-83CE-0042C9A8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9177-CCE2-4B56-916D-DB570E067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0009-6BCE-48BE-943D-3FA6DB5A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A9189-641E-48E7-9D66-5F930BD5B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58B89-43BD-4A5D-B468-24708F70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CD7BC-453C-4BC9-B6D2-38A62300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7191A-9F73-413E-AF80-AE12C931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BD789-19EB-4F9D-8D42-57412351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C6FC-078D-46AD-A3FB-CCB6CD3A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8B40F-989E-4A85-96B7-C08373DB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92C6F-DF76-45A1-9C50-22A1C682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A3C44-4223-4A18-99EF-A2F2EC7C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9B18A-8E99-4E16-8C6E-C23237A3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95A2A-A923-46E6-A6EB-C537E701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0B240-6EDB-4D2A-B7C9-A2091706E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7A835-93D5-406C-A446-0AFB6BBAB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1F8FC-3200-4BC3-B602-13772B3D5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D81BA-B007-4464-AA85-38F62E8A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183AD-4F02-47B0-B29B-D840E6F7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ECB5-F428-4303-A651-C4D1FAE8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EAC68-5643-4218-B30E-52D34D48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28071-68BC-4373-BEEC-175CF8BB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FDCDC-27FA-40A0-942C-3F2265A1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EB026-D518-4051-9B32-CD7061D0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69725-539D-4B5A-B51B-B6CE85D3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6641E-68B8-44D4-8482-DDDA88B8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AA24E-F697-4154-9934-5B8AE9A6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DAC0E-A03F-4211-B1E4-D6E491048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CAA1B-534C-421B-8E66-C23B2260F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D64A-2068-4877-A6EF-61573074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8684-2673-43C5-B5A7-BBACA8AB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2FB0-DE8B-4F0C-95C1-113E9308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5963-D93C-4451-B711-CE8E288C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AB9A-77A9-4AB3-8C8F-89B42A9B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cece00">
                  <a:alpha val="45098"/>
                </a:srgbClr>
              </a:gs>
              <a:gs pos="100000">
                <a:srgbClr val="00bbff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8ccb">
                  <a:alpha val="45098"/>
                </a:srgbClr>
              </a:gs>
              <a:gs pos="100000">
                <a:srgbClr val="ffff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0b0f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fff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0b0f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206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206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80A0-AD27-410A-9B72-03DDFB200F62}" type="slidenum">
              <a:rPr b="0" lang="ru-RU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06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06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cece00">
                  <a:alpha val="45098"/>
                </a:srgbClr>
              </a:gs>
              <a:gs pos="100000">
                <a:srgbClr val="00bbff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8ccb">
                  <a:alpha val="45098"/>
                </a:srgbClr>
              </a:gs>
              <a:gs pos="100000">
                <a:srgbClr val="ffff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06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06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b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0b0f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4f682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c4f682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4f682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c4f682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fff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4f682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c4f682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0b0f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4f682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c4f682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4f682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c4f682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c4f68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4f682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c4f682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c4f68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4f682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c4f682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0d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2F14-1CF4-472A-9A79-6A0508028542}" type="slidenum">
              <a:rPr b="0" lang="ru-RU" sz="1200" spc="-1" strike="noStrike">
                <a:solidFill>
                  <a:srgbClr val="dfe0d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cece00">
                  <a:alpha val="45098"/>
                </a:srgbClr>
              </a:gs>
              <a:gs pos="100000">
                <a:srgbClr val="00bbff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8ccb">
                  <a:alpha val="45098"/>
                </a:srgbClr>
              </a:gs>
              <a:gs pos="100000">
                <a:srgbClr val="ffff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06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06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b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0b0f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4f682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c4f682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4f682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c4f682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fff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4f682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c4f682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0b0f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4f682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c4f682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4f682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c4f682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c4f68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4f682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c4f682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c4f68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4f682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c4f682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0d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9777-1986-4268-A79B-93E521090DBD}" type="slidenum">
              <a:rPr b="0" lang="ru-RU" sz="1200" spc="-1" strike="noStrike">
                <a:solidFill>
                  <a:srgbClr val="dfe0d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cece00">
                  <a:alpha val="45098"/>
                </a:srgbClr>
              </a:gs>
              <a:gs pos="100000">
                <a:srgbClr val="00bbff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8ccb">
                  <a:alpha val="45098"/>
                </a:srgbClr>
              </a:gs>
              <a:gs pos="100000">
                <a:srgbClr val="ffff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0b0f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fff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0b0f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206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206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179E-057E-4D13-9BEC-6D657CF11756}" type="slidenum">
              <a:rPr b="0" lang="ru-RU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57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f0000"/>
                </a:solidFill>
                <a:latin typeface="Calibri"/>
              </a:rPr>
              <a:t>Тарихи милли кием</a:t>
            </a: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3995640" y="4221000"/>
            <a:ext cx="485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1800" spc="-1" strike="noStrike">
                <a:solidFill>
                  <a:srgbClr val="4f1919"/>
                </a:solidFill>
                <a:latin typeface="Times New Roman"/>
                <a:ea typeface="Times New Roman"/>
              </a:rPr>
              <a:t>Әлмәт шәһәре прогимназиянең 4 сыйныфы укучысы Девитаева Айгөл эше, 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1800" spc="-1" strike="noStrike">
                <a:solidFill>
                  <a:srgbClr val="4f1919"/>
                </a:solidFill>
                <a:latin typeface="Times New Roman"/>
                <a:ea typeface="Times New Roman"/>
              </a:rPr>
              <a:t>Укытучы: Вилданова А.И.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pic>
        <p:nvPicPr>
          <p:cNvPr id="197" name="Салих Сайдашев - Вальс.mp3" descr=""/>
          <p:cNvPicPr/>
          <p:nvPr/>
        </p:nvPicPr>
        <p:blipFill>
          <a:blip r:embed="rId1"/>
          <a:stretch/>
        </p:blipFill>
        <p:spPr>
          <a:xfrm>
            <a:off x="824400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C:\Documents and Settings\Тансылу\Рабочий стол\Новая папка (2)\089194_641.jpg"/>
          <p:cNvPicPr/>
          <p:nvPr/>
        </p:nvPicPr>
        <p:blipFill>
          <a:blip r:embed="rId1"/>
          <a:stretch/>
        </p:blipFill>
        <p:spPr>
          <a:xfrm>
            <a:off x="684360" y="1415880"/>
            <a:ext cx="2950920" cy="46659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1187280" y="260280"/>
            <a:ext cx="694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nstantia"/>
              </a:rPr>
              <a:t>Музейлардагы экспонатлар</a:t>
            </a: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pic>
        <p:nvPicPr>
          <p:cNvPr id="200" name="Picture 2" descr="C:\Documents and Settings\Тансылу\Рабочий стол\Новая папка (2)\z03.jpg"/>
          <p:cNvPicPr/>
          <p:nvPr/>
        </p:nvPicPr>
        <p:blipFill>
          <a:blip r:embed="rId2"/>
          <a:stretch/>
        </p:blipFill>
        <p:spPr>
          <a:xfrm>
            <a:off x="4657680" y="1415880"/>
            <a:ext cx="3568680" cy="452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C:\Documents and Settings\Тансылу\Рабочий стол\Новая папка (2)\s640x480.gif"/>
          <p:cNvPicPr/>
          <p:nvPr/>
        </p:nvPicPr>
        <p:blipFill>
          <a:blip r:embed="rId1"/>
          <a:stretch/>
        </p:blipFill>
        <p:spPr>
          <a:xfrm>
            <a:off x="4716360" y="1413000"/>
            <a:ext cx="3816360" cy="41176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C:\Documents and Settings\Тансылу\Рабочий стол\Новая папка (2)\336.jpg"/>
          <p:cNvPicPr/>
          <p:nvPr/>
        </p:nvPicPr>
        <p:blipFill>
          <a:blip r:embed="rId2"/>
          <a:stretch/>
        </p:blipFill>
        <p:spPr>
          <a:xfrm>
            <a:off x="773280" y="3535200"/>
            <a:ext cx="3456000" cy="199548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"/>
          <p:cNvSpPr/>
          <p:nvPr/>
        </p:nvSpPr>
        <p:spPr>
          <a:xfrm>
            <a:off x="866880" y="189000"/>
            <a:ext cx="69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Чигешле түбәтәй, кәләпүш, калфак, читекл</a:t>
            </a:r>
            <a:r>
              <a:rPr b="1" lang="tt-RU" sz="2000" spc="-1" strike="noStrike">
                <a:solidFill>
                  <a:srgbClr val="002060"/>
                </a:solidFill>
                <a:latin typeface="Constantia"/>
              </a:rPr>
              <a:t>әр</a:t>
            </a:r>
            <a:endParaRPr b="0" lang="en-US" sz="2000" spc="-1" strike="noStrike">
              <a:solidFill>
                <a:srgbClr val="002060"/>
              </a:solidFill>
              <a:latin typeface="Constantia"/>
            </a:endParaRPr>
          </a:p>
        </p:txBody>
      </p:sp>
      <p:pic>
        <p:nvPicPr>
          <p:cNvPr id="204" name="Picture 4" descr="C:\Documents and Settings\Тансылу\Рабочий стол\Новая папка (2)\imgB.jpg"/>
          <p:cNvPicPr/>
          <p:nvPr/>
        </p:nvPicPr>
        <p:blipFill>
          <a:blip r:embed="rId3"/>
          <a:stretch/>
        </p:blipFill>
        <p:spPr>
          <a:xfrm>
            <a:off x="896760" y="1125360"/>
            <a:ext cx="2881440" cy="2003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C:\Documents and Settings\Тансылу\Рабочий стол\Новая папка (2)\l1003f.jpg"/>
          <p:cNvPicPr/>
          <p:nvPr/>
        </p:nvPicPr>
        <p:blipFill>
          <a:blip r:embed="rId1"/>
          <a:stretch/>
        </p:blipFill>
        <p:spPr>
          <a:xfrm>
            <a:off x="250920" y="1197000"/>
            <a:ext cx="4105080" cy="5111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C:\Documents and Settings\Тансылу\Рабочий стол\Новая папка (2)\Xatin-ir-3.jpg"/>
          <p:cNvPicPr/>
          <p:nvPr/>
        </p:nvPicPr>
        <p:blipFill>
          <a:blip r:embed="rId2"/>
          <a:stretch/>
        </p:blipFill>
        <p:spPr>
          <a:xfrm>
            <a:off x="4675320" y="1197000"/>
            <a:ext cx="4159080" cy="5111640"/>
          </a:xfrm>
          <a:prstGeom prst="rect">
            <a:avLst/>
          </a:prstGeom>
          <a:ln w="0">
            <a:noFill/>
          </a:ln>
        </p:spPr>
      </p:pic>
      <p:sp>
        <p:nvSpPr>
          <p:cNvPr id="207" name="TextBox 3"/>
          <p:cNvSpPr/>
          <p:nvPr/>
        </p:nvSpPr>
        <p:spPr>
          <a:xfrm>
            <a:off x="1979640" y="33336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nstantia"/>
              </a:rPr>
              <a:t>Милли кием үрнәкләре</a:t>
            </a: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8" descr=""/>
          <p:cNvPicPr/>
          <p:nvPr/>
        </p:nvPicPr>
        <p:blipFill>
          <a:blip r:embed="rId1"/>
          <a:stretch/>
        </p:blipFill>
        <p:spPr>
          <a:xfrm>
            <a:off x="5280120" y="3357720"/>
            <a:ext cx="2340000" cy="3178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C:\Documents and Settings\Тансылу\Рабочий стол\Новая папка (2)\250px-Kulmek.jpg"/>
          <p:cNvPicPr/>
          <p:nvPr/>
        </p:nvPicPr>
        <p:blipFill>
          <a:blip r:embed="rId2"/>
          <a:stretch/>
        </p:blipFill>
        <p:spPr>
          <a:xfrm>
            <a:off x="1030320" y="3357720"/>
            <a:ext cx="2246400" cy="31874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5"/>
          <p:cNvSpPr/>
          <p:nvPr/>
        </p:nvSpPr>
        <p:spPr>
          <a:xfrm>
            <a:off x="525600" y="623736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Жилет, күлмәк, ыштан</a:t>
            </a:r>
            <a:endParaRPr b="0" lang="en-US" sz="20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11" name="Прямоугольник 6"/>
          <p:cNvSpPr/>
          <p:nvPr/>
        </p:nvSpPr>
        <p:spPr>
          <a:xfrm>
            <a:off x="4716360" y="6237360"/>
            <a:ext cx="31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Кәләпүш, читек, камзул</a:t>
            </a:r>
            <a:endParaRPr b="0" lang="en-US" sz="2000" spc="-1" strike="noStrike">
              <a:solidFill>
                <a:srgbClr val="002060"/>
              </a:solidFill>
              <a:latin typeface="Constantia"/>
            </a:endParaRPr>
          </a:p>
        </p:txBody>
      </p:sp>
      <p:pic>
        <p:nvPicPr>
          <p:cNvPr id="212" name="Picture 4" descr="C:\Documents and Settings\Тансылу\Рабочий стол\Новая папка (2)\11.jpg"/>
          <p:cNvPicPr/>
          <p:nvPr/>
        </p:nvPicPr>
        <p:blipFill>
          <a:blip r:embed="rId3"/>
          <a:stretch/>
        </p:blipFill>
        <p:spPr>
          <a:xfrm>
            <a:off x="1030320" y="209520"/>
            <a:ext cx="2246400" cy="2840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C:\Documents and Settings\Тансылу\Рабочий стол\Новая папка (2)\xatyn01z.jpg"/>
          <p:cNvPicPr/>
          <p:nvPr/>
        </p:nvPicPr>
        <p:blipFill>
          <a:blip r:embed="rId4"/>
          <a:stretch/>
        </p:blipFill>
        <p:spPr>
          <a:xfrm>
            <a:off x="5280120" y="209520"/>
            <a:ext cx="2340000" cy="287028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2"/>
          <p:cNvSpPr/>
          <p:nvPr/>
        </p:nvSpPr>
        <p:spPr>
          <a:xfrm>
            <a:off x="6477120" y="25304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Камзул, шәлъяулык.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15" name="Прямоугольник 4"/>
          <p:cNvSpPr/>
          <p:nvPr/>
        </p:nvSpPr>
        <p:spPr>
          <a:xfrm>
            <a:off x="2622600" y="25988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Камзул, шәлъяулык.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3" descr="C:\Documents and Settings\Тансылу\Рабочий стол\Новая папка (2)\tatary.jpg"/>
          <p:cNvPicPr/>
          <p:nvPr/>
        </p:nvPicPr>
        <p:blipFill>
          <a:blip r:embed="rId1"/>
          <a:stretch/>
        </p:blipFill>
        <p:spPr>
          <a:xfrm>
            <a:off x="4932360" y="1089000"/>
            <a:ext cx="3629160" cy="4788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C:\Documents and Settings\Тансылу\Рабочий стол\Новая папка (2)\burberry_prorsum_pre_fall_2012-21.jpg"/>
          <p:cNvPicPr/>
          <p:nvPr/>
        </p:nvPicPr>
        <p:blipFill>
          <a:blip r:embed="rId2"/>
          <a:stretch/>
        </p:blipFill>
        <p:spPr>
          <a:xfrm>
            <a:off x="971640" y="1089000"/>
            <a:ext cx="3095640" cy="4680000"/>
          </a:xfrm>
          <a:prstGeom prst="rect">
            <a:avLst/>
          </a:prstGeom>
          <a:ln w="0">
            <a:noFill/>
          </a:ln>
        </p:spPr>
      </p:pic>
      <p:sp>
        <p:nvSpPr>
          <p:cNvPr id="218" name="Прямоугольник 3"/>
          <p:cNvSpPr/>
          <p:nvPr/>
        </p:nvSpPr>
        <p:spPr>
          <a:xfrm>
            <a:off x="2050920" y="372960"/>
            <a:ext cx="441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      </a:t>
            </a: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Хәзерге көндә киенү    </a:t>
            </a:r>
            <a:endParaRPr b="0" lang="en-US" sz="2800" spc="-1" strike="noStrike">
              <a:solidFill>
                <a:srgbClr val="002060"/>
              </a:solidFill>
              <a:latin typeface="Constantia"/>
            </a:endParaRPr>
          </a:p>
        </p:txBody>
      </p:sp>
    </p:spTree>
  </p:cSld>
  <p:transition spd="slow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9T05:09:04Z</dcterms:created>
  <dc:creator>Тансылу</dc:creator>
  <dc:description/>
  <dc:language>en-US</dc:language>
  <cp:lastModifiedBy>Ayaz</cp:lastModifiedBy>
  <dcterms:modified xsi:type="dcterms:W3CDTF">2018-11-13T17:08:04Z</dcterms:modified>
  <cp:revision>63</cp:revision>
  <dc:subject/>
  <dc:title>Тарихи милли кием</dc:title>
</cp:coreProperties>
</file>