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339-A80E-422A-B87A-B862DD7A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E32-2571-4892-93F1-2175CB68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F40-D09F-42E5-9420-4B7972B7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289-03B7-4D76-A7AF-44C36905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6438-957D-4C92-8A4C-D7E9D32D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65B1-5BF8-4199-B37F-CB91B9B7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15BD-3CE2-4A2D-9681-4D0DF476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EF26-F6C9-4F5C-AA28-459EA517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C73-CDA1-4F7E-B2C4-548A0755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4DF4-4BEE-49DB-AF1D-C1EB3D98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0CC4-4165-49E9-97DA-2223676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5A9-BA5B-45C7-B0A4-6B94543E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3F23-8FCF-4F4E-9825-E9A052A9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4F4A-8C3D-49A4-B798-3362AE7D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5088-0DAA-4AB4-87C7-D577BB63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1BDA-5171-4F47-A6A2-F06EAB5E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DDD1-3583-425A-9E53-F8498BB2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6E4-20DD-4AF1-BC18-DDB35B46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45D-3932-4D14-B0B9-3EA3EF63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F2D-D53E-4870-9B34-5EB11BDF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544-27A3-4649-9D66-07E56FA3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40E-BCC0-4A4B-A6CA-BB270956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186-E5C4-46B1-A9D1-D4148645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7F2-F971-4886-87DF-D8C93015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8998-603F-4364-8E2B-84B7857D7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2B2C-D097-497E-8A39-D5D7044A8D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511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Враги  твоего  здоровь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заставка 2"/>
          <p:cNvPicPr/>
          <p:nvPr/>
        </p:nvPicPr>
        <p:blipFill>
          <a:blip r:embed="rId1"/>
          <a:stretch/>
        </p:blipFill>
        <p:spPr>
          <a:xfrm>
            <a:off x="755640" y="2133720"/>
            <a:ext cx="7632720" cy="445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 неряшливому  вид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5" descr="чумазый"/>
          <p:cNvPicPr/>
          <p:nvPr/>
        </p:nvPicPr>
        <p:blipFill>
          <a:blip r:embed="rId1"/>
          <a:stretch/>
        </p:blipFill>
        <p:spPr>
          <a:xfrm>
            <a:off x="2843280" y="1341360"/>
            <a:ext cx="3313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 заболеванию  зуб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5" descr="лечение зубов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 заболеванию  уш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5" descr="уши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 общему недомогани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грязуля больной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530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авила  личной  гигиен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едите за чистотой лица и ру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осы нужно содержать в чистоте и поряд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увь нужно чистить каждый д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гда нужно иметь при себе носовой плат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 едой мыть руки с мы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жда всегда должна быть чистой и выглажен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Arial"/>
              </a:rPr>
              <a:t>Народная мудрость гласи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ота – залог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о жить – здоровым бы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ая вода – для хворобы бе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2. НЕ  ВЫПОЛНЯЕТСЯ РЕЖИМ  Д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здно ложитесь сп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5" descr="сон"/>
          <p:cNvPicPr/>
          <p:nvPr/>
        </p:nvPicPr>
        <p:blipFill>
          <a:blip r:embed="rId1"/>
          <a:stretch/>
        </p:blipFill>
        <p:spPr>
          <a:xfrm>
            <a:off x="826920" y="141300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авила  для  сн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язательно ложитесь спать и вставайте в одно и то же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ть нужно в полной темн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ть лучше на спине или на правом бо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ите на ровной пост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 сном нельзя смотреть страшные филь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 утрам не делаете заряд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595944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ЧТО  УГРОЖАЕТ  ТВОЕМУ ЗДОРОВЬЮ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3. Нарушение  дисциплин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5" descr="IMG0136A"/>
          <p:cNvPicPr/>
          <p:nvPr/>
        </p:nvPicPr>
        <p:blipFill>
          <a:blip r:embed="rId1"/>
          <a:stretch/>
        </p:blipFill>
        <p:spPr>
          <a:xfrm>
            <a:off x="1332000" y="1341360"/>
            <a:ext cx="6192720" cy="532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ТРАВ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IMG0132A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4.ТЕЛЕВИЗОР И КОМПЬЮТЕ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компьютер"/>
          <p:cNvPicPr/>
          <p:nvPr/>
        </p:nvPicPr>
        <p:blipFill>
          <a:blip r:embed="rId1"/>
          <a:stretch/>
        </p:blipFill>
        <p:spPr>
          <a:xfrm>
            <a:off x="1476360" y="1557360"/>
            <a:ext cx="6191280" cy="44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БУДЬТЕ  ВСЕГДА  ЗДОРОВЫ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ff66"/>
                </a:solidFill>
                <a:latin typeface="Arial"/>
              </a:rPr>
              <a:t>1. ЛЕНЬ</a:t>
            </a:r>
            <a:br>
              <a:rPr sz="6000"/>
            </a:br>
            <a:r>
              <a:rPr b="0" lang="ru-RU" sz="6000" spc="-1" strike="noStrike">
                <a:solidFill>
                  <a:srgbClr val="99ff66"/>
                </a:solidFill>
                <a:latin typeface="Arial"/>
              </a:rPr>
              <a:t>соблюдать личную</a:t>
            </a:r>
            <a:br>
              <a:rPr sz="6000"/>
            </a:br>
            <a:r>
              <a:rPr b="0" lang="ru-RU" sz="6000" spc="-1" strike="noStrike">
                <a:solidFill>
                  <a:srgbClr val="99ff66"/>
                </a:solidFill>
                <a:latin typeface="Arial"/>
              </a:rPr>
              <a:t>гигиену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лень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ИСТИТЬ  ЗУБЫ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чистим зубы 3"/>
          <p:cNvPicPr/>
          <p:nvPr/>
        </p:nvPicPr>
        <p:blipFill>
          <a:blip r:embed="rId1"/>
          <a:stretch/>
        </p:blipFill>
        <p:spPr>
          <a:xfrm>
            <a:off x="468360" y="907920"/>
            <a:ext cx="82072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нь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мывать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умывание 3"/>
          <p:cNvPicPr/>
          <p:nvPr/>
        </p:nvPicPr>
        <p:blipFill>
          <a:blip r:embed="rId1"/>
          <a:stretch/>
        </p:blipFill>
        <p:spPr>
          <a:xfrm>
            <a:off x="755640" y="1557360"/>
            <a:ext cx="7620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нь мыть ру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моем руки 1"/>
          <p:cNvPicPr/>
          <p:nvPr/>
        </p:nvPicPr>
        <p:blipFill>
          <a:blip r:embed="rId1"/>
          <a:stretch/>
        </p:blipFill>
        <p:spPr>
          <a:xfrm>
            <a:off x="1187280" y="1628640"/>
            <a:ext cx="6840720" cy="489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нь купать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купаемся 1"/>
          <p:cNvPicPr/>
          <p:nvPr/>
        </p:nvPicPr>
        <p:blipFill>
          <a:blip r:embed="rId1"/>
          <a:stretch/>
        </p:blipFill>
        <p:spPr>
          <a:xfrm>
            <a:off x="539640" y="1341360"/>
            <a:ext cx="8128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нь навести порядок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убираем в комнате"/>
          <p:cNvPicPr/>
          <p:nvPr/>
        </p:nvPicPr>
        <p:blipFill>
          <a:blip r:embed="rId1"/>
          <a:stretch/>
        </p:blipFill>
        <p:spPr>
          <a:xfrm>
            <a:off x="826920" y="1557360"/>
            <a:ext cx="7561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  ЧЕМУ  ЭТО  ПРИВОДИТ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56:46Z</dcterms:created>
  <dc:creator>admin</dc:creator>
  <dc:description/>
  <dc:language>en-US</dc:language>
  <cp:lastModifiedBy>Хакимовы</cp:lastModifiedBy>
  <dcterms:modified xsi:type="dcterms:W3CDTF">2017-09-24T12:37:26Z</dcterms:modified>
  <cp:revision>12</cp:revision>
  <dc:subject/>
  <dc:title>Враги  твоего  здоровья</dc:title>
</cp:coreProperties>
</file>