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9EA-3E62-4CEF-BDB0-3727E63A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9D0-C2CC-44ED-94A8-20ED0EC8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604-0726-4C86-A1C0-C8415A8E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27A-94F8-412C-8409-D2DA923A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77D9-D995-4202-9B3B-474D28BF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A4EE-CDC1-4822-B512-DEAF1C03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34D7-1D2E-49E8-85AE-368D0ABA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67E4-EC93-4121-9F49-F5D0EDFB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76D7-875F-4478-A24C-968E707A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6431-C9E0-410C-B5FF-0B359CAF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3439-5860-4C6E-B3C9-84EBF8DA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A47-2DD8-43DA-9441-7002A497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4C21-A8F9-4AF7-BAE1-93C2A1F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6156-E13F-4160-B259-46653463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2057-F640-4C7E-B58A-E0F177C2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647-65E6-4E55-9349-9152E25B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3D99-D8F3-4233-ADD4-9867846D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571-A577-48DC-8336-EC9E8B38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3A9-2867-4F00-AB32-B8CBED72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FF6-2516-4E97-B982-F65C7673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51E-C8B6-49B6-8A26-7646E918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E71-D99B-453B-A159-1514FF49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017-3D56-4FD5-8CE9-947BDA04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975-220A-42A8-926D-FA9E782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A114-24F6-4F06-8977-73BB5AD976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2EB3-217B-41E8-8574-128B5900DA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Враги  твоего  здоровь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заставка 2"/>
          <p:cNvPicPr/>
          <p:nvPr/>
        </p:nvPicPr>
        <p:blipFill>
          <a:blip r:embed="rId1"/>
          <a:stretch/>
        </p:blipFill>
        <p:spPr>
          <a:xfrm>
            <a:off x="755640" y="2133720"/>
            <a:ext cx="7632720" cy="445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 неряшливому  вид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5" descr="чумазый"/>
          <p:cNvPicPr/>
          <p:nvPr/>
        </p:nvPicPr>
        <p:blipFill>
          <a:blip r:embed="rId1"/>
          <a:stretch/>
        </p:blipFill>
        <p:spPr>
          <a:xfrm>
            <a:off x="2843280" y="1341360"/>
            <a:ext cx="3313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 заболеванию  зуб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5" descr="лечение зубов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 заболеванию  уш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5" descr="уши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 общему недомогани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грязуля больной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530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авила  личной  гигиен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едите за чистотой лица и ру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осы нужно содержать в чистоте и поряд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увь нужно чистить каждый д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гда нужно иметь при себе носовой плат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 едой мыть руки с мы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жда всегда должна быть чистой и выглажен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Arial"/>
              </a:rPr>
              <a:t>Народная мудрость гласи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ота – залог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о жить – здоровым бы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ая вода – для хворобы бе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2. НЕ  ВЫПОЛНЯЕТСЯ РЕЖИМ  Д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здно ложитесь сп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5" descr="сон"/>
          <p:cNvPicPr/>
          <p:nvPr/>
        </p:nvPicPr>
        <p:blipFill>
          <a:blip r:embed="rId1"/>
          <a:stretch/>
        </p:blipFill>
        <p:spPr>
          <a:xfrm>
            <a:off x="826920" y="141300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авила  для  сн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язательно ложитесь спать и вставайте в одно и то же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ть нужно в полной темн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ть лучше на спине или на правом бо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ите на ровной пост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 сном нельзя смотреть страшные филь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 утрам не делаете заряд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595944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ЧТО  УГРОЖАЕТ  ТВОЕМУ ЗДОРОВЬЮ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3. Нарушение  дисциплин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5" descr="IMG0136A"/>
          <p:cNvPicPr/>
          <p:nvPr/>
        </p:nvPicPr>
        <p:blipFill>
          <a:blip r:embed="rId1"/>
          <a:stretch/>
        </p:blipFill>
        <p:spPr>
          <a:xfrm>
            <a:off x="1332000" y="1341360"/>
            <a:ext cx="6192720" cy="532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ТРАВ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IMG0132A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4.ТЕЛЕВИЗОР И КОМПЬЮТЕ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компьютер"/>
          <p:cNvPicPr/>
          <p:nvPr/>
        </p:nvPicPr>
        <p:blipFill>
          <a:blip r:embed="rId1"/>
          <a:stretch/>
        </p:blipFill>
        <p:spPr>
          <a:xfrm>
            <a:off x="1476360" y="1557360"/>
            <a:ext cx="6191280" cy="44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БУДЬТЕ  ВСЕГДА  ЗДОРОВЫ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ff66"/>
                </a:solidFill>
                <a:latin typeface="Arial"/>
              </a:rPr>
              <a:t>1. ЛЕНЬ</a:t>
            </a:r>
            <a:br>
              <a:rPr sz="6000"/>
            </a:br>
            <a:r>
              <a:rPr b="0" lang="ru-RU" sz="6000" spc="-1" strike="noStrike">
                <a:solidFill>
                  <a:srgbClr val="99ff66"/>
                </a:solidFill>
                <a:latin typeface="Arial"/>
              </a:rPr>
              <a:t>соблюдать личную</a:t>
            </a:r>
            <a:br>
              <a:rPr sz="6000"/>
            </a:br>
            <a:r>
              <a:rPr b="0" lang="ru-RU" sz="6000" spc="-1" strike="noStrike">
                <a:solidFill>
                  <a:srgbClr val="99ff66"/>
                </a:solidFill>
                <a:latin typeface="Arial"/>
              </a:rPr>
              <a:t>гигиену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лень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ИСТИТЬ  ЗУБЫ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чистим зубы 3"/>
          <p:cNvPicPr/>
          <p:nvPr/>
        </p:nvPicPr>
        <p:blipFill>
          <a:blip r:embed="rId1"/>
          <a:stretch/>
        </p:blipFill>
        <p:spPr>
          <a:xfrm>
            <a:off x="468360" y="907920"/>
            <a:ext cx="82072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нь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мывать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умывание 3"/>
          <p:cNvPicPr/>
          <p:nvPr/>
        </p:nvPicPr>
        <p:blipFill>
          <a:blip r:embed="rId1"/>
          <a:stretch/>
        </p:blipFill>
        <p:spPr>
          <a:xfrm>
            <a:off x="755640" y="1557360"/>
            <a:ext cx="7620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нь мыть ру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моем руки 1"/>
          <p:cNvPicPr/>
          <p:nvPr/>
        </p:nvPicPr>
        <p:blipFill>
          <a:blip r:embed="rId1"/>
          <a:stretch/>
        </p:blipFill>
        <p:spPr>
          <a:xfrm>
            <a:off x="1187280" y="1628640"/>
            <a:ext cx="6840720" cy="489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нь купать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купаемся 1"/>
          <p:cNvPicPr/>
          <p:nvPr/>
        </p:nvPicPr>
        <p:blipFill>
          <a:blip r:embed="rId1"/>
          <a:stretch/>
        </p:blipFill>
        <p:spPr>
          <a:xfrm>
            <a:off x="539640" y="1341360"/>
            <a:ext cx="8128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нь навести порядок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убираем в комнате"/>
          <p:cNvPicPr/>
          <p:nvPr/>
        </p:nvPicPr>
        <p:blipFill>
          <a:blip r:embed="rId1"/>
          <a:stretch/>
        </p:blipFill>
        <p:spPr>
          <a:xfrm>
            <a:off x="826920" y="1557360"/>
            <a:ext cx="7561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  ЧЕМУ  ЭТО  ПРИВОДИТ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56:46Z</dcterms:created>
  <dc:creator>admin</dc:creator>
  <dc:description/>
  <dc:language>en-US</dc:language>
  <cp:lastModifiedBy>Хакимовы</cp:lastModifiedBy>
  <dcterms:modified xsi:type="dcterms:W3CDTF">2017-09-24T12:37:26Z</dcterms:modified>
  <cp:revision>12</cp:revision>
  <dc:subject/>
  <dc:title>Враги  твоего  здоровья</dc:title>
</cp:coreProperties>
</file>