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F95-7BCC-4287-9772-12AD511B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315-6A78-459B-B0B4-8D8F68F2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C22-B191-4128-9DF4-53FBCAEB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B62-DE1C-4568-8C16-46CD99CE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35E-DC45-468E-8A1D-0E36CB58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948-2224-4176-8D8F-2C7F4009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EA5-4FFF-4BB0-BF3D-7289DB26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A3A-2C17-4E47-A517-E9C300A5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E6E-BCD4-4FA1-942D-272DEE14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B5A-32DA-42CF-87C8-855BF717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597-C731-4279-B9EA-20CBD6A9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220-0357-43AB-9123-372A0C23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cb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7336-418F-4A10-95DD-43833C48BC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2682720" y="2500200"/>
            <a:ext cx="609624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 человека ещё уникаль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Радужная оболочка глаз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ладони рук, голос, почер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 rot="357000">
            <a:off x="3173040" y="4240080"/>
            <a:ext cx="2301840" cy="22939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 rot="21085800">
            <a:off x="8407080" y="2514600"/>
            <a:ext cx="3379680" cy="25239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"/>
          <p:cNvPicPr/>
          <p:nvPr/>
        </p:nvPicPr>
        <p:blipFill>
          <a:blip r:embed="rId3"/>
          <a:stretch/>
        </p:blipFill>
        <p:spPr>
          <a:xfrm rot="951000">
            <a:off x="493200" y="2174760"/>
            <a:ext cx="2675160" cy="26751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"/>
          <p:cNvPicPr/>
          <p:nvPr/>
        </p:nvPicPr>
        <p:blipFill>
          <a:blip r:embed="rId4"/>
          <a:stretch/>
        </p:blipFill>
        <p:spPr>
          <a:xfrm rot="21120000">
            <a:off x="6073920" y="4271760"/>
            <a:ext cx="2249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731880" y="2951280"/>
            <a:ext cx="60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В мире есть люди, совс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без отпечатков пальцев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 них нет узора на пальцах рук и ног, из-за очень редкого заболевания, в мире их всего около двадца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7527960" y="2716200"/>
            <a:ext cx="33354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5622840" y="2927520"/>
            <a:ext cx="6096240" cy="34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Я прочитала в энциклопедии, что почти у всех животных нет отпечатков пальц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Зато у них разные сл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ченые, по следам животных, могут определить, какой зверь прошел здесь недавно, его примерный вес, возраст, и даже пол! Убегал этот зверь от хищника или просто искал пищ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441360" y="2638440"/>
            <a:ext cx="45100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58840" y="3027240"/>
            <a:ext cx="60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А у собак уникальны отпечатки но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Если внимательно посмотреть на собачий нос, можно разглядеть на нем тонкие ли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6568920" y="2212920"/>
            <a:ext cx="54864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68120" y="3071880"/>
            <a:ext cx="569124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В мире существует лишь одно животно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 которого есть отпечатки пальце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как и у челов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Это - Австралийская коа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6058080" y="272556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6537240" y="2332080"/>
            <a:ext cx="539604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К сожалению, в Самаре нет ни одной настоящей коалы. А я не могу сейчас отправиться в Австралию, чтобы в живую рассмотреть отпечатки пальцев у коал, но возможно позже, мне удас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В научной энциклопедии написано, что у коал, даже без микроскопа хорошо видны узоры, точно такие же завитки и петель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865080" y="3162240"/>
            <a:ext cx="4762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4938840" y="263052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Если бы банда коал ограбила банк, оставив на месте преступления отпечатки пальцев, то полицейские были бы уверены, что преступление совершили люд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884160" y="2530440"/>
            <a:ext cx="3030480" cy="40435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" descr=""/>
          <p:cNvPicPr/>
          <p:nvPr/>
        </p:nvPicPr>
        <p:blipFill>
          <a:blip r:embed="rId2"/>
          <a:stretch/>
        </p:blipFill>
        <p:spPr>
          <a:xfrm>
            <a:off x="6688080" y="4329000"/>
            <a:ext cx="29592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77840" y="2655720"/>
            <a:ext cx="682632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1. Человек, не единственное существо на планете, у которого есть отпечатки пальце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2. Коалы питаются листьями эвкалиптов и благодаря узору на их пальцах, им удобнее, хвататься за ветви, и отправлять листья в 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 rot="21000600">
            <a:off x="7081560" y="2724120"/>
            <a:ext cx="47797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 rot="651000">
            <a:off x="6442200" y="39225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СПАСИБО ЗА ВНИМАНИЕ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473040" y="2516040"/>
            <a:ext cx="598032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0T09:29:26Z</dcterms:created>
  <dc:creator>Максим</dc:creator>
  <dc:description/>
  <dc:language>en-US</dc:language>
  <cp:lastModifiedBy>zhirnovm@outlook.com</cp:lastModifiedBy>
  <dcterms:modified xsi:type="dcterms:W3CDTF">2018-11-14T07:24:12Z</dcterms:modified>
  <cp:revision>29</cp:revision>
  <dc:subject/>
  <dc:title>Презентация PowerPoint</dc:title>
</cp:coreProperties>
</file>