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8ED-5857-42C2-A816-22B256BF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AA2-6422-45F8-B228-50991069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E0A-1DC2-4FA6-8A1F-300F0385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954-754B-4A5D-9785-D97214EB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9F0-55A6-4D79-9AED-7DEE137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E03-C29A-4A9D-B710-0388AD02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64C-AB17-46E2-ABBB-F308A4D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D9A-E599-410D-B3D4-8A92971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01F-2A8A-4EEE-B424-6C05CD0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0F2-A28F-470E-9758-86F57FD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55B-255D-4CB9-8979-6CB6ACA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961-ECAB-401A-8580-AD1ACD7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cb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1BB5-7446-491E-8FE5-8D03F470B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682720" y="2500200"/>
            <a:ext cx="609624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человека ещё уникаль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Радужная оболочка глаз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ладони рук, голос, почер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 rot="357000">
            <a:off x="3173040" y="4240080"/>
            <a:ext cx="2301840" cy="2293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 rot="21085800">
            <a:off x="8407080" y="2514600"/>
            <a:ext cx="3379680" cy="2523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 rot="951000">
            <a:off x="493200" y="2174760"/>
            <a:ext cx="2675160" cy="2675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tretch/>
        </p:blipFill>
        <p:spPr>
          <a:xfrm rot="21120000">
            <a:off x="6073920" y="4271760"/>
            <a:ext cx="2249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31880" y="295128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мире есть люди, совс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без отпечатков пальцев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них нет узора на пальцах рук и ног, из-за очень редкого заболевания, в мире их всего около двадц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7527960" y="2716200"/>
            <a:ext cx="3335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622840" y="2927520"/>
            <a:ext cx="609624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Я прочитала в энциклопедии, что почти у всех животных нет отпечатков пальц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Зато у них разные сл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ченые, по следам животных, могут определить, какой зверь прошел здесь недавно, его примерный вес, возраст, и даже пол! Убегал этот зверь от хищника или просто искал пищ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441360" y="2638440"/>
            <a:ext cx="4510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8840" y="302724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А у собак уникальны отпечатки но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Если внимательно посмотреть на собачий нос, можно разглядеть на нем тонкие ли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6568920" y="2212920"/>
            <a:ext cx="5486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68120" y="3071880"/>
            <a:ext cx="56912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мире существует лишь одно животно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 которого есть отпечатки пальце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как и у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Это - Австралийская коа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6058080" y="27255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537240" y="2332080"/>
            <a:ext cx="53960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К сожалению, в Самаре нет ни одной настоящей коалы. А я не могу сейчас отправиться в Австралию, чтобы в живую рассмотреть отпечатки пальцев у коал, но возможно позже, мне удас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 научной энциклопедии написано, что у коал, даже без микроскопа хорошо видны узоры, точно такие же завитки и петель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865080" y="3162240"/>
            <a:ext cx="476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938840" y="26305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Если бы банда коал ограбила банк, оставив на месте преступления отпечатки пальцев, то полицейские были бы уверены, что преступление совершили лю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884160" y="2530440"/>
            <a:ext cx="3030480" cy="4043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6688080" y="4329000"/>
            <a:ext cx="29592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77840" y="2655720"/>
            <a:ext cx="682632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1. Человек, не единственное существо на планете, у которого есть отпечатки пальце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2. Коалы питаются листьями эвкалиптов и благодаря узору на их пальцах, им удобнее, хвататься за ветви, и отправлять листья в 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 rot="21000600">
            <a:off x="7081560" y="2724120"/>
            <a:ext cx="4779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 rot="651000">
            <a:off x="6442200" y="39225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СПАСИБО ЗА ВНИМАНИЕ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473040" y="2516040"/>
            <a:ext cx="59803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09:29:26Z</dcterms:created>
  <dc:creator>Максим</dc:creator>
  <dc:description/>
  <dc:language>en-US</dc:language>
  <cp:lastModifiedBy>zhirnovm@outlook.com</cp:lastModifiedBy>
  <dcterms:modified xsi:type="dcterms:W3CDTF">2018-11-14T07:24:12Z</dcterms:modified>
  <cp:revision>29</cp:revision>
  <dc:subject/>
  <dc:title>Презентация PowerPoint</dc:title>
</cp:coreProperties>
</file>