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9C9-9316-49DB-9F92-BDFA6442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386-031C-4C93-A2B3-6C706C8F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E1A-6BAD-4E9F-996E-A0BA95AC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5A0-D6B4-47D1-A640-BC7B5B89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C779-5C42-4FFD-8730-EDC49E10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335-3EB6-4053-8801-85F38EDA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753-2CE8-410F-ABD8-5FC25171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405-399E-4B05-9D3A-6BF78B2A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A0E-DB27-4283-99F1-EB9BBB4A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CA5F-2A9C-491E-80DA-474B75D7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FE5-C62B-42BD-914A-49334F7E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218-0D4C-4E53-8BF1-BB336B45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D4C8-47C4-4280-9DB1-7DFAFD84A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ФОРМИРОВАНИЕ ЦЕННОСТИ ЗДОРОВОГО ОБРАЗА ЖИЗНИ У ДОШК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ко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КДОУ «ЦРР-Пригородный детский са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8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0" name="Прямая со стрелкой 35"/>
          <p:cNvCxnSpPr>
            <a:stCxn id="81" idx="2"/>
          </p:cNvCxnSpPr>
          <p:nvPr/>
        </p:nvCxnSpPr>
        <p:spPr>
          <a:xfrm>
            <a:off x="3295440" y="764640"/>
            <a:ext cx="1276560" cy="361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2" name="Прямая со стрелкой 37"/>
          <p:cNvCxnSpPr>
            <a:stCxn id="83" idx="2"/>
          </p:cNvCxnSpPr>
          <p:nvPr/>
        </p:nvCxnSpPr>
        <p:spPr>
          <a:xfrm flipH="1">
            <a:off x="4571640" y="764640"/>
            <a:ext cx="1513440" cy="361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grpSp>
        <p:nvGrpSpPr>
          <p:cNvPr id="84" name="Группа 22"/>
          <p:cNvGrpSpPr/>
          <p:nvPr/>
        </p:nvGrpSpPr>
        <p:grpSpPr>
          <a:xfrm>
            <a:off x="395280" y="2349360"/>
            <a:ext cx="8353440" cy="3743640"/>
            <a:chOff x="395280" y="2349360"/>
            <a:chExt cx="8353440" cy="3743640"/>
          </a:xfrm>
        </p:grpSpPr>
        <p:sp>
          <p:nvSpPr>
            <p:cNvPr id="85" name="Text Box 18"/>
            <p:cNvSpPr/>
            <p:nvPr/>
          </p:nvSpPr>
          <p:spPr>
            <a:xfrm>
              <a:off x="395280" y="2349360"/>
              <a:ext cx="8353440" cy="3743640"/>
            </a:xfrm>
            <a:prstGeom prst="rect">
              <a:avLst/>
            </a:prstGeom>
            <a:gradFill rotWithShape="0">
              <a:gsLst>
                <a:gs pos="0">
                  <a:srgbClr val="dcebf5"/>
                </a:gs>
                <a:gs pos="100000">
                  <a:srgbClr val="55261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Методы физического разви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9"/>
            <p:cNvSpPr/>
            <p:nvPr/>
          </p:nvSpPr>
          <p:spPr>
            <a:xfrm>
              <a:off x="539280" y="2853000"/>
              <a:ext cx="2808360" cy="3095640"/>
            </a:xfrm>
            <a:prstGeom prst="rect">
              <a:avLst/>
            </a:prstGeom>
            <a:gradFill rotWithShape="0">
              <a:gsLst>
                <a:gs pos="0">
                  <a:srgbClr val="96ab94"/>
                </a:gs>
                <a:gs pos="100000">
                  <a:srgbClr val="8488c4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гляд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глядно-зрительные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прием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(показ физически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упражнений, использование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наглядных пособий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имитация, зрительные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ориентиры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глядно-слуховые приемы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(музыка, песни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актильно-мышечные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прием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(непосредственная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помощь воспитателя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0"/>
            <p:cNvSpPr/>
            <p:nvPr/>
          </p:nvSpPr>
          <p:spPr>
            <a:xfrm>
              <a:off x="3491640" y="2853000"/>
              <a:ext cx="2448360" cy="3095640"/>
            </a:xfrm>
            <a:prstGeom prst="rect">
              <a:avLst/>
            </a:prstGeom>
            <a:gradFill rotWithShape="0">
              <a:gsLst>
                <a:gs pos="0">
                  <a:srgbClr val="96ab94"/>
                </a:gs>
                <a:gs pos="100000">
                  <a:srgbClr val="8488c4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ловесны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бъяснения, пояснения,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указ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дача команд,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распоряжений, сигнал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опросы к детя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бразный сюжетный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рассказ, бесе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ловесная инструк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084360" y="2853000"/>
              <a:ext cx="2520360" cy="3095640"/>
            </a:xfrm>
            <a:prstGeom prst="rect">
              <a:avLst/>
            </a:prstGeom>
            <a:gradFill rotWithShape="0">
              <a:gsLst>
                <a:gs pos="0">
                  <a:srgbClr val="96ab94"/>
                </a:gs>
                <a:gs pos="100000">
                  <a:srgbClr val="8488c4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актич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вторение упражнений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без изменения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и с изменени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оведение упражнений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в игровой форм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оведение упражнений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в соревновательной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форм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8"/>
          <p:cNvSpPr/>
          <p:nvPr/>
        </p:nvSpPr>
        <p:spPr>
          <a:xfrm>
            <a:off x="2738520" y="404640"/>
            <a:ext cx="111276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292720" y="404640"/>
            <a:ext cx="158292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995640" y="1197000"/>
            <a:ext cx="15192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33"/>
          <p:cNvCxnSpPr>
            <a:stCxn id="81" idx="3"/>
            <a:endCxn id="83" idx="1"/>
          </p:cNvCxnSpPr>
          <p:nvPr/>
        </p:nvCxnSpPr>
        <p:spPr>
          <a:xfrm>
            <a:off x="3851280" y="585360"/>
            <a:ext cx="1442160" cy="1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headEnd len="med" type="arrow" w="med"/>
            <a:tailEnd len="med" type="arrow" w="med"/>
          </a:ln>
        </p:spPr>
      </p:cxnSp>
      <p:sp>
        <p:nvSpPr>
          <p:cNvPr id="91" name="AutoShape 5"/>
          <p:cNvSpPr/>
          <p:nvPr/>
        </p:nvSpPr>
        <p:spPr>
          <a:xfrm>
            <a:off x="4395960" y="1628640"/>
            <a:ext cx="352080" cy="576360"/>
          </a:xfrm>
          <a:prstGeom prst="downArrow">
            <a:avLst>
              <a:gd name="adj1" fmla="val 39102"/>
              <a:gd name="adj2" fmla="val 55749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AC35-FAA2-4EE0-A933-3BB45413A1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8"/>
          <p:cNvSpPr/>
          <p:nvPr/>
        </p:nvSpPr>
        <p:spPr>
          <a:xfrm>
            <a:off x="3855960" y="1773360"/>
            <a:ext cx="14320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"/>
          <p:cNvGrpSpPr/>
          <p:nvPr/>
        </p:nvGrpSpPr>
        <p:grpSpPr>
          <a:xfrm>
            <a:off x="324000" y="2565360"/>
            <a:ext cx="2447640" cy="3527640"/>
            <a:chOff x="324000" y="2565360"/>
            <a:chExt cx="2447640" cy="3527640"/>
          </a:xfrm>
        </p:grpSpPr>
        <p:sp>
          <p:nvSpPr>
            <p:cNvPr id="95" name="Text Box 3"/>
            <p:cNvSpPr/>
            <p:nvPr/>
          </p:nvSpPr>
          <p:spPr>
            <a:xfrm>
              <a:off x="324000" y="2565360"/>
              <a:ext cx="2447640" cy="352764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100000">
                  <a:srgbClr val="f8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62673"/>
                  </a:solidFill>
                  <a:latin typeface="Arial"/>
                </a:rPr>
                <a:t>Средства физического разви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4"/>
            <p:cNvSpPr/>
            <p:nvPr/>
          </p:nvSpPr>
          <p:spPr>
            <a:xfrm>
              <a:off x="468000" y="3429000"/>
              <a:ext cx="2159640" cy="792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вигательная активность, занятия физкультур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"/>
            <p:cNvSpPr/>
            <p:nvPr/>
          </p:nvSpPr>
          <p:spPr>
            <a:xfrm>
              <a:off x="468000" y="4292640"/>
              <a:ext cx="2159640" cy="791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олого-природные факторы (солнце, воздух, вода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468000" y="5157000"/>
              <a:ext cx="2159640" cy="79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сихогигиенические факторы (гигиена сна, питания, занятий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7"/>
          <p:cNvGrpSpPr/>
          <p:nvPr/>
        </p:nvGrpSpPr>
        <p:grpSpPr>
          <a:xfrm>
            <a:off x="3276720" y="2565360"/>
            <a:ext cx="5616360" cy="3527640"/>
            <a:chOff x="3276720" y="2565360"/>
            <a:chExt cx="5616360" cy="3527640"/>
          </a:xfrm>
        </p:grpSpPr>
        <p:sp>
          <p:nvSpPr>
            <p:cNvPr id="100" name="Text Box 8"/>
            <p:cNvSpPr/>
            <p:nvPr/>
          </p:nvSpPr>
          <p:spPr>
            <a:xfrm>
              <a:off x="3276720" y="2565360"/>
              <a:ext cx="5616360" cy="3527640"/>
            </a:xfrm>
            <a:prstGeom prst="rect">
              <a:avLst/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12600">
              <a:solidFill>
                <a:srgbClr val="c2d69b"/>
              </a:solidFill>
              <a:miter/>
            </a:ln>
            <a:effectLst>
              <a:outerShdw dist="107932" dir="189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62673"/>
                  </a:solidFill>
                  <a:latin typeface="Arial"/>
                </a:rPr>
                <a:t>Формы физического разви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9"/>
            <p:cNvGrpSpPr/>
            <p:nvPr/>
          </p:nvGrpSpPr>
          <p:grpSpPr>
            <a:xfrm>
              <a:off x="3348000" y="2997360"/>
              <a:ext cx="5473080" cy="3019320"/>
              <a:chOff x="3348000" y="2997360"/>
              <a:chExt cx="5473080" cy="3019320"/>
            </a:xfrm>
          </p:grpSpPr>
          <p:sp>
            <p:nvSpPr>
              <p:cNvPr id="102" name="Text Box 10"/>
              <p:cNvSpPr/>
              <p:nvPr/>
            </p:nvSpPr>
            <p:spPr>
              <a:xfrm>
                <a:off x="3348000" y="5729400"/>
                <a:ext cx="547308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Самостоятельная двигательно-игровая деятельность дете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11"/>
              <p:cNvSpPr/>
              <p:nvPr/>
            </p:nvSpPr>
            <p:spPr>
              <a:xfrm>
                <a:off x="3348000" y="2997360"/>
                <a:ext cx="2665080" cy="288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Физкультурные заняти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2"/>
              <p:cNvSpPr/>
              <p:nvPr/>
            </p:nvSpPr>
            <p:spPr>
              <a:xfrm>
                <a:off x="3348000" y="3715920"/>
                <a:ext cx="2520360" cy="288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Подвижные игр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3"/>
              <p:cNvSpPr/>
              <p:nvPr/>
            </p:nvSpPr>
            <p:spPr>
              <a:xfrm>
                <a:off x="6228720" y="3355560"/>
                <a:ext cx="2520360" cy="288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Утренняя гимнасти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4"/>
              <p:cNvSpPr/>
              <p:nvPr/>
            </p:nvSpPr>
            <p:spPr>
              <a:xfrm>
                <a:off x="3348000" y="4436640"/>
                <a:ext cx="1152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ЛФ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15"/>
              <p:cNvSpPr/>
              <p:nvPr/>
            </p:nvSpPr>
            <p:spPr>
              <a:xfrm>
                <a:off x="6228720" y="3645000"/>
                <a:ext cx="2303280" cy="433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Корригирующаягимнаст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16"/>
              <p:cNvSpPr/>
              <p:nvPr/>
            </p:nvSpPr>
            <p:spPr>
              <a:xfrm>
                <a:off x="7597440" y="5011560"/>
                <a:ext cx="112356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Ритми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17"/>
              <p:cNvSpPr/>
              <p:nvPr/>
            </p:nvSpPr>
            <p:spPr>
              <a:xfrm>
                <a:off x="3348000" y="4821480"/>
                <a:ext cx="4081320" cy="477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Спортивные игры, развлечения, праздники и  соревновани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8"/>
              <p:cNvSpPr/>
              <p:nvPr/>
            </p:nvSpPr>
            <p:spPr>
              <a:xfrm>
                <a:off x="5868360" y="5368680"/>
                <a:ext cx="2880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Музыкальные  заняти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9"/>
              <p:cNvSpPr/>
              <p:nvPr/>
            </p:nvSpPr>
            <p:spPr>
              <a:xfrm>
                <a:off x="4645080" y="4436640"/>
                <a:ext cx="411264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Физкультурные упражнения на прогулк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0"/>
              <p:cNvSpPr/>
              <p:nvPr/>
            </p:nvSpPr>
            <p:spPr>
              <a:xfrm>
                <a:off x="3348000" y="4075200"/>
                <a:ext cx="2304720" cy="288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Физкультминутк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21"/>
              <p:cNvSpPr/>
              <p:nvPr/>
            </p:nvSpPr>
            <p:spPr>
              <a:xfrm>
                <a:off x="3348000" y="3355560"/>
                <a:ext cx="2665080" cy="288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Закаливающие  процедур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22"/>
              <p:cNvSpPr/>
              <p:nvPr/>
            </p:nvSpPr>
            <p:spPr>
              <a:xfrm>
                <a:off x="5795640" y="4075200"/>
                <a:ext cx="2957040" cy="288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Гимнастика пробужде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23"/>
              <p:cNvSpPr/>
              <p:nvPr/>
            </p:nvSpPr>
            <p:spPr>
              <a:xfrm>
                <a:off x="3348000" y="5368680"/>
                <a:ext cx="2304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Кружки, секци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24"/>
              <p:cNvSpPr/>
              <p:nvPr/>
            </p:nvSpPr>
            <p:spPr>
              <a:xfrm>
                <a:off x="6228720" y="2997360"/>
                <a:ext cx="2520360" cy="288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Занятия по плаванию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17" name="Прямая со стрелкой 27"/>
          <p:cNvCxnSpPr>
            <a:stCxn id="118" idx="2"/>
          </p:cNvCxnSpPr>
          <p:nvPr/>
        </p:nvCxnSpPr>
        <p:spPr>
          <a:xfrm>
            <a:off x="3295440" y="764640"/>
            <a:ext cx="1276560" cy="361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19" name="Прямая со стрелкой 28"/>
          <p:cNvCxnSpPr>
            <a:stCxn id="120" idx="2"/>
          </p:cNvCxnSpPr>
          <p:nvPr/>
        </p:nvCxnSpPr>
        <p:spPr>
          <a:xfrm flipH="1">
            <a:off x="4714560" y="764640"/>
            <a:ext cx="1405440" cy="361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118" name="Text Box 8"/>
          <p:cNvSpPr/>
          <p:nvPr/>
        </p:nvSpPr>
        <p:spPr>
          <a:xfrm>
            <a:off x="2738520" y="404640"/>
            <a:ext cx="111276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435640" y="404640"/>
            <a:ext cx="136836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708360" y="1197000"/>
            <a:ext cx="158436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32"/>
          <p:cNvCxnSpPr>
            <a:stCxn id="118" idx="3"/>
            <a:endCxn id="120" idx="1"/>
          </p:cNvCxnSpPr>
          <p:nvPr/>
        </p:nvCxnSpPr>
        <p:spPr>
          <a:xfrm flipV="1">
            <a:off x="3850920" y="583920"/>
            <a:ext cx="1585080" cy="21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3" name="Прямая со стрелкой 34"/>
          <p:cNvCxnSpPr>
            <a:stCxn id="121" idx="2"/>
            <a:endCxn id="93" idx="0"/>
          </p:cNvCxnSpPr>
          <p:nvPr/>
        </p:nvCxnSpPr>
        <p:spPr>
          <a:xfrm>
            <a:off x="4500720" y="1557360"/>
            <a:ext cx="72000" cy="2167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124" name="Стрелка углом 37"/>
          <p:cNvSpPr/>
          <p:nvPr/>
        </p:nvSpPr>
        <p:spPr>
          <a:xfrm rot="5400000">
            <a:off x="5831640" y="1448280"/>
            <a:ext cx="504720" cy="1440000"/>
          </a:xfrm>
          <a:custGeom>
            <a:avLst/>
            <a:gdLst/>
            <a:ahLst/>
            <a:rect l="l" t="t" r="r" b="b"/>
            <a:pathLst>
              <a:path w="504825" h="1439862">
                <a:moveTo>
                  <a:pt x="0" y="1439862"/>
                </a:moveTo>
                <a:lnTo>
                  <a:pt x="0" y="283964"/>
                </a:lnTo>
                <a:cubicBezTo>
                  <a:pt x="0" y="161986"/>
                  <a:pt x="98883" y="63103"/>
                  <a:pt x="220861" y="63103"/>
                </a:cubicBezTo>
                <a:lnTo>
                  <a:pt x="378619" y="63103"/>
                </a:lnTo>
                <a:lnTo>
                  <a:pt x="378619" y="0"/>
                </a:lnTo>
                <a:lnTo>
                  <a:pt x="504825" y="126206"/>
                </a:lnTo>
                <a:lnTo>
                  <a:pt x="378619" y="252413"/>
                </a:lnTo>
                <a:lnTo>
                  <a:pt x="378619" y="189309"/>
                </a:lnTo>
                <a:lnTo>
                  <a:pt x="220861" y="189309"/>
                </a:lnTo>
                <a:cubicBezTo>
                  <a:pt x="168584" y="189309"/>
                  <a:pt x="126206" y="231687"/>
                  <a:pt x="126206" y="283964"/>
                </a:cubicBezTo>
                <a:lnTo>
                  <a:pt x="126206" y="1439862"/>
                </a:lnTo>
                <a:lnTo>
                  <a:pt x="0" y="1439862"/>
                </a:lnTo>
                <a:close/>
              </a:path>
            </a:pathLst>
          </a:cu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0800000"/>
          </a:gradFill>
          <a:ln w="9360">
            <a:solidFill>
              <a:srgbClr val="2f2f9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углом 38"/>
          <p:cNvSpPr/>
          <p:nvPr/>
        </p:nvSpPr>
        <p:spPr>
          <a:xfrm flipV="1" rot="5400000">
            <a:off x="2843280" y="1484280"/>
            <a:ext cx="504720" cy="1368720"/>
          </a:xfrm>
          <a:custGeom>
            <a:avLst/>
            <a:gdLst/>
            <a:ahLst/>
            <a:rect l="l" t="t" r="r" b="b"/>
            <a:pathLst>
              <a:path w="504825" h="1368425">
                <a:moveTo>
                  <a:pt x="0" y="1368425"/>
                </a:moveTo>
                <a:lnTo>
                  <a:pt x="0" y="283964"/>
                </a:lnTo>
                <a:cubicBezTo>
                  <a:pt x="0" y="161986"/>
                  <a:pt x="98883" y="63103"/>
                  <a:pt x="220861" y="63103"/>
                </a:cubicBezTo>
                <a:lnTo>
                  <a:pt x="378619" y="63103"/>
                </a:lnTo>
                <a:lnTo>
                  <a:pt x="378619" y="0"/>
                </a:lnTo>
                <a:lnTo>
                  <a:pt x="504825" y="126206"/>
                </a:lnTo>
                <a:lnTo>
                  <a:pt x="378619" y="252413"/>
                </a:lnTo>
                <a:lnTo>
                  <a:pt x="378619" y="189309"/>
                </a:lnTo>
                <a:lnTo>
                  <a:pt x="220861" y="189309"/>
                </a:lnTo>
                <a:cubicBezTo>
                  <a:pt x="168584" y="189309"/>
                  <a:pt x="126206" y="231687"/>
                  <a:pt x="126206" y="283964"/>
                </a:cubicBezTo>
                <a:lnTo>
                  <a:pt x="126206" y="1368425"/>
                </a:lnTo>
                <a:lnTo>
                  <a:pt x="0" y="1368425"/>
                </a:lnTo>
                <a:close/>
              </a:path>
            </a:pathLst>
          </a:cu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0"/>
          </a:gradFill>
          <a:ln w="9360">
            <a:solidFill>
              <a:srgbClr val="2f2f9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6066-FD5C-4D3E-B417-D5BC74489A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12840" y="258840"/>
            <a:ext cx="8831160" cy="65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760" y="12682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аспекты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о-обучаю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уг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ЦЕННОСТИ ЗДОРОВОГО ОБРАЗА ЖИЗНИ У ДОШКОЛЬНИКА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ЦЕННОСТИ ЗДОРОВОГО ОБРАЗА ЖИЗНИ У ДО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ы педагогического воз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едставляет ребёнку мотив развития, обозначая в метафорической форме конфликт главного гер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оздаёт в образной форме ситуации, которые переживаются ребёнком и формируют характер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Представляет ценности здорового образа жизни метафорически в поступках и победах гер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При гармоничном прохождении ребёнком основных маршрутов сказки у него вырабатываются устойчивые представления о ценн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Уникальное средство благополучного развития дошколь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61760" y="12682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земельному участку (игровые площадки –индивидуальные для каждой группы из расчета не менее 7,2 кв.м на одного ребёнка в ясельной группе и не менее 9 кв. м на одного ребёнка в остальных групп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анировочной структуре здания, отделке и оборудованию помещений (столы для занятий устанавливаются вблизи светонесущих стен при обязательном левостороннем освещении рабочего места для - праворуких и правостороннем –для леворуких де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естественному и искусственному освещению, отоплению, вентиляции (температура воздуха и кратность воздухообмен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санитарному содержанию помещений и организации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медицинскому обеспечению и оценке состояния здоровья детей (оценка физического развития два раза в год, комплексная оценка здоровья – один раз в го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организации режима дня, учебных занятий и физического вос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соблюдению санитарных прав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Санитарно-эпидемиологические требования к устройству, содержанию и организации режима работы дошкольных образовательных учреждений. СанПин 2.4.1.2660-10», утверждённые с 22. 07. 2010года включают треб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 гигиенических требованиях к максимальной нагрузке на детей дошкольного возраста в организованных формах обучения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(письмо МОРФ от 14 марта 2000г. № 65/23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построении образовательного процесса следует устанавливать соответствующую   нагрузку непрерывной непосредственно образовательной деятельност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Для детей раннего возраста от 1,5 до 3 лет непосредственно образовательная деятельность должна составлять не более 1,5 в неделю (игровая, музыкальная, речевая, двигательная). Продолжительность непрерывной непосредственно образовательной деятельности составляет не более 10 ми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Максимально допустимый объём недельной образовательной нагрузки, включая реализацию дополнительных образовательных программ состав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ладшей группе (дети четвёртого года жизни) – 2 часа 45 мину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й группе (дети пятого года жизни) – 4 ча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ршей группе (дети шестого года жизни) – 6 часов 15 мину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дготовительной (дети седьмого года жизни) – 8 часов 30 ми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родолжительность непрерывной непосредственной образовательной деятельности состав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етей 4-го года жизни – не более 15 мину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етей 5-го года жизни – не более20 мину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етей 6-го года жизни – не более25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етей 7-го года жизни – не более30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В середине непосредственно образовательной деятельности статического характера проводят физкультминут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Непосредственно образовательная деятельность физкультурно-оздоровительного и эстетического цикла должна занимать  не менее 50% общего времени, отведённого на непосредственно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ценка состояния здоровья дошкольников осуществляется по следующим направления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ое развит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овокупность морфологических и функциональных признаков, позволяющих определить запас физических сил, выносливости и работоспособности организ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дви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тдельные качественные стороны двигательных возможностей ребёнка: быстрота, сила, гибкость, выносливость и ловк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ень зрелости нервных процесс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збуждения и тормож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ихическое развит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нцентрация и объём внимания, сформированность мышл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даптационные возмож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нализ межличностных отношени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Формы работы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Родительские соб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еседы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овместные праздники  детей  и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овместные спортивные соревнования детей и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нятия с родителями «Растим здорового ребён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Заседания клуба «Школа молодых матер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Формирование ценности здорового образа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 латыни «модус вивенди», - это система взаимоотношений человека с самим собой и факторами внешн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ый образ жизни (ЗОЖ) направлен на сохранение, укрепление и формирование собственного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стики здорового образа жизни (ЗОЖ) зависят от пола, возраста, состояния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ы обеспечивающие возможность для ЗОЖ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рефлексии и самоогранич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е различных видов пространства (климатической зоны, общества, окружающей среды, жилищ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циональна организация питания и двигательной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ной режим труда и отды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стема работы по формированию ценности здорового образа жизни у до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здорового образа жизни  дошколь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 в ДОУ, методология, анализ, опыт приме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Здоровый образ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ностные компоненты здорового образа жизни дошколь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мальный двигательный реж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циональное пит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ая гиги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ельные эмо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аз от вредных привыч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али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доровьесберегающая технология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 - 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иды современных здоровьесберегающих технолог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26560" y="198900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1. Технологии сохранения и стимулирования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2. Технологии обучения здоров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образу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3. Коррекционн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39640" y="1017720"/>
            <a:ext cx="8047080" cy="1619280"/>
          </a:xfrm>
          <a:prstGeom prst="rect">
            <a:avLst/>
          </a:prstGeom>
          <a:gradFill rotWithShape="0">
            <a:gsLst>
              <a:gs pos="0">
                <a:srgbClr val="d99694"/>
              </a:gs>
              <a:gs pos="100000">
                <a:srgbClr val="f2dcd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9184" dir="2128307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ое прогнозирование и точное воспроизведение педагогических действий, которые обеспечивают достижение запланированных результ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55640" y="1628640"/>
            <a:ext cx="763272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6d9f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технологии, направленны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сохранение здоровья и активное формирование здорового образа жизн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здоровья воспитан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Группа 12"/>
          <p:cNvGrpSpPr/>
          <p:nvPr/>
        </p:nvGrpSpPr>
        <p:grpSpPr>
          <a:xfrm>
            <a:off x="324000" y="1989000"/>
            <a:ext cx="8496000" cy="1368720"/>
            <a:chOff x="324000" y="1989000"/>
            <a:chExt cx="8496000" cy="1368720"/>
          </a:xfrm>
        </p:grpSpPr>
        <p:sp>
          <p:nvSpPr>
            <p:cNvPr id="151" name="Прямая соединительная линия 11"/>
            <p:cNvSpPr/>
            <p:nvPr/>
          </p:nvSpPr>
          <p:spPr>
            <a:xfrm>
              <a:off x="4356000" y="3357720"/>
              <a:ext cx="4316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Двойные круглые скобки 8"/>
            <p:cNvSpPr/>
            <p:nvPr/>
          </p:nvSpPr>
          <p:spPr>
            <a:xfrm>
              <a:off x="324000" y="1989000"/>
              <a:ext cx="8496000" cy="1368720"/>
            </a:xfrm>
            <a:prstGeom prst="bracketPair">
              <a:avLst>
                <a:gd name="adj" fmla="val 30402"/>
              </a:avLst>
            </a:prstGeom>
            <a:noFill/>
            <a:ln w="38160">
              <a:solidFill>
                <a:srgbClr val="3333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9"/>
          <p:cNvGrpSpPr/>
          <p:nvPr/>
        </p:nvGrpSpPr>
        <p:grpSpPr>
          <a:xfrm>
            <a:off x="611280" y="2852640"/>
            <a:ext cx="7956360" cy="3240360"/>
            <a:chOff x="611280" y="2852640"/>
            <a:chExt cx="7956360" cy="3240360"/>
          </a:xfrm>
        </p:grpSpPr>
        <p:sp>
          <p:nvSpPr>
            <p:cNvPr id="154" name="Text Box 9"/>
            <p:cNvSpPr/>
            <p:nvPr/>
          </p:nvSpPr>
          <p:spPr>
            <a:xfrm>
              <a:off x="611280" y="2852640"/>
              <a:ext cx="3780000" cy="3240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7e4bd"/>
                </a:gs>
              </a:gsLst>
              <a:lin ang="5400000"/>
            </a:gradFill>
            <a:ln w="12600">
              <a:solidFill>
                <a:srgbClr val="c3d69b"/>
              </a:solidFill>
              <a:miter/>
            </a:ln>
            <a:effectLst>
              <a:outerShdw dist="153753" dir="2700000" blurRad="0" rotWithShape="0">
                <a:srgbClr val="4f62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Медико-профилактическ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рганизация мониторинга здоровья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дошкольн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рганизация и контроль питания де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изического развития дошкольн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кали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рганизация профилактических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меропри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рганизация обеспечения требований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СанПиН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рганизация здоровьесберегающей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сре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4787640" y="2852640"/>
              <a:ext cx="3780000" cy="3240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d5b5"/>
                </a:gs>
              </a:gsLst>
              <a:lin ang="5400000"/>
            </a:gradFill>
            <a:ln w="12600">
              <a:solidFill>
                <a:srgbClr val="fac090"/>
              </a:solidFill>
              <a:miter/>
            </a:ln>
            <a:effectLst>
              <a:outerShdw dist="153753" dir="2700000" blurRad="0" rotWithShape="0">
                <a:srgbClr val="98480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Физкультурно-оздоровите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витие физических качеств,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двигательной актив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тановление физической культуры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де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ыхательная 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ассаж и самомасса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филактика плоскостопия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и формирования правильной оса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оспитание привычки к повседневной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физической активности и заботе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о здоровь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FE18-0331-4FC8-9D56-82A9C500B3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9"/>
          <p:cNvSpPr/>
          <p:nvPr/>
        </p:nvSpPr>
        <p:spPr>
          <a:xfrm>
            <a:off x="468360" y="549360"/>
            <a:ext cx="367200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7e4bd"/>
              </a:gs>
            </a:gsLst>
            <a:lin ang="5400000"/>
          </a:gradFill>
          <a:ln w="12600">
            <a:solidFill>
              <a:srgbClr val="c3d69b"/>
            </a:solidFill>
            <a:miter/>
          </a:ln>
          <a:effectLst>
            <a:outerShdw dist="153753" dir="2700000" blurRad="0" rotWithShape="0">
              <a:srgbClr val="4f62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Медико-профилактическ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003640" y="549360"/>
            <a:ext cx="370872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d5b5"/>
              </a:gs>
            </a:gsLst>
            <a:lin ang="5400000"/>
          </a:gradFill>
          <a:ln w="12600">
            <a:solidFill>
              <a:srgbClr val="fac090"/>
            </a:solidFill>
            <a:miter/>
          </a:ln>
          <a:effectLst>
            <a:outerShdw dist="153753" dir="2700000" blurRad="0" rotWithShape="0">
              <a:srgbClr val="98480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Физкультурно-оздоровительны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4325760" y="1371600"/>
            <a:ext cx="432000" cy="431640"/>
          </a:xfrm>
          <a:prstGeom prst="plus">
            <a:avLst>
              <a:gd name="adj" fmla="val 41667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 flipV="1">
            <a:off x="4140360" y="691920"/>
            <a:ext cx="792000" cy="576000"/>
          </a:xfrm>
          <a:custGeom>
            <a:avLst/>
            <a:gdLst>
              <a:gd name="textAreaLeft" fmla="*/ 79200 w 792000"/>
              <a:gd name="textAreaRight" fmla="*/ 712800 w 792000"/>
              <a:gd name="textAreaTop" fmla="*/ 329040 h 576000"/>
              <a:gd name="textAreaBottom" fmla="*/ 493920 h 576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250920" y="1989000"/>
            <a:ext cx="8642160" cy="1727280"/>
            <a:chOff x="250920" y="1989000"/>
            <a:chExt cx="8642160" cy="1727280"/>
          </a:xfrm>
        </p:grpSpPr>
        <p:sp>
          <p:nvSpPr>
            <p:cNvPr id="162" name="Text Box 12"/>
            <p:cNvSpPr/>
            <p:nvPr/>
          </p:nvSpPr>
          <p:spPr>
            <a:xfrm>
              <a:off x="250920" y="1989000"/>
              <a:ext cx="8642160" cy="172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b9b8"/>
                </a:gs>
              </a:gsLst>
              <a:lin ang="5400000"/>
            </a:gradFill>
            <a:ln w="12600">
              <a:solidFill>
                <a:srgbClr val="d99694"/>
              </a:solidFill>
              <a:miter/>
            </a:ln>
            <a:effectLst>
              <a:outerShdw dist="81185" dir="18521970" blurRad="0" rotWithShape="0">
                <a:srgbClr val="95373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сихологическая безопас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13"/>
            <p:cNvGrpSpPr/>
            <p:nvPr/>
          </p:nvGrpSpPr>
          <p:grpSpPr>
            <a:xfrm>
              <a:off x="336600" y="2349000"/>
              <a:ext cx="8483040" cy="1224360"/>
              <a:chOff x="336600" y="2349000"/>
              <a:chExt cx="8483040" cy="1224360"/>
            </a:xfrm>
          </p:grpSpPr>
          <p:sp>
            <p:nvSpPr>
              <p:cNvPr id="164" name="Text Box 14"/>
              <p:cNvSpPr/>
              <p:nvPr/>
            </p:nvSpPr>
            <p:spPr>
              <a:xfrm>
                <a:off x="336600" y="2349000"/>
                <a:ext cx="1210680" cy="1224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9cde5"/>
                  </a:gs>
                </a:gsLst>
                <a:lin ang="5400000"/>
              </a:gradFill>
              <a:ln w="12600">
                <a:solidFill>
                  <a:srgbClr val="95b3d7"/>
                </a:solidFill>
                <a:miter/>
              </a:ln>
              <a:effectLst>
                <a:outerShdw dist="81185" dir="3078030" blurRad="0" rotWithShape="0">
                  <a:srgbClr val="25406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мфорт-ная органи-зац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режимных моментов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15"/>
              <p:cNvSpPr/>
              <p:nvPr/>
            </p:nvSpPr>
            <p:spPr>
              <a:xfrm>
                <a:off x="1619280" y="2349000"/>
                <a:ext cx="1152360" cy="1224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cce4"/>
                  </a:gs>
                </a:gsLst>
                <a:lin ang="5400000"/>
              </a:gradFill>
              <a:ln w="12600">
                <a:solidFill>
                  <a:srgbClr val="95b3d7"/>
                </a:solidFill>
                <a:miter/>
              </a:ln>
              <a:effectLst>
                <a:outerShdw dist="81185" dir="307803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Оптималь-ный  двига-тельны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режим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16"/>
              <p:cNvSpPr/>
              <p:nvPr/>
            </p:nvSpPr>
            <p:spPr>
              <a:xfrm>
                <a:off x="2842920" y="2349000"/>
                <a:ext cx="1728360" cy="1224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cce4"/>
                  </a:gs>
                </a:gsLst>
                <a:lin ang="5400000"/>
              </a:gradFill>
              <a:ln w="12600">
                <a:solidFill>
                  <a:srgbClr val="95b3d7"/>
                </a:solidFill>
                <a:miter/>
              </a:ln>
              <a:effectLst>
                <a:outerShdw dist="81185" dir="307803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Правильное распределение интеллектуаль-ных и физических нагрузо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7"/>
              <p:cNvSpPr/>
              <p:nvPr/>
            </p:nvSpPr>
            <p:spPr>
              <a:xfrm>
                <a:off x="4643280" y="2358360"/>
                <a:ext cx="1439640" cy="1215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cce4"/>
                  </a:gs>
                </a:gsLst>
                <a:lin ang="5400000"/>
              </a:gradFill>
              <a:ln w="12600">
                <a:solidFill>
                  <a:srgbClr val="95b3d7"/>
                </a:solidFill>
                <a:miter/>
              </a:ln>
              <a:effectLst>
                <a:outerShdw dist="81185" dir="307803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оброжела-тельный стиль общения взрослого</a:t>
                </a:r>
                <a:br>
                  <a:rPr sz="1400"/>
                </a:b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с детьм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8"/>
              <p:cNvSpPr/>
              <p:nvPr/>
            </p:nvSpPr>
            <p:spPr>
              <a:xfrm>
                <a:off x="7524360" y="2349000"/>
                <a:ext cx="1295280" cy="1224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cce4"/>
                  </a:gs>
                </a:gsLst>
                <a:lin ang="5400000"/>
              </a:gradFill>
              <a:ln w="12600">
                <a:solidFill>
                  <a:srgbClr val="95b3d7"/>
                </a:solidFill>
                <a:miter/>
              </a:ln>
              <a:effectLst>
                <a:outerShdw dist="81185" dir="307803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Использование прие-мов релак-сации в режиме дн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19"/>
              <p:cNvSpPr/>
              <p:nvPr/>
            </p:nvSpPr>
            <p:spPr>
              <a:xfrm>
                <a:off x="6156000" y="2349000"/>
                <a:ext cx="1295280" cy="1224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cce4"/>
                  </a:gs>
                </a:gsLst>
                <a:lin ang="5400000"/>
              </a:gradFill>
              <a:ln w="12600">
                <a:solidFill>
                  <a:srgbClr val="95b3d7"/>
                </a:solidFill>
                <a:miter/>
              </a:ln>
              <a:effectLst>
                <a:outerShdw dist="81185" dir="307803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Целесообра-зность  в применении приемов</a:t>
                </a:r>
                <a:br>
                  <a:rPr sz="1600"/>
                </a:b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и методо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AutoShape 30"/>
          <p:cNvSpPr/>
          <p:nvPr/>
        </p:nvSpPr>
        <p:spPr>
          <a:xfrm>
            <a:off x="4356000" y="3789360"/>
            <a:ext cx="432000" cy="431640"/>
          </a:xfrm>
          <a:prstGeom prst="plus">
            <a:avLst>
              <a:gd name="adj" fmla="val 41667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0"/>
          <p:cNvGrpSpPr/>
          <p:nvPr/>
        </p:nvGrpSpPr>
        <p:grpSpPr>
          <a:xfrm>
            <a:off x="343080" y="4292640"/>
            <a:ext cx="8550000" cy="1800360"/>
            <a:chOff x="343080" y="4292640"/>
            <a:chExt cx="8550000" cy="1800360"/>
          </a:xfrm>
        </p:grpSpPr>
        <p:sp>
          <p:nvSpPr>
            <p:cNvPr id="172" name="Text Box 21"/>
            <p:cNvSpPr/>
            <p:nvPr/>
          </p:nvSpPr>
          <p:spPr>
            <a:xfrm>
              <a:off x="343080" y="4292640"/>
              <a:ext cx="8550000" cy="1800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81185" dir="19278031" blurRad="0" rotWithShape="0">
                <a:srgbClr val="95373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c00000"/>
                  </a:solidFill>
                  <a:latin typeface="Arial"/>
                </a:rPr>
                <a:t>Оздоровительная направленность образовательного процесс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2"/>
            <p:cNvSpPr/>
            <p:nvPr/>
          </p:nvSpPr>
          <p:spPr>
            <a:xfrm>
              <a:off x="6517080" y="4689360"/>
              <a:ext cx="1079280" cy="12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b9b8"/>
                </a:gs>
              </a:gsLst>
              <a:lin ang="5400000"/>
            </a:gradFill>
            <a:ln w="12600">
              <a:solidFill>
                <a:srgbClr val="d99694"/>
              </a:solidFill>
              <a:miter/>
            </a:ln>
            <a:effectLst>
              <a:outerShdw dist="71785" dir="2700000" blurRad="0" rotWithShape="0">
                <a:srgbClr val="6325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озд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словий д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амореа-лиз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3"/>
            <p:cNvSpPr/>
            <p:nvPr/>
          </p:nvSpPr>
          <p:spPr>
            <a:xfrm>
              <a:off x="7740720" y="4689360"/>
              <a:ext cx="1079280" cy="12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71785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риента-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 зон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лижай-шего разви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4"/>
            <p:cNvSpPr/>
            <p:nvPr/>
          </p:nvSpPr>
          <p:spPr>
            <a:xfrm>
              <a:off x="5292720" y="4689360"/>
              <a:ext cx="1079280" cy="12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71785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едоста-вление ребен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вободы выбо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5"/>
            <p:cNvSpPr/>
            <p:nvPr/>
          </p:nvSpPr>
          <p:spPr>
            <a:xfrm>
              <a:off x="3924360" y="4689360"/>
              <a:ext cx="1224000" cy="12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71785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чет инди-видуальных особеннос-тей и инте-ресов де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2700720" y="4689360"/>
              <a:ext cx="1079280" cy="12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71785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режно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тноше-ние к нервн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истеме реб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1476360" y="4689360"/>
              <a:ext cx="1079280" cy="12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71785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озд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словий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здорови-тельных режим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8"/>
            <p:cNvSpPr/>
            <p:nvPr/>
          </p:nvSpPr>
          <p:spPr>
            <a:xfrm>
              <a:off x="419040" y="4686120"/>
              <a:ext cx="912960" cy="126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71785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ч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гигиенических требо-ва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Номер слайда 2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8ADF-861C-446E-9AFE-D1B02F9731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ая соединительная линия 32"/>
          <p:cNvSpPr/>
          <p:nvPr/>
        </p:nvSpPr>
        <p:spPr>
          <a:xfrm>
            <a:off x="4284720" y="2205000"/>
            <a:ext cx="5745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468360" y="549360"/>
            <a:ext cx="367200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7e4bd"/>
              </a:gs>
            </a:gsLst>
            <a:lin ang="5400000"/>
          </a:gradFill>
          <a:ln w="12600">
            <a:solidFill>
              <a:srgbClr val="c3d69b"/>
            </a:solidFill>
            <a:miter/>
          </a:ln>
          <a:effectLst>
            <a:outerShdw dist="153753" dir="2700000" blurRad="0" rotWithShape="0">
              <a:srgbClr val="4f62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Медико-профилактическ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003640" y="620640"/>
            <a:ext cx="370872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d5b5"/>
              </a:gs>
            </a:gsLst>
            <a:lin ang="5400000"/>
          </a:gradFill>
          <a:ln w="12600">
            <a:solidFill>
              <a:srgbClr val="fac090"/>
            </a:solidFill>
            <a:miter/>
          </a:ln>
          <a:effectLst>
            <a:outerShdw dist="153753" dir="2700000" blurRad="0" rotWithShape="0">
              <a:srgbClr val="98480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Физкультурно-оздоровительны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0"/>
          <p:cNvSpPr/>
          <p:nvPr/>
        </p:nvSpPr>
        <p:spPr>
          <a:xfrm>
            <a:off x="4325760" y="1268280"/>
            <a:ext cx="462240" cy="432000"/>
          </a:xfrm>
          <a:prstGeom prst="plus">
            <a:avLst>
              <a:gd name="adj" fmla="val 41667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1"/>
          <p:cNvSpPr/>
          <p:nvPr/>
        </p:nvSpPr>
        <p:spPr>
          <a:xfrm flipV="1">
            <a:off x="4140360" y="549000"/>
            <a:ext cx="792000" cy="576000"/>
          </a:xfrm>
          <a:custGeom>
            <a:avLst/>
            <a:gdLst>
              <a:gd name="textAreaLeft" fmla="*/ 79200 w 792000"/>
              <a:gd name="textAreaRight" fmla="*/ 712800 w 792000"/>
              <a:gd name="textAreaTop" fmla="*/ 329040 h 576000"/>
              <a:gd name="textAreaBottom" fmla="*/ 493920 h 576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95280" y="1773360"/>
            <a:ext cx="388944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b9b8"/>
              </a:gs>
            </a:gsLst>
            <a:lin ang="5400000"/>
          </a:gradFill>
          <a:ln w="12600">
            <a:solidFill>
              <a:srgbClr val="d99694"/>
            </a:solidFill>
            <a:miter/>
          </a:ln>
          <a:effectLst>
            <a:outerShdw dist="81185" dir="18521970" blurRad="0" rotWithShape="0">
              <a:srgbClr val="95373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сихолог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4859280" y="1773360"/>
            <a:ext cx="3836880" cy="8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81185" dir="19278031" blurRad="0" rotWithShape="0">
              <a:srgbClr val="95373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Оздоровительная направлен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воспитательно - образовате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"/>
          <p:cNvGrpSpPr/>
          <p:nvPr/>
        </p:nvGrpSpPr>
        <p:grpSpPr>
          <a:xfrm>
            <a:off x="314280" y="3284640"/>
            <a:ext cx="8434440" cy="2881080"/>
            <a:chOff x="314280" y="3284640"/>
            <a:chExt cx="8434440" cy="2881080"/>
          </a:xfrm>
        </p:grpSpPr>
        <p:sp>
          <p:nvSpPr>
            <p:cNvPr id="189" name="Text Box 3"/>
            <p:cNvSpPr/>
            <p:nvPr/>
          </p:nvSpPr>
          <p:spPr>
            <a:xfrm>
              <a:off x="314280" y="3284640"/>
              <a:ext cx="8434440" cy="288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07932" dir="189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Виды  здоровьесберегающих  технолог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"/>
            <p:cNvSpPr/>
            <p:nvPr/>
          </p:nvSpPr>
          <p:spPr>
            <a:xfrm>
              <a:off x="466560" y="3714480"/>
              <a:ext cx="2376000" cy="2306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89604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ехнологии сохран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 стимулирования здоров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третчин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итмопл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инамические пауз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движные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и спортивные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елакс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личные гимнаст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6227640" y="3716280"/>
              <a:ext cx="2376000" cy="230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89604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рекционные технолог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арттерап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ехнологии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музыкального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воздейств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казкотерап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ветотерап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сихо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онетическая ритм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6"/>
            <p:cNvSpPr/>
            <p:nvPr/>
          </p:nvSpPr>
          <p:spPr>
            <a:xfrm>
              <a:off x="3060720" y="3716280"/>
              <a:ext cx="2950560" cy="230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89604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ехнологии обуч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доровому образу жизн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изкультурные занят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блемно-игровые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занят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ммуникативные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нятия из серии «Здоровье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амомасса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иологическая обратная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связь (БОС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SzPct val="102950"/>
                <a:buBlip>
                  <a:blip r:embed="rId2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SzPct val="102950"/>
                <a:buBlip>
                  <a:blip r:embed="rId2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5"/>
          <p:cNvSpPr/>
          <p:nvPr/>
        </p:nvSpPr>
        <p:spPr>
          <a:xfrm>
            <a:off x="4427640" y="2637000"/>
            <a:ext cx="360360" cy="504720"/>
          </a:xfrm>
          <a:prstGeom prst="downArrow">
            <a:avLst>
              <a:gd name="adj1" fmla="val 39102"/>
              <a:gd name="adj2" fmla="val 55693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B0E9-05DD-4E99-AF5A-24D1CFA58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хнологии сохранения и стимулирования здоро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71040" y="1557000"/>
            <a:ext cx="41036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ретчинг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— это комплекс упражнений, направленный на развитие гибкости и растя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5430960" y="1413000"/>
            <a:ext cx="3409920" cy="255420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3"/>
          <p:cNvSpPr/>
          <p:nvPr/>
        </p:nvSpPr>
        <p:spPr>
          <a:xfrm>
            <a:off x="684360" y="4076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итмопластика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 - является </a:t>
            </a:r>
            <a:br>
              <a:rPr sz="2800"/>
            </a:b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музыкально-ритмическим психотренин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D:\Медиа\Февральская революция 2015\2015-02-11\194.JPG"/>
          <p:cNvPicPr/>
          <p:nvPr/>
        </p:nvPicPr>
        <p:blipFill>
          <a:blip r:embed="rId2"/>
          <a:stretch/>
        </p:blipFill>
        <p:spPr>
          <a:xfrm>
            <a:off x="5430960" y="4292640"/>
            <a:ext cx="33606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Здоровьесберегающие технологии в Д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организационных и содержательных действий по созданию условий для сохранения, укрепления и формирования здоровья и ЗОЖ  составляет базу здоровьесберегающих технол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 здоровьесберегающи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 характеру действия на ребен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1. Защитно-профилактическ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2. Компенсаторно-нейтрализующ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3. Стимулирующ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4. Информационно-обучающ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о функциональному назначению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1.Организационно-педагогическ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2. Психолого-педагогическ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3.Учебно-воспитательны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доровьесберегающие технологии в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3"/>
          <p:cNvSpPr/>
          <p:nvPr/>
        </p:nvSpPr>
        <p:spPr>
          <a:xfrm>
            <a:off x="0" y="1268280"/>
            <a:ext cx="86407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ивают формир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Ценностного отношения к своему здор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ультуры общени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ческой культуры в быту и экстремальных ситу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оровьеформирующие технологии включают такие направления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терапия (сюжетно-ролевые иг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зкотерапия (чтение и сочинение сказо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клотерапия (создание кукол и кукольный теат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отерапия(хоровое пение, слушание музыки, игра на музыкальных инструментах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атротерапия (театролезованные представл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терапия (игры с водой, игры в воде, закаливание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скотерапия (игры с пес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Методическое 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 в младшей группе – уроки Мойдоды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 в средней группе – уроки Айболи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 в старшей группе – уроки Зна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 в подготовительной группе – твои первые уроки здоров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mbria"/>
              </a:rPr>
              <a:t>ФГОС- НОВАЯ ПАРАДИГМА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0000"/>
          </a:bodyPr>
          <a:p>
            <a:pPr marL="273600" indent="-2055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mbria"/>
              </a:rPr>
              <a:t>основная образовательная программа </a:t>
            </a:r>
            <a:r>
              <a:rPr b="0" lang="ru-RU" sz="1800" spc="-1" strike="noStrike">
                <a:solidFill>
                  <a:srgbClr val="3333ff"/>
                </a:solidFill>
                <a:latin typeface="Cambria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3333ff"/>
                </a:solidFill>
                <a:latin typeface="Cambria"/>
              </a:rPr>
              <a:t>свобода и 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600" indent="-2055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Cambria"/>
              </a:rPr>
              <a:t>воспитатель</a:t>
            </a:r>
            <a:r>
              <a:rPr b="1" lang="ru-RU" sz="18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3333ff"/>
                </a:solidFill>
                <a:latin typeface="Cambria"/>
              </a:rPr>
              <a:t>– обеспечивает достижение требований  в виде целевых ориентиров дошко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600" indent="-2055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mbria"/>
              </a:rPr>
              <a:t>заведующий ДОУ</a:t>
            </a:r>
            <a:r>
              <a:rPr b="0" lang="ru-RU" sz="1800" spc="-1" strike="noStrike">
                <a:solidFill>
                  <a:srgbClr val="3333ff"/>
                </a:solidFill>
                <a:latin typeface="Cambria"/>
              </a:rPr>
              <a:t>–организует образовательный процесс,  формирует вариативную образовательную среду ДОО, распределяет ресурсы для достижения наилучшего 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600" indent="-2055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mbria"/>
              </a:rPr>
              <a:t>родители, органы общественно-государственного управления </a:t>
            </a:r>
            <a:r>
              <a:rPr b="0" lang="ru-RU" sz="1800" spc="-1" strike="noStrike">
                <a:solidFill>
                  <a:srgbClr val="3333ff"/>
                </a:solidFill>
                <a:latin typeface="Cambria"/>
              </a:rPr>
              <a:t>– активные участники организации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1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«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абота о здоровье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 — это важнейший труд воспитателя. От жизнерадостности, бодрости детей зависит их духовная жизнь, мировоззрение, умственное развитие, прочность знаний, вера в свои силы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В. А. 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D:\здоровьесберегающая пс_files\-3-1024.jpg"/>
          <p:cNvPicPr/>
          <p:nvPr/>
        </p:nvPicPr>
        <p:blipFill>
          <a:blip r:embed="rId2"/>
          <a:stretch/>
        </p:blipFill>
        <p:spPr>
          <a:xfrm>
            <a:off x="611280" y="0"/>
            <a:ext cx="85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держание образовательной област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Физическое развит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2" marL="128916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83480" algn="just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Приобретение опыта двигательной деятельности (развитие физических каче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83480" algn="just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формирование начальных представлений о некоторых видах спор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83480" algn="just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овладение подвижными играми с правил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83480" algn="just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Формирование целеустремлённости и саморегуляции в двигательной сфе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83480" algn="just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становление ценностей здорового образа жизни, овладение его элементарными нормами и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4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0" y="333360"/>
            <a:ext cx="8136000" cy="158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армоничное физическ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ирование интереса и ценностного отношения к занятиям физической культу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ирование основ здорового образа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68360" y="2492280"/>
            <a:ext cx="8209080" cy="3600720"/>
            <a:chOff x="468360" y="2492280"/>
            <a:chExt cx="8209080" cy="3600720"/>
          </a:xfrm>
        </p:grpSpPr>
        <p:sp>
          <p:nvSpPr>
            <p:cNvPr id="55" name="Text Box 17"/>
            <p:cNvSpPr/>
            <p:nvPr/>
          </p:nvSpPr>
          <p:spPr>
            <a:xfrm>
              <a:off x="468360" y="2492280"/>
              <a:ext cx="8209080" cy="3600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Задач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3312720" y="2996280"/>
              <a:ext cx="2519640" cy="29530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бразов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ормирование двигате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льных умений и навы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витие физически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качест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владение ребенком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элементарными знания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ми о своем организме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роли физически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упражнений в его жизни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способах укрепления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собственного здоров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9"/>
            <p:cNvSpPr/>
            <p:nvPr/>
          </p:nvSpPr>
          <p:spPr>
            <a:xfrm>
              <a:off x="6012720" y="2996280"/>
              <a:ext cx="2519640" cy="29530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спит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ормирование интереса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и потребности в занятия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физическими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упражнения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ностороннее  гармо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ничное развитие ребенка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(не только физическое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но и умственное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нравственное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эстетическое, трудово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0"/>
            <p:cNvSpPr/>
            <p:nvPr/>
          </p:nvSpPr>
          <p:spPr>
            <a:xfrm>
              <a:off x="597240" y="2996280"/>
              <a:ext cx="2519640" cy="29530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здорови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храна жизни и укрепле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ние здоровья, обеспече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ние нормального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функционирования все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органов и систем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организ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сестороннее физическое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совершенствование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функций организ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вышение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работоспособности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и закали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AutoShape 5"/>
          <p:cNvSpPr/>
          <p:nvPr/>
        </p:nvSpPr>
        <p:spPr>
          <a:xfrm>
            <a:off x="4435560" y="1916280"/>
            <a:ext cx="352440" cy="720720"/>
          </a:xfrm>
          <a:prstGeom prst="downArrow">
            <a:avLst>
              <a:gd name="adj1" fmla="val 39102"/>
              <a:gd name="adj2" fmla="val 55715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7010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88A0-EF4D-4049-91D2-B9B25CAA1B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9"/>
          <p:cNvGrpSpPr/>
          <p:nvPr/>
        </p:nvGrpSpPr>
        <p:grpSpPr>
          <a:xfrm>
            <a:off x="395280" y="549360"/>
            <a:ext cx="8282160" cy="5543640"/>
            <a:chOff x="395280" y="549360"/>
            <a:chExt cx="8282160" cy="5543640"/>
          </a:xfrm>
        </p:grpSpPr>
        <p:sp>
          <p:nvSpPr>
            <p:cNvPr id="62" name="Text Box 10"/>
            <p:cNvSpPr/>
            <p:nvPr/>
          </p:nvSpPr>
          <p:spPr>
            <a:xfrm>
              <a:off x="395280" y="549360"/>
              <a:ext cx="8282160" cy="5543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Направления физического развити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1"/>
            <p:cNvSpPr/>
            <p:nvPr/>
          </p:nvSpPr>
          <p:spPr>
            <a:xfrm>
              <a:off x="539280" y="1269000"/>
              <a:ext cx="3241080" cy="46796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иобретение детьми опыта в двигательной деятельност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вязанной с выполнением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упражн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правленной на развитие таки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физических качеств как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координация и гибк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пособствующей правильному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формированию опорно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двигательной системы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организма, развитию равновесия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координации движений, крупной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и мелкой мотор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вязанной с правильным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не наносящим вреда организму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выполнением основны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движений (ходьба, бег, мягкие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прыжки, повороты в обе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стороны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2"/>
            <p:cNvSpPr/>
            <p:nvPr/>
          </p:nvSpPr>
          <p:spPr>
            <a:xfrm>
              <a:off x="6084720" y="1269000"/>
              <a:ext cx="2376720" cy="46796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ановление ценностей здорового образа жизни,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владение его элементарными нормами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 правилами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(в питании, двигательном режиме, закаливании,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и формировании полезных привычек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 др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3"/>
            <p:cNvSpPr/>
            <p:nvPr/>
          </p:nvSpPr>
          <p:spPr>
            <a:xfrm>
              <a:off x="4068360" y="1269000"/>
              <a:ext cx="1728000" cy="46796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ановл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ие целенаправ-ленности  и саморегу-ляции  в двигательной сфер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C166-6281-48C4-880D-9D748BA44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Группа 21"/>
          <p:cNvGrpSpPr/>
          <p:nvPr/>
        </p:nvGrpSpPr>
        <p:grpSpPr>
          <a:xfrm>
            <a:off x="1930680" y="756360"/>
            <a:ext cx="5096520" cy="1308600"/>
            <a:chOff x="1930680" y="756360"/>
            <a:chExt cx="5096520" cy="1308600"/>
          </a:xfrm>
        </p:grpSpPr>
        <p:sp>
          <p:nvSpPr>
            <p:cNvPr id="68" name="AutoShape 6"/>
            <p:cNvSpPr/>
            <p:nvPr/>
          </p:nvSpPr>
          <p:spPr>
            <a:xfrm rot="1357200">
              <a:off x="1871640" y="1284120"/>
              <a:ext cx="2795760" cy="252720"/>
            </a:xfrm>
            <a:prstGeom prst="rightArrow">
              <a:avLst>
                <a:gd name="adj1" fmla="val 50000"/>
                <a:gd name="adj2" fmla="val 115492"/>
              </a:avLst>
            </a:pr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20152200">
              <a:off x="4470840" y="1285200"/>
              <a:ext cx="2617920" cy="254160"/>
            </a:xfrm>
            <a:prstGeom prst="rightArrow">
              <a:avLst>
                <a:gd name="adj1" fmla="val 50000"/>
                <a:gd name="adj2" fmla="val 112922"/>
              </a:avLst>
            </a:pr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Группа 23"/>
          <p:cNvGrpSpPr/>
          <p:nvPr/>
        </p:nvGrpSpPr>
        <p:grpSpPr>
          <a:xfrm>
            <a:off x="1362240" y="549360"/>
            <a:ext cx="6419520" cy="531720"/>
            <a:chOff x="1362240" y="549360"/>
            <a:chExt cx="6419520" cy="531720"/>
          </a:xfrm>
        </p:grpSpPr>
        <p:sp>
          <p:nvSpPr>
            <p:cNvPr id="71" name="Text Box 8"/>
            <p:cNvSpPr/>
            <p:nvPr/>
          </p:nvSpPr>
          <p:spPr>
            <a:xfrm>
              <a:off x="1362240" y="549360"/>
              <a:ext cx="1771560" cy="53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Ц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9"/>
            <p:cNvSpPr/>
            <p:nvPr/>
          </p:nvSpPr>
          <p:spPr>
            <a:xfrm>
              <a:off x="6010200" y="549360"/>
              <a:ext cx="1771560" cy="53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ЗАДАЧ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>
              <a:off x="3133800" y="654120"/>
              <a:ext cx="2847960" cy="293760"/>
            </a:xfrm>
            <a:prstGeom prst="leftRightArrow">
              <a:avLst>
                <a:gd name="adj1" fmla="val 50000"/>
                <a:gd name="adj2" fmla="val 105207"/>
              </a:avLst>
            </a:pr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22"/>
          <p:cNvGrpSpPr/>
          <p:nvPr/>
        </p:nvGrpSpPr>
        <p:grpSpPr>
          <a:xfrm>
            <a:off x="395280" y="2060640"/>
            <a:ext cx="8282160" cy="4032360"/>
            <a:chOff x="395280" y="2060640"/>
            <a:chExt cx="8282160" cy="4032360"/>
          </a:xfrm>
        </p:grpSpPr>
        <p:sp>
          <p:nvSpPr>
            <p:cNvPr id="75" name="Text Box 13"/>
            <p:cNvSpPr/>
            <p:nvPr/>
          </p:nvSpPr>
          <p:spPr>
            <a:xfrm>
              <a:off x="395280" y="2060640"/>
              <a:ext cx="8282160" cy="40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07932" dir="189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62673"/>
                  </a:solidFill>
                  <a:latin typeface="Arial"/>
                </a:rPr>
                <a:t>Принципы физического развит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4"/>
            <p:cNvSpPr/>
            <p:nvPr/>
          </p:nvSpPr>
          <p:spPr>
            <a:xfrm>
              <a:off x="539280" y="2564640"/>
              <a:ext cx="2520360" cy="34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идактиче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истематичность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и последователь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азвивающее обуч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оступ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оспитывающее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обуч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чет индивидуальных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и возрастных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особенност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ознательность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и активность ребен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гляд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3204000" y="2564640"/>
              <a:ext cx="2160360" cy="34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пециа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прерыв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ледовательность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наращивания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тренирующих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воздейств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циклич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6"/>
            <p:cNvSpPr/>
            <p:nvPr/>
          </p:nvSpPr>
          <p:spPr>
            <a:xfrm>
              <a:off x="5508720" y="2564640"/>
              <a:ext cx="3024720" cy="34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игиениче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балансированность нагруз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ациональность чередования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деятельности и отдых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озрастная адекват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здоровительная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направленность всего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образовательного проце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существление личностно-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ориентированного обучения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и воспит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Номер слайда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05B9-4046-4714-91B3-59454F56D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05:51:34Z</dcterms:created>
  <dc:creator>Виталий Праслов</dc:creator>
  <dc:description/>
  <dc:language>en-US</dc:language>
  <cp:lastModifiedBy>ВВА</cp:lastModifiedBy>
  <dcterms:modified xsi:type="dcterms:W3CDTF">2018-02-04T07:49:53Z</dcterms:modified>
  <cp:revision>94</cp:revision>
  <dc:subject/>
  <dc:title>Слайд 1</dc:title>
</cp:coreProperties>
</file>