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87D-0C86-4B7D-9A00-E9B7184B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719-7700-40BE-B525-18C69DFD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AFF-FE25-4A68-BB1F-037085AB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4B3-1FF1-425C-B0AF-DA517F90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DE38-9A05-4952-B571-2D027294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430-B04E-4051-BA09-28F677BD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2AC6-2FF3-4226-9E84-6A6EB73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B62-5BF6-48E5-AB6A-CD3F39E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E64-7447-4BBF-96DE-60A927C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543E-5649-4F16-937D-666EBE0F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AB9-8C51-4679-BC98-0202E06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592-6DDA-4BC6-92EA-00028652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F189-75B1-460F-A258-2C5C511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0FF8-ECFE-4AB9-B42A-8620919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A9E5-1429-497C-810C-B3D170EF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193-630C-4A13-A5BE-DE771F8E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70A1-C91C-4B42-B981-B332926C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5C0-8955-4E71-9A6D-43B31219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E6E-73D2-4F19-89D9-7610991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C08-E18F-40EF-990D-8E8D8219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15D-237C-4033-8582-5F571B49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EC0-DDB1-4A94-87C0-DEB0A28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623-AFB7-453C-A4F2-E31553D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475-11CF-4BA5-8CBA-94FCE23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C8E-9A71-4D3E-A6D7-8E5549471CB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14BA-D8AC-4C47-AA13-62CA60D00F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Формирование интеллектуальных и математических способностей   детей через использование развивающих игр Воскобович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В.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428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оценко М.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Квадрати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У меня живет квад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н веселый и смешн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А еще могу квадрати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азодеть и в цвет друг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 ним мне весело играть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Классно и забавно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з него могу собра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ыбку, домик, ванн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А еще квадратик може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Быть корабликом большим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амолетом, дельтаплан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чень здорово мне с ни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Он податливый, квад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 задорный, как щен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С ним играет и мой брат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Ведь он наш теперь дружок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7" descr="игры воскобовича 019"/>
          <p:cNvPicPr/>
          <p:nvPr/>
        </p:nvPicPr>
        <p:blipFill>
          <a:blip r:embed="rId1"/>
          <a:stretch/>
        </p:blipFill>
        <p:spPr>
          <a:xfrm>
            <a:off x="3886200" y="2438280"/>
            <a:ext cx="4724280" cy="354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 волшебной сказочной стран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Среди игрушек самых разны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Живет фигурка не простая, а раскладная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может превратиться в треугольник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 дом с трубой, а иногда и в птицу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ыполняя превращения, всем поднимает настроение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Детишек может в круг собра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сказочку им рассказать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« Я фигурка не проста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се меня зовут чудесным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знаете почему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Потому что я умею творить чудеса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Могу совершать разные превращ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7" descr="игры воскобовича 026"/>
          <p:cNvPicPr/>
          <p:nvPr/>
        </p:nvPicPr>
        <p:blipFill>
          <a:blip r:embed="rId1"/>
          <a:stretch/>
        </p:blipFill>
        <p:spPr>
          <a:xfrm>
            <a:off x="4724280" y="2514600"/>
            <a:ext cx="3783240" cy="283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этическая странич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62320" y="2595240"/>
            <a:ext cx="4263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Вот красивая бабочка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вот смешной лягушонок – это тоже я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Я могу стать самолетиком и рыбкой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Сумочкой и корабликом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Шапкой и мотыльк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 еще я очень люблю ходить в го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показывать фокусы девчонкам и мальчишк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Знаете, детки, любая девчонка и любой мальчиш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Может стать волшебником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научиться превращать эту фигурку в разные предме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Но для этого надо быть внимательным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И старательными!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34480" y="83412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вающие игры  Воскобовича В.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развитие творческих, познавательных данных детей, интеллектуальных, умственных и математических способ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787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вающие игры Воскобовича В.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ктуальнос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стоит в том, что эти игры учат детей действовать в "уме" и "мыслить", а это в свою очередь раскрепощает воображение, развивает  их творческие возможности  и способ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0" descr="игры воскобовича 007"/>
          <p:cNvPicPr/>
          <p:nvPr/>
        </p:nvPicPr>
        <p:blipFill>
          <a:blip r:embed="rId2"/>
          <a:stretch/>
        </p:blipFill>
        <p:spPr>
          <a:xfrm>
            <a:off x="2895480" y="2209680"/>
            <a:ext cx="28958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428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Развивать познавательные, интеллектуальные способности дет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Повышать умственную активность: мышление, память, внимание, воображение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Развивать сенсорные способности восприятия цвета и форм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ук, тактильно-осязательных анализатор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Создавать игровую ситуацию, развивать любознательно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резок, ориентировка на лис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10" descr="i_002"/>
          <p:cNvPicPr/>
          <p:nvPr/>
        </p:nvPicPr>
        <p:blipFill>
          <a:blip r:embed="rId2"/>
          <a:stretch/>
        </p:blipFill>
        <p:spPr>
          <a:xfrm>
            <a:off x="5715000" y="4419720"/>
            <a:ext cx="1600200" cy="123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i_009"/>
          <p:cNvPicPr/>
          <p:nvPr/>
        </p:nvPicPr>
        <p:blipFill>
          <a:blip r:embed="rId3"/>
          <a:stretch/>
        </p:blipFill>
        <p:spPr>
          <a:xfrm>
            <a:off x="1752480" y="4495680"/>
            <a:ext cx="1676520" cy="1033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еометрические фигуры, цвет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, величи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9" descr="i_012"/>
          <p:cNvPicPr/>
          <p:nvPr/>
        </p:nvPicPr>
        <p:blipFill>
          <a:blip r:embed="rId2"/>
          <a:stretch/>
        </p:blipFill>
        <p:spPr>
          <a:xfrm>
            <a:off x="3352680" y="441972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игры воскобовича 008"/>
          <p:cNvPicPr/>
          <p:nvPr/>
        </p:nvPicPr>
        <p:blipFill>
          <a:blip r:embed="rId3"/>
          <a:stretch/>
        </p:blipFill>
        <p:spPr>
          <a:xfrm>
            <a:off x="1523880" y="472428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игры воскобовича 009"/>
          <p:cNvPicPr/>
          <p:nvPr/>
        </p:nvPicPr>
        <p:blipFill>
          <a:blip r:embed="rId4"/>
          <a:stretch/>
        </p:blipFill>
        <p:spPr>
          <a:xfrm>
            <a:off x="5715000" y="472428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i_008"/>
          <p:cNvPicPr/>
          <p:nvPr/>
        </p:nvPicPr>
        <p:blipFill>
          <a:blip r:embed="rId5"/>
          <a:stretch/>
        </p:blipFill>
        <p:spPr>
          <a:xfrm>
            <a:off x="4724280" y="457200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афический диктант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триховка на лист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10" descr="игры воскобовича 018"/>
          <p:cNvPicPr/>
          <p:nvPr/>
        </p:nvPicPr>
        <p:blipFill>
          <a:blip r:embed="rId2"/>
          <a:stretch/>
        </p:blipFill>
        <p:spPr>
          <a:xfrm>
            <a:off x="3657600" y="4952880"/>
            <a:ext cx="2048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ь: использование логико-математических игр Воскобовича В.В. для обучения и интеллектуального развития детей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905120" y="2362320"/>
            <a:ext cx="5486400" cy="838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асти и цело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5400000">
            <a:off x="3885840" y="380988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7" descr="игры воскобовича 022"/>
          <p:cNvPicPr/>
          <p:nvPr/>
        </p:nvPicPr>
        <p:blipFill>
          <a:blip r:embed="rId2"/>
          <a:stretch/>
        </p:blipFill>
        <p:spPr>
          <a:xfrm>
            <a:off x="2895480" y="4876920"/>
            <a:ext cx="2048040" cy="1536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i_003"/>
          <p:cNvPicPr/>
          <p:nvPr/>
        </p:nvPicPr>
        <p:blipFill>
          <a:blip r:embed="rId3"/>
          <a:stretch/>
        </p:blipFill>
        <p:spPr>
          <a:xfrm>
            <a:off x="4952880" y="45720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теллектуально-игровой цент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12" descr="игры воскобовича 025"/>
          <p:cNvPicPr/>
          <p:nvPr/>
        </p:nvPicPr>
        <p:blipFill>
          <a:blip r:embed="rId1"/>
          <a:stretch/>
        </p:blipFill>
        <p:spPr>
          <a:xfrm>
            <a:off x="1981080" y="2362320"/>
            <a:ext cx="5410440" cy="4060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оценко</dc:creator>
  <dc:description/>
  <dc:language>en-US</dc:language>
  <cp:lastModifiedBy>Мария Александровна</cp:lastModifiedBy>
  <dcterms:modified xsi:type="dcterms:W3CDTF">2018-11-14T07:41:0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