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9A2F-EB6D-4CC3-AFDD-9F01A09F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FF9-F74D-46FC-B445-D4AF00C3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F91B-98B3-4BAC-B33A-516EF035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0340-9914-41EF-A509-EAEECA72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3F78-58F2-4A60-8A64-258B8429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8C46-423B-4043-AD8A-99677714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FFAD-BBE0-4B5B-88C6-53DEFC3A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8330-FEF1-42A2-9045-60A4D26A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67B9-6993-409D-BD16-C0DC7EB4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319B-D559-4CC9-A553-9E6F5171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2C49-1757-47D6-B3E4-1C58605B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48E-F9CF-451D-924F-10EA915E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E353-F806-4773-8CD1-5BA39689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2F85-13B9-4850-9804-FBCAA510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67F2-FAF5-4A58-9D60-E0C4FDE8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0221-C975-44D4-BDDC-A505FBD9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8CDD-E489-4C5E-8C12-AAF9A5F1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7AA-AF31-4C83-B143-3CDA6128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FBD-09BB-4479-82A0-E20E90BF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C10-9BF3-452D-9EB4-A9F5A103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FB89-A644-46D3-AC01-9A9DA896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03F-98BF-4E6D-81A1-08C99D22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D5D0-253E-4720-9AFA-C5ED070E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51C-0AC4-4511-9081-C9FA4CB4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5980-3FC5-4936-9C62-2D080D6F0C6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102E-3C87-4B24-B90D-7DCDF9B0C18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Формирование интеллектуальных и математических способностей   детей через использование развивающих игр Воскобовича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В.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724280" y="297180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Проценко М.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этическая странич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42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Квадратик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У меня живет квадратик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Он веселый и смешно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А еще могу квадратик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Разодеть и в цвет друго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С ним мне весело играть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Классно и забавно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Из него могу собрать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Рыбку, домик, ванну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А еще квадратик може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Быть корабликом большим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Самолетом, дельтаплано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Очень здорово мне с ни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Он податливый, квадратик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И задорный, как щенок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С ним играет и мой братик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Ведь он наш теперь дружок!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7" descr="игры воскобовича 019"/>
          <p:cNvPicPr/>
          <p:nvPr/>
        </p:nvPicPr>
        <p:blipFill>
          <a:blip r:embed="rId1"/>
          <a:stretch/>
        </p:blipFill>
        <p:spPr>
          <a:xfrm>
            <a:off x="3886200" y="2438280"/>
            <a:ext cx="4724280" cy="3544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2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этическая странич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В волшебной сказочной стран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Среди игрушек самых разных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Живет фигурка не простая, а раскладная…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И может превратиться в треугольник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В дом с трубой, а иногда и в птицу!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Выполняя превращения, всем поднимает настроение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Детишек может в круг собрать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И сказочку им рассказать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« Я фигурка не проста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Все меня зовут чудесным!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А знаете почему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Потому что я умею творить чудеса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Могу совершать разные превращения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7" descr="игры воскобовича 026"/>
          <p:cNvPicPr/>
          <p:nvPr/>
        </p:nvPicPr>
        <p:blipFill>
          <a:blip r:embed="rId1"/>
          <a:stretch/>
        </p:blipFill>
        <p:spPr>
          <a:xfrm>
            <a:off x="4724280" y="2514600"/>
            <a:ext cx="3783240" cy="2838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2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этическая странич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362320" y="2595240"/>
            <a:ext cx="4263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Вот красивая бабочка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А вот смешной лягушонок – это тоже я!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Я могу стать самолетиком и рыбкой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Сумочкой и корабликом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Шапкой и мотылько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А еще я очень люблю ходить в гост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И показывать фокусы девчонкам и мальчишка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Знаете, детки, любая девчонка и любой мальчишк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Может стать волшебником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И научиться превращать эту фигурку в разные предметы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Но для этого надо быть внимательным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И старательными!»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834480" y="834120"/>
            <a:ext cx="8008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вивающие игры  Воскобовича В.В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: развитие творческих, познавательных данных детей, интеллектуальных, умственных и математических способносте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2787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834480" y="834120"/>
            <a:ext cx="79322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вивающие игры Воскобовича В.В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430020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Актуальность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состоит в том, что эти игры учат детей действовать в "уме" и "мыслить", а это в свою очередь раскрепощает воображение, развивает  их творческие возможности  и способност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10" descr="игры воскобовича 007"/>
          <p:cNvPicPr/>
          <p:nvPr/>
        </p:nvPicPr>
        <p:blipFill>
          <a:blip r:embed="rId2"/>
          <a:stretch/>
        </p:blipFill>
        <p:spPr>
          <a:xfrm>
            <a:off x="2895480" y="2209680"/>
            <a:ext cx="28958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Цель: использование логико-математических игр Воскобовича В.В. для обучения и интеллектуального развития детей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742840" y="251424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дач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. Развивать познавательные, интеллектуальные способности дете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. Повышать умственную активность: мышление, память, внимание, воображение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. Развивать сенсорные способности восприятия цвета и форм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ук, тактильно-осязательных анализатор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. Создавать игровую ситуацию, развивать любознательнос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Цель: использование логико-математических игр Воскобовича В.В. для обучения и интеллектуального развития детей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905120" y="2362320"/>
            <a:ext cx="5486400" cy="8380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резок, ориентировка на лист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 rot="5400000">
            <a:off x="3885840" y="3809880"/>
            <a:ext cx="1295640" cy="38088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10" descr="i_002"/>
          <p:cNvPicPr/>
          <p:nvPr/>
        </p:nvPicPr>
        <p:blipFill>
          <a:blip r:embed="rId2"/>
          <a:stretch/>
        </p:blipFill>
        <p:spPr>
          <a:xfrm>
            <a:off x="5715000" y="4419720"/>
            <a:ext cx="1600200" cy="123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i_009"/>
          <p:cNvPicPr/>
          <p:nvPr/>
        </p:nvPicPr>
        <p:blipFill>
          <a:blip r:embed="rId3"/>
          <a:stretch/>
        </p:blipFill>
        <p:spPr>
          <a:xfrm>
            <a:off x="1752480" y="4495680"/>
            <a:ext cx="1676520" cy="1033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Цель: использование логико-математических игр Воскобовича В.В. для обучения и интеллектуального развития детей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905120" y="2362320"/>
            <a:ext cx="5486400" cy="8380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еометрические фигуры, цвет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орма, величин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 rot="5400000">
            <a:off x="3885840" y="3809880"/>
            <a:ext cx="1295640" cy="38088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9" descr="i_012"/>
          <p:cNvPicPr/>
          <p:nvPr/>
        </p:nvPicPr>
        <p:blipFill>
          <a:blip r:embed="rId2"/>
          <a:stretch/>
        </p:blipFill>
        <p:spPr>
          <a:xfrm>
            <a:off x="3352680" y="4419720"/>
            <a:ext cx="1076400" cy="1076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игры воскобовича 008"/>
          <p:cNvPicPr/>
          <p:nvPr/>
        </p:nvPicPr>
        <p:blipFill>
          <a:blip r:embed="rId3"/>
          <a:stretch/>
        </p:blipFill>
        <p:spPr>
          <a:xfrm>
            <a:off x="1523880" y="4724280"/>
            <a:ext cx="2048040" cy="1536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игры воскобовича 009"/>
          <p:cNvPicPr/>
          <p:nvPr/>
        </p:nvPicPr>
        <p:blipFill>
          <a:blip r:embed="rId4"/>
          <a:stretch/>
        </p:blipFill>
        <p:spPr>
          <a:xfrm>
            <a:off x="5715000" y="4724280"/>
            <a:ext cx="2048040" cy="1536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i_008"/>
          <p:cNvPicPr/>
          <p:nvPr/>
        </p:nvPicPr>
        <p:blipFill>
          <a:blip r:embed="rId5"/>
          <a:stretch/>
        </p:blipFill>
        <p:spPr>
          <a:xfrm>
            <a:off x="4724280" y="457200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Цель: использование логико-математических игр Воскобовича В.В. для обучения и интеллектуального развития детей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905120" y="2362320"/>
            <a:ext cx="5486400" cy="8380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рафический диктант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штриховка на лист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 rot="5400000">
            <a:off x="3885840" y="3809880"/>
            <a:ext cx="1295640" cy="38088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10" descr="игры воскобовича 018"/>
          <p:cNvPicPr/>
          <p:nvPr/>
        </p:nvPicPr>
        <p:blipFill>
          <a:blip r:embed="rId2"/>
          <a:stretch/>
        </p:blipFill>
        <p:spPr>
          <a:xfrm>
            <a:off x="3657600" y="4952880"/>
            <a:ext cx="20480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Цель: использование логико-математических игр Воскобовича В.В. для обучения и интеллектуального развития детей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905120" y="2362320"/>
            <a:ext cx="5486400" cy="8380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асти и цело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 rot="5400000">
            <a:off x="3885840" y="3809880"/>
            <a:ext cx="1295640" cy="38088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Picture 7" descr="игры воскобовича 022"/>
          <p:cNvPicPr/>
          <p:nvPr/>
        </p:nvPicPr>
        <p:blipFill>
          <a:blip r:embed="rId2"/>
          <a:stretch/>
        </p:blipFill>
        <p:spPr>
          <a:xfrm>
            <a:off x="2895480" y="4876920"/>
            <a:ext cx="2048040" cy="1536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i_003"/>
          <p:cNvPicPr/>
          <p:nvPr/>
        </p:nvPicPr>
        <p:blipFill>
          <a:blip r:embed="rId3"/>
          <a:stretch/>
        </p:blipFill>
        <p:spPr>
          <a:xfrm>
            <a:off x="4952880" y="45720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теллектуально-игровой цент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12" descr="игры воскобовича 025"/>
          <p:cNvPicPr/>
          <p:nvPr/>
        </p:nvPicPr>
        <p:blipFill>
          <a:blip r:embed="rId1"/>
          <a:stretch/>
        </p:blipFill>
        <p:spPr>
          <a:xfrm>
            <a:off x="1981080" y="2362320"/>
            <a:ext cx="5410440" cy="4060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роценко</dc:creator>
  <dc:description/>
  <dc:language>en-US</dc:language>
  <cp:lastModifiedBy>Мария Александровна</cp:lastModifiedBy>
  <dcterms:modified xsi:type="dcterms:W3CDTF">2018-11-14T07:41:06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