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82F-10FD-4B08-B116-BF2C8535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7C1-5E07-4FA0-ABF2-9DBCF91F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DDE-D84C-4EC9-9259-ADE9D936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C41-2405-4AE8-80C7-58680647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8291-5B27-460E-A37C-260C32CF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035B-FFF5-417D-BD37-2359B779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8DEF-C876-4002-A575-DE42DA4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62DE-DDD4-47FC-A20A-5FAB12C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C1F-CA9E-4E24-B0E9-C882750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1813-958E-474B-B8A8-55E63F40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6A1D-1C19-403F-82BD-E242E44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F8B-9F63-4FEC-9BBB-B7FB782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D10-5EE7-4591-A753-6A18710B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6D49-B9DF-4F48-874C-574EBED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376-C9F6-44CC-9E9E-790985AE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9191-6ADB-4C17-9129-5DB8DD65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6FCC-FC78-4F5D-8AD4-2DB04F0C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C6BF-F3F8-4571-954B-3035CEAE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59FD-9061-42CF-845C-586C6BBE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7E5D-5B2B-4944-9051-38910D14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014B-69F7-4A1E-A167-5D5B44E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50C5-E901-4827-959E-98BC570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6DF-1072-4E6B-8A5B-76DAA14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1A22-162E-4DC0-A95D-2284ACF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26B5-81F2-4FD4-A0B1-1849805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E52CA-8FBE-4473-8B4B-51928F45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4D5E-0416-430F-B701-F3CEE80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472A-7DA1-454F-B069-B86D990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5E8F-4577-4FBA-8A1A-B26645F6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E7C1-DE3D-4F9B-9312-6541166B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FCBE-0795-417B-8325-31E0249F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93AD-7A8D-4B84-A449-1C6AD03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0356-C6D6-423D-A54B-B95AFCD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510-BFC7-4BDC-94BA-236B5CC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4A92-39CD-4885-B851-75815AD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8E1A-66DD-4642-B223-34018176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97A1-56D5-4D4F-82D8-2BE14AB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AE0B-C8A5-4AF6-9C03-6EE26F9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A674-9FE5-48CF-9F0F-EDE256A1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FFB5-43A7-4B3F-A582-65A633C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323A-C42C-4093-9FA9-37E079D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42E4-B228-4A8D-90EE-EF2864B6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BCB0-C9C6-4FB9-937A-4832ECC8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AD4C-36BD-4C80-B7F4-DEBF7449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006-2288-4CF5-9CFB-A36DBF4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398E-17F9-42A8-BE04-E8F15B52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87D8-9ED6-4996-B346-3F0E0CD8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E804-AF14-42CD-B373-C76C1E8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844C-6520-4BE7-B007-AEA6D999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4297-0C9C-46B5-BB7C-954B15EE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A974D-EF5C-45D0-9E8A-939C35BF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7E20-F12C-41D9-9F7A-CD6ADE8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78BC-73E6-4799-994C-F10D9B0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A149-6E85-47A2-842F-E896AA6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D15B-5150-4069-A2FC-ED777B91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052-BC90-471B-B253-FB73AA9E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32AD-B95B-4B59-834F-E1322750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C000-9C9B-4ED2-8CD7-91CFA40B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5414-C02E-4FD5-9976-3580710D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AD231-1E8F-451D-98BE-CBBB3E5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D1EE-74EC-4047-8795-17424DE4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83FF-64E2-4C1D-A178-219B8173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C36D8-4084-43CB-AE15-ECC984FB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395F-968D-4AAD-9E0D-2DEA8A2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A9E4-B913-4998-BC3B-A5E1FEE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D978-93C2-49AF-A287-7DE79AF6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B74-E7A3-4F04-9432-E47CDD7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E39A-1020-4B7E-B1FC-B823B5D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63BF-2413-4AE8-93AA-2A290CE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DC4E8-D746-4728-BDB0-614C2A60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1D74-94A6-4697-84A9-5135674E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462A-4DB2-4D9D-ADFD-2C54D965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3E56-A2F9-4AD0-B055-5D71679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FADC-70C9-45FC-A89C-943B3E7B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D445-DEE1-4E2D-8BEA-AB3CE912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5855D-5F96-4FBE-AC51-209B1FFD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ACA1-FAB1-4EFA-A0C7-EB24707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61F-2553-460C-886D-3DEAAF1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D075-3DFC-4A05-8B41-E7E6AAB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DE28-B9B8-4B98-A95A-049B6B3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A36BA-2A50-4185-AE5A-ED8CEB32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53C8-E742-498A-A16A-76D1ED8A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7F29-CCC3-4F03-9BEF-1016B021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FEB-6D1B-4966-B0D2-ED8680D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9B0-E8B2-4A52-AC2B-AAB7F28916C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73E-0BAF-4BA6-A55C-8591E01F5D0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219-D1EC-489B-8250-796CCE0ABCE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70D-033C-4820-8096-7EB852CFE1D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9F8-30B8-4DC5-A321-B995ED2FCB6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C10F-03FE-4058-973E-C6F585C9022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9163-2DBA-4042-86D1-273CD3C705D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3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Башҡорт ырыуҙарының составы һәм дәреслектәрҙә</a:t>
            </a:r>
            <a:br>
              <a:rPr sz="4000"/>
            </a:b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уларҙың бирелеше (сағылышы)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71640" y="422064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Авторы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: Хисмәтуллин Денис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Алатана мәктәб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Етәксеһе</a:t>
            </a:r>
            <a:r>
              <a:rPr b="0" lang="be-BY" sz="2800" spc="-1" strike="noStrike">
                <a:solidFill>
                  <a:srgbClr val="ff0000"/>
                </a:solidFill>
                <a:latin typeface="Candara"/>
              </a:rPr>
              <a:t>: башҡорт теле уҡытыусыһы Лемдясова Зөлфиә Әснәүи ҡыҙ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404640" y="2205000"/>
            <a:ext cx="820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Башҡорттар араһында ырыу йәки ҡәбилә шәжәрәһен төҙөү бик борондан килгән й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Үҙебеҙҙең эшебеҙҙә башҡорт ырыуҙарының составын, килеп сығыштарын; тамғаларын, ҡоштарын, ағастарын, орандарын тикшереүҙе һәм схема төҙөүҙе </a:t>
            </a:r>
            <a:r>
              <a:rPr b="1" lang="be-BY" sz="2400" spc="-1" strike="noStrike">
                <a:solidFill>
                  <a:srgbClr val="000000"/>
                </a:solidFill>
                <a:latin typeface="a_Helver Bashkir"/>
              </a:rPr>
              <a:t>маҡсат </a:t>
            </a:r>
            <a:r>
              <a:rPr b="0" lang="be-BY" sz="2400" spc="-1" strike="noStrike">
                <a:solidFill>
                  <a:srgbClr val="000000"/>
                </a:solidFill>
                <a:latin typeface="a_Helver Bashkir"/>
              </a:rPr>
              <a:t>итеп ҡуйҙыҡ. Был эштә башҡорт теле дәреслектәрендә ырыу- ҙар тураһында биремдәр йәки ниндәй күнегеүҙәр бирелеүен дә күҙәттек һәм белергә тырышты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763640" y="2768040"/>
            <a:ext cx="51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Helver Bashkir"/>
              </a:rPr>
              <a:t>Аҡ батшаға барғанда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4360" y="263664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Беренсе вариант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1.Үҫәргәндән Бикбау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2.Бөрйәндән Иҫке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3.Ҡыпсаҡтан Ҡарағужаҡ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Timer Bashkir"/>
              </a:rPr>
              <a:t>4.Тамъяндан Шаҡма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Икенсе вариант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1.Бөрйәндән Иҫке б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2.Ҡыпсаҡтан Ҡужаҡ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_Helver Bashkir"/>
              </a:rPr>
              <a:t>3.Тамъяндан  Шәғәл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"/>
          <p:cNvGrpSpPr/>
          <p:nvPr/>
        </p:nvGrpSpPr>
        <p:grpSpPr>
          <a:xfrm>
            <a:off x="1403280" y="1916280"/>
            <a:ext cx="6324840" cy="4365360"/>
            <a:chOff x="1403280" y="1916280"/>
            <a:chExt cx="6324840" cy="4365360"/>
          </a:xfrm>
        </p:grpSpPr>
        <p:sp>
          <p:nvSpPr>
            <p:cNvPr id="343" name="AutoShape 5"/>
            <p:cNvSpPr/>
            <p:nvPr/>
          </p:nvSpPr>
          <p:spPr>
            <a:xfrm>
              <a:off x="1403280" y="1916280"/>
              <a:ext cx="6324840" cy="43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utoShape 8"/>
          <p:cNvSpPr/>
          <p:nvPr/>
        </p:nvSpPr>
        <p:spPr>
          <a:xfrm>
            <a:off x="2411280" y="3933720"/>
            <a:ext cx="76320" cy="936720"/>
          </a:xfrm>
          <a:prstGeom prst="upArrow">
            <a:avLst>
              <a:gd name="adj1" fmla="val 50000"/>
              <a:gd name="adj2" fmla="val 3068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4"/>
          <p:cNvSpPr/>
          <p:nvPr/>
        </p:nvSpPr>
        <p:spPr>
          <a:xfrm>
            <a:off x="6137280" y="1920960"/>
            <a:ext cx="76320" cy="799920"/>
          </a:xfrm>
          <a:prstGeom prst="downArrow">
            <a:avLst>
              <a:gd name="adj1" fmla="val 50000"/>
              <a:gd name="adj2" fmla="val 262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4613400" y="1920960"/>
            <a:ext cx="75960" cy="799920"/>
          </a:xfrm>
          <a:prstGeom prst="downArrow">
            <a:avLst>
              <a:gd name="adj1" fmla="val 50000"/>
              <a:gd name="adj2" fmla="val 2632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"/>
          <p:cNvSpPr/>
          <p:nvPr/>
        </p:nvSpPr>
        <p:spPr>
          <a:xfrm>
            <a:off x="3927600" y="1920960"/>
            <a:ext cx="75960" cy="799920"/>
          </a:xfrm>
          <a:prstGeom prst="downArrow">
            <a:avLst>
              <a:gd name="adj1" fmla="val 50000"/>
              <a:gd name="adj2" fmla="val 2632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>
            <a:off x="2174760" y="1920960"/>
            <a:ext cx="76320" cy="799920"/>
          </a:xfrm>
          <a:prstGeom prst="downArrow">
            <a:avLst>
              <a:gd name="adj1" fmla="val 50000"/>
              <a:gd name="adj2" fmla="val 262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4356000" y="4005360"/>
            <a:ext cx="74880" cy="914400"/>
          </a:xfrm>
          <a:prstGeom prst="upArrow">
            <a:avLst>
              <a:gd name="adj1" fmla="val 50000"/>
              <a:gd name="adj2" fmla="val 305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5724360" y="4076640"/>
            <a:ext cx="74880" cy="914400"/>
          </a:xfrm>
          <a:prstGeom prst="upArrow">
            <a:avLst>
              <a:gd name="adj1" fmla="val 50000"/>
              <a:gd name="adj2" fmla="val 305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1858680" y="348840"/>
            <a:ext cx="5374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Юрматы  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Бөрйән     Үҫәргән   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Табын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Ҡошо: әтәлге                 көсөгән       торна                    ҡарағ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Ағасы:өйәңке                имән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            миләш                 ҡарағ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1619640" y="1753560"/>
            <a:ext cx="52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Ораны:аҡтайлаҡ            аҡтуған  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тоҡсаба                 салау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3988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2598840" y="1561680"/>
            <a:ext cx="3325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                                          </a:t>
            </a:r>
            <a:r>
              <a:rPr b="0" lang="be-BY" sz="2000" spc="-1" strike="noStrike">
                <a:solidFill>
                  <a:srgbClr val="000000"/>
                </a:solidFill>
                <a:latin typeface="a_Helver(15%) Bashkir"/>
                <a:ea typeface="Times New Roman"/>
              </a:rPr>
              <a:t>Ырыуҙ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92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1835280" y="4473360"/>
            <a:ext cx="46130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Мең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           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ыпсаҡ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Lucida Sans Unicode"/>
              </a:rPr>
              <a:t>          </a:t>
            </a:r>
            <a:r>
              <a:rPr b="1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Тамъя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рсыға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бөркөт                     ҡар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йын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ҡарама                    тирәк/             ҡайы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алас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	</a:t>
            </a:r>
            <a:r>
              <a:rPr b="0" lang="be-BY" sz="1400" spc="-1" strike="noStrike">
                <a:solidFill>
                  <a:srgbClr val="000000"/>
                </a:solidFill>
                <a:latin typeface="a_Helver Bashkir"/>
                <a:ea typeface="Times New Roman"/>
              </a:rPr>
              <a:t>туҡҫаба                   туты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95280" y="1628640"/>
          <a:ext cx="8569440" cy="4537080"/>
        </p:xfrm>
        <a:graphic>
          <a:graphicData uri="http://schemas.openxmlformats.org/drawingml/2006/table">
            <a:tbl>
              <a:tblPr/>
              <a:tblGrid>
                <a:gridCol w="1581120"/>
                <a:gridCol w="2581200"/>
                <a:gridCol w="1932120"/>
                <a:gridCol w="2475000"/>
              </a:tblGrid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Ыры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      </a:t>
                      </a:r>
                      <a:r>
                        <a:rPr b="1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о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Юрм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әтәл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өйәң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ҡтайл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е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сы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й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л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б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салау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Үҫәрг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илә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ҡса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мъ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ирәк(ҡайы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уты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үңгәү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һайыҫҡан(ҡарсығ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ерек(ҡараға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уңғырат(ҡуңғыр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ыпс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өркө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уҡҫа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уҙ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рты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айла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Әй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шоңҡ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ирәк(муйы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һанд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ң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о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милә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айғ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ағ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айғү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ҡарғ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тәң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Бөрй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көсөг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имә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400" spc="-1" strike="noStrike">
                          <a:solidFill>
                            <a:srgbClr val="000000"/>
                          </a:solidFill>
                          <a:latin typeface="a_Helver Bashkir"/>
                          <a:ea typeface="Times New Roman"/>
                        </a:rPr>
                        <a:t>аҡтуғ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3:57:12Z</dcterms:created>
  <dc:creator>Ural</dc:creator>
  <dc:description/>
  <dc:language>en-US</dc:language>
  <cp:lastModifiedBy>Ural</cp:lastModifiedBy>
  <dcterms:modified xsi:type="dcterms:W3CDTF">2007-05-04T01:21:59Z</dcterms:modified>
  <cp:revision>11</cp:revision>
  <dc:subject/>
  <dc:title> Башќорт ырыуЎарыныҐ составы ўљм дљреслектљрЎљ              уларЎыҐ бирелеше (саћылышы).</dc:title>
</cp:coreProperties>
</file>