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4F4-B314-46DF-9D88-60DA6F73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1EF-4EC4-4B10-89DD-C806CC08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1A2-1C9F-43DD-8F58-9AE24B20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D89-74DF-4B64-9D95-9C960533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87E5-01B0-4E1E-9E4D-3EAC5E3A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7165-35A4-48E5-AC34-9459AC08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100E-0FB0-4D6C-94FC-1E5C0872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28DA-1889-433C-BFD8-DA30552A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930D-527A-4CA1-A818-E50717AB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3E58-1D4D-4A73-B233-18EB1659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7199-9A03-4AF0-A7B8-AB1B0254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374-6271-4443-A942-2B0A0C61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B63B-8585-42DB-BC19-FB42979E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291B-632B-4084-A848-8AD5E502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3B72-B5F8-4DF7-B9EF-63C25B24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F7C4-CAAB-4DC1-891C-6F5E0F02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562D-F253-4BD4-8131-C77E4FBE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ADCBB-491D-4F7C-820C-F19BAFDB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5E689-D23D-48D1-A534-475B6CD3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CC01E-5BCE-4EAB-901C-68670C95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EAF49-3965-4FC4-8AEB-5873DE3D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60455-C36A-47E9-9A62-A71B7346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22B-72C9-4671-9A74-E1E6FC68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D430F-ED1E-41E3-95C6-DE2F34E1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33836-27C4-4777-AAC9-47126BF3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98DAB-BD19-48D1-AA06-7C9BFA72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39960-026B-4ABA-B950-AA14B1B3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28468-FCF9-4A96-9A49-6B53713F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67594-E16F-4299-98EF-D27A4129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E04AA-3664-475B-B9B8-40772655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FDE4B-2B6B-4842-A4FF-C3F5019B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8156-E14C-446C-B52E-ECA8EFE7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D5F44-CA43-4138-A03F-4D656692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ACF-78AB-4D97-B90A-D94ADC9E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09908-2275-44D0-A0FC-B47B62C4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D7000-4612-4D18-8FA9-E3D45AB2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36A5A-881F-4D12-A6CA-5B0AD1FD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E18DB-F47E-464A-807E-F8F848F5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69D9C-F286-4F00-AB8D-D3B9FEBD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98ACD-8372-44D9-8386-B81B36A1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E196F-ABB5-4EF3-92C5-3EED9762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C9D3F-57FF-4462-9BC5-924D49E5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1390D-024C-4D49-805E-2595CB4E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BC34A-33BD-4609-9E39-F2C3E20D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554-974C-40AC-8332-DDEADDBF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744EB-C1B4-4F75-9DD4-B5550A44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0315C-34FA-4A31-89D3-7B4B2362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6E56D-1C63-4D09-905F-7F20C05E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1D370-0CBD-4D99-9524-D376307A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98CAE-5296-412B-A9BF-ED738FFA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B0EB9-A99A-45AA-B428-6A2739E8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22C50-B149-4B2E-A2A3-525662D2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6651D-2864-4087-A210-93270DBB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B294F-57D2-4A22-9C2E-82ED5FEE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D8D6A-65DD-4CE1-B4E4-1D89353E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B30-7AF1-4612-8951-D9A3EFAC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3A7F0-29F2-430B-9688-BD00C2F3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E4F1B-7734-4389-9170-18AFB3D0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15ED1-2885-4958-ABC6-B3FB4446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2FA44-3370-4C9B-B726-7D76C4A2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500F9-0A01-49E7-9C66-2C762642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01A3B-F3A3-4A08-9DD0-0E6B3AAC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E0AAC-1371-4966-891C-FAF8D2D9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B1F4C-0404-4203-AF23-8C0FB175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B6E77-9C77-4018-9205-6B359EC1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DB4E6-6C46-49CD-A3BA-1C802364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96E-509B-45C9-B2EB-3D2749A2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0E65F-5764-41C5-BEEB-80769CBB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F27FC-3712-427D-A199-6AE8D530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530C0-4DE7-42D8-ACC1-FDC46ABD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2BAC8-1AA8-47E1-98A5-FF98941A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9F800-2515-4B1F-89B3-0B659DD0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28BA3-1B77-4F68-803E-CF074854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2BD5A-6AAD-451F-9ABA-DEC4C1C3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D0AE3-FD6F-440D-A02D-13A66149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59175-6962-4BD3-81CF-C410DE80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676D2-989D-4FA7-ACDE-5D094B80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8E5-4422-4BB7-9298-0F452B99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0D7B0-2A7F-4FF1-B038-8401613F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73927-6D59-417A-8066-1CB03B86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63A5C-247F-42FA-B632-4B4FAF59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BB8EF-DDD0-48C2-BBE2-9F035CFB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93065-E478-44A9-823B-97C2109C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B11-31DD-4604-9796-A4E69A49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EE24-9510-4DE2-8EAB-E6AF810E548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7105-13A4-4C28-9A0B-B74DF3EB825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11D4-4CF4-497D-B5A5-497E96EE343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1D1B-7304-4D13-8F53-82574E031D6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DA32-C7FD-4E3D-B06C-0A8D5ABABA9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9687-9DCB-4711-8A75-8289C9C9B0A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18F4-1377-421C-8FC8-E616FCD0741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3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Башҡорт ырыуҙарының составы һәм дәреслектәрҙә</a:t>
            </a:r>
            <a:br>
              <a:rPr sz="4000"/>
            </a:b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уларҙың бирелеше (сағылышы)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71640" y="422064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Candara"/>
              </a:rPr>
              <a:t>Авторы</a:t>
            </a:r>
            <a:r>
              <a:rPr b="0" lang="be-BY" sz="2800" spc="-1" strike="noStrike">
                <a:solidFill>
                  <a:srgbClr val="ff0000"/>
                </a:solidFill>
                <a:latin typeface="Candara"/>
              </a:rPr>
              <a:t>: Хисмәтуллин Денис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be-BY" sz="28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be-BY" sz="2800" spc="-1" strike="noStrike">
                <a:solidFill>
                  <a:srgbClr val="ff0000"/>
                </a:solidFill>
                <a:latin typeface="Candara"/>
              </a:rPr>
              <a:t>Алатана мәктәб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Candara"/>
              </a:rPr>
              <a:t>Етәксеһе</a:t>
            </a:r>
            <a:r>
              <a:rPr b="0" lang="be-BY" sz="2800" spc="-1" strike="noStrike">
                <a:solidFill>
                  <a:srgbClr val="ff0000"/>
                </a:solidFill>
                <a:latin typeface="Candara"/>
              </a:rPr>
              <a:t>: башҡорт теле уҡытыусыһы Лемдясова Зөлфиә Әснәүи ҡыҙы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9"/>
          <p:cNvSpPr/>
          <p:nvPr/>
        </p:nvSpPr>
        <p:spPr>
          <a:xfrm>
            <a:off x="404640" y="2205000"/>
            <a:ext cx="8209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_Helver Bashkir"/>
              </a:rPr>
              <a:t>Башҡорттар араһында ырыу йәки ҡәбилә шәжәрәһен төҙөү бик борондан килгән й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_Helver Bashkir"/>
              </a:rPr>
              <a:t> </a:t>
            </a:r>
            <a:r>
              <a:rPr b="0" lang="be-BY" sz="2400" spc="-1" strike="noStrike">
                <a:solidFill>
                  <a:srgbClr val="000000"/>
                </a:solidFill>
                <a:latin typeface="a_Helver Bashkir"/>
              </a:rPr>
              <a:t>Үҙебеҙҙең эшебеҙҙә башҡорт ырыуҙарының составын, килеп сығыштарын; тамғаларын, ҡоштарын, ағастарын, орандарын тикшереүҙе һәм схема төҙөүҙе </a:t>
            </a:r>
            <a:r>
              <a:rPr b="1" lang="be-BY" sz="2400" spc="-1" strike="noStrike">
                <a:solidFill>
                  <a:srgbClr val="000000"/>
                </a:solidFill>
                <a:latin typeface="a_Helver Bashkir"/>
              </a:rPr>
              <a:t>маҡсат </a:t>
            </a:r>
            <a:r>
              <a:rPr b="0" lang="be-BY" sz="2400" spc="-1" strike="noStrike">
                <a:solidFill>
                  <a:srgbClr val="000000"/>
                </a:solidFill>
                <a:latin typeface="a_Helver Bashkir"/>
              </a:rPr>
              <a:t>итеп ҡуйҙыҡ. Был эштә башҡорт теле дәреслектәрендә ырыу- ҙар тураһында биремдәр йәки ниндәй күнегеүҙәр бирелеүен дә күҙәттек һәм белергә тырышты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763640" y="2768040"/>
            <a:ext cx="51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_Helver Bashkir"/>
              </a:rPr>
              <a:t>Аҡ батшаға барғандар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4360" y="263664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Timer Bashkir"/>
              </a:rPr>
              <a:t>Беренсе вариант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Timer Bashkir"/>
              </a:rPr>
              <a:t>1.Үҫәргәндән Бикбау бе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Timer Bashkir"/>
              </a:rPr>
              <a:t>2.Бөрйәндән Иҫке бе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Timer Bashkir"/>
              </a:rPr>
              <a:t>3.Ҡыпсаҡтан Ҡарағужаҡ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Timer Bashkir"/>
              </a:rPr>
              <a:t>4.Тамъяндан Шаҡман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Helver Bashkir"/>
              </a:rPr>
              <a:t>Икенсе вариант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Helver Bashkir"/>
              </a:rPr>
              <a:t>1.Бөрйәндән Иҫке бе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Helver Bashkir"/>
              </a:rPr>
              <a:t>2.Ҡыпсаҡтан Ҡужаҡ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Helver Bashkir"/>
              </a:rPr>
              <a:t>3.Тамъяндан  Шәғәл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"/>
          <p:cNvGrpSpPr/>
          <p:nvPr/>
        </p:nvGrpSpPr>
        <p:grpSpPr>
          <a:xfrm>
            <a:off x="1403280" y="1916280"/>
            <a:ext cx="6324840" cy="4365360"/>
            <a:chOff x="1403280" y="1916280"/>
            <a:chExt cx="6324840" cy="4365360"/>
          </a:xfrm>
        </p:grpSpPr>
        <p:sp>
          <p:nvSpPr>
            <p:cNvPr id="343" name="AutoShape 5"/>
            <p:cNvSpPr/>
            <p:nvPr/>
          </p:nvSpPr>
          <p:spPr>
            <a:xfrm>
              <a:off x="1403280" y="1916280"/>
              <a:ext cx="6324840" cy="43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AutoShape 8"/>
          <p:cNvSpPr/>
          <p:nvPr/>
        </p:nvSpPr>
        <p:spPr>
          <a:xfrm>
            <a:off x="2411280" y="3933720"/>
            <a:ext cx="76320" cy="936720"/>
          </a:xfrm>
          <a:prstGeom prst="upArrow">
            <a:avLst>
              <a:gd name="adj1" fmla="val 50000"/>
              <a:gd name="adj2" fmla="val 3068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4"/>
          <p:cNvSpPr/>
          <p:nvPr/>
        </p:nvSpPr>
        <p:spPr>
          <a:xfrm>
            <a:off x="6137280" y="1920960"/>
            <a:ext cx="76320" cy="799920"/>
          </a:xfrm>
          <a:prstGeom prst="downArrow">
            <a:avLst>
              <a:gd name="adj1" fmla="val 50000"/>
              <a:gd name="adj2" fmla="val 262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1"/>
          <p:cNvSpPr/>
          <p:nvPr/>
        </p:nvSpPr>
        <p:spPr>
          <a:xfrm>
            <a:off x="4613400" y="1920960"/>
            <a:ext cx="75960" cy="799920"/>
          </a:xfrm>
          <a:prstGeom prst="downArrow">
            <a:avLst>
              <a:gd name="adj1" fmla="val 50000"/>
              <a:gd name="adj2" fmla="val 2632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2"/>
          <p:cNvSpPr/>
          <p:nvPr/>
        </p:nvSpPr>
        <p:spPr>
          <a:xfrm>
            <a:off x="3927600" y="1920960"/>
            <a:ext cx="75960" cy="799920"/>
          </a:xfrm>
          <a:prstGeom prst="downArrow">
            <a:avLst>
              <a:gd name="adj1" fmla="val 50000"/>
              <a:gd name="adj2" fmla="val 2632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3"/>
          <p:cNvSpPr/>
          <p:nvPr/>
        </p:nvSpPr>
        <p:spPr>
          <a:xfrm>
            <a:off x="2174760" y="1920960"/>
            <a:ext cx="76320" cy="799920"/>
          </a:xfrm>
          <a:prstGeom prst="downArrow">
            <a:avLst>
              <a:gd name="adj1" fmla="val 50000"/>
              <a:gd name="adj2" fmla="val 262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4356000" y="4005360"/>
            <a:ext cx="74880" cy="914400"/>
          </a:xfrm>
          <a:prstGeom prst="upArrow">
            <a:avLst>
              <a:gd name="adj1" fmla="val 50000"/>
              <a:gd name="adj2" fmla="val 305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5724360" y="4076640"/>
            <a:ext cx="74880" cy="914400"/>
          </a:xfrm>
          <a:prstGeom prst="upArrow">
            <a:avLst>
              <a:gd name="adj1" fmla="val 50000"/>
              <a:gd name="adj2" fmla="val 305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5"/>
          <p:cNvSpPr/>
          <p:nvPr/>
        </p:nvSpPr>
        <p:spPr>
          <a:xfrm>
            <a:off x="1858680" y="348840"/>
            <a:ext cx="5374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988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988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988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Юрматы  </a:t>
            </a:r>
            <a:r>
              <a:rPr b="0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                   </a:t>
            </a:r>
            <a:r>
              <a:rPr b="1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 Бөрйән     Үҫәргән   </a:t>
            </a:r>
            <a:r>
              <a:rPr b="0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              </a:t>
            </a:r>
            <a:r>
              <a:rPr b="1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 Табын</a:t>
            </a:r>
            <a:r>
              <a:rPr b="0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988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Ҡошо: әтәлге                 көсөгән       торна                    ҡарағо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988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Ағасы:өйәңке                имән</a:t>
            </a:r>
            <a:r>
              <a:rPr b="0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	</a:t>
            </a:r>
            <a:r>
              <a:rPr b="0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            миләш                 ҡарағ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988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6"/>
          <p:cNvSpPr/>
          <p:nvPr/>
        </p:nvSpPr>
        <p:spPr>
          <a:xfrm>
            <a:off x="1619640" y="1753560"/>
            <a:ext cx="521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988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Ораны:аҡтайлаҡ            аҡтуған   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 тоҡсаба                 салау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988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7"/>
          <p:cNvSpPr/>
          <p:nvPr/>
        </p:nvSpPr>
        <p:spPr>
          <a:xfrm>
            <a:off x="2598840" y="1561680"/>
            <a:ext cx="33256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92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92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92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92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92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92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                                                     </a:t>
            </a:r>
            <a:r>
              <a:rPr b="0" lang="be-BY" sz="20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Ырыуҙ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92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8"/>
          <p:cNvSpPr/>
          <p:nvPr/>
        </p:nvSpPr>
        <p:spPr>
          <a:xfrm>
            <a:off x="1835280" y="4473360"/>
            <a:ext cx="46130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Мең 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           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r>
              <a:rPr b="1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Ҡыпсаҡ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Lucida Sans Unicode"/>
              </a:rPr>
              <a:t>          </a:t>
            </a:r>
            <a:r>
              <a:rPr b="1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Тамъя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ҡарсыға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бөркөт                     ҡар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ҡайын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ҡарама                    тирәк/             ҡайын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алас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туҡҫаба                   туты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395280" y="1628640"/>
          <a:ext cx="8569440" cy="4537080"/>
        </p:xfrm>
        <a:graphic>
          <a:graphicData uri="http://schemas.openxmlformats.org/drawingml/2006/table">
            <a:tbl>
              <a:tblPr/>
              <a:tblGrid>
                <a:gridCol w="1581120"/>
                <a:gridCol w="2581200"/>
                <a:gridCol w="1932120"/>
                <a:gridCol w="2475000"/>
              </a:tblGrid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     </a:t>
                      </a:r>
                      <a:r>
                        <a:rPr b="1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Ыры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        </a:t>
                      </a:r>
                      <a:r>
                        <a:rPr b="1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        </a:t>
                      </a:r>
                      <a:r>
                        <a:rPr b="1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ағ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      </a:t>
                      </a:r>
                      <a:r>
                        <a:rPr b="1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ор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Юрм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әтәл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өйәң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аҡтайла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Ме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рсығ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й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ал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аб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рағ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рағ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салау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Үҫәргә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ор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милә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оҡса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амъ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рғ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ирәк(ҡайы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уты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үңгәү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һайыҫҡан(ҡарсығ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ерек(ҡараға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уңғырат(ҡуңғыр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ыпса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бөркө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ра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уҡҫа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т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уҙ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арты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айла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Әй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шоңҡ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ирәк(муйы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һанд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ң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ор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милә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байғоң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рағ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рағ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байғү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рғ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ер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әң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Бөрйә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көсөгә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имә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аҡтуғ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23:57:12Z</dcterms:created>
  <dc:creator>Ural</dc:creator>
  <dc:description/>
  <dc:language>en-US</dc:language>
  <cp:lastModifiedBy>Ural</cp:lastModifiedBy>
  <dcterms:modified xsi:type="dcterms:W3CDTF">2007-05-04T01:21:59Z</dcterms:modified>
  <cp:revision>11</cp:revision>
  <dc:subject/>
  <dc:title> Башќорт ырыуЎарыныҐ составы ўљм дљреслектљрЎљ              уларЎыҐ бирелеше (саћылышы).</dc:title>
</cp:coreProperties>
</file>