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E740-86A1-4CE9-A664-501DBC1785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55C0-03D1-49E5-A3F0-35F503F8F47E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BB9-92D0-4138-B498-698FE1EE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87320" y="398664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3FE-6C27-4EB5-A44C-ADD7B4E2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600588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7D8-D099-47CD-8C67-A8CF2074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708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8684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68732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53708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738684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E29-6377-4A23-87BA-3FEFF6A2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9A4E-DFFF-4756-90B7-C321245B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22CE-2961-4351-ABA8-E991DB3B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C5A5-AD2F-47F2-A101-1586C521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C159-D3B9-4933-8AED-7925A4BC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F46F-7E9D-4FB3-B281-356838D6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87320" y="228240"/>
            <a:ext cx="842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1E6B-FCC8-4F13-AB20-F3B7AAF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3717-39D9-4F9F-AFCD-46D119B1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FFF-CE2D-4908-9E70-3F6DE5D4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0588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509A-9858-4373-8979-AAD42B5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973B-0C6B-4D67-B9F7-D3F4CE10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87320" y="398664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EBBC-7BF1-4B00-AD97-755933BE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00588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B751-3704-4050-B8F3-C222F9AE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3708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38684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8732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53708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38684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3DC6-6C84-4BDD-8872-2E075D98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8EA-6207-4558-BA47-A58ABF79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5AC-A44F-4753-80FB-5E509D38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FE7-FFCA-407B-AE7D-F7908F4F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87320" y="228240"/>
            <a:ext cx="842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5C1-98D1-4118-A778-D873590D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491-65EF-4E1E-9B5C-0DCC8612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0588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280-EBA9-475F-A6C0-0DED90E5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3A8-B0F8-467A-8E63-C2AA5FF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d58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751760" cy="6878520"/>
            <a:chOff x="0" y="-9360"/>
            <a:chExt cx="1751760" cy="6878520"/>
          </a:xfrm>
        </p:grpSpPr>
        <p:sp>
          <p:nvSpPr>
            <p:cNvPr id="1" name="Rectangle 3"/>
            <p:cNvSpPr/>
            <p:nvPr/>
          </p:nvSpPr>
          <p:spPr>
            <a:xfrm>
              <a:off x="809280" y="3414600"/>
              <a:ext cx="2030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949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96360" y="3414600"/>
              <a:ext cx="41256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012680" y="3429000"/>
              <a:ext cx="36432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96360" y="4184640"/>
              <a:ext cx="6145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96360" y="4616280"/>
              <a:ext cx="6145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96360" y="502452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96360" y="542916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96360" y="583740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537480" y="6242040"/>
              <a:ext cx="47340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96360" y="3755880"/>
              <a:ext cx="6145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96360" y="3414600"/>
              <a:ext cx="61812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809280" y="-4680"/>
              <a:ext cx="2030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949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96360" y="-4680"/>
              <a:ext cx="41256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012680" y="-4680"/>
              <a:ext cx="3643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96360" y="78912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96360" y="119700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96360" y="160344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96360" y="200988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96360" y="2416320"/>
              <a:ext cx="6145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91320" y="6632640"/>
              <a:ext cx="62316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96360" y="33480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96360" y="-4680"/>
              <a:ext cx="61812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99960" y="-9360"/>
              <a:ext cx="2750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96360" y="285120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377000" y="0"/>
              <a:ext cx="3747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40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1520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628640" y="6324120"/>
            <a:ext cx="15861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2001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14356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D224-FCED-47D9-8599-F9D6A4E137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d58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751760" cy="6878520"/>
            <a:chOff x="0" y="0"/>
            <a:chExt cx="1751760" cy="6878520"/>
          </a:xfrm>
        </p:grpSpPr>
        <p:sp>
          <p:nvSpPr>
            <p:cNvPr id="72" name="Rectangle 6"/>
            <p:cNvSpPr/>
            <p:nvPr/>
          </p:nvSpPr>
          <p:spPr>
            <a:xfrm>
              <a:off x="809280" y="3423960"/>
              <a:ext cx="2030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949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96360" y="3423960"/>
              <a:ext cx="41256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1012680" y="3438360"/>
              <a:ext cx="36432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96360" y="4194000"/>
              <a:ext cx="6145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96360" y="4625640"/>
              <a:ext cx="6145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96360" y="503388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96360" y="543852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96360" y="584676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37480" y="6251400"/>
              <a:ext cx="47340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96360" y="3765240"/>
              <a:ext cx="6145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96360" y="3423960"/>
              <a:ext cx="61812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809280" y="4680"/>
              <a:ext cx="2030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949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96360" y="4680"/>
              <a:ext cx="41256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1012680" y="4680"/>
              <a:ext cx="3643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96360" y="79848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96360" y="120636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96360" y="161280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96360" y="201924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96360" y="2425680"/>
              <a:ext cx="6145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91320" y="6642000"/>
              <a:ext cx="62316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96360" y="34416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96360" y="4680"/>
              <a:ext cx="61812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99960" y="0"/>
              <a:ext cx="2750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96360" y="286056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377000" y="9360"/>
              <a:ext cx="3747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40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1520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88960" y="1428840"/>
            <a:ext cx="2356920" cy="2095560"/>
            <a:chOff x="588960" y="1428840"/>
            <a:chExt cx="235692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740600" y="1428840"/>
              <a:ext cx="120528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88960" y="1610640"/>
              <a:ext cx="1925640" cy="1683360"/>
              <a:chOff x="588960" y="1610640"/>
              <a:chExt cx="192564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88960" y="1610640"/>
                <a:ext cx="1925640" cy="1683360"/>
                <a:chOff x="588960" y="1610640"/>
                <a:chExt cx="192564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88960" y="1610640"/>
                  <a:ext cx="1925640" cy="1683360"/>
                  <a:chOff x="588960" y="1610640"/>
                  <a:chExt cx="192564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94000" y="3032280"/>
                    <a:ext cx="191880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94000" y="1611360"/>
                    <a:ext cx="191880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60840" y="2275920"/>
                    <a:ext cx="1631880" cy="33192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7880 h 331920"/>
                      <a:gd name="textAreaBottom" fmla="*/ 284040 h 33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532520" y="2260080"/>
                    <a:ext cx="1631880" cy="33192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7880 h 331920"/>
                      <a:gd name="textAreaBottom" fmla="*/ 284040 h 33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772560" y="1763640"/>
                  <a:ext cx="15606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863640" y="1857240"/>
                  <a:ext cx="137844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997560" y="1969920"/>
                  <a:ext cx="110844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1113840" y="2068560"/>
                  <a:ext cx="8780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131840" y="2135160"/>
                <a:ext cx="797760" cy="638280"/>
                <a:chOff x="1131840" y="2135160"/>
                <a:chExt cx="7977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528200" y="2236680"/>
                  <a:ext cx="6048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476360" y="2236680"/>
                  <a:ext cx="6048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-223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424520" y="2689200"/>
                  <a:ext cx="21780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131840" y="2328840"/>
                  <a:ext cx="39420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533240" y="2328840"/>
                  <a:ext cx="39636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479960" y="2135160"/>
                  <a:ext cx="997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3086280" y="5410080"/>
            <a:ext cx="702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42001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814356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8B50-9A85-41DD-B447-0791349ED20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d58a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29080" y="1380600"/>
            <a:ext cx="748656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пробуем сочинять загад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( УМК «Гармония» учебник М.С.Соловейчи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84120" y="4124160"/>
            <a:ext cx="703116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читель: Фёдорова Н.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БОУ школа № 212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87320" y="5333760"/>
            <a:ext cx="216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ай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87320" y="1523880"/>
            <a:ext cx="58179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ртём 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У него есть длинный нос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н очень нужен в доме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огда встаёт один вопрос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Кто чай нам приготовит?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6" name="Picture 4" descr="чайник"/>
          <p:cNvPicPr/>
          <p:nvPr/>
        </p:nvPicPr>
        <p:blipFill>
          <a:blip r:embed="rId1"/>
          <a:stretch/>
        </p:blipFill>
        <p:spPr>
          <a:xfrm>
            <a:off x="7201080" y="4419720"/>
            <a:ext cx="2057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87320" y="29520"/>
            <a:ext cx="4141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87320" y="685440"/>
            <a:ext cx="54370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аша   Ш.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астёт солнце в огороде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 в нём семечки внутр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то такое подскажи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ртём 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Яркий цветок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ак огонёк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солнце похожий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радость прохожи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9" name="Picture 5" descr="п"/>
          <p:cNvPicPr/>
          <p:nvPr/>
        </p:nvPicPr>
        <p:blipFill>
          <a:blip r:embed="rId1"/>
          <a:stretch/>
        </p:blipFill>
        <p:spPr>
          <a:xfrm>
            <a:off x="7429680" y="1371600"/>
            <a:ext cx="2361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54097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юльп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85720" y="228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Глеб 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ы, ребята, посмотрит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меня внимательно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кромно я стою в сторонке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о нужен обязательно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 праздник женский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 праздник мам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асцвету на радость Ва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2" name="Picture 4" descr="тюльпан"/>
          <p:cNvPicPr/>
          <p:nvPr/>
        </p:nvPicPr>
        <p:blipFill>
          <a:blip r:embed="rId1"/>
          <a:stretch/>
        </p:blipFill>
        <p:spPr>
          <a:xfrm>
            <a:off x="7658280" y="990720"/>
            <a:ext cx="2438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3080" y="1519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авайте поучимся сочинять загадки. А для этого постараемся понять, как они устроен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5720" y="25146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осадили зёрнышко,                                    Вырастили солнышко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зывается ли в загадке предмет, о котором придумана загадка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зван ли другой предмет, на него похожий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казаны ли в загадке признаки, по которым можно догадаться, о чём идёт речь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к звучат строки, что особенного в их концовках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5" descr="подсолнух"/>
          <p:cNvPicPr/>
          <p:nvPr/>
        </p:nvPicPr>
        <p:blipFill>
          <a:blip r:embed="rId1"/>
          <a:stretch/>
        </p:blipFill>
        <p:spPr>
          <a:xfrm>
            <a:off x="7429680" y="1752480"/>
            <a:ext cx="22860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пр. 175. Где загадка, а где не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87320" y="1219320"/>
            <a:ext cx="84279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У стола четыре ножки,                                По две с каждой стороны,                       Но сапожки и калошки                               Этим ножкам не нужны.                    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№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Эти яблочки румяные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Дружат с зимними полянам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 поют среди берёз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евзирая на мороз.                      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Picture 4" descr="снег2"/>
          <p:cNvPicPr/>
          <p:nvPr/>
        </p:nvPicPr>
        <p:blipFill>
          <a:blip r:embed="rId1"/>
          <a:stretch/>
        </p:blipFill>
        <p:spPr>
          <a:xfrm>
            <a:off x="1343160" y="3733920"/>
            <a:ext cx="1819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969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87320" y="228600"/>
            <a:ext cx="84279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жно ли строки стихотворения превратить в загадку? Ка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14320" y="2209680"/>
            <a:ext cx="8427960" cy="40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 стол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тыре ножки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 две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 каждой стороны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 сапожк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калошк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Этим ножкам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 нуж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87320" y="-160560"/>
            <a:ext cx="84279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87680" y="1599840"/>
            <a:ext cx="5742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 него четыре ножки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 две с каждой стороны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 сапожки и калошк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Этим ножкам не нуж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Picture 4" descr="стол1"/>
          <p:cNvPicPr/>
          <p:nvPr/>
        </p:nvPicPr>
        <p:blipFill>
          <a:blip r:embed="rId1"/>
          <a:stretch/>
        </p:blipFill>
        <p:spPr>
          <a:xfrm>
            <a:off x="7286760" y="4194000"/>
            <a:ext cx="25812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гадки, сочинённые детьми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5360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аша Ш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таллический предмет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Что же это? Дай ответ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о бумаге он шагает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две части разрезает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ожниц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Picture 7" descr="ножницы"/>
          <p:cNvPicPr/>
          <p:nvPr/>
        </p:nvPicPr>
        <p:blipFill>
          <a:blip r:embed="rId1"/>
          <a:stretch/>
        </p:blipFill>
        <p:spPr>
          <a:xfrm>
            <a:off x="7786800" y="3862440"/>
            <a:ext cx="18954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87320" y="5181480"/>
            <a:ext cx="3151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жниц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6275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ртём П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жут ткани и бумагу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а труде без них ни шагу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Две лихие половинк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ам разрежут все картин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7" name="Picture 4" descr="ножницы"/>
          <p:cNvPicPr/>
          <p:nvPr/>
        </p:nvPicPr>
        <p:blipFill>
          <a:blip r:embed="rId1"/>
          <a:stretch/>
        </p:blipFill>
        <p:spPr>
          <a:xfrm>
            <a:off x="6896160" y="2590920"/>
            <a:ext cx="31240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87320" y="5257800"/>
            <a:ext cx="2693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левиз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87680" y="990720"/>
            <a:ext cx="6199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офья К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Я перед ним сиде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 утра до вечера готов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 узнаю хоть много я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о гонят прочь меня всегд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0" name="Picture 4" descr="телевизор"/>
          <p:cNvPicPr/>
          <p:nvPr/>
        </p:nvPicPr>
        <p:blipFill>
          <a:blip r:embed="rId1"/>
          <a:stretch/>
        </p:blipFill>
        <p:spPr>
          <a:xfrm>
            <a:off x="7734240" y="3809880"/>
            <a:ext cx="2133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0640" y="5486040"/>
            <a:ext cx="2895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ай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87680" y="761760"/>
            <a:ext cx="6580080" cy="54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Татьяна Х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н пыхтит, он кипит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аем вскоре угостит.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олина К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плите- кастрюль начальник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Толстый длинноносый….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3" name="Picture 4" descr="чай"/>
          <p:cNvPicPr/>
          <p:nvPr/>
        </p:nvPicPr>
        <p:blipFill>
          <a:blip r:embed="rId1"/>
          <a:stretch/>
        </p:blipFill>
        <p:spPr>
          <a:xfrm>
            <a:off x="7124760" y="491508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Гузалия </dc:creator>
  <dc:description/>
  <dc:language>en-US</dc:language>
  <cp:lastModifiedBy>Мария Никанорова</cp:lastModifiedBy>
  <dcterms:modified xsi:type="dcterms:W3CDTF">2018-11-14T07:50:28Z</dcterms:modified>
  <cp:revision>18</cp:revision>
  <dc:subject/>
  <dc:title>PowerPoint-præ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