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E9E-9668-4DD7-BE35-1A76316D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CFC-F1EC-4B1F-8F89-F62E0573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188-3029-4C32-A51A-A7DCF01F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0FB-0554-4B5D-A391-085C2899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6C02-CB24-45BA-9B20-7C6C16B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A409-A51A-4C6E-83C2-970A7E1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F34-D8BF-4DAA-8020-4B987EF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66BF-10FA-43D1-BF00-C5CA8C9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077D-A3C5-4B50-9758-955408D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62C-916C-4618-982F-1FCA46A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1FA-79F2-45B2-8500-1A24AC0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31B-B348-43F9-865C-6C406E5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04BF-A924-48ED-A471-66EFC7BA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BC88-4169-40B0-95E1-119C35B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6970-BCDE-4471-AD45-BDF63F54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858-BA7A-4E18-A515-3CC3CA08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328-2BCC-4C32-B5A2-4FB3B20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AA4-FD3F-49C2-9026-7AA9C56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555-3B9C-4C84-B3B9-B5D1F99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D67-AE94-465E-A048-3C46F15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EE9-5533-4F5E-B693-AD222407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CB6-0CB5-4EAB-9DDF-C335443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CE3-B0F0-4DBB-B699-43B883F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D16-94CF-42B3-BE59-C3C23902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8E3-009A-4377-872A-D7DB73D2EA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87C-A689-4600-936A-788E3DC2766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Урок физики  9 класс по тем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ЯДЕРНЫЙ РЕАКТОР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читель физики: Оганян Наталья Амаяковна. МБОУ СОШ№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родской округ г.Королева М.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еактор на медленных нейтронах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Наиболее эффективное деление ядер урана-235 происходит под действием медленных нейтронов. Такие реакторы называются реакторами на медленных нейтронах. Вторичные нейтроны, образующиеся в результате реакции деления, являются быстрыми. Для того чтобы их последующее взаимодействие с ядрами урана-235 в цепной реакции было наиболее эффективно, их замедляют, вводя в активную зону замедлитель — вещество, уменьшающее кинетическую энергию нейтрон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акторы на быстрых нейтрона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акие реакторы не могут работать на естественном уране. Реакцию можно поддерживать лишь в обогащенной смеси, содержащей не менее 15% изотопа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еимущество: при их работе образуется значительное количество плутония, который затем можно использовать в качестве ядерного топли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Виды реактор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гомогенные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: активная зона  представляет жидкую, твердую или газообразную однородную смесь ядерного топлива, теплоносителя и замедлител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Гетерогенные: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опливо в виде блоков размещено в замедлителе, т.е. топливо и замедлитель пространственно разделены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реобразование энерги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ядер уран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нейтронов и осколков яде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воды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па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па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ротора турбины и ротора генерато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электрическая энерг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спользование ядерных реактор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В зависимости от назначения ядерные реакторы бывают энергетические, конверторы и размножители, исследовательские и многоцелевые, транспортные и промышленны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кологические катастрофы на АЭС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57 г- авария в Великобрит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66 г – частичное расплавление  активной зоны после выхода из строя охлаждения реактора неподалеку от Детройт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71 г – много загрязненной воды ушло в реку СШ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79 – крупнейшая авария в СШ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2 г -  выброс радиоактивного пара в атмосферу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3 – страшная авария в Канаде (20 минут вытекала  радиоактивная  вода – по тонне в минуту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– авария в Великобрит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г – авария в Герм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г – Чернобыльская АЭС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8 г – пожар на АЭС в Япо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опросы на закре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. Что называют ядерным реакторо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. Что является ядерным горючим в реактор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. Какое вещество служит замедлителем нейтронов в ядерном реактор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. Каково назначение замедлителя нейтронов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. Для чего нужны регулирующие стержни? Как ими пользуютс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. Что используется в качестве теплоносителя в ядерных реакторах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. Для чего нужно, чтобы масса каждого уранового стержня была меньше критической масс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. Какие частицы участвуют в делении ядер уран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прот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нейт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элект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ядра гел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2. Какая масса урана является критическ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наибольшая, при которой возможно протекание цепной реакц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любая масс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наименьшая, при которой возможно протекание цепной реакц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масса, при которой реакция прекратит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3. Чему приблизительно равна критическая масса урана 235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9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20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50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90 к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 Механизм деления ядер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Расскажите о механизме протекания цепной ядерной реакци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Приведите пример ядерной реакции деления ядра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Что называется критической масс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5. Как идет цепная реакция в уране, если его масса меньше критической, больше критическ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4. Какие вещества из перечисленных ниже могут быть использованы в ядерных реакторах в качестве замедлителей нейтрон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графит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кадмий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тяжёлая вод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бо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5. Для протекания цепной ядерной реакции на АЭС нужно, чтобы коэффициент размножения нейтронов был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равен 1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больше 1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меньше 1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6. Регулирование скорости деления ядер тяжелых атомов в ядерных реакторах осуществляется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за счет поглощения нейтронов при опускании стержней с поглотителе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за счет увеличения теплоотвода при увеличении скорости теплоносител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за счет увеличения отпуска электроэнергии потребител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за счет уменьшения массы ядерного топлива в активной зон при вынимании стержней с топлив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7. Какие преобразования энергии происходят в ядерном реактор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внутренняя энергия атомных ядер превращается в светов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внутренняя энергия атомных ядер превращается в механическ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внутренняя энергия атомных ядер превращается в электрическ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среди ответов нет правильно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8. В 1946 году в Советском Союзе был построен первый ядерный реактор. Кто был руководителем этого проект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С. Короле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 И. Курчат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Д. Сахар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А. Прохор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9. Какой путь вы считаете самым приемлемым для повышения надежности АЭС и предотвращения заражения внешней сред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А. разработка реакторов, способных автоматически охладить активную зону реактора независимо от воли оператор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Б. повышение грамотности эксплуатации  АЭС, уровня профессиональной подготовленности операторов АЭС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. разработка высокоэффективных технологий демонтажа АЭС и переработки радиоактивных отход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Г. расположение реакторов глубоко под зем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Д. отказ от строительства и эксплуатации АЭ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0. Какие источники загрязнения окружающей среды связаны с работой АЭС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урановая промышленнос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ядерные реакторы разных тип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радиохимическая промышленнос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места переработки и захоронения радиоактивных отход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Д. использование радионуклидов в народном хозяйств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Е. ядерные взры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тветы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 Б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2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3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4 А,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5 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6 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7 В;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8 Б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9 Б.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0 А, Б, В, Г, 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СПАСИБО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ЗА РАБОТУ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НА УРОКЕ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6. Чему равна критическая масса урана 295, можно ли уменьшить критическую массу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7. Какими способами можно изменить ход цепной ядерной реакции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8. С какой целью замедляют быстрые нейтроны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9. Какие вещества используют в качестве замедлителей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10. За счет каких факторов можно увеличить число свободных нейтронов в куске урана, обеспечив тем самым возможность протекания в нем реакции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ервые ядерные ре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первые цепная ядерная реакция урана была осуществлена в США коллективом ученых под руководством Энрико Ферми в декабре 1942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43560" y="1768320"/>
            <a:ext cx="2603520" cy="31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ервые ядерные ре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нашей стране первый ядерный реактор был запущен 25 декабря 1946 г. коллективом физиков, который возглавлял ученый Игорь Васильевич Курчат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29240" y="1695600"/>
            <a:ext cx="24084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Ядерным реактором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называется устройство, в котором осуществляется и поддерживается управляемая цепная реакция деления некоторых тяжелых яде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новные элементы ядерного реактор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ядерное горючее(уран 235, уран 238, плутоний 239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медлитель нейтронов (тяжелая вода, графит и др.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еплоноситель для вывода энергии, образующейся при работе реактора (вода, жидкий натрий и др.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гулирующие стержни (бор, кадмий) - сильно поглощающие нейтроны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щитная оболочка, задерживающая излучения (бетон с железным наполнителем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55560" y="771480"/>
            <a:ext cx="7685280" cy="56102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Управление реактором осуществляется при помощи стержней, содержащих кадмий или бор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Скругленный прямоугольник 6"/>
          <p:cNvGrpSpPr/>
          <p:nvPr/>
        </p:nvGrpSpPr>
        <p:grpSpPr>
          <a:xfrm>
            <a:off x="609480" y="1981080"/>
            <a:ext cx="3505320" cy="1752840"/>
            <a:chOff x="609480" y="1981080"/>
            <a:chExt cx="3505320" cy="1752840"/>
          </a:xfrm>
        </p:grpSpPr>
        <p:pic>
          <p:nvPicPr>
            <p:cNvPr id="133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609480" y="1981080"/>
              <a:ext cx="350532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6"/>
            <p:cNvSpPr/>
            <p:nvPr/>
          </p:nvSpPr>
          <p:spPr>
            <a:xfrm>
              <a:off x="797040" y="2130840"/>
              <a:ext cx="3125520" cy="1384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При выдвинутых из активной зоны реактора стержнях 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k&gt;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1. </a:t>
              </a:r>
              <a:endParaRPr b="0" lang="en-US" sz="24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5" name="Скругленный прямоугольник 7"/>
          <p:cNvGrpSpPr/>
          <p:nvPr/>
        </p:nvGrpSpPr>
        <p:grpSpPr>
          <a:xfrm>
            <a:off x="4859280" y="1981080"/>
            <a:ext cx="3505320" cy="1720800"/>
            <a:chOff x="4859280" y="1981080"/>
            <a:chExt cx="3505320" cy="1720800"/>
          </a:xfrm>
        </p:grpSpPr>
        <p:pic>
          <p:nvPicPr>
            <p:cNvPr id="136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859280" y="1981080"/>
              <a:ext cx="35053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"/>
            <p:cNvSpPr/>
            <p:nvPr/>
          </p:nvSpPr>
          <p:spPr>
            <a:xfrm>
              <a:off x="5048280" y="2127960"/>
              <a:ext cx="3125520" cy="13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При полностью вдвинутых стержнях 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k&lt;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1. </a:t>
              </a:r>
              <a:endParaRPr b="0" lang="en-US" sz="24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8" name="Стрелка вниз 9"/>
          <p:cNvSpPr/>
          <p:nvPr/>
        </p:nvSpPr>
        <p:spPr>
          <a:xfrm>
            <a:off x="2133720" y="3809880"/>
            <a:ext cx="484200" cy="7858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Стрелка вниз 9"/>
          <p:cNvSpPr/>
          <p:nvPr/>
        </p:nvSpPr>
        <p:spPr>
          <a:xfrm>
            <a:off x="6477120" y="3733920"/>
            <a:ext cx="484200" cy="7855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1905120" y="4797360"/>
            <a:ext cx="5475240" cy="1584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двигая стержни внутрь активной зоны, можно в любой момент времени приостановить развитие цепной реакции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8-06-28T15:47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