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6C4-2ED1-4468-9861-D0D90114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77F-ECCB-470A-A50C-B234E019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2DC-8A6E-4D3B-BBBE-7E1027C6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338-C836-46DE-BB3E-C2DC18CC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AF30-0664-499F-AC16-26BE06AD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084A-D49A-4D96-B71A-5357EDBB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75D2-B503-4098-A8A8-B0E6F8CA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A998-37C7-4FFF-BA8E-FD4DCDA2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AAD5-4E18-42B6-9EED-AAB5A5D6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E38F-B71D-4595-B622-04E5878E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79A4-F2A1-4DCF-9571-86D444A4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39F-40B1-48FE-9CC6-CE1DCB59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679C-9F77-4042-ABAA-BCE0FC1A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9EA6-CD7D-4058-9846-F6528D45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BE8C-4E48-4F13-8806-FAEEA1F9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56B3-ABA5-4289-B120-D813A30C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B343-644C-4CDD-BD78-95CF6193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E42-2677-4937-9FE1-71A268E0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73B-DD3F-4C29-B57D-253962E3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58B-2EBC-45A8-9796-8BC971DF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837-5586-49DD-99C3-578D3D8F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CE3-8FA7-445E-BCD7-6970112C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001-0E93-47DF-93C2-EF6196BB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CF9-A4DA-471E-84CE-FD4A3781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0D2D-AA2B-435E-89EE-7F80F36AFB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E1D3-9803-40E9-A441-332DF682A3D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Урок физики  9 класс по тем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ЯДЕРНЫЙ РЕАКТОР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Учитель физики: Оганян Наталья Амаяковна. МБОУ СОШ№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городской округ г.Королева М.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еактор на медленных нейтронах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Наиболее эффективное деление ядер урана-235 происходит под действием медленных нейтронов. Такие реакторы называются реакторами на медленных нейтронах. Вторичные нейтроны, образующиеся в результате реакции деления, являются быстрыми. Для того чтобы их последующее взаимодействие с ядрами урана-235 в цепной реакции было наиболее эффективно, их замедляют, вводя в активную зону замедлитель — вещество, уменьшающее кинетическую энергию нейтрон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еакторы на быстрых нейтронах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Такие реакторы не могут работать на естественном уране. Реакцию можно поддерживать лишь в обогащенной смеси, содержащей не менее 15% изотопа уран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Преимущество: при их работе образуется значительное количество плутония, который затем можно использовать в качестве ядерного топли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Виды реактор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гомогенные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: активная зона  представляет жидкую, твердую или газообразную однородную смесь ядерного топлива, теплоносителя и замедлителя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Гетерогенные: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топливо в виде блоков размещено в замедлителе, т.е. топливо и замедлитель пространственно разделены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Преобразование энергии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нутренняя энергия ядер уран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кинетическая энергия нейтронов и осколков ядер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нутренняя энергия воды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нутренняя энергия пар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кинетическая энергия пар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кинетическая энергия ротора турбины и ротора генератор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электрическая энерг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Использование ядерных реакторов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В зависимости от назначения ядерные реакторы бывают энергетические, конверторы и размножители, исследовательские и многоцелевые, транспортные и промышленные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кологические катастрофы на АЭС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57 г- авария в Великобритани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66 г – частичное расплавление  активной зоны после выхода из строя охлаждения реактора неподалеку от Детройт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71 г – много загрязненной воды ушло в реку СШ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79 – крупнейшая авария в СШ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82 г -  выброс радиоактивного пара в атмосферу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83 – страшная авария в Канаде (20 минут вытекала  радиоактивная  вода – по тонне в минуту)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86 – авария в Великобритани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86 г – авария в Германи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86 г – Чернобыльская АЭС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Verdana"/>
              </a:rPr>
              <a:t>1988 г – пожар на АЭС в Япони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Вопросы на закрепл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. Что называют ядерным реактором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. Что является ядерным горючим в реакторе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. Какое вещество служит замедлителем нейтронов в ядерном реакторе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. Каково назначение замедлителя нейтронов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. Для чего нужны регулирующие стержни? Как ими пользуются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. Что используется в качестве теплоносителя в ядерных реакторах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. Для чего нужно, чтобы масса каждого уранового стержня была меньше критической массы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1. Какие частицы участвуют в делении ядер уран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. протон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Б. нейтрон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. электрон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Г. ядра гел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2. Какая масса урана является критическо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А. наибольшая, при которой возможно протекание цепной реакции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Б. любая масс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. наименьшая, при которой возможно протекание цепной реакции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Г. масса, при которой реакция прекратит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3. Чему приблизительно равна критическая масса урана 235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. 9 кг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Б. 20 кг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. 50 кг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Г. 90 к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ОВТОР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1. Механизм деления ядер уран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. Расскажите о механизме протекания цепной ядерной реакци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3. Приведите пример ядерной реакции деления ядра уран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4. Что называется критической массо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5. Как идет цепная реакция в уране, если его масса меньше критической, больше критическо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4. Какие вещества из перечисленных ниже могут быть использованы в ядерных реакторах в качестве замедлителей нейтронов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. графит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Б. кадмий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. тяжёлая вод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Г. бор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5. Для протекания цепной ядерной реакции на АЭС нужно, чтобы коэффициент размножения нейтронов был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. равен 1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Б. больше 1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. меньше 1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6. Регулирование скорости деления ядер тяжелых атомов в ядерных реакторах осуществляется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А. за счет поглощения нейтронов при опускании стержней с поглотителем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Б. за счет увеличения теплоотвода при увеличении скорости теплоносител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. за счет увеличения отпуска электроэнергии потребителям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Г. за счет уменьшения массы ядерного топлива в активной зон при вынимании стержней с топливо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7. Какие преобразования энергии происходят в ядерном реактор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А. внутренняя энергия атомных ядер превращается в световую энергию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Б. внутренняя энергия атомных ядер превращается в механическую энергию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. внутренняя энергия атомных ядер превращается в электрическую энергию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Г. среди ответов нет правильног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8. В 1946 году в Советском Союзе был построен первый ядерный реактор. Кто был руководителем этого проект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. С. Королев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Б.  И. Курчатов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. Д. Сахаров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Г. А. Прохор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9. Какой путь вы считаете самым приемлемым для повышения надежности АЭС и предотвращения заражения внешней среды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А. разработка реакторов, способных автоматически охладить активную зону реактора независимо от воли оператор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Б. повышение грамотности эксплуатации  АЭС, уровня профессиональной подготовленности операторов АЭС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В. разработка высокоэффективных технологий демонтажа АЭС и переработки радиоактивных отходов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Г. расположение реакторов глубоко под землей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Д. отказ от строительства и эксплуатации АЭ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10. Какие источники загрязнения окружающей среды связаны с работой АЭС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А. урановая промышленность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Б. ядерные реакторы разных типо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. радиохимическая промышленность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Г. места переработки и захоронения радиоактивных отходо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Д. использование радионуклидов в народном хозяйстве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Е. ядерные взрыв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тветы: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1 Б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2 В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3 В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4 А, В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5 А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6 А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7 В;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8 Б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9 Б. В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10 А, Б, В, Г, 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eaeaea"/>
                </a:solidFill>
                <a:latin typeface="Verdana"/>
              </a:rPr>
              <a:t>СПАСИБО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Verdana"/>
              </a:rPr>
              <a:t>ЗА РАБОТУ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Verdana"/>
              </a:rPr>
              <a:t>НА УРОКЕ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ОВТОР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6. Чему равна критическая масса урана 295, можно ли уменьшить критическую массу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7. Какими способами можно изменить ход цепной ядерной реакции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8. С какой целью замедляют быстрые нейтроны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9. Какие вещества используют в качестве замедлителей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10. За счет каких факторов можно увеличить число свободных нейтронов в куске урана, обеспечив тем самым возможность протекания в нем реакции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ервые ядерные реакто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первые цепная ядерная реакция урана была осуществлена в США коллективом ученых под руководством Энрико Ферми в декабре 1942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443560" y="1768320"/>
            <a:ext cx="2603520" cy="31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ервые ядерные реакто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 нашей стране первый ядерный реактор был запущен 25 декабря 1946 г. коллективом физиков, который возглавлял ученый Игорь Васильевич Курчат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529240" y="1695600"/>
            <a:ext cx="2408400" cy="38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Ядерным реактором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называется устройство, в котором осуществляется и поддерживается управляемая цепная реакция деления некоторых тяжелых яде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сновные элементы ядерного реактора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ядерное горючее(уран 235, уран 238, плутоний 239)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замедлитель нейтронов (тяжелая вода, графит и др.)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теплоноситель для вывода энергии, образующейся при работе реактора (вода, жидкий натрий и др.)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егулирующие стержни (бор, кадмий) - сильно поглощающие нейтроны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Защитная оболочка, задерживающая излучения (бетон с железным наполнителем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55560" y="771480"/>
            <a:ext cx="7685280" cy="561024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Управление реактором осуществляется при помощи стержней, содержащих кадмий или бор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2" name="Скругленный прямоугольник 6"/>
          <p:cNvGrpSpPr/>
          <p:nvPr/>
        </p:nvGrpSpPr>
        <p:grpSpPr>
          <a:xfrm>
            <a:off x="609480" y="1981080"/>
            <a:ext cx="3505320" cy="1752840"/>
            <a:chOff x="609480" y="1981080"/>
            <a:chExt cx="3505320" cy="1752840"/>
          </a:xfrm>
        </p:grpSpPr>
        <p:pic>
          <p:nvPicPr>
            <p:cNvPr id="133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609480" y="1981080"/>
              <a:ext cx="350532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6"/>
            <p:cNvSpPr/>
            <p:nvPr/>
          </p:nvSpPr>
          <p:spPr>
            <a:xfrm>
              <a:off x="797040" y="2130840"/>
              <a:ext cx="3125520" cy="1384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ahoma"/>
                </a:rPr>
                <a:t>При выдвинутых из активной зоны реактора стержнях </a:t>
              </a:r>
              <a:r>
                <a:rPr b="0" lang="en-US" sz="2400" spc="-1" strike="noStrike">
                  <a:solidFill>
                    <a:srgbClr val="0000ff"/>
                  </a:solidFill>
                  <a:latin typeface="Tahoma"/>
                  <a:ea typeface="Times New Roman"/>
                </a:rPr>
                <a:t>k&gt;</a:t>
              </a:r>
              <a:r>
                <a:rPr b="0" lang="ru-RU" sz="2400" spc="-1" strike="noStrike">
                  <a:solidFill>
                    <a:srgbClr val="0000ff"/>
                  </a:solidFill>
                  <a:latin typeface="Tahoma"/>
                  <a:ea typeface="Times New Roman"/>
                </a:rPr>
                <a:t>1. </a:t>
              </a:r>
              <a:endParaRPr b="0" lang="en-US" sz="24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135" name="Скругленный прямоугольник 7"/>
          <p:cNvGrpSpPr/>
          <p:nvPr/>
        </p:nvGrpSpPr>
        <p:grpSpPr>
          <a:xfrm>
            <a:off x="4859280" y="1981080"/>
            <a:ext cx="3505320" cy="1720800"/>
            <a:chOff x="4859280" y="1981080"/>
            <a:chExt cx="3505320" cy="1720800"/>
          </a:xfrm>
        </p:grpSpPr>
        <p:pic>
          <p:nvPicPr>
            <p:cNvPr id="136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4859280" y="1981080"/>
              <a:ext cx="350532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9"/>
            <p:cNvSpPr/>
            <p:nvPr/>
          </p:nvSpPr>
          <p:spPr>
            <a:xfrm>
              <a:off x="5048280" y="2127960"/>
              <a:ext cx="3125520" cy="13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ahoma"/>
                </a:rPr>
                <a:t>При полностью вдвинутых стержнях </a:t>
              </a:r>
              <a:r>
                <a:rPr b="0" lang="en-US" sz="2400" spc="-1" strike="noStrike">
                  <a:solidFill>
                    <a:srgbClr val="0000ff"/>
                  </a:solidFill>
                  <a:latin typeface="Tahoma"/>
                  <a:ea typeface="Times New Roman"/>
                </a:rPr>
                <a:t>k&lt;</a:t>
              </a:r>
              <a:r>
                <a:rPr b="0" lang="ru-RU" sz="2400" spc="-1" strike="noStrike">
                  <a:solidFill>
                    <a:srgbClr val="0000ff"/>
                  </a:solidFill>
                  <a:latin typeface="Tahoma"/>
                  <a:ea typeface="Times New Roman"/>
                </a:rPr>
                <a:t>1. </a:t>
              </a:r>
              <a:endParaRPr b="0" lang="en-US" sz="24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38" name="Стрелка вниз 9"/>
          <p:cNvSpPr/>
          <p:nvPr/>
        </p:nvSpPr>
        <p:spPr>
          <a:xfrm>
            <a:off x="2133720" y="3809880"/>
            <a:ext cx="484200" cy="78588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ffff9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Стрелка вниз 9"/>
          <p:cNvSpPr/>
          <p:nvPr/>
        </p:nvSpPr>
        <p:spPr>
          <a:xfrm>
            <a:off x="6477120" y="3733920"/>
            <a:ext cx="484200" cy="7855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ff9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1905120" y="4797360"/>
            <a:ext cx="5475240" cy="1584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двигая стержни внутрь активной зоны, можно в любой момент времени приостановить развитие цепной реакции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8-06-28T15:47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