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3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5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16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D18-376E-4689-8F0D-C99B350E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65C-8AA1-4429-B384-4BB2C21B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BE7ED-871D-4DA5-B76E-DF70C835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E3A25-B855-4CD7-80A3-212CBB65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BBA46-FFD7-48B8-8F5D-A68BF354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B7E47-DD71-4777-B6E0-41EF2EC4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CE3B1-4A75-4091-8717-B9D307E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32DFD-F346-4242-9FC6-A003083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68458-1F2E-4AF1-B810-6C3AAE2E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2D561-1420-4B9A-B39F-B0DD48AD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7E43E-D5D1-402B-825A-D480A9A5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0C990-803E-4C93-B1EE-EDE86769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383-776A-47AC-9012-DC9BE09A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B96D1-588C-4A98-A802-44C94AE2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C1B34-C826-4950-AD59-564073CF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29B26-0E13-4B01-AD95-D509E7B3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E2552-5952-4047-B767-64361B2F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7D142-B7D2-4D1C-9EC2-661D152C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BE148-60A8-4EF9-B799-1171BF7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32FCE-8575-41C7-AA46-B5A7BAE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AFE10-C55C-4897-AC79-6D9B952C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1CE8F-4BB0-48A8-A8A2-E4E018DC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1BC4B-2534-45E7-B11E-02092527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1C6-BC8C-4856-B7BA-7737C4F0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FA43E-F2E6-4A7D-83B2-FFE837B8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BF96-BE2F-4063-B850-F3F1580D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EB54-9551-414B-9541-EEC2372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CA69-370E-4B37-AE94-8B66D275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2098-DE91-4EA3-9A61-AB8D2B91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1CEA-C5E1-4BE1-8806-1AA132AB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E29D-E82C-473A-9DE8-C7B9B83F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B4D6-F6F2-476F-B05C-EB0BC616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2A8-99ED-4DEA-A3F7-01F1DE09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C73E-0296-4DFF-A388-6FA91FDD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FAF4-B227-47C6-9D29-07DC0D65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41CD-32F2-4BFB-8ED2-D7067B27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2CDA-BA61-47D3-8F6C-20049146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8FC0-D128-4FF5-AB8F-0F429E0B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8F71-223F-4F5C-B4B3-EC7ED8C0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92F4A-BF1B-4C6A-A2C0-CEC90EB2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93F2-408E-40C4-9DA8-9D972906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201A-0F05-4961-A594-B1E08A1E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6845-C359-4044-AAD2-106A8F67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8DE-14E0-48B8-A1F6-A4F66DB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B425-9E20-4D3C-A62B-2B6CA657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618C-AD0A-4636-9437-E58B895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0FBC-088E-4C20-9AD9-8CE2EDF6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0E87-B8F7-49C1-ABC8-FFC8CCF5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6D33-8D49-4659-86A7-012430BE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E509E-1AF1-44AD-8288-14DEEFA7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0DFD3-00FF-4D8E-BD49-C70387B5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A5B74-90D2-480D-BD4D-50164D44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D5A61-EC23-43E0-BBDD-807968A0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2909-51C8-4B62-A455-91A19BF9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766-2FC9-4742-9978-D70712AE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D5DB-8832-4D19-AD3E-5E8B5F33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FD30-DF96-4937-9244-D47867E5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C87A-3FAA-498C-B9D7-CF883B23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E6F8-9FBF-4701-8BF1-86A261C0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BCA0-593D-4224-88D8-E2E62DC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C7F24-294A-4F79-81E6-EABE9D7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1DBF-A16B-41D9-844D-FFC3CBEA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25B0F-714B-401B-A537-DD95472C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E81BF-BB54-4990-8A75-1E445015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F2746-F820-4B78-98DD-4B9378B4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56F-9CC2-4BA5-902A-80EB7C3F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F19C8-8B27-4B1B-92D7-8D630E1A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CF93-2ACA-4F5F-A833-C6F4BB84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F380-C773-49C5-9AC8-B2FD6987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4E23-4276-4832-809F-29427A6D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97987-2E83-41F6-80F8-B1F1A40A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72CEF-0537-437F-80A2-0ECD064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9A369-901C-4EB7-BAD9-046B65DA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88EB8-5A3E-46D1-A763-07D3F17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BBAC2-77FB-49D2-99EE-8071D55A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BAAE-3353-4664-8FD3-059F3FB4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85A-AF22-43CD-A25E-C7919D89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252F-A7A3-40C2-B8E4-999B03D9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3FE3C-87E3-41A2-BCC1-531C4BE8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6474E-4887-4A5A-BCBB-6ED20272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00031-877A-4271-9F00-45CD8BE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71E2-699A-401E-B3A4-3F288218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31677-E888-4B08-9BD1-6B03B9D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473E7-7834-4A6C-B22F-F02CE8E9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4F7F0-3D1C-45F6-AA29-8B7E7B5A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132F-C3A3-46EB-BFAE-081C09AB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DB503-32A0-403C-B883-E1E93EA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44A-A10D-4A5C-8BB0-5A43935D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0483-9C34-431C-B682-84A9E5D9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707D7-6D47-46DE-BB8D-F8D28765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706AF-675B-4042-A8B5-81AE433D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86B36-1E6B-4A5A-BCB5-F8E10B8A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74BDE-68F6-4FA3-95EB-B3A1E56E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95B5E-B43D-42BB-A123-89F3B38E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1D78E-53B7-4019-8D73-7673D8DD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2D1BD-92AF-4003-A135-C94CB23C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3890-3D95-45D4-BC22-2D104AFB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C2BD-E592-4D31-B840-97489A6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668-CF8E-4B98-8D6C-C233AEF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72490-734F-48D8-AFD9-642712FD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9CC65-CAF0-4FAA-8905-67C0E149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6E2ED-B841-420D-98F8-2DBFF6DD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CBBEF-40C1-429E-80F9-D79FC4F3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ED6FE-8BC1-446B-A3EC-82F4FD2B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43428-E1EE-4764-B1DC-B5210568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1B4F-DC0E-4D11-BDDF-804EF5A8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84B2D-41AF-4B6E-B34C-A66CEF6E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71D7F-E8A1-4280-B34B-CDFA29C8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7358-13BA-445A-A300-4735D88E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AA8-6E82-4296-9C54-AEB60690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C99B4-DDF3-47ED-8A23-FF6D8BCB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0128-BEAB-43FD-A753-1942D419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29206-A62D-42CE-B290-CD83B05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0D6BD-C700-4881-90BB-9AFAFE70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170D8-9DEA-43FA-AFD9-B4E914C1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6F713-6F19-4C88-BFA4-A6385014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4DFF0-F1E2-4BDF-8C14-CB820476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21524-5AF8-4B26-8050-0C3773E8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95C63-6FA6-4891-975A-FD17DCB0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487FE-DE2F-40B9-AAC2-D13F265B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ADA9-2D06-4461-898C-37BC98C15A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2A73-5003-4FAD-8F62-0A08D4854C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F25E-2D56-45A8-933C-50E30B5E1C8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4E2B-0DF2-4260-9C72-CC13986D34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58A6-4674-448A-80FC-972A3FA656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9E01-85A5-4B00-B5CA-094613C3B5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FB42-3D8C-4446-A3A0-6A094E3A87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6F8E-7935-452F-B792-78F69F2EDE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B816-8939-4323-A8E3-F1DDF6F9D7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4D2E-0ABC-4478-9E29-72396EDED8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google.ru/imgres?imgurl=http://novayagazeta.ru/temy/zdorovie/zdorovie.jpg&amp;imgrefurl=http://novayagazeta.ru/temy/zdorovie/zdorovie.shtml&amp;h=296&amp;w=470&amp;sz=20&amp;tbnid=akDPVBlwOacJ:&amp;tbnh=78&amp;tbnw=125&amp;hl=ru&amp;start=4&amp;prev=/images%3Fq%3D%25D0%25B7%25D0%25B4%25D0%25BE%25D1%2580%25D0%25BE%25D0%25B2%25D1%258C%25D0%25B5%26svnum%3D10%26hl%3Dru%26lr%3D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712800" y="669960"/>
            <a:ext cx="7711920" cy="1725480"/>
          </a:xfrm>
          <a:prstGeom prst="rect">
            <a:avLst/>
          </a:prstGeom>
          <a:ln w="0">
            <a:noFill/>
          </a:ln>
        </p:spPr>
      </p:pic>
      <p:sp>
        <p:nvSpPr>
          <p:cNvPr id="465" name="TextBox 2"/>
          <p:cNvSpPr/>
          <p:nvPr/>
        </p:nvSpPr>
        <p:spPr>
          <a:xfrm>
            <a:off x="2078280" y="3573360"/>
            <a:ext cx="510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данова Алия Илгизовна, уч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ОУ школа №2065 г. Москв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685800" y="1828800"/>
            <a:ext cx="7848720" cy="2286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Принципы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огое его выполнение, недопустимость частых измен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ятельность, включённая в режим, должна быть посильной для орган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1f80a"/>
                </a:solidFill>
                <a:latin typeface="Tahoma"/>
              </a:rPr>
              <a:t>активный</a:t>
            </a:r>
            <a:r>
              <a:rPr b="0" lang="ru-RU" sz="2000" spc="-1" strike="noStrike">
                <a:solidFill>
                  <a:srgbClr val="21f80a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2f06fa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2f06fa"/>
                </a:solidFill>
                <a:latin typeface="Tahoma"/>
              </a:rPr>
              <a:t>Отд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c48de"/>
                </a:solidFill>
                <a:latin typeface="Tahoma"/>
              </a:rPr>
              <a:t> пассивный</a:t>
            </a:r>
            <a:r>
              <a:rPr b="0" lang="ru-RU" sz="3200" spc="-1" strike="noStrike">
                <a:solidFill>
                  <a:srgbClr val="fc48de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ce2fe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0492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Tahoma"/>
              </a:rPr>
              <a:t>Режим</a:t>
            </a:r>
            <a:r>
              <a:rPr b="0" lang="en-US" sz="3600" spc="-1" strike="noStrike">
                <a:solidFill>
                  <a:srgbClr val="46464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64646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46464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64646"/>
                </a:solidFill>
                <a:latin typeface="Tahoma"/>
              </a:rPr>
              <a:t>это правильное чередование периодов работы и отдых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"/>
          <p:cNvSpPr/>
          <p:nvPr/>
        </p:nvSpPr>
        <p:spPr>
          <a:xfrm flipH="1">
            <a:off x="304812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6"/>
          <p:cNvSpPr/>
          <p:nvPr/>
        </p:nvSpPr>
        <p:spPr>
          <a:xfrm>
            <a:off x="533412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Рисунок 10" descr="154215.jpeg"/>
          <p:cNvPicPr/>
          <p:nvPr/>
        </p:nvPicPr>
        <p:blipFill>
          <a:blip r:embed="rId1"/>
          <a:stretch/>
        </p:blipFill>
        <p:spPr>
          <a:xfrm>
            <a:off x="5929200" y="4214880"/>
            <a:ext cx="1886040" cy="233676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11" descr="154649_image_large.jpg"/>
          <p:cNvPicPr/>
          <p:nvPr/>
        </p:nvPicPr>
        <p:blipFill>
          <a:blip r:embed="rId2"/>
          <a:stretch/>
        </p:blipFill>
        <p:spPr>
          <a:xfrm>
            <a:off x="714240" y="414324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4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1"/>
          <p:cNvSpPr/>
          <p:nvPr/>
        </p:nvSpPr>
        <p:spPr>
          <a:xfrm>
            <a:off x="714240" y="214200"/>
            <a:ext cx="7643880" cy="1557000"/>
          </a:xfrm>
          <a:prstGeom prst="rect">
            <a:avLst/>
          </a:prstGeom>
          <a:solidFill>
            <a:srgbClr val="eb641b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Личная гигиена — это совокупность гигиенических правил, выполнение которых способствует сохранению и укреплению здо­ровья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2"/>
          <p:cNvSpPr/>
          <p:nvPr/>
        </p:nvSpPr>
        <p:spPr>
          <a:xfrm>
            <a:off x="357120" y="2928960"/>
            <a:ext cx="414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Личная гигиена включает несколько групп прави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игиеническое содержание тела( кожа, волосы, зубы,ног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игиена одежды и обу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игиена жилищ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Рисунок 3" descr="348ace306f.jpg"/>
          <p:cNvPicPr/>
          <p:nvPr/>
        </p:nvPicPr>
        <p:blipFill>
          <a:blip r:embed="rId1"/>
          <a:stretch/>
        </p:blipFill>
        <p:spPr>
          <a:xfrm>
            <a:off x="4572000" y="2643120"/>
            <a:ext cx="41432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500040" y="14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ahoma"/>
              </a:rPr>
              <a:t>СКАЖИ</a:t>
            </a:r>
            <a:r>
              <a:rPr b="1" lang="ru-RU" sz="4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«НЕТ»</a:t>
            </a:r>
            <a:r>
              <a:rPr b="1" lang="ru-RU" sz="4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9933"/>
                </a:solidFill>
                <a:latin typeface="Tahoma"/>
              </a:rPr>
              <a:t>ВРЕДНЫМ ПРИВЫЧК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1357200" y="1143000"/>
            <a:ext cx="6143760" cy="307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976f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976f1"/>
                </a:solidFill>
                <a:latin typeface="Tahoma"/>
              </a:rPr>
              <a:t>МЕДИЦИНСКИЕ :                  СОЦИАЛЬН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ПСИХИЧЕСКИЕ РАСТРОЙСТВА                    ПРОГУЛЫ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ПОРАЖЕНИЕ ВСЕХ СИСТЕМ                        ПРОБЛЕМЫ В СЕМЬ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И ОРГАНОВ                                                      СУИЦИ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СЛАБОУМ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УМЕНЬШЕНИЕ ПРОДОЛЖИТЕЛЬН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ЖИЗ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ПРОБЛЕМЫ СО ЗДОРОВЬЕМ БУДУ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ДЕТЕЙ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Рисунок 11" descr="f_16958250.jpg"/>
          <p:cNvPicPr/>
          <p:nvPr/>
        </p:nvPicPr>
        <p:blipFill>
          <a:blip r:embed="rId1"/>
          <a:stretch/>
        </p:blipFill>
        <p:spPr>
          <a:xfrm>
            <a:off x="2928960" y="4357800"/>
            <a:ext cx="285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Рисунок 1" descr="45sds.JPG"/>
          <p:cNvPicPr/>
          <p:nvPr/>
        </p:nvPicPr>
        <p:blipFill>
          <a:blip r:embed="rId1"/>
          <a:stretch/>
        </p:blipFill>
        <p:spPr>
          <a:xfrm>
            <a:off x="1500120" y="0"/>
            <a:ext cx="6072120" cy="484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3" descr="spa3.gif"/>
          <p:cNvPicPr/>
          <p:nvPr/>
        </p:nvPicPr>
        <p:blipFill>
          <a:blip r:embed="rId2"/>
          <a:stretch/>
        </p:blipFill>
        <p:spPr>
          <a:xfrm>
            <a:off x="3357720" y="4786200"/>
            <a:ext cx="2357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что такое здоровье, составляющие здоровь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ндивидуальное и общественное здоровь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доровье и болезнь, данные статистик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доровый образ жизни и его составляющи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вигательная активность физическая культура и спорт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каливани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циональное питани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жи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личная гигиен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и грамотное поведени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редные привычк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сихическая и эмоциональная устойчивост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0280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665280" y="719280"/>
            <a:ext cx="7954920" cy="200484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35"/>
          <p:cNvGrpSpPr/>
          <p:nvPr/>
        </p:nvGrpSpPr>
        <p:grpSpPr>
          <a:xfrm>
            <a:off x="3733920" y="4648320"/>
            <a:ext cx="5105160" cy="1572120"/>
            <a:chOff x="3733920" y="4648320"/>
            <a:chExt cx="5105160" cy="1572120"/>
          </a:xfrm>
        </p:grpSpPr>
        <p:sp>
          <p:nvSpPr>
            <p:cNvPr id="470" name="Rectangle 12"/>
            <p:cNvSpPr/>
            <p:nvPr/>
          </p:nvSpPr>
          <p:spPr>
            <a:xfrm>
              <a:off x="3809880" y="4724280"/>
              <a:ext cx="4953240" cy="943200"/>
            </a:xfrm>
            <a:prstGeom prst="rect">
              <a:avLst/>
            </a:prstGeom>
            <a:solidFill>
              <a:srgbClr val="6ce2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Oval 16"/>
            <p:cNvSpPr/>
            <p:nvPr/>
          </p:nvSpPr>
          <p:spPr>
            <a:xfrm>
              <a:off x="6629400" y="4648320"/>
              <a:ext cx="1752480" cy="549000"/>
            </a:xfrm>
            <a:prstGeom prst="ellipse">
              <a:avLst/>
            </a:prstGeom>
            <a:solidFill>
              <a:srgbClr val="6ce2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Oval 14"/>
            <p:cNvSpPr/>
            <p:nvPr/>
          </p:nvSpPr>
          <p:spPr>
            <a:xfrm>
              <a:off x="4191120" y="4648320"/>
              <a:ext cx="1371600" cy="549000"/>
            </a:xfrm>
            <a:prstGeom prst="ellipse">
              <a:avLst/>
            </a:prstGeom>
            <a:solidFill>
              <a:srgbClr val="6ce2f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8"/>
            <p:cNvSpPr/>
            <p:nvPr/>
          </p:nvSpPr>
          <p:spPr>
            <a:xfrm>
              <a:off x="5562720" y="4952880"/>
              <a:ext cx="1066680" cy="18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3733920" y="4648320"/>
              <a:ext cx="51051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c1604"/>
                  </a:solidFill>
                  <a:latin typeface="Times New Roman"/>
                </a:rPr>
                <a:t>Духовно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ru-RU" sz="2400" spc="-1" strike="noStrike">
                  <a:solidFill>
                    <a:srgbClr val="fc1604"/>
                  </a:solidFill>
                  <a:latin typeface="Times New Roman"/>
                </a:rPr>
                <a:t>Социально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 здоровье человеческого разум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Line 19"/>
          <p:cNvSpPr/>
          <p:nvPr/>
        </p:nvSpPr>
        <p:spPr>
          <a:xfrm>
            <a:off x="2895480" y="5105520"/>
            <a:ext cx="914400" cy="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39"/>
          <p:cNvGrpSpPr/>
          <p:nvPr/>
        </p:nvGrpSpPr>
        <p:grpSpPr>
          <a:xfrm>
            <a:off x="228600" y="4648320"/>
            <a:ext cx="2771640" cy="1015920"/>
            <a:chOff x="228600" y="4648320"/>
            <a:chExt cx="2771640" cy="1015920"/>
          </a:xfrm>
        </p:grpSpPr>
        <p:grpSp>
          <p:nvGrpSpPr>
            <p:cNvPr id="477" name="Group 38"/>
            <p:cNvGrpSpPr/>
            <p:nvPr/>
          </p:nvGrpSpPr>
          <p:grpSpPr>
            <a:xfrm>
              <a:off x="228600" y="4648320"/>
              <a:ext cx="2619360" cy="990360"/>
              <a:chOff x="228600" y="4648320"/>
              <a:chExt cx="2619360" cy="990360"/>
            </a:xfrm>
          </p:grpSpPr>
          <p:sp>
            <p:nvSpPr>
              <p:cNvPr id="478" name="Rectangle 10"/>
              <p:cNvSpPr/>
              <p:nvPr/>
            </p:nvSpPr>
            <p:spPr>
              <a:xfrm>
                <a:off x="228600" y="4724280"/>
                <a:ext cx="2619360" cy="914400"/>
              </a:xfrm>
              <a:prstGeom prst="rect">
                <a:avLst/>
              </a:prstGeom>
              <a:solidFill>
                <a:srgbClr val="6ce2f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Oval 21"/>
              <p:cNvSpPr/>
              <p:nvPr/>
            </p:nvSpPr>
            <p:spPr>
              <a:xfrm>
                <a:off x="390600" y="4648320"/>
                <a:ext cx="1666800" cy="533160"/>
              </a:xfrm>
              <a:prstGeom prst="ellipse">
                <a:avLst/>
              </a:prstGeom>
              <a:solidFill>
                <a:srgbClr val="6ce2f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Text Box 5"/>
            <p:cNvSpPr/>
            <p:nvPr/>
          </p:nvSpPr>
          <p:spPr>
            <a:xfrm>
              <a:off x="380880" y="4648320"/>
              <a:ext cx="2619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c1604"/>
                  </a:solidFill>
                  <a:latin typeface="Times New Roman"/>
                </a:rPr>
                <a:t>Физическо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доровье тел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WordArt 3"/>
          <p:cNvSpPr txBox="1"/>
          <p:nvPr/>
        </p:nvSpPr>
        <p:spPr>
          <a:xfrm>
            <a:off x="990720" y="342900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ляющие здоровья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2" name="Line 6"/>
          <p:cNvSpPr/>
          <p:nvPr/>
        </p:nvSpPr>
        <p:spPr>
          <a:xfrm flipH="1">
            <a:off x="1905120" y="4191120"/>
            <a:ext cx="175248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7"/>
          <p:cNvSpPr/>
          <p:nvPr/>
        </p:nvSpPr>
        <p:spPr>
          <a:xfrm>
            <a:off x="5029200" y="4191120"/>
            <a:ext cx="175248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4191120" y="4191120"/>
            <a:ext cx="761760" cy="4572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26960" y="304920"/>
            <a:ext cx="8034480" cy="12427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721c"/>
                </a:solidFill>
                <a:latin typeface="Times New Roman"/>
              </a:rPr>
              <a:t>Индивидуаль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101016"/>
                </a:solidFill>
                <a:latin typeface="Times New Roman"/>
              </a:rPr>
              <a:t>личное здоровье человека. Зависит от самого человека, его мировоззрения, культуры и т.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721c"/>
                </a:solidFill>
                <a:latin typeface="Times New Roman"/>
              </a:rPr>
              <a:t>Обществен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101016"/>
                </a:solidFill>
                <a:latin typeface="Times New Roman"/>
              </a:rPr>
              <a:t>складывается из состояния здоровья всех членов общества. Зависит от политических, социально-экономических, природных фактор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Рисунок 9" descr="post-63663-1229796638_thumb.jpg"/>
          <p:cNvPicPr/>
          <p:nvPr/>
        </p:nvPicPr>
        <p:blipFill>
          <a:blip r:embed="rId2"/>
          <a:stretch/>
        </p:blipFill>
        <p:spPr>
          <a:xfrm>
            <a:off x="6215040" y="928800"/>
            <a:ext cx="2235240" cy="253980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0" descr="ea33440ce6da.jpg"/>
          <p:cNvPicPr/>
          <p:nvPr/>
        </p:nvPicPr>
        <p:blipFill>
          <a:blip r:embed="rId3"/>
          <a:stretch/>
        </p:blipFill>
        <p:spPr>
          <a:xfrm>
            <a:off x="5857920" y="3643200"/>
            <a:ext cx="305892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5"/>
          <p:cNvSpPr/>
          <p:nvPr/>
        </p:nvSpPr>
        <p:spPr>
          <a:xfrm>
            <a:off x="755640" y="1413000"/>
            <a:ext cx="7632720" cy="431640"/>
          </a:xfrm>
          <a:prstGeom prst="rect">
            <a:avLst/>
          </a:prstGeom>
          <a:solidFill>
            <a:srgbClr val="00ffff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06fa"/>
                </a:solidFill>
                <a:latin typeface="Times New Roman"/>
              </a:rPr>
              <a:t>На протяжении жизни здоровье человека изменяетс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463680" y="554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9"/>
          <p:cNvSpPr/>
          <p:nvPr/>
        </p:nvSpPr>
        <p:spPr>
          <a:xfrm>
            <a:off x="6391440" y="228600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1604"/>
                </a:solidFill>
                <a:latin typeface="Tahoma"/>
              </a:rPr>
              <a:t>болез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973080" y="22860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06fa"/>
                </a:solidFill>
                <a:latin typeface="Tahoma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3"/>
          <p:cNvSpPr/>
          <p:nvPr/>
        </p:nvSpPr>
        <p:spPr>
          <a:xfrm>
            <a:off x="3009960" y="2438280"/>
            <a:ext cx="3124080" cy="0"/>
          </a:xfrm>
          <a:prstGeom prst="line">
            <a:avLst/>
          </a:prstGeom>
          <a:ln w="25560">
            <a:solidFill>
              <a:srgbClr val="fc16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"/>
          <p:cNvSpPr/>
          <p:nvPr/>
        </p:nvSpPr>
        <p:spPr>
          <a:xfrm flipH="1">
            <a:off x="3009960" y="2743200"/>
            <a:ext cx="31240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1217520" y="1828800"/>
            <a:ext cx="67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1604"/>
                </a:solidFill>
                <a:latin typeface="Tahoma"/>
              </a:rPr>
              <a:t>просто двигаться от здоровья к боле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6"/>
          <p:cNvSpPr/>
          <p:nvPr/>
        </p:nvSpPr>
        <p:spPr>
          <a:xfrm>
            <a:off x="1122840" y="297180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06fa"/>
                </a:solidFill>
                <a:latin typeface="Tahoma"/>
              </a:rPr>
              <a:t>сложно двигаться от болезни к здоров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8"/>
          <p:cNvSpPr/>
          <p:nvPr/>
        </p:nvSpPr>
        <p:spPr>
          <a:xfrm>
            <a:off x="1148400" y="5229360"/>
            <a:ext cx="67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Tahoma"/>
              </a:rPr>
              <a:t>Что нам поможет улучшить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Tahoma"/>
              </a:rPr>
              <a:t>сохранить своё здоровь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19" descr="21"/>
          <p:cNvPicPr/>
          <p:nvPr/>
        </p:nvPicPr>
        <p:blipFill>
          <a:blip r:embed="rId2"/>
          <a:stretch/>
        </p:blipFill>
        <p:spPr>
          <a:xfrm>
            <a:off x="1219320" y="342900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0" descr="n2"/>
          <p:cNvPicPr/>
          <p:nvPr/>
        </p:nvPicPr>
        <p:blipFill>
          <a:blip r:embed="rId3"/>
          <a:stretch/>
        </p:blipFill>
        <p:spPr>
          <a:xfrm>
            <a:off x="3809880" y="3429000"/>
            <a:ext cx="1333800" cy="1905120"/>
          </a:xfrm>
          <a:prstGeom prst="rect">
            <a:avLst/>
          </a:prstGeom>
          <a:ln w="0">
            <a:noFill/>
          </a:ln>
        </p:spPr>
      </p:pic>
      <p:sp>
        <p:nvSpPr>
          <p:cNvPr id="501" name="Line 23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9360">
            <a:solidFill>
              <a:srgbClr val="2f06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685800" y="685800"/>
            <a:ext cx="0" cy="609480"/>
          </a:xfrm>
          <a:prstGeom prst="line">
            <a:avLst/>
          </a:prstGeom>
          <a:ln w="9360">
            <a:solidFill>
              <a:srgbClr val="2f06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Рисунок 18" descr="1288967560_doctor.jpg"/>
          <p:cNvPicPr/>
          <p:nvPr/>
        </p:nvPicPr>
        <p:blipFill>
          <a:blip r:embed="rId4"/>
          <a:stretch/>
        </p:blipFill>
        <p:spPr>
          <a:xfrm>
            <a:off x="6572160" y="3571920"/>
            <a:ext cx="1420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026"/>
          <p:cNvSpPr/>
          <p:nvPr/>
        </p:nvSpPr>
        <p:spPr>
          <a:xfrm>
            <a:off x="0" y="1429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доровый образ жизни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6464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464646"/>
                </a:solidFill>
                <a:latin typeface="Times New Roman"/>
              </a:rPr>
              <a:t>это индивидуальная   система поведения человека,направленная на сохранение и укрепление здоровья.</a:t>
            </a:r>
            <a:r>
              <a:rPr b="0" lang="ru-RU" sz="3600" spc="-1" strike="noStrike">
                <a:solidFill>
                  <a:srgbClr val="464646"/>
                </a:solidFill>
                <a:latin typeface="Times New Roman"/>
              </a:rPr>
              <a:t>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6600"/>
                </a:solidFill>
                <a:latin typeface="Times New Roman"/>
              </a:rPr>
              <a:t>Составляющие здорового образа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027"/>
          <p:cNvSpPr/>
          <p:nvPr/>
        </p:nvSpPr>
        <p:spPr>
          <a:xfrm>
            <a:off x="0" y="2286000"/>
            <a:ext cx="4648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тимальный уровень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ал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циональное пи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жим труда и отды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и грамотное пове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каз от вредных привы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сихическая и эмоциональная устойчив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029"/>
          <p:cNvSpPr/>
          <p:nvPr/>
        </p:nvSpPr>
        <p:spPr>
          <a:xfrm>
            <a:off x="500040" y="2143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Рисунок 8" descr="clip_image001.gif"/>
          <p:cNvPicPr/>
          <p:nvPr/>
        </p:nvPicPr>
        <p:blipFill>
          <a:blip r:embed="rId9"/>
          <a:stretch/>
        </p:blipFill>
        <p:spPr>
          <a:xfrm>
            <a:off x="4286160" y="2357280"/>
            <a:ext cx="4446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2"/>
          <p:cNvSpPr/>
          <p:nvPr/>
        </p:nvSpPr>
        <p:spPr>
          <a:xfrm>
            <a:off x="3357720" y="357120"/>
            <a:ext cx="541008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Rectangle 2" descr=""/>
          <p:cNvPicPr/>
          <p:nvPr/>
        </p:nvPicPr>
        <p:blipFill>
          <a:blip r:embed="rId1"/>
          <a:stretch/>
        </p:blipFill>
        <p:spPr>
          <a:xfrm>
            <a:off x="3340080" y="433440"/>
            <a:ext cx="5572080" cy="17128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580920" y="24382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06fa"/>
                </a:solidFill>
                <a:latin typeface="Lucida Sans Unicode"/>
              </a:rPr>
              <a:t>эффективные средства сохранения и укрепления здоровь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06fa"/>
                </a:solidFill>
                <a:latin typeface="Lucida Sans Unicode"/>
              </a:rPr>
              <a:t>им принадлежит первостепенная роль среди факторов, влияющих на рост, развитие и состояние здоровья детей и подрост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06fa"/>
                </a:solidFill>
                <a:latin typeface="Lucida Sans Unicode"/>
              </a:rPr>
              <a:t>значительно улучшают работу всех органов, систем органов и  организма в цело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06fa"/>
                </a:solidFill>
                <a:latin typeface="Lucida Sans Unicode"/>
              </a:rPr>
              <a:t>позволяет продлить активный образ жизн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1" name="Рисунок 10" descr="dieta-74.jpg"/>
          <p:cNvPicPr/>
          <p:nvPr/>
        </p:nvPicPr>
        <p:blipFill>
          <a:blip r:embed="rId2"/>
          <a:stretch/>
        </p:blipFill>
        <p:spPr>
          <a:xfrm>
            <a:off x="214200" y="1357200"/>
            <a:ext cx="28576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8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2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84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88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9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4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5"/>
          <p:cNvSpPr/>
          <p:nvPr/>
        </p:nvSpPr>
        <p:spPr>
          <a:xfrm>
            <a:off x="152280" y="3886200"/>
            <a:ext cx="8839440" cy="2286000"/>
          </a:xfrm>
          <a:prstGeom prst="rect">
            <a:avLst/>
          </a:prstGeom>
          <a:solidFill>
            <a:srgbClr val="d5e6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8f4a"/>
                </a:solidFill>
                <a:latin typeface="Times New Roman"/>
              </a:rPr>
              <a:t>Средства закали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347760" y="0"/>
            <a:ext cx="8265960" cy="1225440"/>
          </a:xfrm>
          <a:prstGeom prst="rect">
            <a:avLst/>
          </a:prstGeom>
          <a:ln w="0">
            <a:noFill/>
          </a:ln>
        </p:spPr>
      </p:pic>
      <p:sp>
        <p:nvSpPr>
          <p:cNvPr id="515" name="Line 10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4"/>
          <p:cNvSpPr/>
          <p:nvPr/>
        </p:nvSpPr>
        <p:spPr>
          <a:xfrm flipH="1">
            <a:off x="1676160" y="1828800"/>
            <a:ext cx="9903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5"/>
          <p:cNvSpPr/>
          <p:nvPr/>
        </p:nvSpPr>
        <p:spPr>
          <a:xfrm>
            <a:off x="4572000" y="190512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6"/>
          <p:cNvSpPr/>
          <p:nvPr/>
        </p:nvSpPr>
        <p:spPr>
          <a:xfrm>
            <a:off x="6477120" y="1828800"/>
            <a:ext cx="9903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993240" y="21337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1604"/>
                </a:solidFill>
                <a:latin typeface="Times New Roman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3956400" y="213372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Times New Roman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7011360" y="213372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06fa"/>
                </a:solidFill>
                <a:latin typeface="Times New Roman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1" descr="zdorovi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666880"/>
            <a:ext cx="2209680" cy="1143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yos_5"/>
          <p:cNvPicPr/>
          <p:nvPr/>
        </p:nvPicPr>
        <p:blipFill>
          <a:blip r:embed="rId4"/>
          <a:stretch/>
        </p:blipFill>
        <p:spPr>
          <a:xfrm>
            <a:off x="3429000" y="266688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5" descr="168814"/>
          <p:cNvPicPr/>
          <p:nvPr/>
        </p:nvPicPr>
        <p:blipFill>
          <a:blip r:embed="rId5"/>
          <a:stretch/>
        </p:blipFill>
        <p:spPr>
          <a:xfrm>
            <a:off x="6400800" y="2666880"/>
            <a:ext cx="2209680" cy="11430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6"/>
          <p:cNvSpPr/>
          <p:nvPr/>
        </p:nvSpPr>
        <p:spPr>
          <a:xfrm>
            <a:off x="2511000" y="3962520"/>
            <a:ext cx="41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8f4a"/>
                </a:solidFill>
                <a:latin typeface="Times New Roman"/>
              </a:rPr>
              <a:t>Принципы закал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24"/>
          <p:cNvGrpSpPr/>
          <p:nvPr/>
        </p:nvGrpSpPr>
        <p:grpSpPr>
          <a:xfrm>
            <a:off x="269280" y="4495680"/>
            <a:ext cx="8604000" cy="1602720"/>
            <a:chOff x="269280" y="4495680"/>
            <a:chExt cx="8604000" cy="1602720"/>
          </a:xfrm>
        </p:grpSpPr>
        <p:sp>
          <p:nvSpPr>
            <p:cNvPr id="527" name="Rectangle 18"/>
            <p:cNvSpPr/>
            <p:nvPr/>
          </p:nvSpPr>
          <p:spPr>
            <a:xfrm>
              <a:off x="269280" y="4572000"/>
              <a:ext cx="860400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e72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06fa"/>
                  </a:solidFill>
                  <a:latin typeface="Times New Roman"/>
                </a:rPr>
                <a:t>-постепенного увеличения дозы закаливающего воз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1841040" y="5638680"/>
              <a:ext cx="2247120" cy="459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06fa"/>
                  </a:solidFill>
                  <a:latin typeface="Times New Roman"/>
                </a:rPr>
                <a:t>- регуляр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21"/>
            <p:cNvSpPr/>
            <p:nvPr/>
          </p:nvSpPr>
          <p:spPr>
            <a:xfrm>
              <a:off x="2514600" y="449568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2"/>
            <p:cNvSpPr/>
            <p:nvPr/>
          </p:nvSpPr>
          <p:spPr>
            <a:xfrm>
              <a:off x="1832760" y="5105160"/>
              <a:ext cx="5476680" cy="4597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06fa"/>
                  </a:solidFill>
                  <a:latin typeface="Times New Roman"/>
                </a:rPr>
                <a:t>- учета индивидуальных особенносте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3"/>
            <p:cNvSpPr/>
            <p:nvPr/>
          </p:nvSpPr>
          <p:spPr>
            <a:xfrm>
              <a:off x="4351680" y="5638680"/>
              <a:ext cx="2981880" cy="45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06fa"/>
                  </a:solidFill>
                  <a:latin typeface="Times New Roman"/>
                </a:rPr>
                <a:t>- многофактор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37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TextBox 1" descr=""/>
          <p:cNvPicPr/>
          <p:nvPr/>
        </p:nvPicPr>
        <p:blipFill>
          <a:blip r:embed="rId1"/>
          <a:stretch/>
        </p:blipFill>
        <p:spPr>
          <a:xfrm>
            <a:off x="-146160" y="-60480"/>
            <a:ext cx="5278680" cy="25783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3"/>
          <p:cNvSpPr/>
          <p:nvPr/>
        </p:nvSpPr>
        <p:spPr>
          <a:xfrm>
            <a:off x="5357880" y="500040"/>
            <a:ext cx="378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</a:rPr>
              <a:t>1.Энергетическая ценность суточного рациона питания должна соответствовать энергозатратам орган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5286240" y="2000160"/>
            <a:ext cx="371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</a:rPr>
              <a:t>2.Каждый организм нуждается в строго определенном количестве пищевых веществ, которые должны поступать в определенных пропор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5"/>
          <p:cNvSpPr/>
          <p:nvPr/>
        </p:nvSpPr>
        <p:spPr>
          <a:xfrm>
            <a:off x="5357880" y="4000680"/>
            <a:ext cx="3571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</a:rPr>
              <a:t>3.Питание должно быть дробным (3 - 4 раза в сутки), регулярным (в одно и то же время) и равномерным, последний прием пищи должен быть не позднее, чем за 2 - 3 часа до с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Рисунок 7" descr="3a25e2105ca769b1e49cab644b8.jpg"/>
          <p:cNvPicPr/>
          <p:nvPr/>
        </p:nvPicPr>
        <p:blipFill>
          <a:blip r:embed="rId2"/>
          <a:stretch/>
        </p:blipFill>
        <p:spPr>
          <a:xfrm>
            <a:off x="357120" y="235728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8:32:59Z</dcterms:created>
  <dc:creator>Пользователь</dc:creator>
  <dc:description/>
  <dc:language>en-US</dc:language>
  <cp:lastModifiedBy>Ayaz</cp:lastModifiedBy>
  <dcterms:modified xsi:type="dcterms:W3CDTF">2018-11-14T18:35:50Z</dcterms:modified>
  <cp:revision>58</cp:revision>
  <dc:subject/>
  <dc:title>Сохрани своё здоровье!</dc:title>
</cp:coreProperties>
</file>