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1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1C6-6338-4A46-861D-5E2870B1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065-9088-40A9-A021-E5BDD8E4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656DB-8F02-4EC0-A4CD-AC91AB7D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CB9B8-F140-4583-8BA4-F78C47F6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672A2-80B0-401F-A9F3-ADDBC86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45BA-E300-4502-9D64-92ADBD5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8604-47A2-4349-AC33-ACC824BD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0C636-7479-410A-BB2E-2B6E2D8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18EED-9EE4-4C09-90AC-51DC9A5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F098-6AB1-40C8-9777-F0180255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B4F0F-9E8C-4D20-B2E9-E7B30F35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9A632-A3FD-4704-8C47-C973B2C8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432-EB3F-47FA-B7DF-FED50D3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F6677-91FA-4DF9-AB69-91D36DA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EB9A9-0BDA-46F0-B0DB-DDBD8722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FD99F-5D50-4764-938D-D9124DE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306C-0D53-42D6-8772-DF34A02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6E5A7-E705-4396-B29A-0201756E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CFBD0-75DA-45A3-B3B8-AA42289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7A14C-8F84-4785-B744-E0F1DE7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A98B9-4F19-4EF0-B999-D0F4682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643FC-115F-4539-846B-2C0698F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3637D-8BBA-45B0-A3A2-114A3B19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12C-014F-48E5-B75D-FCF36292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5AB1E-106D-4BDD-A146-C18EBD4E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7553-63D8-45B5-88B4-529E6774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F32-CE17-4F6A-B578-A283D15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776-C200-489E-9D38-AFBB773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AE5-3435-4FC3-ABB0-0D4E1C2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8FA-A62B-4F90-87F9-120ADDAA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DDE7-75ED-4FD0-82B7-14520D71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3F6-A4DF-4CF1-804B-7672943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35D-3AD4-4D5F-8378-86D05DD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2B72-3423-4BA7-9989-52A3948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08B-5137-4FE0-A6D9-AC0A954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D4C6-FD33-4FF1-A13F-87F0730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7C7-C619-493D-A791-96C07F40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47BA-A5B6-42F6-81C3-9ECC7C21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AA47-5148-4BEC-B73D-5109D0D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2E28-F328-4EB5-AB7B-35A22957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42F8-C888-4CFC-B6D5-367FF52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EA3D-4921-440A-855D-DD039FA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28A0-3590-4E65-A9A5-CB893103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CC1-1EB5-40CF-A983-63E8CBB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5C1C-3723-4317-A927-1FC6308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5A35-ABA2-433B-883C-BDD638C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E612-E6D0-4F77-9260-C9E9B2C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3C44-A141-465A-B9F9-0C7D136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9ED5-4993-4C1C-A87C-577986E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C55F-1E8E-48BF-A9A5-0C13EB52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FA7A-0BAC-4626-853E-9BA2E50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E805-96D3-4E31-8793-776D611A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8CEB-95AC-43A9-BC77-78C75BC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9A02-F2C9-42D4-BA96-0963B05F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0BE-ECB5-4411-A289-B13F63C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E448-609F-4D8C-A6CB-E0F7D893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1831-4467-4CE8-8D47-D49F8CF4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6009-9424-418F-BC5C-DA77401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0DFB-85AC-45B4-8959-85D98A3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E79C-BE96-4ACE-8662-3F4118A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0B53-BC8E-4F15-BCDF-C5B50A4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C1FE-BA09-4029-83CB-C1650DA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280E-D6C8-44F4-A51C-2EAE800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51A4-3914-4035-9B44-56D46FA0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1C41-4367-44AE-8694-6971070D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9C-C45B-4895-B07A-800CB3F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50F7-C44A-4B81-A273-12271FC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BF07-41E2-4779-B860-0638E41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3C0F-F433-41F9-A579-BF482323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6A88-A050-419E-B7C3-ACEC720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DF76-F1B9-42AF-B7B6-3985864F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FD113-E1E9-453A-B0E9-545ACFD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5D2E-D913-4407-9C7E-4B43CD4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FA87-C376-4BD1-95CC-7344F83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9D6D-A2F7-4B3B-9BB2-AD92FC07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BA4E-C97F-46AF-B8EE-20558247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32B-B5A1-4F47-9565-C4219F8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58D2-2132-4BC3-AB02-E5F6B07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A550-8747-458B-9586-3F84054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C814-4D9E-4715-85A1-830E543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B53C-FDF2-4079-BF9D-77AA65CD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24FA-3C23-4618-9E95-E7A0DFC8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E3069-8C54-4E5A-8ED0-14E8809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770F-2010-4661-AC5F-E1813867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0355-6913-4403-927C-9B2FCDD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D566-256F-47DB-862D-DD4FA11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B034-04E5-43DD-823A-546119A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11F-5636-4807-AE65-DDB8654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3DC4-3FFF-4A48-84FD-968BD99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8CCD-43E6-43CD-A92B-10757BB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B801-FF24-45E0-B33A-ED292C57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DEB5-6DA8-4E5C-9412-65B7ADD7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6C1E-87F6-4765-9CF7-B31EBB62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4CF4-F115-4F7F-B07B-0FA2C4A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2902-1A60-4705-A42F-6A386AE2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B7E0-DB86-49BC-B8FC-01BBBA4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E287-4726-4D42-94C2-F1C7D6D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47FC-8F09-460B-BC90-E19ED49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40A-9818-4617-89AB-369216C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2DED-0F9B-4650-9427-3E385F0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32504-35E4-44A2-8442-03ECA00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9903-346B-40B8-A2E0-CDFF1C39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9EC57-5248-4FA6-9C57-6B834483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EAA5-AB9E-475A-B00A-0550FFB7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7E60A-815E-47AD-85A1-1562E986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4D32-73B3-4539-88CD-C54CF8C6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5D2C-91A1-449A-A9E4-B6365E6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B172-1521-475C-9FCF-5FA8C260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2F5A-B326-44D9-A88A-0B84A4D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1AE-4EA6-41CD-B751-512F129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3BFF3-B800-4782-9E12-954C136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72095-9C79-4E4C-8331-9288001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5F39-5DDC-403A-A5E5-2D9339F1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89F4-B591-4CF1-82E2-E2E07EC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DDDF-4558-4BCD-8153-4E824B3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4FF7-43B5-4775-A541-EB2543F2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A5E0-028C-49E6-86F6-CD770409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429A-285B-4717-A312-3A028044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B43E-6C8D-4110-A2DF-4A51AC9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7D2A-E40C-407A-BF53-A67E3ACE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664-78FA-4DE5-BD7B-87D3D102DA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9AE-547F-4DE8-8800-122EA4702E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D88-F81B-4E1B-AC47-68AB397372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D34-4C51-4D79-8566-CCAE81E6FB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CB71-CD0C-485B-BB76-E46F62910E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429-E5BC-46CE-ADA0-61E101AA68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506-1129-4CD0-8CA6-157D3D4B5F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254-F804-4EAE-BE7A-841FD706DA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79D-AD00-42BA-8013-362E6B9808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29AA-894B-4F6A-A88C-6198B7FEA8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ru/imgres?imgurl=http://novayagazeta.ru/temy/zdorovie/zdorovie.jpg&amp;imgrefurl=http://novayagazeta.ru/temy/zdorovie/zdorovie.shtml&amp;h=296&amp;w=470&amp;sz=20&amp;tbnid=akDPVBlwOacJ:&amp;tbnh=78&amp;tbnw=125&amp;hl=ru&amp;start=4&amp;prev=/images%3Fq%3D%25D0%25B7%25D0%25B4%25D0%25BE%25D1%2580%25D0%25BE%25D0%25B2%25D1%258C%25D0%25B5%26svnum%3D10%26hl%3Dru%26lr%3D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712800" y="669960"/>
            <a:ext cx="7711920" cy="17254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2"/>
          <p:cNvSpPr/>
          <p:nvPr/>
        </p:nvSpPr>
        <p:spPr>
          <a:xfrm>
            <a:off x="2078280" y="3573360"/>
            <a:ext cx="51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данова Алия Илгизовна, уч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школа №2065 г. Мос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685800" y="1828800"/>
            <a:ext cx="7848720" cy="228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его выполнение, 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, включённая в режим, должна быть посильной для орган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1f80a"/>
                </a:solidFill>
                <a:latin typeface="Tahoma"/>
              </a:rPr>
              <a:t>активный</a:t>
            </a:r>
            <a:r>
              <a:rPr b="0" lang="ru-RU" sz="2000" spc="-1" strike="noStrike">
                <a:solidFill>
                  <a:srgbClr val="21f80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2f06f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f06fa"/>
                </a:solidFill>
                <a:latin typeface="Tahoma"/>
              </a:rPr>
              <a:t>Отд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c48de"/>
                </a:solidFill>
                <a:latin typeface="Tahoma"/>
              </a:rPr>
              <a:t> пассивный</a:t>
            </a:r>
            <a:r>
              <a:rPr b="0" lang="ru-RU" sz="3200" spc="-1" strike="noStrike">
                <a:solidFill>
                  <a:srgbClr val="fc48d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ce2f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Режим</a:t>
            </a:r>
            <a:r>
              <a:rPr b="0" lang="en-US" sz="3600" spc="-1" strike="noStrike">
                <a:solidFill>
                  <a:srgbClr val="46464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64646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46464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64646"/>
                </a:solidFill>
                <a:latin typeface="Tahoma"/>
              </a:rPr>
              <a:t>это правильное чередование периодов работы и отдых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"/>
          <p:cNvSpPr/>
          <p:nvPr/>
        </p:nvSpPr>
        <p:spPr>
          <a:xfrm flipH="1">
            <a:off x="30481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Рисунок 10" descr="154215.jpeg"/>
          <p:cNvPicPr/>
          <p:nvPr/>
        </p:nvPicPr>
        <p:blipFill>
          <a:blip r:embed="rId1"/>
          <a:stretch/>
        </p:blipFill>
        <p:spPr>
          <a:xfrm>
            <a:off x="5929200" y="4214880"/>
            <a:ext cx="1886040" cy="233676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11" descr="154649_image_large.jpg"/>
          <p:cNvPicPr/>
          <p:nvPr/>
        </p:nvPicPr>
        <p:blipFill>
          <a:blip r:embed="rId2"/>
          <a:stretch/>
        </p:blipFill>
        <p:spPr>
          <a:xfrm>
            <a:off x="714240" y="414324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714240" y="214200"/>
            <a:ext cx="7643880" cy="1557000"/>
          </a:xfrm>
          <a:prstGeom prst="rect">
            <a:avLst/>
          </a:prstGeom>
          <a:solidFill>
            <a:srgbClr val="eb641b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Личная гигиена — это совокупность гигиенических правил, выполнение которых способствует сохранению и укреплению здо­ровья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2"/>
          <p:cNvSpPr/>
          <p:nvPr/>
        </p:nvSpPr>
        <p:spPr>
          <a:xfrm>
            <a:off x="357120" y="2928960"/>
            <a:ext cx="414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ичная гигиена включает несколько групп прав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ическое содержание тела( кожа, волосы, зубы,ног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а одежды и обу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а жил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Рисунок 3" descr="348ace306f.jpg"/>
          <p:cNvPicPr/>
          <p:nvPr/>
        </p:nvPicPr>
        <p:blipFill>
          <a:blip r:embed="rId1"/>
          <a:stretch/>
        </p:blipFill>
        <p:spPr>
          <a:xfrm>
            <a:off x="4572000" y="2643120"/>
            <a:ext cx="4143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500040" y="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СКАЖИ</a:t>
            </a: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НЕТ»</a:t>
            </a: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ВРЕДНЫМ ПРИВЫЧК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357200" y="1143000"/>
            <a:ext cx="6143760" cy="307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76f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976f1"/>
                </a:solidFill>
                <a:latin typeface="Tahoma"/>
              </a:rPr>
              <a:t>МЕДИЦИНСКИЕ :                  СОЦИА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СИХИЧЕСКИЕ РАСТРОЙСТВА                    ПРОГУЛЫ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ОРАЖЕНИЕ ВСЕХ СИСТЕМ                        ПРОБЛЕМЫ В СЕМЬ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И ОРГАНОВ                                                      СУИЦИ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СЛАБОУМ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УМЕНЬШЕНИЕ ПРОДОЛЖИ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ЖИЗ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РОБЛЕМЫ СО ЗДОРОВЬЕМ БУДУ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ДЕТЕЙ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Рисунок 11" descr="f_16958250.jpg"/>
          <p:cNvPicPr/>
          <p:nvPr/>
        </p:nvPicPr>
        <p:blipFill>
          <a:blip r:embed="rId1"/>
          <a:stretch/>
        </p:blipFill>
        <p:spPr>
          <a:xfrm>
            <a:off x="2928960" y="4357800"/>
            <a:ext cx="28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45sds.JPG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484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3" descr="spa3.gif"/>
          <p:cNvPicPr/>
          <p:nvPr/>
        </p:nvPicPr>
        <p:blipFill>
          <a:blip r:embed="rId2"/>
          <a:stretch/>
        </p:blipFill>
        <p:spPr>
          <a:xfrm>
            <a:off x="3357720" y="4786200"/>
            <a:ext cx="2357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то такое здоровье, составляющие здоровь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ндивидуальное и общественное здоровь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доровье и болезнь, данные статистик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доровый образ жизни и его составляющ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вигательная активность физическая культура и спорт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калива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циональное пита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жи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личная гигиен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и грамотное поведе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редные привычк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ическая и эмоциональная устойчив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028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665280" y="719280"/>
            <a:ext cx="7954920" cy="200484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35"/>
          <p:cNvGrpSpPr/>
          <p:nvPr/>
        </p:nvGrpSpPr>
        <p:grpSpPr>
          <a:xfrm>
            <a:off x="3733920" y="4648320"/>
            <a:ext cx="5105160" cy="1572120"/>
            <a:chOff x="3733920" y="4648320"/>
            <a:chExt cx="5105160" cy="1572120"/>
          </a:xfrm>
        </p:grpSpPr>
        <p:sp>
          <p:nvSpPr>
            <p:cNvPr id="470" name="Rectangle 12"/>
            <p:cNvSpPr/>
            <p:nvPr/>
          </p:nvSpPr>
          <p:spPr>
            <a:xfrm>
              <a:off x="3809880" y="4724280"/>
              <a:ext cx="4953240" cy="943200"/>
            </a:xfrm>
            <a:prstGeom prst="rect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6629400" y="4648320"/>
              <a:ext cx="1752480" cy="549000"/>
            </a:xfrm>
            <a:prstGeom prst="ellipse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14"/>
            <p:cNvSpPr/>
            <p:nvPr/>
          </p:nvSpPr>
          <p:spPr>
            <a:xfrm>
              <a:off x="4191120" y="4648320"/>
              <a:ext cx="1371600" cy="549000"/>
            </a:xfrm>
            <a:prstGeom prst="ellipse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8"/>
            <p:cNvSpPr/>
            <p:nvPr/>
          </p:nvSpPr>
          <p:spPr>
            <a:xfrm>
              <a:off x="5562720" y="4952880"/>
              <a:ext cx="1066680" cy="18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3733920" y="4648320"/>
              <a:ext cx="51051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Духовн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Социальн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 здоровье человеческого разум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Line 19"/>
          <p:cNvSpPr/>
          <p:nvPr/>
        </p:nvSpPr>
        <p:spPr>
          <a:xfrm>
            <a:off x="2895480" y="5105520"/>
            <a:ext cx="914400" cy="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39"/>
          <p:cNvGrpSpPr/>
          <p:nvPr/>
        </p:nvGrpSpPr>
        <p:grpSpPr>
          <a:xfrm>
            <a:off x="228600" y="4648320"/>
            <a:ext cx="2771640" cy="1015920"/>
            <a:chOff x="228600" y="4648320"/>
            <a:chExt cx="2771640" cy="1015920"/>
          </a:xfrm>
        </p:grpSpPr>
        <p:grpSp>
          <p:nvGrpSpPr>
            <p:cNvPr id="477" name="Group 38"/>
            <p:cNvGrpSpPr/>
            <p:nvPr/>
          </p:nvGrpSpPr>
          <p:grpSpPr>
            <a:xfrm>
              <a:off x="228600" y="4648320"/>
              <a:ext cx="2619360" cy="990360"/>
              <a:chOff x="228600" y="4648320"/>
              <a:chExt cx="2619360" cy="990360"/>
            </a:xfrm>
          </p:grpSpPr>
          <p:sp>
            <p:nvSpPr>
              <p:cNvPr id="478" name="Rectangle 10"/>
              <p:cNvSpPr/>
              <p:nvPr/>
            </p:nvSpPr>
            <p:spPr>
              <a:xfrm>
                <a:off x="228600" y="4724280"/>
                <a:ext cx="2619360" cy="914400"/>
              </a:xfrm>
              <a:prstGeom prst="rect">
                <a:avLst/>
              </a:prstGeom>
              <a:solidFill>
                <a:srgbClr val="6ce2f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Oval 21"/>
              <p:cNvSpPr/>
              <p:nvPr/>
            </p:nvSpPr>
            <p:spPr>
              <a:xfrm>
                <a:off x="390600" y="4648320"/>
                <a:ext cx="1666800" cy="533160"/>
              </a:xfrm>
              <a:prstGeom prst="ellipse">
                <a:avLst/>
              </a:prstGeom>
              <a:solidFill>
                <a:srgbClr val="6ce2f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Text Box 5"/>
            <p:cNvSpPr/>
            <p:nvPr/>
          </p:nvSpPr>
          <p:spPr>
            <a:xfrm>
              <a:off x="380880" y="4648320"/>
              <a:ext cx="2619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Физическ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доровье тел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WordArt 3"/>
          <p:cNvSpPr txBox="1"/>
          <p:nvPr/>
        </p:nvSpPr>
        <p:spPr>
          <a:xfrm>
            <a:off x="990720" y="342900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ляющие здоровья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2" name="Line 6"/>
          <p:cNvSpPr/>
          <p:nvPr/>
        </p:nvSpPr>
        <p:spPr>
          <a:xfrm flipH="1">
            <a:off x="1905120" y="4191120"/>
            <a:ext cx="175248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>
            <a:off x="5029200" y="4191120"/>
            <a:ext cx="175248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4191120" y="4191120"/>
            <a:ext cx="761760" cy="4572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26960" y="304920"/>
            <a:ext cx="8034480" cy="12427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721c"/>
                </a:solidFill>
                <a:latin typeface="Times New Roman"/>
              </a:rPr>
              <a:t>Индивиду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101016"/>
                </a:solidFill>
                <a:latin typeface="Times New Roman"/>
              </a:rPr>
              <a:t>личное здоровье человека. Зависит от самого человека, его мировоззрения, культуры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721c"/>
                </a:solidFill>
                <a:latin typeface="Times New Roman"/>
              </a:rPr>
              <a:t>Обществен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101016"/>
                </a:solidFill>
                <a:latin typeface="Times New Roman"/>
              </a:rPr>
              <a:t>складывается из состояния здоровья всех членов общества. Зависит от политических, социально-экономических, природных фактор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Рисунок 9" descr="post-63663-1229796638_thumb.jpg"/>
          <p:cNvPicPr/>
          <p:nvPr/>
        </p:nvPicPr>
        <p:blipFill>
          <a:blip r:embed="rId2"/>
          <a:stretch/>
        </p:blipFill>
        <p:spPr>
          <a:xfrm>
            <a:off x="6215040" y="928800"/>
            <a:ext cx="2235240" cy="253980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0" descr="ea33440ce6da.jpg"/>
          <p:cNvPicPr/>
          <p:nvPr/>
        </p:nvPicPr>
        <p:blipFill>
          <a:blip r:embed="rId3"/>
          <a:stretch/>
        </p:blipFill>
        <p:spPr>
          <a:xfrm>
            <a:off x="5857920" y="3643200"/>
            <a:ext cx="30589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5"/>
          <p:cNvSpPr/>
          <p:nvPr/>
        </p:nvSpPr>
        <p:spPr>
          <a:xfrm>
            <a:off x="755640" y="1413000"/>
            <a:ext cx="7632720" cy="431640"/>
          </a:xfrm>
          <a:prstGeom prst="rect">
            <a:avLst/>
          </a:prstGeom>
          <a:solidFill>
            <a:srgbClr val="00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06fa"/>
                </a:solidFill>
                <a:latin typeface="Times New Roman"/>
              </a:rPr>
              <a:t>На протяжении жизни здоровье человека изменяет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63680" y="554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9"/>
          <p:cNvSpPr/>
          <p:nvPr/>
        </p:nvSpPr>
        <p:spPr>
          <a:xfrm>
            <a:off x="6391440" y="228600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1604"/>
                </a:solidFill>
                <a:latin typeface="Tahoma"/>
              </a:rPr>
              <a:t>боле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973080" y="2286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6fa"/>
                </a:solidFill>
                <a:latin typeface="Tahoma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3"/>
          <p:cNvSpPr/>
          <p:nvPr/>
        </p:nvSpPr>
        <p:spPr>
          <a:xfrm>
            <a:off x="3009960" y="2438280"/>
            <a:ext cx="3124080" cy="0"/>
          </a:xfrm>
          <a:prstGeom prst="line">
            <a:avLst/>
          </a:prstGeom>
          <a:ln w="25560">
            <a:solidFill>
              <a:srgbClr val="fc16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"/>
          <p:cNvSpPr/>
          <p:nvPr/>
        </p:nvSpPr>
        <p:spPr>
          <a:xfrm flipH="1">
            <a:off x="3009960" y="2743200"/>
            <a:ext cx="3124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1217520" y="1828800"/>
            <a:ext cx="67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1604"/>
                </a:solidFill>
                <a:latin typeface="Tahoma"/>
              </a:rPr>
              <a:t>просто двигаться от здоровья к боле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1122840" y="297180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06fa"/>
                </a:solidFill>
                <a:latin typeface="Tahoma"/>
              </a:rPr>
              <a:t>сложно двигаться от болезни к здоров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148400" y="5229360"/>
            <a:ext cx="67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Что нам поможет улучшить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сохранить своё здоровь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9" descr="21"/>
          <p:cNvPicPr/>
          <p:nvPr/>
        </p:nvPicPr>
        <p:blipFill>
          <a:blip r:embed="rId2"/>
          <a:stretch/>
        </p:blipFill>
        <p:spPr>
          <a:xfrm>
            <a:off x="1219320" y="342900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0" descr="n2"/>
          <p:cNvPicPr/>
          <p:nvPr/>
        </p:nvPicPr>
        <p:blipFill>
          <a:blip r:embed="rId3"/>
          <a:stretch/>
        </p:blipFill>
        <p:spPr>
          <a:xfrm>
            <a:off x="3809880" y="3429000"/>
            <a:ext cx="1333800" cy="1905120"/>
          </a:xfrm>
          <a:prstGeom prst="rect">
            <a:avLst/>
          </a:prstGeom>
          <a:ln w="0">
            <a:noFill/>
          </a:ln>
        </p:spPr>
      </p:pic>
      <p:sp>
        <p:nvSpPr>
          <p:cNvPr id="501" name="Line 23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9360">
            <a:solidFill>
              <a:srgbClr val="2f06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685800" y="685800"/>
            <a:ext cx="0" cy="609480"/>
          </a:xfrm>
          <a:prstGeom prst="line">
            <a:avLst/>
          </a:prstGeom>
          <a:ln w="9360">
            <a:solidFill>
              <a:srgbClr val="2f06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Рисунок 18" descr="1288967560_doctor.jpg"/>
          <p:cNvPicPr/>
          <p:nvPr/>
        </p:nvPicPr>
        <p:blipFill>
          <a:blip r:embed="rId4"/>
          <a:stretch/>
        </p:blipFill>
        <p:spPr>
          <a:xfrm>
            <a:off x="6572160" y="3571920"/>
            <a:ext cx="1420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26"/>
          <p:cNvSpPr/>
          <p:nvPr/>
        </p:nvSpPr>
        <p:spPr>
          <a:xfrm>
            <a:off x="0" y="1429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6464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464646"/>
                </a:solidFill>
                <a:latin typeface="Times New Roman"/>
              </a:rPr>
              <a:t>это индивидуальная   система поведения человека,направленная на сохранение и укрепление здоровья.</a:t>
            </a:r>
            <a:r>
              <a:rPr b="0" lang="ru-RU" sz="3600" spc="-1" strike="noStrike">
                <a:solidFill>
                  <a:srgbClr val="464646"/>
                </a:solidFill>
                <a:latin typeface="Times New Roman"/>
              </a:rPr>
              <a:t>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imes New Roman"/>
              </a:rPr>
              <a:t>Составляющие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027"/>
          <p:cNvSpPr/>
          <p:nvPr/>
        </p:nvSpPr>
        <p:spPr>
          <a:xfrm>
            <a:off x="0" y="2286000"/>
            <a:ext cx="4648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тимальный уровень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жим труда и отды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и грамотное пове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аз от вредных привы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ическая и эмоциональная устойч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029"/>
          <p:cNvSpPr/>
          <p:nvPr/>
        </p:nvSpPr>
        <p:spPr>
          <a:xfrm>
            <a:off x="500040" y="2143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Рисунок 8" descr="clip_image001.gif"/>
          <p:cNvPicPr/>
          <p:nvPr/>
        </p:nvPicPr>
        <p:blipFill>
          <a:blip r:embed="rId9"/>
          <a:stretch/>
        </p:blipFill>
        <p:spPr>
          <a:xfrm>
            <a:off x="4286160" y="2357280"/>
            <a:ext cx="4446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2"/>
          <p:cNvSpPr/>
          <p:nvPr/>
        </p:nvSpPr>
        <p:spPr>
          <a:xfrm>
            <a:off x="3357720" y="357120"/>
            <a:ext cx="541008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2" descr=""/>
          <p:cNvPicPr/>
          <p:nvPr/>
        </p:nvPicPr>
        <p:blipFill>
          <a:blip r:embed="rId1"/>
          <a:stretch/>
        </p:blipFill>
        <p:spPr>
          <a:xfrm>
            <a:off x="3340080" y="433440"/>
            <a:ext cx="5572080" cy="17128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580920" y="24382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эффективные средства сохранения и укрепления здоровь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им принадлежит первостепенная роль среди факторов, влияющих на рост, развитие и состояние здоровья детей и подрост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значительно улучшают работу всех органов, систем органов и  организма в цело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позволяет продлить активный образ жиз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1" name="Рисунок 10" descr="dieta-74.jpg"/>
          <p:cNvPicPr/>
          <p:nvPr/>
        </p:nvPicPr>
        <p:blipFill>
          <a:blip r:embed="rId2"/>
          <a:stretch/>
        </p:blipFill>
        <p:spPr>
          <a:xfrm>
            <a:off x="214200" y="1357200"/>
            <a:ext cx="2857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8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9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5"/>
          <p:cNvSpPr/>
          <p:nvPr/>
        </p:nvSpPr>
        <p:spPr>
          <a:xfrm>
            <a:off x="152280" y="3886200"/>
            <a:ext cx="8839440" cy="2286000"/>
          </a:xfrm>
          <a:prstGeom prst="rect">
            <a:avLst/>
          </a:prstGeom>
          <a:solidFill>
            <a:srgbClr val="d5e6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f4a"/>
                </a:solidFill>
                <a:latin typeface="Times New Roman"/>
              </a:rPr>
              <a:t>Средства закали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347760" y="0"/>
            <a:ext cx="8265960" cy="1225440"/>
          </a:xfrm>
          <a:prstGeom prst="rect">
            <a:avLst/>
          </a:prstGeom>
          <a:ln w="0">
            <a:noFill/>
          </a:ln>
        </p:spPr>
      </p:pic>
      <p:sp>
        <p:nvSpPr>
          <p:cNvPr id="515" name="Line 10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"/>
          <p:cNvSpPr/>
          <p:nvPr/>
        </p:nvSpPr>
        <p:spPr>
          <a:xfrm flipH="1">
            <a:off x="1676160" y="1828800"/>
            <a:ext cx="9903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4572000" y="190512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6"/>
          <p:cNvSpPr/>
          <p:nvPr/>
        </p:nvSpPr>
        <p:spPr>
          <a:xfrm>
            <a:off x="6477120" y="1828800"/>
            <a:ext cx="9903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993240" y="21337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1604"/>
                </a:solidFill>
                <a:latin typeface="Times New Roman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3956400" y="21337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Times New Roman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7011360" y="213372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6fa"/>
                </a:solidFill>
                <a:latin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1" descr="zdorovi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666880"/>
            <a:ext cx="2209680" cy="1143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yos_5"/>
          <p:cNvPicPr/>
          <p:nvPr/>
        </p:nvPicPr>
        <p:blipFill>
          <a:blip r:embed="rId4"/>
          <a:stretch/>
        </p:blipFill>
        <p:spPr>
          <a:xfrm>
            <a:off x="3429000" y="266688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5" descr="168814"/>
          <p:cNvPicPr/>
          <p:nvPr/>
        </p:nvPicPr>
        <p:blipFill>
          <a:blip r:embed="rId5"/>
          <a:stretch/>
        </p:blipFill>
        <p:spPr>
          <a:xfrm>
            <a:off x="6400800" y="2666880"/>
            <a:ext cx="2209680" cy="1143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6"/>
          <p:cNvSpPr/>
          <p:nvPr/>
        </p:nvSpPr>
        <p:spPr>
          <a:xfrm>
            <a:off x="2511000" y="396252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f4a"/>
                </a:solidFill>
                <a:latin typeface="Times New Roman"/>
              </a:rPr>
              <a:t>Принципы закал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24"/>
          <p:cNvGrpSpPr/>
          <p:nvPr/>
        </p:nvGrpSpPr>
        <p:grpSpPr>
          <a:xfrm>
            <a:off x="269280" y="4495680"/>
            <a:ext cx="8604000" cy="1602720"/>
            <a:chOff x="269280" y="4495680"/>
            <a:chExt cx="8604000" cy="1602720"/>
          </a:xfrm>
        </p:grpSpPr>
        <p:sp>
          <p:nvSpPr>
            <p:cNvPr id="527" name="Rectangle 18"/>
            <p:cNvSpPr/>
            <p:nvPr/>
          </p:nvSpPr>
          <p:spPr>
            <a:xfrm>
              <a:off x="269280" y="4572000"/>
              <a:ext cx="860400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e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постепенного увеличения дозы закаливающего воз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1841040" y="5638680"/>
              <a:ext cx="2247120" cy="459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регуляр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2514600" y="44956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2"/>
            <p:cNvSpPr/>
            <p:nvPr/>
          </p:nvSpPr>
          <p:spPr>
            <a:xfrm>
              <a:off x="1832760" y="5105160"/>
              <a:ext cx="5476680" cy="459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учета индивидуальных особен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3"/>
            <p:cNvSpPr/>
            <p:nvPr/>
          </p:nvSpPr>
          <p:spPr>
            <a:xfrm>
              <a:off x="4351680" y="5638680"/>
              <a:ext cx="298188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многофактор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3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extBox 1" descr=""/>
          <p:cNvPicPr/>
          <p:nvPr/>
        </p:nvPicPr>
        <p:blipFill>
          <a:blip r:embed="rId1"/>
          <a:stretch/>
        </p:blipFill>
        <p:spPr>
          <a:xfrm>
            <a:off x="-146160" y="-60480"/>
            <a:ext cx="5278680" cy="25783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5357880" y="5000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1.Энергетическая ценность суточного рациона питания должна соответствовать энергозатратам орган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286240" y="2000160"/>
            <a:ext cx="371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2.Каждый организм нуждается в строго определенном количестве пищевых веществ, которые должны поступать в определенных пропор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5357880" y="4000680"/>
            <a:ext cx="3571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3.Питание должно быть дробным (3 - 4 раза в сутки), регулярным (в одно и то же время) и равномерным, последний прием пищи должен быть не позднее, чем за 2 - 3 часа до с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Рисунок 7" descr="3a25e2105ca769b1e49cab644b8.jpg"/>
          <p:cNvPicPr/>
          <p:nvPr/>
        </p:nvPicPr>
        <p:blipFill>
          <a:blip r:embed="rId2"/>
          <a:stretch/>
        </p:blipFill>
        <p:spPr>
          <a:xfrm>
            <a:off x="357120" y="235728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8:32:59Z</dcterms:created>
  <dc:creator>Пользователь</dc:creator>
  <dc:description/>
  <dc:language>en-US</dc:language>
  <cp:lastModifiedBy>Ayaz</cp:lastModifiedBy>
  <dcterms:modified xsi:type="dcterms:W3CDTF">2018-11-14T18:35:50Z</dcterms:modified>
  <cp:revision>58</cp:revision>
  <dc:subject/>
  <dc:title>Сохрани своё здоровье!</dc:title>
</cp:coreProperties>
</file>