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CDA7C-C679-4E9B-BB6C-154D2F0812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7600"/>
                <a:tab algn="l" pos="836640"/>
                <a:tab algn="l" pos="1255680"/>
                <a:tab algn="l" pos="1674720"/>
                <a:tab algn="l" pos="2093760"/>
                <a:tab algn="l" pos="2513160"/>
                <a:tab algn="l" pos="2932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C9BAE-2510-4447-AD79-823CF3BF9BF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0972-E58A-402D-B7FB-5251D6A92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8A87-0B26-48F5-B1E2-41F7C3B0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70F0-AC03-49C0-B1EE-0646484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74A9-AF89-42BA-A741-FC5FD755E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D4A42-F4E0-4BCB-B21D-4B66F63C7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9C6DB-C5CF-4CC0-A953-B93981A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3424E-9AB0-4FBE-A75A-C1F8D2D6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1D5F-4574-41DD-B213-562A8B2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63505-20A4-4BB7-87A3-6EDE980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F8C68-090C-4F32-9367-7B7E4F2E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DA8B-3DA1-4ABB-A12E-2A4BDF10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81F4-92CC-49F5-ABA2-EB53BA1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F238-357F-42E0-853E-2312791C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B7A78-DE44-4931-9096-A33A0BE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4C0D6-1562-439C-8106-4C73EBB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1D73-F14D-4BAD-9A9F-03D037C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51C0-F282-4869-9970-C4FCF4715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D05-8994-4358-A00E-646D9106C0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6114-2B1F-4221-827A-B12AD63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A780-78C8-451E-9EB2-59AC0931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CE6-461B-4D61-9544-ED50385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5161-B3FD-41D0-81F8-A6E7D81D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85B2-A06F-4947-859A-0BAB560C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D047-B56A-4EE2-A0F7-6030E864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D65-ED65-4344-9013-BDABBF2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AFD6-85CB-47FC-8765-5E15E51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8990-6C4E-40AD-9AF3-B6290B94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E25B-FAA9-4898-B2BB-2C5314D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F751-3015-45DE-845C-3407FE3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CB04-E305-4176-840A-20EBD3F71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DA88-0EA3-40A8-8E62-A8BF370D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6FAC-4971-4D9C-BB8F-030CB75D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715C-EB62-41DB-8B97-83648D51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B8BA-FA44-4FF1-92C1-573DA8F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5007-94E5-4C86-801A-196ED746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D5FC-0D73-46B4-8CD4-47DA25F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07CAF-48E3-4DBC-A265-221C9EE369CB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93E3C-8605-4708-B69F-0714CD57E6D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A9B0-C302-4D13-BF57-6DF336D8C249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D38F0-6A84-4A57-81F4-AB510DA7995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B6FA-62CA-4EB5-B61C-C9298739A197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FE206-7018-499F-AFFD-31967720C64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4424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етский сад №23«Брусн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Старший воспита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Calibri"/>
              </a:rPr>
              <a:t>Исакова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2d2db9"/>
                </a:solidFill>
                <a:uFillTx/>
                <a:latin typeface="Arial"/>
              </a:rPr>
              <a:t>«Строительный» (конструктивный) центр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,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и сосредоточен на одном месте и занимает немного пространства, он достаточно мобилен. Практичность его состоит в том, что с содержанием строительного уголка (конструктор различного вида, крупный и мелкий конструктор) можно перемещаться в любое место группы и организовывать дан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P4010086.JPG"/>
          <p:cNvPicPr/>
          <p:nvPr/>
        </p:nvPicPr>
        <p:blipFill>
          <a:blip r:embed="rId1"/>
          <a:stretch/>
        </p:blipFill>
        <p:spPr>
          <a:xfrm>
            <a:off x="1835280" y="2565360"/>
            <a:ext cx="5346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аправление: Социально-личностное развитие. </a:t>
            </a:r>
            <a:br>
              <a:rPr sz="20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Семь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9280" y="2204640"/>
            <a:ext cx="3826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 fontScale="82000"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Больниц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Содержимое 7" descr="P4010094.JPG"/>
          <p:cNvPicPr/>
          <p:nvPr/>
        </p:nvPicPr>
        <p:blipFill>
          <a:blip r:embed="rId1"/>
          <a:stretch/>
        </p:blipFill>
        <p:spPr>
          <a:xfrm>
            <a:off x="5219640" y="2565360"/>
            <a:ext cx="3105360" cy="414324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7" descr="P4270140.JPG"/>
          <p:cNvPicPr/>
          <p:nvPr/>
        </p:nvPicPr>
        <p:blipFill>
          <a:blip r:embed="rId2"/>
          <a:stretch/>
        </p:blipFill>
        <p:spPr>
          <a:xfrm>
            <a:off x="193680" y="3141720"/>
            <a:ext cx="4738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едметно-развивающая среда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Особо актуально на сегодняшний день стоит вопрос организации предметно-развивающей среды ДОУ. Это связано с введением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Всем известно, что основной формой работы с дошкольниками и ведущим видом деятельности детей является игра. Именно поэтому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мы воспитатели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испытыва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ем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повышенный интерес к обновлению предметно-развив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Что такое предметно - развивающая среда?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Терминология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116000" y="1628640"/>
            <a:ext cx="70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реда  развития ребёнка в структуре ФГОС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– это комплекс материально-технических, санитарно  -гигиенических, социально- бытовых, общественных, эстетических, психолого-педагогических , духовных условий, обеспечивающих организацию жизни детей и взрослых в ДОУ</a:t>
            </a:r>
            <a:r>
              <a:rPr b="1" i="1" lang="en-US" sz="2800" spc="-1" strike="noStrike">
                <a:solidFill>
                  <a:srgbClr val="2d2db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539640" y="333360"/>
            <a:ext cx="799308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) совместную партнерскую деятельность взрослого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дметно – пространственная развивающая среда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олжн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ганизовываться с учётом требований ФГОС, где чётко прослеживаются все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ять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258920" y="2708280"/>
            <a:ext cx="68421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) социально-коммуникатив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2) познавательн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3) речев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) художественно-эстетическая,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5) физ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е: Художественно — эстетическое развитие. </a:t>
            </a:r>
            <a:br>
              <a:rPr sz="1800"/>
            </a:br>
            <a:br>
              <a:rPr sz="1800"/>
            </a:br>
            <a:r>
              <a:rPr b="1" i="1" lang="ru-RU" sz="1800" spc="-1" strike="noStrike" u="sng">
                <a:solidFill>
                  <a:srgbClr val="00664d"/>
                </a:solidFill>
                <a:uFillTx/>
                <a:latin typeface="Arial"/>
              </a:rPr>
              <a:t>В Центре «Творческая мастерская»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находится материал и оборудование для художественно-творческой деятельности: рисования, лепки и аппликации. По желанию ребенок может найти и воспользоваться необходимым, для воплощения своих творческих идей, замыслов, фантазии. К данному центру имеется свободный дост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7" descr="P4010088.JPG"/>
          <p:cNvPicPr/>
          <p:nvPr/>
        </p:nvPicPr>
        <p:blipFill>
          <a:blip r:embed="rId1"/>
          <a:stretch/>
        </p:blipFill>
        <p:spPr>
          <a:xfrm>
            <a:off x="468360" y="2781360"/>
            <a:ext cx="4324320" cy="32414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12" descr="P4010095.JPG"/>
          <p:cNvPicPr/>
          <p:nvPr/>
        </p:nvPicPr>
        <p:blipFill>
          <a:blip r:embed="rId2"/>
          <a:stretch/>
        </p:blipFill>
        <p:spPr>
          <a:xfrm>
            <a:off x="5003640" y="2133720"/>
            <a:ext cx="3416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авление: Речевое развитие                                </a:t>
            </a:r>
            <a:r>
              <a:rPr b="1" i="1" lang="ru-RU" sz="1800" spc="-1" strike="noStrike" u="sng">
                <a:solidFill>
                  <a:srgbClr val="009973"/>
                </a:solidFill>
                <a:uFillTx/>
                <a:latin typeface="Arial"/>
              </a:rPr>
              <a:t>Центр «Мир книги»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4" descr="P4270159.JPG"/>
          <p:cNvPicPr/>
          <p:nvPr/>
        </p:nvPicPr>
        <p:blipFill>
          <a:blip r:embed="rId1"/>
          <a:stretch/>
        </p:blipFill>
        <p:spPr>
          <a:xfrm>
            <a:off x="2246400" y="1700280"/>
            <a:ext cx="3887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авление: Познавательное развит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Центр опытно-экспериментальной деятельности.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 и т. Наши маленькие «почемучки» проводят несложные опыты,определяют  свойства различных               природных материалов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P4010087.JPG"/>
          <p:cNvPicPr/>
          <p:nvPr/>
        </p:nvPicPr>
        <p:blipFill>
          <a:blip r:embed="rId1"/>
          <a:stretch/>
        </p:blipFill>
        <p:spPr>
          <a:xfrm>
            <a:off x="1332000" y="2997360"/>
            <a:ext cx="62848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User</cp:lastModifiedBy>
  <cp:lastPrinted>2017-12-07T07:36:10Z</cp:lastPrinted>
  <dcterms:modified xsi:type="dcterms:W3CDTF">2018-11-15T08:24:32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