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861-F7E6-411B-BE92-FC2A3AFBC2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8376-1D7A-4A7F-9DC8-C4740841D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F5D-EAD0-4DF4-B6D3-D3D488E8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F4E-CE3F-4498-B132-966C88E4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854-B7E2-47B5-B8C7-FC6A7270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5EE-3F17-4BA2-9C45-50596F70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A911-F7AA-49FB-9EAE-950DE2CF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6DF4-48B4-4224-9323-415471F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AD7C-BE9D-422A-AD9C-A9EA4BDF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681F-5A06-4A68-83F8-71ABC1B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D0EA-6830-4508-A693-B325E1F8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172A-A21E-4390-9EBB-5F6EA38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A2E5-995A-464B-AF1D-84C18E03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D45-7B69-43D2-B09A-C41EA70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498-F898-42F3-8417-C82B2EF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7D5-A1F2-4DC8-BC77-4D2719F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48E0-D84A-46FB-989C-37B6507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F90E-D6CB-425D-9F87-D22F9F1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D44-98F3-448D-B129-B84B1A96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D3476-A3D4-4205-9FD8-EA65E589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867F3-8B48-4B8D-91EE-6EB7F72D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E062C-FFC9-4149-A40F-F36ED16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C2673-ABFA-4259-B416-2CD5D17A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44946-D587-49EA-812C-A529B48B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011-8499-4B50-9933-470AE94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053D0-EF36-47B1-9724-AA85B0BB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CCD8B-7BD1-47BB-8B5E-44B1B84C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514F8-C0A2-4918-98FE-CCF74F4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F18BE-6B5A-49B3-878F-58CAA35C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6FCAB-857A-4208-832A-451EB3A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218C7-722A-439A-85C8-F5F1E2D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408CF-2E5F-4953-A37C-FB3C9F62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3D5C-C9E7-49F0-84A9-6033E36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CA9F-CCDC-43BF-853E-4C00C74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BDA9-7EA0-4CD4-834F-407B78B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0C8-0837-499C-9B29-1B24291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E0A8-4CA4-4666-B910-E962C8D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88D4-A9F8-4A18-B05F-F834EEC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BF28-BDCA-4BA9-92AC-58FA3055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15E1-3B22-4109-8378-41BB47A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3F84-720B-45C1-A44D-2F0176A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3685-B70E-4BDF-9FE5-3566FCC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B57B-4A3E-4B79-99DB-A962396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BCD8-7F0B-49CD-A848-EDE09A51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61C6-722C-4845-968C-F52740AA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A4C5A-7098-41B2-838E-0C6D8CAA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6BA-E3C4-4F99-ABF7-2644C7D9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95544-E918-40FD-93DB-1754C53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5E460-D77F-4B54-BEA1-5CA735F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9E304-E125-4188-884B-E97930F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BE7A2-D8B8-4F65-8FCF-975EE47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AB728-4E69-413C-A84E-ED22DE3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E02C7-8ACC-40D0-A4EA-26E68D3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CD02B-6787-42C3-BB70-96926F7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E04AD-D833-4197-8D43-BD9CECD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5AAE3-57D3-474A-8D96-970854AA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93532-4D0D-425C-BA15-5E963F47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CE4-AD15-463F-871E-E750E1F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5EE25-7224-4C28-8762-A963FF21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0296F-C00D-4EA5-9C7B-CD47C04D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65A77-6938-4F34-9D91-2A9D586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62EBA-8442-47C5-AB03-2669B8D1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96680-A21D-461E-AD45-7DA84D4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65451-FB8A-4442-842C-8C222CE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5B641-0E4A-4F5F-BD14-EE9EAAD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B3860-1164-4F5A-843A-4EFC1B0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5739F-5594-49B9-94B0-29F0F93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DB20C-6437-4FD5-8D70-45A0F56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D79-281D-49EE-9150-0E4BB92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96C6F-C46B-449D-B60C-117BD946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172F3-EAA2-41F7-BFC0-0FFADB16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80545-3C16-4381-98F4-1225B195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D329F-0500-408D-9621-5A7F7BC1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EE543-A41C-4671-BB12-78A3664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335CA-5F23-4821-8566-A869D8C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086A5-9FE6-43A8-BCF5-818A9704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92227-7892-44F6-8648-F916218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C6A51-791E-48F6-A438-FDD33BB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4171D-91EE-4B73-81DF-246D0A4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C56-4CC4-4876-B494-05F1616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C51A7-21B1-4C7F-8370-E3A3953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6F181-712D-4051-A4AD-F4681B2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1B004-47C5-469F-8C0C-AAAA976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A89E6-4A0A-4C55-9713-2408B96D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8355A-BCE2-421D-8DDF-DCDCE32A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1DE-6A65-4168-A02B-CD0F76A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DF59-49AC-41DD-B6E0-9B717F1F89B4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021-B2AC-4B7C-8A7F-5AD05B4C2065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0939-FA7E-446D-BB26-6DE93A8F93CF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3050-C257-4A55-B9C6-502EB60F3FCE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1B44-1820-47DB-9E8E-84A68FC3C4C5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A16C-DAF6-468D-9C32-6F887A6CF311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8CD-E953-42E1-9869-3E2C2D3B86B1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Заголовок 1"/>
          <p:cNvGrpSpPr/>
          <p:nvPr/>
        </p:nvGrpSpPr>
        <p:grpSpPr>
          <a:xfrm>
            <a:off x="500040" y="1316160"/>
            <a:ext cx="8094600" cy="2377800"/>
            <a:chOff x="500040" y="1316160"/>
            <a:chExt cx="8094600" cy="2377800"/>
          </a:xfrm>
        </p:grpSpPr>
        <p:pic>
          <p:nvPicPr>
            <p:cNvPr id="3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1316160"/>
              <a:ext cx="809460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5800" y="1357200"/>
              <a:ext cx="77724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Georgia"/>
                </a:rPr>
                <a:t>МОТИВАЦИОННАЯ ГОТОВНОСТЬ РЕБЕНКА К ОБУЧЕНИЮ В ШКОЛЕ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Подзаголовок 2"/>
          <p:cNvGrpSpPr/>
          <p:nvPr/>
        </p:nvGrpSpPr>
        <p:grpSpPr>
          <a:xfrm>
            <a:off x="2176560" y="4937040"/>
            <a:ext cx="6351480" cy="1530360"/>
            <a:chOff x="2176560" y="4937040"/>
            <a:chExt cx="6351480" cy="1530360"/>
          </a:xfrm>
        </p:grpSpPr>
        <p:pic>
          <p:nvPicPr>
            <p:cNvPr id="36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2176560" y="4937040"/>
              <a:ext cx="63514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286000" y="5003640"/>
              <a:ext cx="6172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Кузнецова Елена Николаевна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педагог-психолог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высшая  квалификационная категория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Заголовок 1"/>
          <p:cNvGrpSpPr/>
          <p:nvPr/>
        </p:nvGrpSpPr>
        <p:grpSpPr>
          <a:xfrm>
            <a:off x="8302680" y="3560760"/>
            <a:ext cx="218880" cy="534960"/>
            <a:chOff x="8302680" y="3560760"/>
            <a:chExt cx="218880" cy="534960"/>
          </a:xfrm>
        </p:grpSpPr>
        <p:pic>
          <p:nvPicPr>
            <p:cNvPr id="3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302680" y="3560760"/>
              <a:ext cx="218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8412120" y="360036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700"/>
              </a:b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Подзаголовок 2"/>
          <p:cNvGrpSpPr/>
          <p:nvPr/>
        </p:nvGrpSpPr>
        <p:grpSpPr>
          <a:xfrm>
            <a:off x="8345520" y="6284880"/>
            <a:ext cx="176040" cy="212760"/>
            <a:chOff x="8345520" y="6284880"/>
            <a:chExt cx="176040" cy="212760"/>
          </a:xfrm>
        </p:grpSpPr>
        <p:pic>
          <p:nvPicPr>
            <p:cNvPr id="368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8345520" y="6284880"/>
              <a:ext cx="1760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412120" y="6329520"/>
              <a:ext cx="4608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"/>
          <p:cNvSpPr/>
          <p:nvPr/>
        </p:nvSpPr>
        <p:spPr>
          <a:xfrm>
            <a:off x="1143000" y="1785960"/>
            <a:ext cx="6929280" cy="2775240"/>
          </a:xfrm>
          <a:prstGeom prst="rect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ЛАНИЕ + ВОЗМОЖ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АЯ ГОТОВНОСТЬ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Заголовок 1"/>
          <p:cNvGrpSpPr/>
          <p:nvPr/>
        </p:nvGrpSpPr>
        <p:grpSpPr>
          <a:xfrm>
            <a:off x="8302680" y="3560760"/>
            <a:ext cx="218880" cy="534960"/>
            <a:chOff x="8302680" y="3560760"/>
            <a:chExt cx="218880" cy="534960"/>
          </a:xfrm>
        </p:grpSpPr>
        <p:pic>
          <p:nvPicPr>
            <p:cNvPr id="37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302680" y="3560760"/>
              <a:ext cx="218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rot="10800000">
              <a:off x="8412120" y="360036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700"/>
              </a:b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Подзаголовок 2"/>
          <p:cNvGrpSpPr/>
          <p:nvPr/>
        </p:nvGrpSpPr>
        <p:grpSpPr>
          <a:xfrm>
            <a:off x="8345520" y="6284880"/>
            <a:ext cx="176040" cy="212760"/>
            <a:chOff x="8345520" y="6284880"/>
            <a:chExt cx="176040" cy="212760"/>
          </a:xfrm>
        </p:grpSpPr>
        <p:pic>
          <p:nvPicPr>
            <p:cNvPr id="37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8345520" y="6284880"/>
              <a:ext cx="1760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412120" y="6329520"/>
              <a:ext cx="4608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3"/>
          <p:cNvSpPr/>
          <p:nvPr/>
        </p:nvSpPr>
        <p:spPr>
          <a:xfrm>
            <a:off x="1571760" y="1357200"/>
            <a:ext cx="7072200" cy="1770120"/>
          </a:xfrm>
          <a:prstGeom prst="rect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ЧУ УЧИТЬСЯ + МОГУ УЧИТЬСЯ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К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КАКАЯ ОНА ШКОЛА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379" name="Picture 6" descr="https://encrypted-tbn0.gstatic.com/images?q=tbn:ANd9GcQAckOcz7BvSGdODeKrMOQTZx8cTbjh-Tg9QQXm-6ZsS5CNQqP1jQ"/>
          <p:cNvPicPr/>
          <p:nvPr/>
        </p:nvPicPr>
        <p:blipFill>
          <a:blip r:embed="rId1"/>
          <a:stretch/>
        </p:blipFill>
        <p:spPr>
          <a:xfrm>
            <a:off x="1079640" y="1785960"/>
            <a:ext cx="6278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57160" y="1571400"/>
            <a:ext cx="70675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.Ознакомление с правилами школьной жиз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Помочь детям осознать основные каналы восприятия окружающего мир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Формирование навыков саморегуля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Осознание детьми способов помощи  себе при обуче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 Познакомить детей с различными видами памяти и ролью памяти и внимания в обуче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Настроить детей  на осознанное обучение, желание развивать свой  интеллек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 Настроить  детей на правильное отношение к ошибке, на возможности по ее исправлен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rebuchet MS"/>
              </a:rPr>
              <a:t>ФОРМИРОВАНИЕ   УЧЕБНОЙ  МОТИВАЦИИ  СТАРШИХ ДОШКОЛЬНИКОВ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ТЕМЫ   ЗАНЯТИЙ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Нарисуем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кольные правил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В детском саду хорошо, а 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коле лучш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. Переме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Встреча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ум Думычем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 помощник в трудных ситуациях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Мои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мощн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школ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Встреча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япкиным  Ляпкины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Знакомство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учиком внима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Встреча с Королевой Ошибкой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опа исп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ний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285480"/>
            <a:ext cx="8143920" cy="6188040"/>
          </a:xfrm>
          <a:prstGeom prst="rect">
            <a:avLst/>
          </a:prstGeom>
          <a:solidFill>
            <a:srgbClr val="7fd13b"/>
          </a:solidFill>
          <a:ln w="93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ЛАГОДАРЮ  ЗА ВНИМАНИЕ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21:23:51Z</dcterms:created>
  <dc:creator>Пользователь</dc:creator>
  <dc:description/>
  <dc:language>en-US</dc:language>
  <cp:lastModifiedBy>admin</cp:lastModifiedBy>
  <dcterms:modified xsi:type="dcterms:W3CDTF">2016-04-21T06:09:24Z</dcterms:modified>
  <cp:revision>28</cp:revision>
  <dc:subject/>
  <dc:title>Особенности внимания детей раннего возраста</dc:title>
</cp:coreProperties>
</file>