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3F57-B3E9-4C1D-8D97-622602FA25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F5B-F088-4A52-8A8C-8CC644105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C24-2D87-44C3-97E5-E974E4EF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448-64F7-47E3-8E5F-3AB1013D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9D1-618C-40A8-97AD-B15FAFC9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5B7-A567-419B-B41C-E1021BEA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02B-558C-443B-8DCC-C1EDBFC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27B8-2F07-43A5-97E8-A4F6090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E81-8749-4119-A481-CF333EF3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D2AE-9687-4596-85D3-B367DEE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FDA0-B3E6-42CE-8851-E4DDFD00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7D63-ACB2-4B67-B24B-14924B8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7A30-CBB0-4F6D-8F02-DA2604E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16D-4893-41A4-80E5-3867FFDF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B321-807A-4A62-A5D3-ECDCD8B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B3D-5C55-48F8-B897-D79ECAD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775-8C4F-43D8-A158-D35AA2C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AE34-C3C3-4F58-9D95-663EC74A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E3E0-4F22-4BA7-9151-D91736DB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311D2-7092-44B1-A9AD-1A20477B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117C6-32CE-4BEF-B270-F830E570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89FE-3E0F-4472-890A-D982DFA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42127-9BEE-4F2D-8B57-2385DC62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CB32A-AB76-4F5D-B80D-CA0C995D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5E1-7F99-4893-BFD3-95EE8EF5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54C8B-6758-4264-B7AF-318F4D17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24B9E-628C-4794-8DEA-6F1E9A3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6A31A-FC7B-42F6-AA63-57779BF7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E86C1-BF6A-4830-8858-9CA8CA1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0D819-2C47-4253-B444-06E64DD7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F84C1-68E1-4574-AEE3-EAF234C7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DF0AB-62A9-46AB-B689-D7FD34CC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BA7B-1801-4B69-A40C-BE9CDC4F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E7CE-0758-4059-A53C-56D22B39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2BB6-308B-411E-87FA-AA2E781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A10-B903-4757-A269-DC0BBB66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ADD1-4604-4991-99DC-AC74629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60B5-C7EB-4561-B845-5C5936C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9A72-C5EB-44C4-90C2-49FDC8A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EA20-6EB9-418A-A793-6A80615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2939-7CC1-463E-9AA5-4EC070E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086A-6228-4B72-A980-2D978AD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082D-AB2D-4E75-B50E-24CF1BD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B358-E35F-4F77-ACA8-00E0E183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75AA-4E46-4F50-B4F7-F04F952F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58136-0D1E-45C9-B588-2443415F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DBD-B4D2-4ABB-99ED-D3956E79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53BCC-4F47-45FE-BA24-D152D9AB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AB68C-5CFB-42B6-8C97-7C91FC7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2533D-AA21-445B-980E-EB17A14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4FE39-CB0B-4395-83C1-60DCDBE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27FE7-027E-42B9-BED1-4E29130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4C5E6-7907-48D4-9786-F954363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56846-E8F7-460D-976F-2027AE6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B1C60-B8D2-40B7-A378-1FBDFB86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F6562-6A09-4475-870E-B12C6122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20111-48EC-47BF-A597-1562A779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142-A6DF-470E-97BE-7AE1386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E7CFC-3A96-4F8B-AE24-69A70AEC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50A41-9ED5-41A0-A484-044D81B7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02B05-3CC1-429C-BCE5-FFE2893A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194FF-A9DD-4350-A0F5-2EF6A1D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BF794-5746-4D97-B18A-CF446A0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91461-101C-4BC4-A05A-40572A6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AAC7C-A1D9-42F5-8567-4493C53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22CF3-6162-4A6A-BC78-60A08AE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898AC-7EA8-4AA5-81DD-A4E3FE6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5C1CB-D166-41B0-86AA-23E22CF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ACF-6A62-44D0-8D39-B8E94F3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FB380-DF5C-4786-B4A2-35E425F4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8BAC4-95D7-4F71-A3E9-8FE6F981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72F5F-BD0F-4157-A3A0-480CC61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2EE3D8-17FF-4DE3-84A8-4B127D55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49F3E-7941-41B4-A9DF-1054FC4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C12D7-B7D7-4F16-BC8F-F0EA97D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4D1E7-D830-4AD0-B6B2-4EA1199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BE82D-48AE-4E05-9A7E-8B023A0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28F28-C562-40E1-AFAD-6C31A9BC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F0DEE-E56C-48C9-98AA-2356478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ADF-C706-44AF-B808-BBC2F36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E0A3D-4E99-4DAA-BF4C-77BBD49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82DC6-DA17-4FFF-948F-A1EC4A5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71B9F-0115-45D3-9DB3-9FA5B5F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9A9AC-D47C-49A8-BEE4-17DA090F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B8C7B-8DD5-4836-9B7E-7BE2BC5C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37A-49EC-4D57-B80D-3B5E1E9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FF5-DE5E-4208-971C-ECEB0788FBC6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8BD-0C9B-438F-BCAB-D9F8FC17A9E8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68F-15D5-4B9A-BCF2-B7EDB66B66D3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FCE-3CDC-462C-BA60-F18064866FD1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EC4-B144-4EE5-9C89-EF1A4F6F5471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19A-8F3A-4127-9DA6-A2E4723DE286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E1D-9075-4DCA-8012-28153DFE4FF2}" type="slidenum">
              <a:rPr b="1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Заголовок 1"/>
          <p:cNvGrpSpPr/>
          <p:nvPr/>
        </p:nvGrpSpPr>
        <p:grpSpPr>
          <a:xfrm>
            <a:off x="500040" y="1316160"/>
            <a:ext cx="8094600" cy="2377800"/>
            <a:chOff x="500040" y="1316160"/>
            <a:chExt cx="8094600" cy="2377800"/>
          </a:xfrm>
        </p:grpSpPr>
        <p:pic>
          <p:nvPicPr>
            <p:cNvPr id="3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1316160"/>
              <a:ext cx="809460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5800" y="1357200"/>
              <a:ext cx="77724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Georgia"/>
                </a:rPr>
                <a:t>МОТИВАЦИОННАЯ ГОТОВНОСТЬ РЕБЕНКА К ОБУЧЕНИЮ В ШКОЛЕ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Подзаголовок 2"/>
          <p:cNvGrpSpPr/>
          <p:nvPr/>
        </p:nvGrpSpPr>
        <p:grpSpPr>
          <a:xfrm>
            <a:off x="2176560" y="4937040"/>
            <a:ext cx="6351480" cy="1530360"/>
            <a:chOff x="2176560" y="4937040"/>
            <a:chExt cx="6351480" cy="1530360"/>
          </a:xfrm>
        </p:grpSpPr>
        <p:pic>
          <p:nvPicPr>
            <p:cNvPr id="36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2176560" y="4937040"/>
              <a:ext cx="63514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286000" y="5003640"/>
              <a:ext cx="6172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Кузнецова Елена Николаевна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педагог-психолог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высшая  квалификационная категория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Заголовок 1"/>
          <p:cNvGrpSpPr/>
          <p:nvPr/>
        </p:nvGrpSpPr>
        <p:grpSpPr>
          <a:xfrm>
            <a:off x="8302680" y="3560760"/>
            <a:ext cx="218880" cy="534960"/>
            <a:chOff x="8302680" y="3560760"/>
            <a:chExt cx="218880" cy="534960"/>
          </a:xfrm>
        </p:grpSpPr>
        <p:pic>
          <p:nvPicPr>
            <p:cNvPr id="3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302680" y="3560760"/>
              <a:ext cx="218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8412120" y="360036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700"/>
              </a:b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Подзаголовок 2"/>
          <p:cNvGrpSpPr/>
          <p:nvPr/>
        </p:nvGrpSpPr>
        <p:grpSpPr>
          <a:xfrm>
            <a:off x="8345520" y="6284880"/>
            <a:ext cx="176040" cy="212760"/>
            <a:chOff x="8345520" y="6284880"/>
            <a:chExt cx="176040" cy="212760"/>
          </a:xfrm>
        </p:grpSpPr>
        <p:pic>
          <p:nvPicPr>
            <p:cNvPr id="368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8345520" y="6284880"/>
              <a:ext cx="1760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412120" y="6329520"/>
              <a:ext cx="4608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Box 3"/>
          <p:cNvSpPr/>
          <p:nvPr/>
        </p:nvSpPr>
        <p:spPr>
          <a:xfrm>
            <a:off x="1143000" y="1785960"/>
            <a:ext cx="6929280" cy="2775240"/>
          </a:xfrm>
          <a:prstGeom prst="rect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ЛАНИЕ + ВОЗМОЖ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АЯ ГОТОВНОСТЬ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Заголовок 1"/>
          <p:cNvGrpSpPr/>
          <p:nvPr/>
        </p:nvGrpSpPr>
        <p:grpSpPr>
          <a:xfrm>
            <a:off x="8302680" y="3560760"/>
            <a:ext cx="218880" cy="534960"/>
            <a:chOff x="8302680" y="3560760"/>
            <a:chExt cx="218880" cy="534960"/>
          </a:xfrm>
        </p:grpSpPr>
        <p:pic>
          <p:nvPicPr>
            <p:cNvPr id="37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302680" y="3560760"/>
              <a:ext cx="218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rot="10800000">
              <a:off x="8412120" y="360036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700"/>
              </a:b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Подзаголовок 2"/>
          <p:cNvGrpSpPr/>
          <p:nvPr/>
        </p:nvGrpSpPr>
        <p:grpSpPr>
          <a:xfrm>
            <a:off x="8345520" y="6284880"/>
            <a:ext cx="176040" cy="212760"/>
            <a:chOff x="8345520" y="6284880"/>
            <a:chExt cx="176040" cy="212760"/>
          </a:xfrm>
        </p:grpSpPr>
        <p:pic>
          <p:nvPicPr>
            <p:cNvPr id="37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8345520" y="6284880"/>
              <a:ext cx="1760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412120" y="6329520"/>
              <a:ext cx="46080" cy="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3"/>
          <p:cNvSpPr/>
          <p:nvPr/>
        </p:nvSpPr>
        <p:spPr>
          <a:xfrm>
            <a:off x="1571760" y="1357200"/>
            <a:ext cx="7072200" cy="1770120"/>
          </a:xfrm>
          <a:prstGeom prst="rect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ЧУ УЧИТЬСЯ + МОГУ УЧИТЬСЯ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К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КАКАЯ ОНА ШКОЛА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379" name="Picture 6" descr="https://encrypted-tbn0.gstatic.com/images?q=tbn:ANd9GcQAckOcz7BvSGdODeKrMOQTZx8cTbjh-Tg9QQXm-6ZsS5CNQqP1jQ"/>
          <p:cNvPicPr/>
          <p:nvPr/>
        </p:nvPicPr>
        <p:blipFill>
          <a:blip r:embed="rId1"/>
          <a:stretch/>
        </p:blipFill>
        <p:spPr>
          <a:xfrm>
            <a:off x="1079640" y="1785960"/>
            <a:ext cx="6278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57160" y="1571400"/>
            <a:ext cx="70675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.Ознакомление с правилами школьной жиз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Помочь детям осознать основные каналы восприятия окружающего мир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Формирование навыков саморегуля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Осознание детьми способов помощи  себе при обуче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 Познакомить детей с различными видами памяти и ролью памяти и внимания в обучен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Настроить детей  на осознанное обучение, желание развивать свой  интеллек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 Настроить  детей на правильное отношение к ошибке, на возможности по ее исправлен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rebuchet MS"/>
              </a:rPr>
              <a:t>ФОРМИРОВАНИЕ   УЧЕБНОЙ  МОТИВАЦИИ  СТАРШИХ ДОШКОЛЬНИКОВ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ТЕМЫ   ЗАНЯТИЙ</a:t>
            </a:r>
            <a:endParaRPr b="0" lang="en-US" sz="3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Нарисуем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кольные правил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В детском саду хорошо, а 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коле лучш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рок. Переме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Встреча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ум Думычем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 помощник в трудных ситуациях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Мои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мощн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школ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Встреча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япкиным  Ляпкины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Знакомство с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учиком внима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Встреча с Королевой Ошибкой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опа исп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ний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285480"/>
            <a:ext cx="8143920" cy="6188040"/>
          </a:xfrm>
          <a:prstGeom prst="rect">
            <a:avLst/>
          </a:prstGeom>
          <a:solidFill>
            <a:srgbClr val="7fd13b"/>
          </a:solidFill>
          <a:ln w="9360">
            <a:solidFill>
              <a:srgbClr val="7fd13b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ЛАГОДАРЮ  ЗА ВНИМАНИЕ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21:23:51Z</dcterms:created>
  <dc:creator>Пользователь</dc:creator>
  <dc:description/>
  <dc:language>en-US</dc:language>
  <cp:lastModifiedBy>admin</cp:lastModifiedBy>
  <dcterms:modified xsi:type="dcterms:W3CDTF">2016-04-21T06:09:24Z</dcterms:modified>
  <cp:revision>28</cp:revision>
  <dc:subject/>
  <dc:title>Особенности внимания детей раннего возраста</dc:title>
</cp:coreProperties>
</file>