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74EB6-9901-4659-B36B-D5B52FA62B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39600-D0B2-4E14-BEEC-DDCDF6FA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15C49-635F-4551-80D3-28A5E25E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222DE-E22E-419A-BDED-0994AAE825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3463-3926-4C22-8313-386CF7A64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AA02-F42E-4E2E-AC68-AB114674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D313-22F4-4B60-A681-96A919E4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F737-EE33-474D-9625-1C7A3AF7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3C4F-CD94-48D2-8172-13E92E65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D6EF-8789-498A-BB7A-D507FCF46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5CCA-C16F-42F9-9AAC-F6DD73D9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A704A-5467-467E-88C6-D99EBD40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7D42-03EF-4236-B38B-560ADFCC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3CDA-5C95-4F22-9C1A-6D837B71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C020-9DA9-46CB-9989-9B48A719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8498-EC7B-41E1-B80B-1E8A3A1AF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D95C-11B2-40EF-9064-B42EA46D8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DF2BB-0CFB-4AAF-B817-A7B07A1F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FE2D8-B1A2-4F92-9D8E-599B0026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67845-6FD7-48C7-8237-5B91233CA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778A1-796D-401C-A138-7A7F98BFB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0C10A-35ED-43EC-BC1E-87315FED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EE65C-6ABF-491E-8113-F8B837E0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65881-5B6A-497D-B106-7E841D72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238026-570D-4748-9DAD-7787E417E15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152280"/>
            <a:ext cx="8685360" cy="6094440"/>
            <a:chOff x="0" y="152280"/>
            <a:chExt cx="8685360" cy="6094440"/>
          </a:xfrm>
        </p:grpSpPr>
        <p:sp>
          <p:nvSpPr>
            <p:cNvPr id="42" name=""/>
            <p:cNvSpPr/>
            <p:nvPr/>
          </p:nvSpPr>
          <p:spPr>
            <a:xfrm>
              <a:off x="380880" y="533520"/>
              <a:ext cx="8304480" cy="57132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152280"/>
              <a:ext cx="8532720" cy="1217880"/>
            </a:xfrm>
            <a:custGeom>
              <a:avLst/>
              <a:gdLst>
                <a:gd name="textAreaLeft" fmla="*/ 0 w 8532720"/>
                <a:gd name="textAreaRight" fmla="*/ 4267440 w 8532720"/>
                <a:gd name="textAreaTop" fmla="*/ 0 h 1217880"/>
                <a:gd name="textAreaBottom" fmla="*/ 1218240 h 121788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1219320"/>
              <a:ext cx="807552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5120" y="-1440"/>
            <a:ext cx="8012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7921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A0BA398-E0D8-4432-B6F2-24A37F467F8F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-181080" y="0"/>
            <a:ext cx="9325080" cy="6858000"/>
            <a:chOff x="-181080" y="0"/>
            <a:chExt cx="9325080" cy="685800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-181080" y="0"/>
              <a:ext cx="93250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-181080" y="0"/>
              <a:ext cx="93250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8360" y="476280"/>
            <a:ext cx="8281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Организация эффективной контрольно - оценочной деятельности в начальной школе в условиях ФГОС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1840" y="3959280"/>
            <a:ext cx="8588160" cy="24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«Тот, кого я учу, — это, прежде всего, живой человек, ребенок, а потом ученик. Оценка, которую я ставлю ему — это не только измеритель его знаний, но, прежде всего, мое отношение к нему как к человеку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(В.А. Сухомлинский «Сердце отдаю детям»)</a:t>
            </a:r>
            <a:r>
              <a:rPr b="1" i="1" lang="ru-RU" sz="2800" spc="-1" strike="noStrike">
                <a:solidFill>
                  <a:srgbClr val="cccc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684360" y="189000"/>
            <a:ext cx="79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иёмы оценочной дея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24000" y="1557360"/>
            <a:ext cx="54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f81bd"/>
                </a:solidFill>
                <a:latin typeface="Calibri"/>
              </a:rPr>
              <a:t>Словесные оцени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41280" y="1847880"/>
            <a:ext cx="3797280" cy="11444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003640" y="314172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4108320" y="2682720"/>
            <a:ext cx="3365640" cy="10972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1030320" y="3664080"/>
            <a:ext cx="3554280" cy="1152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4743360" y="4578480"/>
            <a:ext cx="3840120" cy="12128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500560" y="6021360"/>
            <a:ext cx="40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Сигнальные карт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 fill="hold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 fill="hold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 fill="hold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 fill="hold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8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611280" y="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иёмы оценочной дея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5640" y="1413000"/>
            <a:ext cx="770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4f81bd"/>
                </a:solidFill>
                <a:latin typeface="Calibri"/>
              </a:rPr>
              <a:t>Оценочный лис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лист самооценки работы на урок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лист самооценки работы в паре ( группе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лист самооценки  работы над проектом ( творческим делом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лист самооценки по результатам проверочной ( контрольной работы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395280" y="404640"/>
            <a:ext cx="8209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иёмы оценочной дея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4f81bd"/>
                </a:solidFill>
                <a:latin typeface="Calibri"/>
              </a:rPr>
              <a:t>Лист учебных достижений.</a:t>
            </a: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2421000"/>
            <a:ext cx="3240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отследить динамику продвижения учащихся в достижении предметных и метапредметных результа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35640" y="2492280"/>
            <a:ext cx="30970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и создании учитыв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грамму и требования к обязательному минимуму содержания образ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-181080" y="0"/>
            <a:ext cx="9325080" cy="6858000"/>
            <a:chOff x="-181080" y="0"/>
            <a:chExt cx="9325080" cy="6858000"/>
          </a:xfrm>
        </p:grpSpPr>
        <p:pic>
          <p:nvPicPr>
            <p:cNvPr id="197" name="" descr=""/>
            <p:cNvPicPr/>
            <p:nvPr/>
          </p:nvPicPr>
          <p:blipFill>
            <a:blip r:embed="rId1"/>
            <a:stretch/>
          </p:blipFill>
          <p:spPr>
            <a:xfrm>
              <a:off x="-181080" y="0"/>
              <a:ext cx="93250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-181080" y="0"/>
              <a:ext cx="93250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755640" y="47628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оветы учителю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1413000"/>
            <a:ext cx="8496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f81bd"/>
                </a:solidFill>
                <a:latin typeface="Calibri"/>
              </a:rPr>
              <a:t>1.Совет перв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ировать у младших школьников уверенность в своих сил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f81bd"/>
                </a:solidFill>
                <a:latin typeface="Calibri"/>
              </a:rPr>
              <a:t>2.Совет вто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оставлять ученику право выбора трудности раб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f81bd"/>
                </a:solidFill>
                <a:latin typeface="Calibri"/>
              </a:rPr>
              <a:t>3.Совет трет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бирать с учащимися работы ( контрольные , самостоятельные) сразу после их выпол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-181080" y="0"/>
            <a:ext cx="9325080" cy="6858000"/>
            <a:chOff x="-181080" y="0"/>
            <a:chExt cx="9325080" cy="6858000"/>
          </a:xfrm>
        </p:grpSpPr>
        <p:pic>
          <p:nvPicPr>
            <p:cNvPr id="203" name="" descr=""/>
            <p:cNvPicPr/>
            <p:nvPr/>
          </p:nvPicPr>
          <p:blipFill>
            <a:blip r:embed="rId1"/>
            <a:stretch/>
          </p:blipFill>
          <p:spPr>
            <a:xfrm>
              <a:off x="-181080" y="0"/>
              <a:ext cx="93250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-181080" y="0"/>
              <a:ext cx="93250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1108080" y="1397160"/>
            <a:ext cx="721980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SimSun"/>
              </a:rPr>
              <a:t>Оценка – это правильное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SimSun"/>
              </a:rPr>
              <a:t>кровообращение,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SimSun"/>
              </a:rPr>
              <a:t>без нее неизбежны застой и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SimSun"/>
              </a:rPr>
              <a:t>болезненные явления.</a:t>
            </a:r>
            <a:br>
              <a:rPr sz="4400"/>
            </a:b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SimSun"/>
              </a:rPr>
              <a:t>Н. Остров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60520" y="1731960"/>
            <a:ext cx="8053200" cy="132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0" y="0"/>
            <a:ext cx="9325080" cy="6858000"/>
            <a:chOff x="0" y="0"/>
            <a:chExt cx="9325080" cy="685800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3250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0" y="0"/>
              <a:ext cx="93250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514600" y="260280"/>
            <a:ext cx="54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Что такое оценивание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1444680"/>
            <a:ext cx="842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ценивание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определение позитивных и негативных моментов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ценивание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контроль качества об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ценивание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инструмент , позволяющий определять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ие , прогресса в преподавательск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ценивание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способ коррекции деятельности обучаемых , с помощью которого учитель определяет уровень подготовленности уче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ценивание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взгляд на свои действия и поступки, результаты свое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900000" y="549360"/>
            <a:ext cx="755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пособы осуществления оценива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2492280"/>
            <a:ext cx="381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Количественный показа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метка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зультаты тестирования в балл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2565360"/>
            <a:ext cx="4211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Качественный показа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ловесные высказывания о процессе и результате рабо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моциональная реак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84360" y="836640"/>
            <a:ext cx="763272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овместный анали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я сделал не так , что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я должен изменить свою деятельность , чтобы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539640" y="981000"/>
            <a:ext cx="79930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Чему целесообразно учить младших школьников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ознавать мотив своей деятельности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анировать свою деятельность;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ализировать достигнутый результат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ть характеристику отме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39640" y="198360"/>
            <a:ext cx="66517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Droid Sans"/>
              </a:rPr>
              <a:t>Правила новой технологии оценивания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Droid San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80" y="1257480"/>
            <a:ext cx="9085320" cy="54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Droid Sans"/>
              </a:rPr>
              <a:t>Оценивается любое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Droid Sans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roid Sans"/>
              </a:rPr>
              <a:t> особенн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Droid Sans"/>
              </a:rPr>
              <a:t>успешное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Droid Sans"/>
              </a:rPr>
              <a:t>действие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Droid Sans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roid Sans"/>
              </a:rPr>
              <a:t>а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Droid Sans"/>
              </a:rPr>
              <a:t>фиксируется отметкой только решение полноценной задач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roid Sans"/>
              </a:rPr>
              <a:t>, т.е. умения по использованию зн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roid Sans"/>
              </a:rPr>
              <a:t>Учитель и ученик по возможности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Droid Sans"/>
              </a:rPr>
              <a:t>определяют оценку в диалог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roid Sans"/>
              </a:rPr>
              <a:t> (внешняя оценка +самооценк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Droid Sans"/>
              </a:rPr>
              <a:t>За каждую учебную задач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roid Sans"/>
              </a:rPr>
              <a:t> или группу заданий, показывающих овладение отдельным умением,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Droid Sans"/>
              </a:rPr>
              <a:t>ставится отдельная отметка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Droid San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Droid Sans"/>
              </a:rPr>
              <a:t>За задачи, решенные при изучении новой темы, отметка ставится только по желанию учен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roid Sans"/>
              </a:rPr>
              <a:t>, так как в процессе овладения умениями и знаниями по теме он имеет право на ошибку.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Droid Sans"/>
              </a:rPr>
              <a:t>За каждую задачу проверочной (контрольной) рабо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roid Sans"/>
              </a:rPr>
              <a:t> по итогам темы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Droid Sans"/>
              </a:rPr>
              <a:t>отметки ставятся всем ученика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roid Sans"/>
              </a:rPr>
              <a:t>, так как каждый должен показать, как он овладел умениями и знаниями по теме. Ученик не может отказаться от выставления этой отметки, но имеет право пересд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Droid Sans"/>
              </a:rPr>
              <a:t>Оценка ученика определяется по универсальной шкале трех уровней успеш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roid Sans"/>
              </a:rPr>
              <a:t>: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Droid Sans"/>
              </a:rPr>
              <a:t>необходимый уровен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roid Sans"/>
              </a:rPr>
              <a:t> - знания, соответствующие государственному стандарту, эт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Droid Sans"/>
              </a:rPr>
              <a:t>«хорошо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roid Sans"/>
              </a:rPr>
              <a:t>;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Droid Sans"/>
              </a:rPr>
              <a:t>программный уровен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roid Sans"/>
              </a:rPr>
              <a:t>–функциональной грамотности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Droid Sans"/>
              </a:rPr>
              <a:t>«отлично»;необязательны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roid Sans"/>
              </a:rPr>
              <a:t> максимальный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Droid Sans"/>
              </a:rPr>
              <a:t>уровень- «превосходн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95280" y="0"/>
            <a:ext cx="83520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иёмы оценочной деятельн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4f81bd"/>
                </a:solidFill>
                <a:latin typeface="Calibri"/>
              </a:rPr>
              <a:t>«Лесенка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681120" y="1989000"/>
            <a:ext cx="159048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1989000"/>
            <a:ext cx="1440" cy="38880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68360" y="1989000"/>
            <a:ext cx="1800" cy="12240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68360" y="3213000"/>
            <a:ext cx="158292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51280" y="3213000"/>
            <a:ext cx="1440" cy="11527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51280" y="4365720"/>
            <a:ext cx="165744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08720" y="4365720"/>
            <a:ext cx="1440" cy="14396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752040" y="5805360"/>
            <a:ext cx="4759560" cy="716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1557360"/>
            <a:ext cx="432000" cy="431640"/>
          </a:xfrm>
          <a:prstGeom prst="smileyFace">
            <a:avLst>
              <a:gd name="adj" fmla="val 4653"/>
            </a:avLst>
          </a:prstGeom>
          <a:solidFill>
            <a:srgbClr val="008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71640" y="2781360"/>
            <a:ext cx="432000" cy="431640"/>
          </a:xfrm>
          <a:prstGeom prst="smileyFace">
            <a:avLst>
              <a:gd name="adj" fmla="val 4653"/>
            </a:avLst>
          </a:prstGeom>
          <a:solidFill>
            <a:srgbClr val="0000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00720" y="3933720"/>
            <a:ext cx="431640" cy="43200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96920" y="1916280"/>
            <a:ext cx="309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Материал усво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95640" y="249228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Требуется помощь или коррекц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51640" y="3933720"/>
            <a:ext cx="316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Не понял , как выполнить зад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684360" y="0"/>
            <a:ext cx="78483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иёмы оценочной деятельн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4f81bd"/>
                </a:solidFill>
                <a:latin typeface="Calibri"/>
              </a:rPr>
              <a:t>«Волшебная линеечка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19280" y="2852640"/>
            <a:ext cx="1440" cy="28083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332000" y="2852640"/>
            <a:ext cx="576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399680" y="2708280"/>
            <a:ext cx="365400" cy="289080"/>
          </a:xfrm>
          <a:prstGeom prst="line">
            <a:avLst/>
          </a:prstGeom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2708280"/>
            <a:ext cx="358920" cy="289080"/>
          </a:xfrm>
          <a:prstGeom prst="line">
            <a:avLst/>
          </a:prstGeom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03280" y="4221000"/>
            <a:ext cx="43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76360" y="4076640"/>
            <a:ext cx="358920" cy="28908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476360" y="4073040"/>
            <a:ext cx="287280" cy="29556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58920" y="3789360"/>
            <a:ext cx="720720" cy="792000"/>
          </a:xfrm>
          <a:prstGeom prst="ellipse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32000" y="5661000"/>
            <a:ext cx="576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93720" y="2421000"/>
            <a:ext cx="355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Оценка уче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63920" y="3933720"/>
            <a:ext cx="35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Оценка учите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 fill="hold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 fill="hold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 fill="hold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dur="indefinite" fill="hold">
                      <p:stCondLst>
                        <p:cond delay="indefinite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 fill="hold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 fill="hold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 fill="hold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 fill="hold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 fill="hold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 fill="hold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539640" y="0"/>
            <a:ext cx="8280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иёмы оценочной деятельн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4f81bd"/>
                </a:solidFill>
                <a:latin typeface="Calibri"/>
              </a:rPr>
              <a:t>« Светофор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4360" y="2637000"/>
            <a:ext cx="576000" cy="576000"/>
          </a:xfrm>
          <a:prstGeom prst="ellipse">
            <a:avLst/>
          </a:prstGeom>
          <a:solidFill>
            <a:srgbClr val="008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3860640"/>
            <a:ext cx="576000" cy="576360"/>
          </a:xfrm>
          <a:prstGeom prst="ellipse">
            <a:avLst/>
          </a:prstGeom>
          <a:solidFill>
            <a:srgbClr val="ffff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4360" y="4941720"/>
            <a:ext cx="576000" cy="576360"/>
          </a:xfrm>
          <a:prstGeom prst="ellipse">
            <a:avLst/>
          </a:prstGeom>
          <a:solidFill>
            <a:srgbClr val="ff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003640" y="4724280"/>
            <a:ext cx="155880" cy="914400"/>
          </a:xfrm>
          <a:custGeom>
            <a:avLst/>
            <a:gdLst>
              <a:gd name="textAreaLeft" fmla="*/ 0 w 155880"/>
              <a:gd name="textAreaRight" fmla="*/ 56160 w 15588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16200" y="10800"/>
                  <a:pt x="21600" y="10800"/>
                </a:cubicBezTo>
                <a:cubicBezTo>
                  <a:pt x="162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3640" y="270828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Я умею 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63640" y="386064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Я умею , но не увер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52200" y="4941720"/>
            <a:ext cx="385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Мне нужна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 fill="hold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 fill="hold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 fill="hold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7T17:04:18Z</dcterms:created>
  <dc:creator>1</dc:creator>
  <dc:description/>
  <dc:language>en-US</dc:language>
  <cp:lastModifiedBy>RePack by SPecialiST</cp:lastModifiedBy>
  <dcterms:modified xsi:type="dcterms:W3CDTF">2016-11-06T04:36:08Z</dcterms:modified>
  <cp:revision>30</cp:revision>
  <dc:subject/>
  <dc:title>Слайд 1</dc:title>
</cp:coreProperties>
</file>