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5A1C-CF5F-4CB0-B3C2-7D12E5F8ED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1DB0-84AF-4C16-8E14-0DDFD4B0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D510-0F98-46DF-AB44-159E67E1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78E1-313C-4FD3-9276-3EBE74AF0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9D9-8EB2-4858-958B-170295A3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839-212D-4670-A8A5-15803D53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8A1-46A3-4DAA-86CF-4383A462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04A-23EE-43D5-8EC6-EF7FD484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64A-9931-4056-92FA-6588A76F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24B-734F-4FDD-80E0-32C0C727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750-DCD3-4C26-BB7B-ACEA7935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4929-F75E-4913-9844-489CC03F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C90-BFAA-4B36-AAC4-FE19C5C6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DE4-3027-4507-957B-E0B76D9D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EAC-AF0D-441B-A1C2-5404DF80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FDC-8962-419C-A221-6685D311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75B-9CFE-4318-8167-17709059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5450-CD13-4E6C-ABA3-AED195B0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731B-1B75-4500-A69B-2C454945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D508-DC27-436D-97B8-70020BEF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FFE9-FB4F-44D1-83D9-7A92F65C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EEE9-95B3-45CA-B64A-554A5C69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53B6-D295-428C-85AC-2CE0E128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A392-C0DF-4CCF-981E-DFB21B5F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354DE-481B-43C2-940E-71E7C8AE4D7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55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5120" y="-1440"/>
            <a:ext cx="8012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1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4DCCDB-D392-4836-8503-FB3042B23EBE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-181080" y="0"/>
            <a:ext cx="9325080" cy="6858000"/>
            <a:chOff x="-181080" y="0"/>
            <a:chExt cx="9325080" cy="6858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325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181080" y="0"/>
              <a:ext cx="9325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8360" y="476280"/>
            <a:ext cx="82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Организация эффективной контрольно - оценочной деятельности в начальной школе в условиях ФГО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1840" y="3959280"/>
            <a:ext cx="858816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«Тот, кого я учу, — это, прежде всего, живой человек, ребенок, а потом ученик. Оценка, которую я ставлю ему — это не только измеритель его знаний, но, прежде всего, мое отношение к нему как к человек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(В.А. Сухомлинский «Сердце отдаю детям»)</a:t>
            </a:r>
            <a:r>
              <a:rPr b="1" i="1" lang="ru-RU" sz="28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84360" y="18900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1557360"/>
            <a:ext cx="54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Словесные 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41280" y="1847880"/>
            <a:ext cx="3797280" cy="1144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003640" y="3141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108320" y="2682720"/>
            <a:ext cx="3365640" cy="1097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030320" y="3664080"/>
            <a:ext cx="3554280" cy="115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743360" y="4578480"/>
            <a:ext cx="3840120" cy="1212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0560" y="602136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игнальные кар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11280" y="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141300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Оценочный лис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лист самооценки работы на уро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 самооценки работы в паре ( группе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 самооценки  работы над проектом ( творческим делом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 самооценки по результатам проверочной ( контрольной работ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95280" y="404640"/>
            <a:ext cx="82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Лист учебных достижений.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421000"/>
            <a:ext cx="324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следить динамику продвижения учащихся в достижении предметных и метапредметн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2492280"/>
            <a:ext cx="3097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 создании учиты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у и требования к обязательному минимуму содержан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-181080" y="0"/>
            <a:ext cx="9325080" cy="6858000"/>
            <a:chOff x="-181080" y="0"/>
            <a:chExt cx="9325080" cy="685800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325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-181080" y="0"/>
              <a:ext cx="9325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55640" y="476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веты учител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413000"/>
            <a:ext cx="84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1.Совет пер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у младших школьников уверенность в своих си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2.Совет вт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ставлять ученику право выбора трудности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3.Совет тре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бирать с учащимися работы ( контрольные , самостоятельные) сразу после их выпол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-181080" y="0"/>
            <a:ext cx="9325080" cy="6858000"/>
            <a:chOff x="-181080" y="0"/>
            <a:chExt cx="9325080" cy="68580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325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-181080" y="0"/>
              <a:ext cx="9325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108080" y="1397160"/>
            <a:ext cx="72198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SimSun"/>
              </a:rPr>
              <a:t>Оценка – это правильно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SimSun"/>
              </a:rPr>
              <a:t>кровообращение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SimSun"/>
              </a:rPr>
              <a:t>без нее неизбежны застой 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SimSun"/>
              </a:rPr>
              <a:t>болезненные явления.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SimSun"/>
              </a:rPr>
              <a:t>Н. Остр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60520" y="1731960"/>
            <a:ext cx="805320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325080" cy="6858000"/>
            <a:chOff x="0" y="0"/>
            <a:chExt cx="9325080" cy="6858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25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325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14600" y="260280"/>
            <a:ext cx="54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то такое оценивание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44468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пределение позитивных и негативных моментов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контроль качества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инструмент , позволяющий определят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, прогресса в препода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пособ коррекции деятельности обучаемых , с помощью которого учитель определяет уровень подготовленности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взгляд на свои действия и поступки, результаты сво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900000" y="54936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пособы осуществления оцени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492280"/>
            <a:ext cx="381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личественный показ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метка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ультаты тестирования в бал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565360"/>
            <a:ext cx="42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чественный показ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овесные высказывания о процессе и результате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моциональная реак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4360" y="836640"/>
            <a:ext cx="76327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вместный анал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я сделал не так , ч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я должен изменить свою деятельность , чтобы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39640" y="981000"/>
            <a:ext cx="7993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ему целесообразно учить младших школьников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знавать мотив своей деятельности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овать свою деятельность;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ировать достигнутый результат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ть характеристику отм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39640" y="198360"/>
            <a:ext cx="6651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Droid Sans"/>
              </a:rPr>
              <a:t>Правила новой технологии оценивани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Droid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80" y="1257480"/>
            <a:ext cx="908532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Оценивается любо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особен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успешное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действи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а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фиксируется отметкой только решение полноценной зада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, т.е. умения по использованию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Учитель и ученик по возможности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определяют оценку в диалог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(внешняя оценка +самооцен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За каждую учебную задач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или группу заданий, показывающих овладение отдельным умением,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ставится отдельная отметка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За задачи, решенные при изучении новой темы, отметка ставится только по желанию уче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, так как в процессе овладения умениями и знаниями по теме он имеет право на ошибку.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За каждую задачу проверочной (контрольной)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по итогам темы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отметки ставятся всем ученик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, так как каждый должен показать, как он овладел умениями и знаниями по теме. Ученик не может отказаться от выставления этой отметки, но имеет право перес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Оценка ученика определяется по универсальной шкале трех уровней успеш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необходим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- знания, соответствующие государственному стандарту, э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«хорошо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программ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–функциональной грамотност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«отлично»;необязатель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максималь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уровень- «превосход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95280" y="0"/>
            <a:ext cx="8352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«Лесен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81120" y="1989000"/>
            <a:ext cx="159048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989000"/>
            <a:ext cx="1440" cy="3888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1989000"/>
            <a:ext cx="1800" cy="1224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213000"/>
            <a:ext cx="158292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3213000"/>
            <a:ext cx="1440" cy="1152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4365720"/>
            <a:ext cx="165744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4365720"/>
            <a:ext cx="1440" cy="1439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52040" y="5805360"/>
            <a:ext cx="4759560" cy="71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557360"/>
            <a:ext cx="432000" cy="431640"/>
          </a:xfrm>
          <a:prstGeom prst="smileyFace">
            <a:avLst>
              <a:gd name="adj" fmla="val 4653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781360"/>
            <a:ext cx="432000" cy="431640"/>
          </a:xfrm>
          <a:prstGeom prst="smileyFace">
            <a:avLst>
              <a:gd name="adj" fmla="val 4653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3933720"/>
            <a:ext cx="431640" cy="432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6920" y="191628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атериал усво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2492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Требуется помощь или корре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3933720"/>
            <a:ext cx="316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е понял , как выполнить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84360" y="0"/>
            <a:ext cx="784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«Волшебная линееч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19280" y="2852640"/>
            <a:ext cx="144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2852640"/>
            <a:ext cx="576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399680" y="2708280"/>
            <a:ext cx="36540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221000"/>
            <a:ext cx="43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4076640"/>
            <a:ext cx="358920" cy="289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476360" y="4073040"/>
            <a:ext cx="287280" cy="29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3789360"/>
            <a:ext cx="720720" cy="79200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5661000"/>
            <a:ext cx="576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93720" y="242100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Оценка уче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63920" y="393372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Оценка уч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39640" y="0"/>
            <a:ext cx="82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« Светофо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2637000"/>
            <a:ext cx="576000" cy="576000"/>
          </a:xfrm>
          <a:prstGeom prst="ellipse">
            <a:avLst/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860640"/>
            <a:ext cx="576000" cy="576360"/>
          </a:xfrm>
          <a:prstGeom prst="ellipse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941720"/>
            <a:ext cx="576000" cy="57636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472428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2708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умею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3640" y="38606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умею , но не уве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52200" y="4941720"/>
            <a:ext cx="38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не нужна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7T17:04:18Z</dcterms:created>
  <dc:creator>1</dc:creator>
  <dc:description/>
  <dc:language>en-US</dc:language>
  <cp:lastModifiedBy>RePack by SPecialiST</cp:lastModifiedBy>
  <dcterms:modified xsi:type="dcterms:W3CDTF">2016-11-06T04:36:08Z</dcterms:modified>
  <cp:revision>30</cp:revision>
  <dc:subject/>
  <dc:title>Слайд 1</dc:title>
</cp:coreProperties>
</file>