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CBC32-7921-49C5-A3A1-C79596EB2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A2BBA-FBD2-4451-AAF2-591D906E6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47B28-6468-47A6-A587-B7D2F5957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A2A01-C632-4FB5-9B7A-1F969920F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6552E-3A8D-4A70-A216-2E8711945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518FF-BE5C-462B-85FF-E96F8C102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D2F77-CB26-4495-BE61-1E682C62F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91E5D-D1AE-48ED-BD08-CFF90EDC9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4E58C-7DE2-4E06-A9E6-3276A3305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089D3-3FC2-4C23-8C6E-10733C7C2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AA510-2069-447A-A361-CC097BD7D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04BE7-6881-4045-9C60-1680A5690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AF397-BD15-4F5E-806E-5C33428BB42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4360" y="1989000"/>
            <a:ext cx="799128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Патриотическая акция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«Стена Памяти»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685800" y="765000"/>
            <a:ext cx="798984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ГБОУИ «Лицей имени Кирилла и Мефодия»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5000">
    <p:pull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684000" y="404280"/>
            <a:ext cx="800244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Цель: формирование патриотического воспитания молодого поколения на основе героических событий Великой Отечественной войны 1941 – 1945 годов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Задачи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воспитание и популяризация гражданственности и патриотизма, ответственности за судьбу страны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сохранение и развитие чувства гордости за свою страну и малую родину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проявление уважения к бессмертному воинскому подвигу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воспитание  чувства гордости за историческое прошлое нашей Родины, а также историческое прошлое своей семьи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сохранение памяти о воинах, погибших при защите Отечества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поиск и обмен данными о тех людях, кто ковал победу на фронте или в тылу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5000"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468360" y="404280"/>
            <a:ext cx="820728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 16 апреля  по 10 мая 2018 года прошла патриотическая акция «Стена Памяти», приуроченная к празднованию Победы в Великой Отечественной войне. Акция направлена на формирование у подрастающего поколения сопричастности к далеким историческим событиям, чувства патриотизма и гордости за Великую Победу их предков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частникам акции предлагалось найти в семейных альбомах фотографии, фронтовые письма, воспоминания  родственников, участвовавших в Великой Отечественной войне – ветеранов войны и тружеников тыла и принести организаторам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5000">
    <p:pull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684000" y="404280"/>
            <a:ext cx="8002440" cy="10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Были предоставлены фотографии участников Великой Отечественной войны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684360" y="1413000"/>
            <a:ext cx="1974600" cy="25207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" descr=""/>
          <p:cNvPicPr/>
          <p:nvPr/>
        </p:nvPicPr>
        <p:blipFill>
          <a:blip r:embed="rId2"/>
          <a:stretch/>
        </p:blipFill>
        <p:spPr>
          <a:xfrm>
            <a:off x="3630600" y="1379520"/>
            <a:ext cx="1860480" cy="24811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"/>
          <p:cNvPicPr/>
          <p:nvPr/>
        </p:nvPicPr>
        <p:blipFill>
          <a:blip r:embed="rId3"/>
          <a:stretch/>
        </p:blipFill>
        <p:spPr>
          <a:xfrm>
            <a:off x="2268360" y="3429000"/>
            <a:ext cx="1943280" cy="25956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"/>
          <p:cNvPicPr/>
          <p:nvPr/>
        </p:nvPicPr>
        <p:blipFill>
          <a:blip r:embed="rId4"/>
          <a:stretch/>
        </p:blipFill>
        <p:spPr>
          <a:xfrm>
            <a:off x="6256440" y="1386000"/>
            <a:ext cx="1963800" cy="26924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"/>
          <p:cNvPicPr/>
          <p:nvPr/>
        </p:nvPicPr>
        <p:blipFill>
          <a:blip r:embed="rId5"/>
          <a:stretch/>
        </p:blipFill>
        <p:spPr>
          <a:xfrm>
            <a:off x="4788000" y="3446640"/>
            <a:ext cx="1974600" cy="259704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pull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684000" y="404280"/>
            <a:ext cx="800244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ыли предоставлены копии наградных листов, фронтовые письма и другие памятные семейные документ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3" descr=""/>
          <p:cNvPicPr/>
          <p:nvPr/>
        </p:nvPicPr>
        <p:blipFill>
          <a:blip r:embed="rId1"/>
          <a:stretch/>
        </p:blipFill>
        <p:spPr>
          <a:xfrm>
            <a:off x="1042920" y="1225440"/>
            <a:ext cx="3024360" cy="46339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"/>
          <p:cNvPicPr/>
          <p:nvPr/>
        </p:nvPicPr>
        <p:blipFill>
          <a:blip r:embed="rId2"/>
          <a:stretch/>
        </p:blipFill>
        <p:spPr>
          <a:xfrm>
            <a:off x="4456080" y="1700280"/>
            <a:ext cx="3870360" cy="387036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pull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3" descr=""/>
          <p:cNvPicPr/>
          <p:nvPr/>
        </p:nvPicPr>
        <p:blipFill>
          <a:blip r:embed="rId1"/>
          <a:stretch/>
        </p:blipFill>
        <p:spPr>
          <a:xfrm>
            <a:off x="4780080" y="1808280"/>
            <a:ext cx="3852720" cy="28447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" descr=""/>
          <p:cNvPicPr/>
          <p:nvPr/>
        </p:nvPicPr>
        <p:blipFill>
          <a:blip r:embed="rId2"/>
          <a:stretch/>
        </p:blipFill>
        <p:spPr>
          <a:xfrm>
            <a:off x="528480" y="479520"/>
            <a:ext cx="4251600" cy="27763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"/>
          <p:cNvPicPr/>
          <p:nvPr/>
        </p:nvPicPr>
        <p:blipFill>
          <a:blip r:embed="rId3"/>
          <a:stretch/>
        </p:blipFill>
        <p:spPr>
          <a:xfrm>
            <a:off x="755640" y="3429000"/>
            <a:ext cx="3908520" cy="259884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pull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6T20:41:41Z</dcterms:created>
  <dc:creator>Елена</dc:creator>
  <dc:description/>
  <dc:language>en-US</dc:language>
  <cp:lastModifiedBy>Сергей</cp:lastModifiedBy>
  <dcterms:modified xsi:type="dcterms:W3CDTF">2018-11-15T20:00:52Z</dcterms:modified>
  <cp:revision>27</cp:revision>
  <dc:subject/>
  <dc:title>Слайд 1</dc:title>
</cp:coreProperties>
</file>