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DFE-71C6-49E7-B979-1310D9E1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BB2-738D-4E33-A539-111D5C63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7A4-6394-4A01-AD1C-53B67C3D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5C9-66B6-4E37-BE91-D8851BE5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CF3-817A-4F19-BD47-9EFBBA45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329-D9EC-4379-898B-954AD87F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6FE-206A-4203-A1F7-1AFE86CD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802-4FEA-4403-A57A-A513FB76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023-16E9-4B15-8F3A-846E89EA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DB6-18DD-4D5B-AACA-54B1C71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D3F-0680-442F-9BC7-D0061DBC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85F-E3A6-4FF6-B9B8-4EE95E8F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E069-0543-4F32-940D-F920916074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99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атриотическая акц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Стена Памяти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765000"/>
            <a:ext cx="79898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БОУИ «Лицей имени Кирилла и Мефоди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ль: формирование патриотического воспитания молодого поколения на основе героических событий Великой Отечественной войны 1941 – 1945 год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ание и популяризация гражданственности и патриотизма, ответственности за судьбу стран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хранение и развитие чувства гордости за свою страну и малую родину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явление уважения к бессмертному воинскому подвигу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ание  чувства гордости за историческое прошлое нашей Родины, а также историческое прошлое своей семь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хранение памяти о воинах, погибших при защите Отече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иск и обмен данными о тех людях, кто ковал победу на фронте или в тыл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404280"/>
            <a:ext cx="82072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16 апреля  по 10 мая 2018 года прошла патриотическая акция «Стена Памяти», приуроченная к празднованию Победы в Великой Отечественной войне. Акция направлена на формирование у подрастающего поколения сопричастности к далеким историческим событиям, чувства патриотизма и гордости за Великую Победу их пред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стникам акции предлагалось найти в семейных альбомах фотографии, фронтовые письма, воспоминания  родственников, участвовавших в Великой Отечественной войне – ветеранов войны и тружеников тыла и принести организатор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4000" y="404280"/>
            <a:ext cx="8002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и предоставлены фотографии участников Великой Отечественной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1974600" cy="252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3630600" y="1379520"/>
            <a:ext cx="1860480" cy="24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2268360" y="3429000"/>
            <a:ext cx="1943280" cy="259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4"/>
          <a:stretch/>
        </p:blipFill>
        <p:spPr>
          <a:xfrm>
            <a:off x="6256440" y="1386000"/>
            <a:ext cx="1963800" cy="269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4788000" y="3446640"/>
            <a:ext cx="1974600" cy="25970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000" y="404280"/>
            <a:ext cx="8002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и предоставлены копии наградных листов, фронтовые письма и другие памятные семейные доку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042920" y="1225440"/>
            <a:ext cx="3024360" cy="463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456080" y="1700280"/>
            <a:ext cx="3870360" cy="3870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780080" y="1808280"/>
            <a:ext cx="3852720" cy="28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528480" y="479520"/>
            <a:ext cx="4251600" cy="27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3908520" cy="259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Сергей</cp:lastModifiedBy>
  <dcterms:modified xsi:type="dcterms:W3CDTF">2018-11-15T20:00:52Z</dcterms:modified>
  <cp:revision>27</cp:revision>
  <dc:subject/>
  <dc:title>Слайд 1</dc:title>
</cp:coreProperties>
</file>