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9F8-CAC3-4B47-A409-CF7811F1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146-291E-40F3-B6E9-BC495FC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871-B94D-4DA8-8E1B-651928A2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8A1-29D4-4B0D-8AD2-08B96F1E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711-91FB-49FA-9CA0-1B78B957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32F-75EC-4900-93FE-2DBD23F6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BA9-F7AC-4E7E-B149-B7260CA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B5F-C9A5-44CB-9002-285FA68A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821-93C8-4F53-BDC6-3A3E48E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B168-9593-4245-BD43-5ED5D6D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4A2E-B768-4C75-998A-2DAAC94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997-FAD3-40AF-BAD7-776F04B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BA1-E597-4F08-B654-D9503A7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DBD-06C5-4E8E-9CE6-A29A5F9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9A2-D28B-4F99-8021-9E7B555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E076-26A7-4AC2-A227-2CDDD779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CA24-FECE-43AC-B46D-F9736EF1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0027-F7C1-4C7F-A861-ED6C4D03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BB3B-5EAE-4423-99E5-AF542326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955F-61D7-46DD-B4E4-840DC7B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55F2-504B-48A5-AF6D-FC0665B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9E8F-20EE-4521-8C22-5106B839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FDC-58DB-4650-B0B6-5FC6B8A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293F-1319-4F90-89F6-795E030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6B66-E5FF-489D-8D12-DF9C294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A9CD-6742-4655-A0FD-FEAC546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D096-0F80-4819-B348-FCC82E50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1F7B-8BCD-4558-A95A-ECDAC64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72AE-FD24-4F86-9D77-66406C15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94DD-90AD-4014-8DAC-B04DDB86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DD26-A171-4B7C-A5C1-81BED3F9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D52B-0C1A-4144-BE0E-DD33936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55C4-4777-4330-AE38-2776237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005-2C74-4EF9-BD03-B773B15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6C9A-4B05-4DC6-B750-0F4C5FC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0C9F-00CD-4CE9-91CA-F81E8592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B0F3-75AC-4C4D-B82D-109ED66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6A09-1DF7-43F3-8AB3-908542BD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71A8-7ECA-4068-88C4-189BD0F5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1134-F070-4910-B0C5-0EE665F3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0688-7C11-43FC-B461-2E5210D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EBC0-CE6C-45FE-AE0B-61880E6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0E33-FC4A-489D-9837-5D52B8FE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1A75-ECE6-4B12-8E58-9359667A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FFA-8E94-4EEF-A7E7-39B27414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FFB0-33E4-4190-9A47-1DD140F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7D39-1E19-46FF-BB1B-D7732029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C3E3-8EBC-47F7-98F7-67006888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AA5B-C52B-4591-A038-EA334A6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D106-B01B-41EF-8707-9F720883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05FC-7DF0-4E7C-B458-8D6EC6D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BD03-A4F1-4E2A-AF7C-306A6E1C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1144-ABD1-4EBF-97D1-F491C59A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6AB7-FF94-4CC4-B856-846E16C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460F-F326-4009-91A2-A8310402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B0A-1B7E-4CB7-9559-28EA6FD9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1194-F100-4A59-BE9C-42D687AC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7D4D-6DEB-42F8-BC18-59C5CA8B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FCC76-A98B-420D-A339-0AA78CB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9A38-BAE2-4911-85A6-FBC1ACE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1971-0FD2-4C20-9D47-4F7AFC36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BFF3-FE91-48B1-BB05-4C85CFE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7CBE-3266-499C-B88B-2089F9D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2904-EAA8-4CC6-89FC-CEC2654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8E19-C08F-41CD-83E0-05E92EB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D57E2-F102-4C84-81F2-FF3BA6A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F54-C883-410F-8AB5-A5FF468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044A-873C-402D-8253-6E543A1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536B-C8E4-4B20-8EDB-756D0FFA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B6BD5-FDCA-4088-A96A-857687DA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451A7-B562-433B-814E-F57073F2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486FA-ECD2-4C39-819A-568FDC6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9930A-78CE-4125-AF97-798595CB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D053-A86B-4B22-9B9A-149053C1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C5B16-F462-47D1-8C7D-37140D1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09EA-E554-45BB-8EB0-DAC262F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2FC3-28BC-4DBF-A98D-596633C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130-2F23-4DCA-A149-20BE80F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04A1-723A-488C-A5DC-C223483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B367-A945-49AB-804C-9F7D70E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2FB4-5E6D-49AB-A61E-37B5943E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D072-6AED-4EF0-A2FB-CF8B2AEF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1937-0788-4AFC-BAEF-9001A11D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8E3F-C990-4217-B86D-6A53ACC7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CF37D-4C61-4141-9925-039AB4DB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47BC-519E-4081-A540-57427491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2D03-DA7A-4AD2-938A-3FFE2A38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0916-1FDF-490C-8A6D-37B391F8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BC5-86D9-4097-AC17-4114E66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A46E-57A0-4B8C-95B8-61FD8E9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2A592-EC28-447C-98A2-4C5EB7E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6BBD-CD43-4719-B11E-DCE704B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B5D9-F1C0-4CE0-A8AF-565DFAF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BF46D-3CBB-4130-BF20-0C694D9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6300-4EE6-4864-8282-9BB4E97B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8C49-0341-4321-BB87-363CEAF0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DBCF-256F-496A-9D5E-12DFAA62F6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972C-9AC0-4B16-9502-26ECD839CD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7B61-96D7-49DA-8B34-55AA01FF55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4E3-A454-4B80-8996-B2757EAFAD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C247-530C-471D-90A3-6A3AEF3E7D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AAC8-889A-4C69-BA59-0D5839CB45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E40-B5DA-45C5-9CAD-F8E323E504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102B-185E-4DEA-BC22-E28A828EA4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7"/>
          <p:cNvSpPr txBox="1"/>
          <p:nvPr/>
        </p:nvSpPr>
        <p:spPr>
          <a:xfrm rot="21328200">
            <a:off x="1219320" y="2320920"/>
            <a:ext cx="7107120" cy="2560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Генети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3acf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по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3acf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– нормальная свертываемость           кров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en-US" sz="2400" spc="-1" strike="noStrike" baseline="60000">
                <a:solidFill>
                  <a:srgbClr val="073e87"/>
                </a:solidFill>
                <a:latin typeface="Candara"/>
              </a:rPr>
              <a:t>h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– гемофил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 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одержит  ге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Наследование гемофил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Picture 6" descr="research_blut02_artikel"/>
          <p:cNvPicPr/>
          <p:nvPr/>
        </p:nvPicPr>
        <p:blipFill>
          <a:blip r:embed="rId1"/>
          <a:stretch/>
        </p:blipFill>
        <p:spPr>
          <a:xfrm>
            <a:off x="5651640" y="2997360"/>
            <a:ext cx="3321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68000" y="1699920"/>
            <a:ext cx="9001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♀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 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х       ♂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 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орм.               нор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♂  .  .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емоф.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Х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– норм., Х</a:t>
            </a:r>
            <a:r>
              <a:rPr b="1" lang="en-US" sz="2400" spc="-1" strike="noStrike" baseline="60000">
                <a:solidFill>
                  <a:srgbClr val="073e87"/>
                </a:solidFill>
                <a:latin typeface="Candara"/>
              </a:rPr>
              <a:t>h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– гемофилия,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 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одержит ген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Решите задачу: какие еще дети могут родиться в этой семье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234000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349236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7"/>
          <p:cNvSpPr/>
          <p:nvPr/>
        </p:nvSpPr>
        <p:spPr>
          <a:xfrm>
            <a:off x="507672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6372360" y="3141720"/>
            <a:ext cx="57600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H="1">
            <a:off x="2916000" y="2637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64000" y="2637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5579640" y="2708280"/>
            <a:ext cx="289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>
            <a:off x="6084720" y="270828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4572000" y="249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2901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Проверьте свое реше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4" name="Picture 4" descr="Наследование гемофилии"/>
          <p:cNvPicPr/>
          <p:nvPr/>
        </p:nvPicPr>
        <p:blipFill>
          <a:blip r:embed="rId1"/>
          <a:stretch/>
        </p:blipFill>
        <p:spPr>
          <a:xfrm>
            <a:off x="2627280" y="1484280"/>
            <a:ext cx="394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8920" y="1125000"/>
            <a:ext cx="597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сле свадьбы молодой супруге “доброжелатели” открыли семейную тайну ее мужа. Оказалось, что и ее мужу, и его братьям, и их отцу в раннем детстве была сделана операция по ликвидации синдактилии (врожденного сращивания безымянного и среднего пальцев на руках). Будущая мама обратилась за советом к медикам. Какова вероятность рождения у нее ребенка с такой патологией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Семейная тайн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Picture 4" descr="index"/>
          <p:cNvPicPr/>
          <p:nvPr/>
        </p:nvPicPr>
        <p:blipFill>
          <a:blip r:embed="rId1"/>
          <a:stretch/>
        </p:blipFill>
        <p:spPr>
          <a:xfrm>
            <a:off x="6013440" y="2637000"/>
            <a:ext cx="27892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0" name="Picture 8" descr="https://ds04.infourok.ru/uploads/ex/0f62/0007fea1-585b7498/img15.jpg"/>
          <p:cNvPicPr/>
          <p:nvPr/>
        </p:nvPicPr>
        <p:blipFill>
          <a:blip r:embed="rId1"/>
          <a:srcRect l="2457" t="20226" r="2457" b="11386"/>
          <a:stretch/>
        </p:blipFill>
        <p:spPr>
          <a:xfrm>
            <a:off x="1979640" y="1773360"/>
            <a:ext cx="4838760" cy="2609640"/>
          </a:xfrm>
          <a:prstGeom prst="rect">
            <a:avLst/>
          </a:prstGeom>
          <a:ln w="38160">
            <a:solidFill>
              <a:srgbClr val="83d3fe"/>
            </a:solidFill>
            <a:miter/>
          </a:ln>
        </p:spPr>
      </p:pic>
      <p:sp>
        <p:nvSpPr>
          <p:cNvPr id="431" name="TextBox 1"/>
          <p:cNvSpPr/>
          <p:nvPr/>
        </p:nvSpPr>
        <p:spPr>
          <a:xfrm>
            <a:off x="611280" y="4653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евероятных фак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правдивая выду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94920" y="620640"/>
            <a:ext cx="830268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дача: Ген чёрной масти кошки не полностью доминирует над рыжей, сцеплен с Х – хромосомой. Гетерозигота даёт черепаховую окраску. Чёрная кошка принесла котят. У одного из которых черепаховая окраска, у трёх – чёрная. Каков пол котят?  Какой масти кот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Кот был рыж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репаховая масть у ко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Три котёнка – это ко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3" name="Picture 9" descr="animals_1363_Zlaga_ru"/>
          <p:cNvPicPr/>
          <p:nvPr/>
        </p:nvPicPr>
        <p:blipFill>
          <a:blip r:embed="rId1"/>
          <a:stretch/>
        </p:blipFill>
        <p:spPr>
          <a:xfrm>
            <a:off x="6156360" y="4653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5" name="Picture 2" descr="https://new.sibapp.com/attachments/Sibapp/Domains/ApplicationDomain/Models/ApplicationImage/images/000/037/736/medium/stapler-tGg1Pk.jpeg"/>
          <p:cNvPicPr/>
          <p:nvPr/>
        </p:nvPicPr>
        <p:blipFill>
          <a:blip r:embed="rId1"/>
          <a:stretch/>
        </p:blipFill>
        <p:spPr>
          <a:xfrm>
            <a:off x="2195640" y="1341360"/>
            <a:ext cx="4680000" cy="440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6" name="TextBox 2"/>
          <p:cNvSpPr/>
          <p:nvPr/>
        </p:nvSpPr>
        <p:spPr>
          <a:xfrm>
            <a:off x="2195640" y="57484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естики – Нол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араграф 2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рить термины и законы генет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шить задачу на генетику пола с сайта «Решу ЕГЭ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900000" y="4076640"/>
            <a:ext cx="575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сотрудничест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0" name="Picture 4" descr="ANTN027"/>
          <p:cNvPicPr/>
          <p:nvPr/>
        </p:nvPicPr>
        <p:blipFill>
          <a:blip r:embed="rId1"/>
          <a:stretch/>
        </p:blipFill>
        <p:spPr>
          <a:xfrm>
            <a:off x="6443640" y="4653000"/>
            <a:ext cx="25304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987640" y="1628640"/>
            <a:ext cx="5554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ирование пола у челове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енотипы, определяющие пол у других организм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шение задач, связанных с генетикой по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5" descr="BANDMAST"/>
          <p:cNvPicPr/>
          <p:nvPr/>
        </p:nvPicPr>
        <p:blipFill>
          <a:blip r:embed="rId1"/>
          <a:stretch/>
        </p:blipFill>
        <p:spPr>
          <a:xfrm>
            <a:off x="539640" y="1668600"/>
            <a:ext cx="172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000" y="2276280"/>
            <a:ext cx="815652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н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ноти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Феноти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ллельные ген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омозиготный организм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терозиготный организм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оминантный призна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ецессивный призна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термины</a:t>
            </a:r>
            <a:br>
              <a:rPr sz="43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ое лот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5" descr="MOUSREAD"/>
          <p:cNvPicPr/>
          <p:nvPr/>
        </p:nvPicPr>
        <p:blipFill>
          <a:blip r:embed="rId1"/>
          <a:stretch/>
        </p:blipFill>
        <p:spPr>
          <a:xfrm>
            <a:off x="6372360" y="3573360"/>
            <a:ext cx="2244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55700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ромосо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утосомы                            Полов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2 пары                              23-я пар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Х ил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Хромосомное определение пол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 человек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Line 4"/>
          <p:cNvSpPr/>
          <p:nvPr/>
        </p:nvSpPr>
        <p:spPr>
          <a:xfrm flipH="1">
            <a:off x="2987280" y="2060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5364000" y="2060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3" descr="HW_01"/>
          <p:cNvPicPr/>
          <p:nvPr/>
        </p:nvPicPr>
        <p:blipFill>
          <a:blip r:embed="rId1"/>
          <a:srcRect l="2832" t="1425" r="2867" b="2249"/>
          <a:stretch/>
        </p:blipFill>
        <p:spPr>
          <a:xfrm>
            <a:off x="2914560" y="3860640"/>
            <a:ext cx="2766960" cy="280836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684360" y="2852640"/>
            <a:ext cx="2519280" cy="50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5970600" y="2852640"/>
            <a:ext cx="2346480" cy="50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5796000" y="4005360"/>
            <a:ext cx="2663640" cy="503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frol7"/>
          <p:cNvPicPr/>
          <p:nvPr/>
        </p:nvPicPr>
        <p:blipFill>
          <a:blip r:embed="rId1"/>
          <a:stretch/>
        </p:blipFill>
        <p:spPr>
          <a:xfrm>
            <a:off x="3481560" y="3614760"/>
            <a:ext cx="2190600" cy="157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Как вы думаете,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какая хромосома – Х или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Y</a:t>
            </a: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 –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важнее для организма?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Х-хромосома содержит больше генов и они определяют важные функции: свертываемость крови, наличие потовых желез, цветовое зрение и други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утация Х0 жизнеспособн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Y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-хромосома определяе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тие мужских половых признаков и некоторые другие, как например оволосение ушной раковины, сращение пальце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утация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Y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0 летальн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4" descr="ген"/>
          <p:cNvPicPr/>
          <p:nvPr/>
        </p:nvPicPr>
        <p:blipFill>
          <a:blip r:embed="rId1"/>
          <a:stretch/>
        </p:blipFill>
        <p:spPr>
          <a:xfrm>
            <a:off x="6659640" y="1989000"/>
            <a:ext cx="2004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ndara"/>
              </a:rPr>
              <a:t>ЗАПОМНИТЕ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Гетеро</a:t>
            </a:r>
            <a:r>
              <a:rPr b="1" lang="ru-RU" sz="3600" spc="-1" strike="noStrike">
                <a:solidFill>
                  <a:srgbClr val="ff7c80"/>
                </a:solidFill>
                <a:latin typeface="Candara"/>
              </a:rPr>
              <a:t>гаметность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Х</a:t>
            </a:r>
            <a:r>
              <a:rPr b="1" lang="en-US" sz="3600" spc="-1" strike="noStrike">
                <a:solidFill>
                  <a:srgbClr val="ffff00"/>
                </a:solidFill>
                <a:latin typeface="Candara"/>
              </a:rPr>
              <a:t>Y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 или Х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0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,</a:t>
            </a:r>
            <a:br>
              <a:rPr sz="3600"/>
            </a:br>
            <a:r>
              <a:rPr b="1" lang="ru-RU" sz="3600" spc="-1" strike="noStrike">
                <a:solidFill>
                  <a:srgbClr val="ff7c80"/>
                </a:solidFill>
                <a:latin typeface="Candara"/>
              </a:rPr>
              <a:t>гомогаметность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- 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ХХ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Picture 3" descr="Птичка"/>
          <p:cNvPicPr/>
          <p:nvPr/>
        </p:nvPicPr>
        <p:blipFill>
          <a:blip r:embed="rId1"/>
          <a:stretch/>
        </p:blipFill>
        <p:spPr>
          <a:xfrm>
            <a:off x="102060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Собака"/>
          <p:cNvPicPr/>
          <p:nvPr/>
        </p:nvPicPr>
        <p:blipFill>
          <a:blip r:embed="rId2"/>
          <a:stretch/>
        </p:blipFill>
        <p:spPr>
          <a:xfrm>
            <a:off x="611280" y="2276640"/>
            <a:ext cx="2808360" cy="1854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ff"/>
                </a:solidFill>
                <a:latin typeface="Candara"/>
              </a:rPr>
              <a:t>Мужска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етерогаметность –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 большинства ви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Что вы видите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7" name="Picture 5" descr="https://www.brainpickings.org/wp-content/uploads/2008/09/dna.png"/>
          <p:cNvPicPr/>
          <p:nvPr/>
        </p:nvPicPr>
        <p:blipFill>
          <a:blip r:embed="rId1"/>
          <a:srcRect l="0" t="36868" r="0" b="0"/>
          <a:stretch/>
        </p:blipFill>
        <p:spPr>
          <a:xfrm>
            <a:off x="1763640" y="2492280"/>
            <a:ext cx="53913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7" descr="2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9:03:37Z</dcterms:created>
  <dc:creator>Ирина Евгеньевна</dc:creator>
  <dc:description/>
  <dc:language>en-US</dc:language>
  <cp:lastModifiedBy>Димас</cp:lastModifiedBy>
  <dcterms:modified xsi:type="dcterms:W3CDTF">2018-11-15T09:45:59Z</dcterms:modified>
  <cp:revision>46</cp:revision>
  <dc:subject/>
  <dc:title>Слайд 1</dc:title>
</cp:coreProperties>
</file>