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6.wmf" ContentType="image/x-wmf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B0C-A602-4B03-9E7E-60381D23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569-96F0-4F12-9D8D-AB445FAB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F110-B6BE-40C4-8E41-79BC3C25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D0C-C8C4-48D5-B0EA-B0434F31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3A9D-8FAC-4905-9AC1-A110FBC8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F1C7-60C2-446C-BF83-EBB8F2D0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FCD4-0226-4DC5-8B01-D4AE54FC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F96D-4807-4FD5-8CEA-89F85341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E160-3FF1-4258-B9DD-F6C8C7E3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28C3-C5AB-4925-AAA6-4C09EDAC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3AFF-6751-42A1-AF9D-3F4AABED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7A8B-04C8-49BE-8F00-31C68404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2069-1FCE-4FDB-8921-13BB8534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CE74-86D5-408C-BACB-FBA6B5F4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C782-5BA0-4647-AF56-A49B08CE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6C5C-9320-4693-A490-90C2D06F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122D-4A7F-462E-8A00-1F3480BE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D93D1-E983-4265-B049-C8F93231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C285E-90C0-4073-AD16-A0851904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26D50-B4C1-4BEF-A010-28699967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A6B9D-0401-4B18-B220-B17D96F4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080B2-9EC1-45D4-9995-D7EB3E07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F3E-A57A-4E39-9E40-3091EB8C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245DE-DC6C-49DC-9713-D6DB3AB3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0BA11-47FC-42E3-AC9A-3DCFF988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821ED-FA44-44DB-941F-DE89B926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56EF2-CCCE-4F9F-9FFC-6C914A6C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DDEE4-4BF5-4C60-B84B-D8CA5C7A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200F3-38E7-428B-9780-48CE578F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B3630-1960-4001-8A90-78846778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DC7D9-6841-499E-95FD-8176C5A0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4C32F-31ED-4529-810F-ABFC1437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324BB-6AE4-4056-919D-DA0DF4FE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62DB-826C-46D1-838A-6AEBB9F3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81629-6AD3-4DA4-AF4B-D0B52CF2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D2443-E60E-40FF-8005-29601550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EC8D3-C07C-4B2E-B78E-2B46AAAC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E486E-6D4C-486A-9BA3-257974E3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D7708-CDF4-4455-BECB-5AC37F88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0072C-5CBE-410A-81DE-96334646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D59D6-B68C-4039-AB1E-BA60E235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D04D2-F952-4010-B487-E8E5E93B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25F30-E30B-42A1-B189-0884A1FD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B6D36-2A13-4FC2-ABEA-1CB59E82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935-497E-4F22-ADDC-0560F8C0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D180E-F8BC-4233-AFE4-83CBF8C8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20934-E5D7-473A-801D-8664C657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B5BC2-3072-4C4A-8B8F-31C2F5DE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6C9CA-D651-4BC4-9373-392363D6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A1BBF-73A1-4132-B1EA-50FE4C3C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40BB1-C1AF-42A5-BDD5-2F21CE4E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5BF64-2A44-4906-A2D7-6EC1AA50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6803C-38F8-4492-A5E1-F799E282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A7811-4F81-47C9-B3DE-20394C9B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55365-1B76-43E8-9AFD-9D7A71E0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361E-B319-4462-B10E-B4711399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97A28-F3D2-4574-A88D-84D4C0DB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EF8B4-E751-4C2D-9D64-84B3697D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0E74A-8084-4EEB-AEB7-7B241054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4C987-57FB-4954-A25C-E6B9899B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E6F0C-F100-4341-9D83-703F57E2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08587-BF18-4783-A500-0C4575CD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26410-D835-4FD1-8E23-14FBF684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11040-92BF-45F8-922C-4CA1AEEE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BE3BE-384A-41AA-9C4F-BCC52BCA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D572E-B271-402D-9E70-8470AE21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43DC-5C43-45E0-96FA-60E42F11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82745-C034-4D60-A67B-10DD00F9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0D073-D3AD-40C0-A8A4-66C4EA3C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F5E05-46A4-43A0-BB2A-140EF5E2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E0F7E-0AB6-40C5-B5A9-487C797B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294E1-20D5-419A-BBAB-F6647D6D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00CD5-6EC2-4DA9-91E8-18513416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6A7D6-A1AA-446B-8E65-BB7763B0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6A5CD-5FD7-4896-8BAF-940291F5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5E5ED-C6B0-4C52-A7C9-79941632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5337F-65E8-4F82-B00F-C800CDFD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D21-0586-4A3A-95BF-60D3A84A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33038-5E55-4C21-8CED-4D19E322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96720-BB73-45B5-8D02-1536F0F7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18AA0-0CE4-4DA4-8BD5-662D9204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ED456-780E-44AD-8AEA-0442A1E3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5ACFC-5C54-4131-A2FE-F3133EF0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3B925-CC82-4D4E-BD84-03EC310C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980EC-2998-4D00-8E23-C7CA720D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274B1-2EC3-42B7-91DE-16B7644A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30B06-146D-442C-BEB1-F48A48E4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C9BBA-4BDE-49F1-B138-BC8ADECA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6710-9A80-421F-AA80-8250741D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92632-3F75-44A8-BC9A-C30CD7AE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C9D36-633B-4C38-89D0-B28C4381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3D2D2-60AC-4732-B4F8-1BB7B821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30A55-78B7-4A79-81E4-8951747C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5F605-672A-442E-9CDF-71925942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9B55D-36D6-4B81-B789-0BA279D6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5892B-ED88-48C2-9258-95D394B8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8A48-E773-4A56-AB80-49ACD6A7FBD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E588-1527-4AF8-B854-FE00C95CC01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5D1A-3F4B-430D-92B0-5A9B6209BC4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20F3-D96B-4E43-82A6-CBCF7436700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282C-11D1-4B33-A0AC-57A08BB2760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B06A-5327-4079-87A1-0F00649C1AF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2C63-1D55-464B-8470-3242C3D4931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768D-C898-4760-B8A1-C1CA990C1F2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7"/>
          <p:cNvSpPr txBox="1"/>
          <p:nvPr/>
        </p:nvSpPr>
        <p:spPr>
          <a:xfrm rot="21328200">
            <a:off x="1219320" y="2320920"/>
            <a:ext cx="7107120" cy="256068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3acf8"/>
                </a:solidFill>
                <a:latin typeface="Arial"/>
              </a:rPr>
              <a:t>Генетик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3acf8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3acf8"/>
                </a:solidFill>
                <a:latin typeface="Arial"/>
              </a:rPr>
              <a:t>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3acf8"/>
                </a:solidFill>
                <a:latin typeface="Arial"/>
              </a:rPr>
              <a:t>по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3acf8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Х</a:t>
            </a:r>
            <a:r>
              <a:rPr b="1" lang="ru-RU" sz="2400" spc="-1" strike="noStrike" baseline="60000">
                <a:solidFill>
                  <a:srgbClr val="073e87"/>
                </a:solidFill>
                <a:latin typeface="Candara"/>
              </a:rPr>
              <a:t>н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– нормальная свертываемость           кров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Х</a:t>
            </a:r>
            <a:r>
              <a:rPr b="1" lang="en-US" sz="2400" spc="-1" strike="noStrike" baseline="60000">
                <a:solidFill>
                  <a:srgbClr val="073e87"/>
                </a:solidFill>
                <a:latin typeface="Candara"/>
              </a:rPr>
              <a:t>h</a:t>
            </a:r>
            <a:r>
              <a:rPr b="1" lang="ru-RU" sz="2400" spc="-1" strike="noStrike" baseline="60000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– гемофил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Y –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не содержит  ген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Наследование гемофил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1" name="Picture 6" descr="research_blut02_artikel"/>
          <p:cNvPicPr/>
          <p:nvPr/>
        </p:nvPicPr>
        <p:blipFill>
          <a:blip r:embed="rId1"/>
          <a:stretch/>
        </p:blipFill>
        <p:spPr>
          <a:xfrm>
            <a:off x="5651640" y="2997360"/>
            <a:ext cx="33210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68000" y="1699920"/>
            <a:ext cx="9001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♀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.  .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х       ♂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.  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норм.               нор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Г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F</a:t>
            </a:r>
            <a:r>
              <a:rPr b="1" lang="en-US" sz="1400" spc="-1" strike="noStrike">
                <a:solidFill>
                  <a:srgbClr val="073e87"/>
                </a:solidFill>
                <a:latin typeface="Candara"/>
              </a:rPr>
              <a:t>1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                     ♂  .  .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гемоф.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(Х</a:t>
            </a:r>
            <a:r>
              <a:rPr b="1" lang="ru-RU" sz="2400" spc="-1" strike="noStrike" baseline="60000">
                <a:solidFill>
                  <a:srgbClr val="073e87"/>
                </a:solidFill>
                <a:latin typeface="Candara"/>
              </a:rPr>
              <a:t>н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– норм., Х</a:t>
            </a:r>
            <a:r>
              <a:rPr b="1" lang="en-US" sz="2400" spc="-1" strike="noStrike" baseline="60000">
                <a:solidFill>
                  <a:srgbClr val="073e87"/>
                </a:solidFill>
                <a:latin typeface="Candara"/>
              </a:rPr>
              <a:t>h</a:t>
            </a:r>
            <a:r>
              <a:rPr b="1" lang="ru-RU" sz="2400" spc="-1" strike="noStrike" baseline="60000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– гемофилия,  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Y –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не содержит гена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ndara"/>
              </a:rPr>
              <a:t>Решите задачу: какие еще дети могут родиться в этой семье?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Oval 5"/>
          <p:cNvSpPr/>
          <p:nvPr/>
        </p:nvSpPr>
        <p:spPr>
          <a:xfrm>
            <a:off x="2340000" y="3141720"/>
            <a:ext cx="576360" cy="57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6"/>
          <p:cNvSpPr/>
          <p:nvPr/>
        </p:nvSpPr>
        <p:spPr>
          <a:xfrm>
            <a:off x="3492360" y="3141720"/>
            <a:ext cx="576360" cy="57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7"/>
          <p:cNvSpPr/>
          <p:nvPr/>
        </p:nvSpPr>
        <p:spPr>
          <a:xfrm>
            <a:off x="5076720" y="3141720"/>
            <a:ext cx="576360" cy="57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8"/>
          <p:cNvSpPr/>
          <p:nvPr/>
        </p:nvSpPr>
        <p:spPr>
          <a:xfrm>
            <a:off x="6372360" y="3141720"/>
            <a:ext cx="576000" cy="57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9"/>
          <p:cNvSpPr/>
          <p:nvPr/>
        </p:nvSpPr>
        <p:spPr>
          <a:xfrm flipH="1">
            <a:off x="2916000" y="263700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0"/>
          <p:cNvSpPr/>
          <p:nvPr/>
        </p:nvSpPr>
        <p:spPr>
          <a:xfrm>
            <a:off x="3564000" y="2637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"/>
          <p:cNvSpPr/>
          <p:nvPr/>
        </p:nvSpPr>
        <p:spPr>
          <a:xfrm flipH="1">
            <a:off x="5579640" y="2708280"/>
            <a:ext cx="2890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2"/>
          <p:cNvSpPr/>
          <p:nvPr/>
        </p:nvSpPr>
        <p:spPr>
          <a:xfrm>
            <a:off x="6084720" y="270828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3"/>
          <p:cNvSpPr/>
          <p:nvPr/>
        </p:nvSpPr>
        <p:spPr>
          <a:xfrm>
            <a:off x="4572000" y="2492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-360" y="29016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Проверьте свое решение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4" name="Picture 4" descr="Наследование гемофилии"/>
          <p:cNvPicPr/>
          <p:nvPr/>
        </p:nvPicPr>
        <p:blipFill>
          <a:blip r:embed="rId1"/>
          <a:stretch/>
        </p:blipFill>
        <p:spPr>
          <a:xfrm>
            <a:off x="2627280" y="1484280"/>
            <a:ext cx="39416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8920" y="1125000"/>
            <a:ext cx="5977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осле свадьбы молодой супруге “доброжелатели” открыли семейную тайну ее мужа. Оказалось, что и ее мужу, и его братьям, и их отцу в раннем детстве была сделана операция по ликвидации синдактилии (врожденного сращивания безымянного и среднего пальцев на руках). Будущая мама обратилась за советом к медикам. Какова вероятность рождения у нее ребенка с такой патологией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Семейная тайна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7" name="Picture 4" descr="index"/>
          <p:cNvPicPr/>
          <p:nvPr/>
        </p:nvPicPr>
        <p:blipFill>
          <a:blip r:embed="rId1"/>
          <a:stretch/>
        </p:blipFill>
        <p:spPr>
          <a:xfrm>
            <a:off x="6013440" y="2637000"/>
            <a:ext cx="278928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30" name="Picture 8" descr="https://ds04.infourok.ru/uploads/ex/0f62/0007fea1-585b7498/img15.jpg"/>
          <p:cNvPicPr/>
          <p:nvPr/>
        </p:nvPicPr>
        <p:blipFill>
          <a:blip r:embed="rId1"/>
          <a:srcRect l="2457" t="20226" r="2457" b="11386"/>
          <a:stretch/>
        </p:blipFill>
        <p:spPr>
          <a:xfrm>
            <a:off x="1979640" y="1773360"/>
            <a:ext cx="4838760" cy="2609640"/>
          </a:xfrm>
          <a:prstGeom prst="rect">
            <a:avLst/>
          </a:prstGeom>
          <a:ln w="38160">
            <a:solidFill>
              <a:srgbClr val="83d3fe"/>
            </a:solidFill>
            <a:miter/>
          </a:ln>
        </p:spPr>
      </p:pic>
      <p:sp>
        <p:nvSpPr>
          <p:cNvPr id="431" name="TextBox 1"/>
          <p:cNvSpPr/>
          <p:nvPr/>
        </p:nvSpPr>
        <p:spPr>
          <a:xfrm>
            <a:off x="611280" y="4653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невероятных фак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правдивая выдум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94920" y="620640"/>
            <a:ext cx="8302680" cy="55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Задача: Ген чёрной масти кошки не полностью доминирует над рыжей, сцеплен с Х – хромосомой. Гетерозигота даёт черепаховую окраску. Чёрная кошка принесла котят. У одного из которых черепаховая окраска, у трёх – чёрная. Каков пол котят?  Какой масти кот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Кот был рыжи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Черепаховая масть у кошк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Три котёнка – это кошк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       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33" name="Picture 9" descr="animals_1363_Zlaga_ru"/>
          <p:cNvPicPr/>
          <p:nvPr/>
        </p:nvPicPr>
        <p:blipFill>
          <a:blip r:embed="rId1"/>
          <a:stretch/>
        </p:blipFill>
        <p:spPr>
          <a:xfrm>
            <a:off x="6156360" y="4653000"/>
            <a:ext cx="23763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35" name="Picture 2" descr="https://new.sibapp.com/attachments/Sibapp/Domains/ApplicationDomain/Models/ApplicationImage/images/000/037/736/medium/stapler-tGg1Pk.jpeg"/>
          <p:cNvPicPr/>
          <p:nvPr/>
        </p:nvPicPr>
        <p:blipFill>
          <a:blip r:embed="rId1"/>
          <a:stretch/>
        </p:blipFill>
        <p:spPr>
          <a:xfrm>
            <a:off x="2195640" y="1341360"/>
            <a:ext cx="4680000" cy="4407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36" name="TextBox 2"/>
          <p:cNvSpPr/>
          <p:nvPr/>
        </p:nvSpPr>
        <p:spPr>
          <a:xfrm>
            <a:off x="2195640" y="574848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естики – Нол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араграф 29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вторить термины и законы генетик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ешить задачу на генетику пола с сайта «Решу ЕГЭ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WordArt 4"/>
          <p:cNvSpPr txBox="1"/>
          <p:nvPr/>
        </p:nvSpPr>
        <p:spPr>
          <a:xfrm>
            <a:off x="900000" y="4076640"/>
            <a:ext cx="5759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cc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сотрудничеств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cc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0" name="Picture 4" descr="ANTN027"/>
          <p:cNvPicPr/>
          <p:nvPr/>
        </p:nvPicPr>
        <p:blipFill>
          <a:blip r:embed="rId1"/>
          <a:stretch/>
        </p:blipFill>
        <p:spPr>
          <a:xfrm>
            <a:off x="6443640" y="4653000"/>
            <a:ext cx="253044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987640" y="1628640"/>
            <a:ext cx="5554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Формирование пола у человек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Генотипы, определяющие пол у других организм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ешение задач, связанных с генетикой пол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6" name="Picture 5" descr="BANDMAST"/>
          <p:cNvPicPr/>
          <p:nvPr/>
        </p:nvPicPr>
        <p:blipFill>
          <a:blip r:embed="rId1"/>
          <a:stretch/>
        </p:blipFill>
        <p:spPr>
          <a:xfrm>
            <a:off x="539640" y="1668600"/>
            <a:ext cx="17287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68000" y="2276280"/>
            <a:ext cx="815652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Ген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Генотип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Фенотип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Аллельные гены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Гомозиготный организм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Гетерозиготный организм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Доминантный признак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Рецессивный признак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м термины</a:t>
            </a:r>
            <a:br>
              <a:rPr sz="43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ое лото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9" name="Picture 5" descr="MOUSREAD"/>
          <p:cNvPicPr/>
          <p:nvPr/>
        </p:nvPicPr>
        <p:blipFill>
          <a:blip r:embed="rId1"/>
          <a:stretch/>
        </p:blipFill>
        <p:spPr>
          <a:xfrm>
            <a:off x="6372360" y="3573360"/>
            <a:ext cx="2244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50920" y="1557000"/>
            <a:ext cx="8642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Хромосом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Аутосомы                            Половы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22 пары                              23-я пар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ХХ или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Х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Хромосомное определение пол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у человека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2" name="Line 4"/>
          <p:cNvSpPr/>
          <p:nvPr/>
        </p:nvSpPr>
        <p:spPr>
          <a:xfrm flipH="1">
            <a:off x="2987280" y="2060640"/>
            <a:ext cx="1297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5364000" y="2060640"/>
            <a:ext cx="1152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3" descr="HW_01"/>
          <p:cNvPicPr/>
          <p:nvPr/>
        </p:nvPicPr>
        <p:blipFill>
          <a:blip r:embed="rId1"/>
          <a:srcRect l="2832" t="1425" r="2867" b="2249"/>
          <a:stretch/>
        </p:blipFill>
        <p:spPr>
          <a:xfrm>
            <a:off x="2914560" y="3860640"/>
            <a:ext cx="2766960" cy="280836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1"/>
          <p:cNvSpPr/>
          <p:nvPr/>
        </p:nvSpPr>
        <p:spPr>
          <a:xfrm>
            <a:off x="684360" y="2852640"/>
            <a:ext cx="2519280" cy="505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"/>
          <p:cNvSpPr/>
          <p:nvPr/>
        </p:nvSpPr>
        <p:spPr>
          <a:xfrm>
            <a:off x="5970600" y="2852640"/>
            <a:ext cx="2346480" cy="505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3"/>
          <p:cNvSpPr/>
          <p:nvPr/>
        </p:nvSpPr>
        <p:spPr>
          <a:xfrm>
            <a:off x="5796000" y="4005360"/>
            <a:ext cx="2663640" cy="5032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frol7"/>
          <p:cNvPicPr/>
          <p:nvPr/>
        </p:nvPicPr>
        <p:blipFill>
          <a:blip r:embed="rId1"/>
          <a:stretch/>
        </p:blipFill>
        <p:spPr>
          <a:xfrm>
            <a:off x="3481560" y="3614760"/>
            <a:ext cx="2190600" cy="15717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Как вы думаете,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какая хромосома – Х или </a:t>
            </a: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Y</a:t>
            </a: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 –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важнее для организма?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9144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Х-хромосома содержит больше генов и они определяют важные функции: свертываемость крови, наличие потовых желез, цветовое зрение и другие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Мутация Х0 жизнеспособн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Y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-хромосома определяет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развитие мужских половых признаков и некоторые другие, как например оволосение ушной раковины, сращение пальцев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Мутация </a:t>
            </a: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Y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0 летальн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1" name="Picture 4" descr="ген"/>
          <p:cNvPicPr/>
          <p:nvPr/>
        </p:nvPicPr>
        <p:blipFill>
          <a:blip r:embed="rId1"/>
          <a:stretch/>
        </p:blipFill>
        <p:spPr>
          <a:xfrm>
            <a:off x="6659640" y="1989000"/>
            <a:ext cx="2004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ndara"/>
              </a:rPr>
              <a:t>ЗАПОМНИТЕ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ndara"/>
              </a:rPr>
              <a:t>Гетеро</a:t>
            </a:r>
            <a:r>
              <a:rPr b="1" lang="ru-RU" sz="3600" spc="-1" strike="noStrike">
                <a:solidFill>
                  <a:srgbClr val="ff7c80"/>
                </a:solidFill>
                <a:latin typeface="Candara"/>
              </a:rPr>
              <a:t>гаметность</a:t>
            </a: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 – </a:t>
            </a:r>
            <a:r>
              <a:rPr b="1" lang="ru-RU" sz="3600" spc="-1" strike="noStrike">
                <a:solidFill>
                  <a:srgbClr val="0080ff"/>
                </a:solidFill>
                <a:latin typeface="Candara"/>
              </a:rPr>
              <a:t>Х</a:t>
            </a:r>
            <a:r>
              <a:rPr b="1" lang="en-US" sz="3600" spc="-1" strike="noStrike">
                <a:solidFill>
                  <a:srgbClr val="ffff00"/>
                </a:solidFill>
                <a:latin typeface="Candara"/>
              </a:rPr>
              <a:t>Y</a:t>
            </a:r>
            <a:r>
              <a:rPr b="1" lang="ru-RU" sz="3600" spc="-1" strike="noStrike">
                <a:solidFill>
                  <a:srgbClr val="0080ff"/>
                </a:solidFill>
                <a:latin typeface="Candara"/>
              </a:rPr>
              <a:t> или Х</a:t>
            </a:r>
            <a:r>
              <a:rPr b="1" lang="ru-RU" sz="3600" spc="-1" strike="noStrike">
                <a:solidFill>
                  <a:srgbClr val="ffff00"/>
                </a:solidFill>
                <a:latin typeface="Candara"/>
              </a:rPr>
              <a:t>0</a:t>
            </a:r>
            <a:r>
              <a:rPr b="1" lang="ru-RU" sz="3600" spc="-1" strike="noStrike">
                <a:solidFill>
                  <a:srgbClr val="0080ff"/>
                </a:solidFill>
                <a:latin typeface="Candara"/>
              </a:rPr>
              <a:t>,</a:t>
            </a:r>
            <a:br>
              <a:rPr sz="3600"/>
            </a:br>
            <a:r>
              <a:rPr b="1" lang="ru-RU" sz="3600" spc="-1" strike="noStrike">
                <a:solidFill>
                  <a:srgbClr val="ff7c80"/>
                </a:solidFill>
                <a:latin typeface="Candara"/>
              </a:rPr>
              <a:t>гомогаметность</a:t>
            </a: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 - </a:t>
            </a:r>
            <a:r>
              <a:rPr b="1" lang="ru-RU" sz="3600" spc="-1" strike="noStrike">
                <a:solidFill>
                  <a:srgbClr val="0080ff"/>
                </a:solidFill>
                <a:latin typeface="Candara"/>
              </a:rPr>
              <a:t>ХХ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3" name="Picture 3" descr="Птичка"/>
          <p:cNvPicPr/>
          <p:nvPr/>
        </p:nvPicPr>
        <p:blipFill>
          <a:blip r:embed="rId1"/>
          <a:stretch/>
        </p:blipFill>
        <p:spPr>
          <a:xfrm>
            <a:off x="1020600" y="1600200"/>
            <a:ext cx="2911680" cy="2185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Собака"/>
          <p:cNvPicPr/>
          <p:nvPr/>
        </p:nvPicPr>
        <p:blipFill>
          <a:blip r:embed="rId2"/>
          <a:stretch/>
        </p:blipFill>
        <p:spPr>
          <a:xfrm>
            <a:off x="611280" y="2276640"/>
            <a:ext cx="2808360" cy="185400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ff"/>
                </a:solidFill>
                <a:latin typeface="Candara"/>
              </a:rPr>
              <a:t>Мужская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гетерогаметность –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у большинства вид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Что вы видите?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7" name="Picture 5" descr="https://www.brainpickings.org/wp-content/uploads/2008/09/dna.png"/>
          <p:cNvPicPr/>
          <p:nvPr/>
        </p:nvPicPr>
        <p:blipFill>
          <a:blip r:embed="rId1"/>
          <a:srcRect l="0" t="36868" r="0" b="0"/>
          <a:stretch/>
        </p:blipFill>
        <p:spPr>
          <a:xfrm>
            <a:off x="1763640" y="2492280"/>
            <a:ext cx="539136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7" descr="2"/>
          <p:cNvPicPr/>
          <p:nvPr/>
        </p:nvPicPr>
        <p:blipFill>
          <a:blip r:embed="rId1"/>
          <a:stretch/>
        </p:blipFill>
        <p:spPr>
          <a:xfrm>
            <a:off x="900000" y="260280"/>
            <a:ext cx="73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9:03:37Z</dcterms:created>
  <dc:creator>Ирина Евгеньевна</dc:creator>
  <dc:description/>
  <dc:language>en-US</dc:language>
  <cp:lastModifiedBy>Димас</cp:lastModifiedBy>
  <dcterms:modified xsi:type="dcterms:W3CDTF">2018-11-15T09:45:59Z</dcterms:modified>
  <cp:revision>46</cp:revision>
  <dc:subject/>
  <dc:title>Слайд 1</dc:title>
</cp:coreProperties>
</file>