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82E-F017-4CAB-AEF1-0FC2F524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7160" y="423684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F11-2B90-4332-81D2-3FB77F27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5884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591-433D-4222-BC73-FA001D99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3788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1860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716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3788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1860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358-1AA1-45C6-8F31-92B3D651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55A-467A-40E2-8190-DE53F55A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73C-2E40-42E1-8AE4-3237F5E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566-1B52-4AAA-8A1C-473F1004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1E9-A21B-4D6C-8A01-1DFF7DF1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8580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502-A639-4AB6-A90C-8B93F94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981-E028-448B-BD81-7219CC8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884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BE9-57C8-4B82-BB7D-CF9B2A8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7EE-0BF3-4D24-A7DE-E339D141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H:\графика\мультики\Ru_mult\Русские\Buratino.png"/>
          <p:cNvPicPr/>
          <p:nvPr/>
        </p:nvPicPr>
        <p:blipFill>
          <a:blip r:embed="rId3"/>
          <a:srcRect l="0" t="0" r="0" b="3741"/>
          <a:stretch/>
        </p:blipFill>
        <p:spPr>
          <a:xfrm>
            <a:off x="0" y="5500800"/>
            <a:ext cx="342900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375e"/>
                </a:solidFill>
                <a:latin typeface="Minion Pro Cond"/>
              </a:rPr>
              <a:t>Click to edit the title text format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8640" y="7572240"/>
            <a:ext cx="1500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43160" y="8442360"/>
            <a:ext cx="350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143320" y="7572240"/>
            <a:ext cx="1517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57A3-54CB-4197-AD02-50E62A9D749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971640"/>
            <a:ext cx="6858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Русский язык </a:t>
            </a:r>
            <a:br>
              <a:rPr sz="4800"/>
            </a:b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3 класс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3419280"/>
            <a:ext cx="4800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Bradley Hand ITC"/>
              </a:rPr>
              <a:t>Тема урока: Разбор слов по составу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 работы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1680" y="1042920"/>
            <a:ext cx="58575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с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нал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руга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сказка 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Арка 3"/>
          <p:cNvSpPr/>
          <p:nvPr/>
        </p:nvSpPr>
        <p:spPr>
          <a:xfrm>
            <a:off x="3284640" y="1528920"/>
            <a:ext cx="1152360" cy="2934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4797360" y="1676520"/>
            <a:ext cx="46080" cy="303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4819680" y="1676520"/>
            <a:ext cx="409680" cy="4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5229360" y="1720800"/>
            <a:ext cx="46080" cy="258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4843440" y="1979640"/>
            <a:ext cx="4078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"/>
          <p:cNvSpPr/>
          <p:nvPr/>
        </p:nvSpPr>
        <p:spPr>
          <a:xfrm>
            <a:off x="328464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3284640" y="2195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3"/>
          <p:cNvSpPr/>
          <p:nvPr/>
        </p:nvSpPr>
        <p:spPr>
          <a:xfrm flipV="1">
            <a:off x="443700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Арка 14"/>
          <p:cNvSpPr/>
          <p:nvPr/>
        </p:nvSpPr>
        <p:spPr>
          <a:xfrm>
            <a:off x="3284640" y="2627280"/>
            <a:ext cx="1152360" cy="252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овина рамки 15"/>
          <p:cNvSpPr/>
          <p:nvPr/>
        </p:nvSpPr>
        <p:spPr>
          <a:xfrm flipV="1" rot="8492400">
            <a:off x="4872960" y="2589840"/>
            <a:ext cx="431640" cy="3967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5589720" y="2627280"/>
            <a:ext cx="46080" cy="252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611680" y="2627280"/>
            <a:ext cx="3384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5950080" y="2673360"/>
            <a:ext cx="44280" cy="206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5635800" y="2879640"/>
            <a:ext cx="33624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3"/>
          <p:cNvSpPr/>
          <p:nvPr/>
        </p:nvSpPr>
        <p:spPr>
          <a:xfrm>
            <a:off x="3284640" y="292572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5"/>
          <p:cNvSpPr/>
          <p:nvPr/>
        </p:nvSpPr>
        <p:spPr>
          <a:xfrm>
            <a:off x="3284640" y="3203640"/>
            <a:ext cx="20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7"/>
          <p:cNvSpPr/>
          <p:nvPr/>
        </p:nvSpPr>
        <p:spPr>
          <a:xfrm flipV="1">
            <a:off x="5381640" y="290196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3284640" y="3635280"/>
            <a:ext cx="5760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9"/>
          <p:cNvSpPr/>
          <p:nvPr/>
        </p:nvSpPr>
        <p:spPr>
          <a:xfrm>
            <a:off x="3860640" y="3659040"/>
            <a:ext cx="46080" cy="1922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Арка 30"/>
          <p:cNvSpPr/>
          <p:nvPr/>
        </p:nvSpPr>
        <p:spPr>
          <a:xfrm>
            <a:off x="4149720" y="3564000"/>
            <a:ext cx="851040" cy="274680"/>
          </a:xfrm>
          <a:prstGeom prst="pie">
            <a:avLst/>
          </a:prstGeom>
          <a:solidFill>
            <a:srgbClr val="00b05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овина рамки 31"/>
          <p:cNvSpPr/>
          <p:nvPr/>
        </p:nvSpPr>
        <p:spPr>
          <a:xfrm rot="2784000">
            <a:off x="5249520" y="3471840"/>
            <a:ext cx="385560" cy="4366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994360" y="3681360"/>
            <a:ext cx="46080" cy="298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6040440" y="3701880"/>
            <a:ext cx="268200" cy="44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6308640" y="3724200"/>
            <a:ext cx="46080" cy="255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6040440" y="3979800"/>
            <a:ext cx="2919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7"/>
          <p:cNvSpPr/>
          <p:nvPr/>
        </p:nvSpPr>
        <p:spPr>
          <a:xfrm>
            <a:off x="3284640" y="39798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9"/>
          <p:cNvSpPr/>
          <p:nvPr/>
        </p:nvSpPr>
        <p:spPr>
          <a:xfrm>
            <a:off x="3284640" y="4211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1"/>
          <p:cNvSpPr/>
          <p:nvPr/>
        </p:nvSpPr>
        <p:spPr>
          <a:xfrm flipV="1">
            <a:off x="5950080" y="39798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2"/>
          <p:cNvSpPr/>
          <p:nvPr/>
        </p:nvSpPr>
        <p:spPr>
          <a:xfrm>
            <a:off x="3284640" y="4670280"/>
            <a:ext cx="622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Арка 44"/>
          <p:cNvSpPr/>
          <p:nvPr/>
        </p:nvSpPr>
        <p:spPr>
          <a:xfrm>
            <a:off x="4149720" y="4500720"/>
            <a:ext cx="1001880" cy="2872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5"/>
          <p:cNvSpPr/>
          <p:nvPr/>
        </p:nvSpPr>
        <p:spPr>
          <a:xfrm>
            <a:off x="3884760" y="4716360"/>
            <a:ext cx="44280" cy="71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6"/>
          <p:cNvSpPr/>
          <p:nvPr/>
        </p:nvSpPr>
        <p:spPr>
          <a:xfrm>
            <a:off x="5589720" y="4716360"/>
            <a:ext cx="4608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7"/>
          <p:cNvSpPr/>
          <p:nvPr/>
        </p:nvSpPr>
        <p:spPr>
          <a:xfrm>
            <a:off x="5635800" y="4692600"/>
            <a:ext cx="3823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8"/>
          <p:cNvSpPr/>
          <p:nvPr/>
        </p:nvSpPr>
        <p:spPr>
          <a:xfrm>
            <a:off x="5972040" y="4716360"/>
            <a:ext cx="4608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9"/>
          <p:cNvSpPr/>
          <p:nvPr/>
        </p:nvSpPr>
        <p:spPr>
          <a:xfrm>
            <a:off x="5635800" y="4932360"/>
            <a:ext cx="3142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51"/>
          <p:cNvSpPr/>
          <p:nvPr/>
        </p:nvSpPr>
        <p:spPr>
          <a:xfrm>
            <a:off x="3284640" y="497844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53"/>
          <p:cNvSpPr/>
          <p:nvPr/>
        </p:nvSpPr>
        <p:spPr>
          <a:xfrm>
            <a:off x="3284640" y="5148360"/>
            <a:ext cx="21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5"/>
          <p:cNvSpPr/>
          <p:nvPr/>
        </p:nvSpPr>
        <p:spPr>
          <a:xfrm flipV="1">
            <a:off x="5442120" y="493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58"/>
          <p:cNvCxnSpPr/>
          <p:nvPr/>
        </p:nvCxnSpPr>
        <p:spPr>
          <a:xfrm>
            <a:off x="2420640" y="1528560"/>
            <a:ext cx="864360" cy="114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Прямая со стрелкой 60"/>
          <p:cNvCxnSpPr/>
          <p:nvPr/>
        </p:nvCxnSpPr>
        <p:spPr>
          <a:xfrm flipV="1">
            <a:off x="2276280" y="1978920"/>
            <a:ext cx="865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Прямая со стрелкой 62"/>
          <p:cNvCxnSpPr/>
          <p:nvPr/>
        </p:nvCxnSpPr>
        <p:spPr>
          <a:xfrm>
            <a:off x="2421000" y="3723840"/>
            <a:ext cx="721440" cy="10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Прямая со стрелкой 64"/>
          <p:cNvCxnSpPr/>
          <p:nvPr/>
        </p:nvCxnSpPr>
        <p:spPr>
          <a:xfrm flipV="1">
            <a:off x="2852640" y="4025160"/>
            <a:ext cx="432720" cy="72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Алгоритм разбора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7160" y="1402920"/>
            <a:ext cx="585792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айди окончание. (Для этого измени форму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тдели основу от окончания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основе найди корень. (Для этого подбери однокоренные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приставку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суффикс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Разбери слова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07560" y="1214280"/>
            <a:ext cx="5807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 вар.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дичка,   подберёзовик,       лесной, речушка, пересадка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 вар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Лисонька, дворник, подруга, грибник, постройка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 работы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ц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очине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списа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прос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Итог урока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ую цель мы ставили в начале урока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ыполнили ли мы её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ое задание вам понравилось больше всего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зникали ли у вас трудности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«Разминка для ума»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конча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орень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истав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уффикс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снов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Алгоритм разбора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айди окончание. (Для этого измени форму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тдели основу от окончания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основе найди корень. (Для этого подбери однокоренные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приставку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суффикс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24000"/>
            <a:ext cx="685800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Задание по вариантам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7160" y="212364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 вар.    ушк,  а,  корм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 вар.   сад,  а,  по,  к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Проверка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57160" y="1213920"/>
            <a:ext cx="5857920" cy="414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К о р м у ш к а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 о с а д к а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Арка 20"/>
          <p:cNvSpPr/>
          <p:nvPr/>
        </p:nvSpPr>
        <p:spPr>
          <a:xfrm>
            <a:off x="1916280" y="1692360"/>
            <a:ext cx="144144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Арка 21"/>
          <p:cNvSpPr/>
          <p:nvPr/>
        </p:nvSpPr>
        <p:spPr>
          <a:xfrm>
            <a:off x="2781360" y="3348000"/>
            <a:ext cx="79200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2"/>
          <p:cNvSpPr/>
          <p:nvPr/>
        </p:nvSpPr>
        <p:spPr>
          <a:xfrm>
            <a:off x="4653000" y="1979640"/>
            <a:ext cx="460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5084640" y="2001960"/>
            <a:ext cx="46080" cy="434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4699080" y="2436840"/>
            <a:ext cx="385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9"/>
          <p:cNvSpPr/>
          <p:nvPr/>
        </p:nvSpPr>
        <p:spPr>
          <a:xfrm>
            <a:off x="1916280" y="3348000"/>
            <a:ext cx="72072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0"/>
          <p:cNvSpPr/>
          <p:nvPr/>
        </p:nvSpPr>
        <p:spPr>
          <a:xfrm>
            <a:off x="2637000" y="3394080"/>
            <a:ext cx="45720" cy="241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1"/>
          <p:cNvSpPr/>
          <p:nvPr/>
        </p:nvSpPr>
        <p:spPr>
          <a:xfrm>
            <a:off x="4076640" y="3514680"/>
            <a:ext cx="46080" cy="4096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2"/>
          <p:cNvSpPr/>
          <p:nvPr/>
        </p:nvSpPr>
        <p:spPr>
          <a:xfrm>
            <a:off x="4122720" y="3492360"/>
            <a:ext cx="254160" cy="446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3"/>
          <p:cNvSpPr/>
          <p:nvPr/>
        </p:nvSpPr>
        <p:spPr>
          <a:xfrm>
            <a:off x="4122720" y="3924360"/>
            <a:ext cx="2541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4"/>
          <p:cNvSpPr/>
          <p:nvPr/>
        </p:nvSpPr>
        <p:spPr>
          <a:xfrm>
            <a:off x="4411800" y="3514680"/>
            <a:ext cx="46080" cy="4096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овина рамки 35"/>
          <p:cNvSpPr/>
          <p:nvPr/>
        </p:nvSpPr>
        <p:spPr>
          <a:xfrm rot="2622600">
            <a:off x="3722400" y="3293640"/>
            <a:ext cx="276120" cy="28584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иагональная полоса 37"/>
          <p:cNvSpPr/>
          <p:nvPr/>
        </p:nvSpPr>
        <p:spPr>
          <a:xfrm>
            <a:off x="3573360" y="1476360"/>
            <a:ext cx="486000" cy="503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иагональная полоса 38"/>
          <p:cNvSpPr/>
          <p:nvPr/>
        </p:nvSpPr>
        <p:spPr>
          <a:xfrm rot="4181400">
            <a:off x="3913200" y="1662120"/>
            <a:ext cx="560160" cy="233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1"/>
          <p:cNvSpPr/>
          <p:nvPr/>
        </p:nvSpPr>
        <p:spPr>
          <a:xfrm>
            <a:off x="1628640" y="2219400"/>
            <a:ext cx="46080" cy="26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3"/>
          <p:cNvSpPr/>
          <p:nvPr/>
        </p:nvSpPr>
        <p:spPr>
          <a:xfrm>
            <a:off x="4653000" y="2436840"/>
            <a:ext cx="46080" cy="684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5"/>
          <p:cNvSpPr/>
          <p:nvPr/>
        </p:nvSpPr>
        <p:spPr>
          <a:xfrm>
            <a:off x="4699080" y="1979640"/>
            <a:ext cx="385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7"/>
          <p:cNvSpPr/>
          <p:nvPr/>
        </p:nvSpPr>
        <p:spPr>
          <a:xfrm>
            <a:off x="1674720" y="2505240"/>
            <a:ext cx="297828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8"/>
          <p:cNvSpPr/>
          <p:nvPr/>
        </p:nvSpPr>
        <p:spPr>
          <a:xfrm>
            <a:off x="1674720" y="3719520"/>
            <a:ext cx="46080" cy="2509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9"/>
          <p:cNvSpPr/>
          <p:nvPr/>
        </p:nvSpPr>
        <p:spPr>
          <a:xfrm>
            <a:off x="1697040" y="3970440"/>
            <a:ext cx="2425680" cy="4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6858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Тема урока: Состав слова. Разбор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57160" y="2410920"/>
            <a:ext cx="58579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Цели урока :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вторить изученные части слов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вторить разбор слов по составу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640" y="323640"/>
            <a:ext cx="6669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Составь новые слова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8640" y="1618920"/>
            <a:ext cx="6669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иставка        Корень      Суффикс       Окончание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1)Расписка          Краски           Дочка            Лапа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2)Занос               Морозец       Горка           Ласточки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3) Подарок         Ходить          Лодка              Ваза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)   Раскрас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)  Заморозки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)   Поход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Соотнеси слово со схемой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1800" y="1112760"/>
            <a:ext cx="5881680" cy="60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с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нал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руга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сказка 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Арка 3"/>
          <p:cNvSpPr/>
          <p:nvPr/>
        </p:nvSpPr>
        <p:spPr>
          <a:xfrm>
            <a:off x="3284640" y="1528920"/>
            <a:ext cx="1152360" cy="2934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4724280" y="1665360"/>
            <a:ext cx="46080" cy="3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4724280" y="1619280"/>
            <a:ext cx="478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5151600" y="1665360"/>
            <a:ext cx="45720" cy="3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4724280" y="1979640"/>
            <a:ext cx="478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1"/>
          <p:cNvSpPr/>
          <p:nvPr/>
        </p:nvSpPr>
        <p:spPr>
          <a:xfrm>
            <a:off x="3284640" y="1979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>
            <a:off x="3284640" y="225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5"/>
          <p:cNvSpPr/>
          <p:nvPr/>
        </p:nvSpPr>
        <p:spPr>
          <a:xfrm flipV="1">
            <a:off x="4437000" y="1979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Арка 16"/>
          <p:cNvSpPr/>
          <p:nvPr/>
        </p:nvSpPr>
        <p:spPr>
          <a:xfrm>
            <a:off x="3284640" y="2627280"/>
            <a:ext cx="1152360" cy="252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овина рамки 19"/>
          <p:cNvSpPr/>
          <p:nvPr/>
        </p:nvSpPr>
        <p:spPr>
          <a:xfrm flipV="1" rot="8492400">
            <a:off x="4872960" y="2589840"/>
            <a:ext cx="431640" cy="3967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0"/>
          <p:cNvSpPr/>
          <p:nvPr/>
        </p:nvSpPr>
        <p:spPr>
          <a:xfrm>
            <a:off x="5732640" y="2627280"/>
            <a:ext cx="45720" cy="298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5778360" y="2928960"/>
            <a:ext cx="31464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5732640" y="2627280"/>
            <a:ext cx="3603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5"/>
          <p:cNvSpPr/>
          <p:nvPr/>
        </p:nvSpPr>
        <p:spPr>
          <a:xfrm>
            <a:off x="6093000" y="2651040"/>
            <a:ext cx="45720" cy="2746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7"/>
          <p:cNvSpPr/>
          <p:nvPr/>
        </p:nvSpPr>
        <p:spPr>
          <a:xfrm>
            <a:off x="3284640" y="28796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5"/>
          <p:cNvSpPr/>
          <p:nvPr/>
        </p:nvSpPr>
        <p:spPr>
          <a:xfrm>
            <a:off x="3284640" y="3078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7"/>
          <p:cNvSpPr/>
          <p:nvPr/>
        </p:nvSpPr>
        <p:spPr>
          <a:xfrm flipV="1">
            <a:off x="5516640" y="28792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8"/>
          <p:cNvSpPr/>
          <p:nvPr/>
        </p:nvSpPr>
        <p:spPr>
          <a:xfrm>
            <a:off x="3284640" y="3708360"/>
            <a:ext cx="576000" cy="44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9"/>
          <p:cNvSpPr/>
          <p:nvPr/>
        </p:nvSpPr>
        <p:spPr>
          <a:xfrm>
            <a:off x="3860640" y="3753000"/>
            <a:ext cx="46080" cy="171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Арка 40"/>
          <p:cNvSpPr/>
          <p:nvPr/>
        </p:nvSpPr>
        <p:spPr>
          <a:xfrm>
            <a:off x="4149720" y="3564000"/>
            <a:ext cx="851040" cy="274680"/>
          </a:xfrm>
          <a:prstGeom prst="pie">
            <a:avLst/>
          </a:prstGeom>
          <a:solidFill>
            <a:srgbClr val="00b05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овина рамки 41"/>
          <p:cNvSpPr/>
          <p:nvPr/>
        </p:nvSpPr>
        <p:spPr>
          <a:xfrm rot="2784000">
            <a:off x="5226120" y="3438720"/>
            <a:ext cx="433440" cy="3888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2"/>
          <p:cNvSpPr/>
          <p:nvPr/>
        </p:nvSpPr>
        <p:spPr>
          <a:xfrm>
            <a:off x="5935680" y="3701880"/>
            <a:ext cx="46080" cy="222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3"/>
          <p:cNvSpPr/>
          <p:nvPr/>
        </p:nvSpPr>
        <p:spPr>
          <a:xfrm>
            <a:off x="5935680" y="3633840"/>
            <a:ext cx="372960" cy="680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4"/>
          <p:cNvSpPr/>
          <p:nvPr/>
        </p:nvSpPr>
        <p:spPr>
          <a:xfrm>
            <a:off x="6308640" y="3666960"/>
            <a:ext cx="46080" cy="303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5"/>
          <p:cNvSpPr/>
          <p:nvPr/>
        </p:nvSpPr>
        <p:spPr>
          <a:xfrm>
            <a:off x="5935680" y="3924360"/>
            <a:ext cx="3729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7"/>
          <p:cNvSpPr/>
          <p:nvPr/>
        </p:nvSpPr>
        <p:spPr>
          <a:xfrm>
            <a:off x="3284640" y="397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49"/>
          <p:cNvSpPr/>
          <p:nvPr/>
        </p:nvSpPr>
        <p:spPr>
          <a:xfrm>
            <a:off x="3284640" y="4284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1"/>
          <p:cNvSpPr/>
          <p:nvPr/>
        </p:nvSpPr>
        <p:spPr>
          <a:xfrm flipV="1">
            <a:off x="5756400" y="3970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2"/>
          <p:cNvSpPr/>
          <p:nvPr/>
        </p:nvSpPr>
        <p:spPr>
          <a:xfrm>
            <a:off x="3284640" y="4643280"/>
            <a:ext cx="5760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3"/>
          <p:cNvSpPr/>
          <p:nvPr/>
        </p:nvSpPr>
        <p:spPr>
          <a:xfrm>
            <a:off x="3860640" y="4643280"/>
            <a:ext cx="46080" cy="289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Арка 54"/>
          <p:cNvSpPr/>
          <p:nvPr/>
        </p:nvSpPr>
        <p:spPr>
          <a:xfrm>
            <a:off x="4149720" y="4500720"/>
            <a:ext cx="1001880" cy="2872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7"/>
          <p:cNvSpPr/>
          <p:nvPr/>
        </p:nvSpPr>
        <p:spPr>
          <a:xfrm>
            <a:off x="5487840" y="4689360"/>
            <a:ext cx="2905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8"/>
          <p:cNvSpPr/>
          <p:nvPr/>
        </p:nvSpPr>
        <p:spPr>
          <a:xfrm>
            <a:off x="5778360" y="4735440"/>
            <a:ext cx="46080" cy="196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0"/>
          <p:cNvSpPr/>
          <p:nvPr/>
        </p:nvSpPr>
        <p:spPr>
          <a:xfrm>
            <a:off x="5442120" y="4932360"/>
            <a:ext cx="3823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1"/>
          <p:cNvSpPr/>
          <p:nvPr/>
        </p:nvSpPr>
        <p:spPr>
          <a:xfrm>
            <a:off x="5442120" y="4735440"/>
            <a:ext cx="45720" cy="19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3"/>
          <p:cNvSpPr/>
          <p:nvPr/>
        </p:nvSpPr>
        <p:spPr>
          <a:xfrm>
            <a:off x="3284640" y="495468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5"/>
          <p:cNvSpPr/>
          <p:nvPr/>
        </p:nvSpPr>
        <p:spPr>
          <a:xfrm>
            <a:off x="3284640" y="5219640"/>
            <a:ext cx="20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67"/>
          <p:cNvSpPr/>
          <p:nvPr/>
        </p:nvSpPr>
        <p:spPr>
          <a:xfrm flipV="1">
            <a:off x="5381640" y="4932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38:48Z</dcterms:created>
  <dc:creator>zampoto</dc:creator>
  <dc:description/>
  <dc:language>en-US</dc:language>
  <cp:lastModifiedBy>User</cp:lastModifiedBy>
  <dcterms:modified xsi:type="dcterms:W3CDTF">2018-11-12T10:19:37Z</dcterms:modified>
  <cp:revision>21</cp:revision>
  <dc:subject/>
  <dc:title>Чистопис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251049</vt:lpwstr>
  </property>
</Properties>
</file>