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FC1-3C6C-4B4A-887F-233BA65A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585792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7160" y="4236840"/>
            <a:ext cx="585792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505-4594-4B1D-AD09-2E783EDF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5884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7160" y="423684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58840" y="423684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F11-1412-4105-9987-D9665A50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37880" y="121428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18600" y="121428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7160" y="423684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37880" y="423684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18600" y="4236840"/>
            <a:ext cx="188604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BE6-E628-46B1-9BC3-8629103F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193-92E9-4B19-8795-BDD8DC09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0EE-C721-42C3-A314-BD1ACA5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28584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58840" y="1214280"/>
            <a:ext cx="28584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890-5EE7-4E72-ABDF-F334A12F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EB7-AD86-43D9-8932-101A7F97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68580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382-11EB-41C2-81DF-4D9DDEA0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58840" y="1214280"/>
            <a:ext cx="28584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7160" y="423684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FE3-77B3-4E3B-B75B-6B767ACE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28584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5884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8840" y="423684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4AD-E432-4E9C-BF7A-9720E762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58840" y="1214280"/>
            <a:ext cx="285840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7160" y="4236840"/>
            <a:ext cx="5857920" cy="27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7CF-391A-4F44-B688-568D266F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H:\графика\мультики\Ru_mult\Русские\Buratino.png"/>
          <p:cNvPicPr/>
          <p:nvPr/>
        </p:nvPicPr>
        <p:blipFill>
          <a:blip r:embed="rId3"/>
          <a:srcRect l="0" t="0" r="0" b="3741"/>
          <a:stretch/>
        </p:blipFill>
        <p:spPr>
          <a:xfrm>
            <a:off x="0" y="5500800"/>
            <a:ext cx="3429000" cy="36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375e"/>
                </a:solidFill>
                <a:latin typeface="Minion Pro Cond"/>
              </a:rPr>
              <a:t>Click to edit the title text format</a:t>
            </a: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8640" y="7572240"/>
            <a:ext cx="1500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43160" y="8442360"/>
            <a:ext cx="350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143320" y="7572240"/>
            <a:ext cx="1517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EFFE-E6D4-44CA-8437-0B6A032C438A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971640"/>
            <a:ext cx="6858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Minion Pro Cond"/>
              </a:rPr>
              <a:t>Русский язык </a:t>
            </a:r>
            <a:br>
              <a:rPr sz="4800"/>
            </a:br>
            <a:r>
              <a:rPr b="1" lang="ru-RU" sz="4800" spc="-1" strike="noStrike">
                <a:solidFill>
                  <a:srgbClr val="17375e"/>
                </a:solidFill>
                <a:latin typeface="Minion Pro Cond"/>
              </a:rPr>
              <a:t>3 класс</a:t>
            </a: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28520" y="3419280"/>
            <a:ext cx="4800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Bradley Hand ITC"/>
              </a:rPr>
              <a:t>Тема урока: Разбор слов по составу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Проверка работы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31680" y="1042920"/>
            <a:ext cx="58575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есенка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енал       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друга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дсказка        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0" name="Арка 3"/>
          <p:cNvSpPr/>
          <p:nvPr/>
        </p:nvSpPr>
        <p:spPr>
          <a:xfrm>
            <a:off x="3284640" y="1528920"/>
            <a:ext cx="1152360" cy="29340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4797360" y="1676520"/>
            <a:ext cx="46080" cy="3031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4819680" y="1676520"/>
            <a:ext cx="409680" cy="44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5229360" y="1720800"/>
            <a:ext cx="46080" cy="2588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4843440" y="1979640"/>
            <a:ext cx="40788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9"/>
          <p:cNvSpPr/>
          <p:nvPr/>
        </p:nvSpPr>
        <p:spPr>
          <a:xfrm>
            <a:off x="3284640" y="1979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1"/>
          <p:cNvSpPr/>
          <p:nvPr/>
        </p:nvSpPr>
        <p:spPr>
          <a:xfrm>
            <a:off x="3284640" y="2195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3"/>
          <p:cNvSpPr/>
          <p:nvPr/>
        </p:nvSpPr>
        <p:spPr>
          <a:xfrm flipV="1">
            <a:off x="4437000" y="1979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Арка 14"/>
          <p:cNvSpPr/>
          <p:nvPr/>
        </p:nvSpPr>
        <p:spPr>
          <a:xfrm>
            <a:off x="3284640" y="2627280"/>
            <a:ext cx="1152360" cy="252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оловина рамки 15"/>
          <p:cNvSpPr/>
          <p:nvPr/>
        </p:nvSpPr>
        <p:spPr>
          <a:xfrm flipV="1" rot="8492400">
            <a:off x="4872960" y="2589840"/>
            <a:ext cx="431640" cy="39672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"/>
          <p:cNvSpPr/>
          <p:nvPr/>
        </p:nvSpPr>
        <p:spPr>
          <a:xfrm>
            <a:off x="5589720" y="2627280"/>
            <a:ext cx="46080" cy="2523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8"/>
          <p:cNvSpPr/>
          <p:nvPr/>
        </p:nvSpPr>
        <p:spPr>
          <a:xfrm>
            <a:off x="5611680" y="2627280"/>
            <a:ext cx="33840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0"/>
          <p:cNvSpPr/>
          <p:nvPr/>
        </p:nvSpPr>
        <p:spPr>
          <a:xfrm>
            <a:off x="5950080" y="2673360"/>
            <a:ext cx="44280" cy="206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1"/>
          <p:cNvSpPr/>
          <p:nvPr/>
        </p:nvSpPr>
        <p:spPr>
          <a:xfrm>
            <a:off x="5635800" y="2879640"/>
            <a:ext cx="33624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3"/>
          <p:cNvSpPr/>
          <p:nvPr/>
        </p:nvSpPr>
        <p:spPr>
          <a:xfrm>
            <a:off x="3284640" y="292572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5"/>
          <p:cNvSpPr/>
          <p:nvPr/>
        </p:nvSpPr>
        <p:spPr>
          <a:xfrm>
            <a:off x="3284640" y="3203640"/>
            <a:ext cx="20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7"/>
          <p:cNvSpPr/>
          <p:nvPr/>
        </p:nvSpPr>
        <p:spPr>
          <a:xfrm flipV="1">
            <a:off x="5381640" y="290196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8"/>
          <p:cNvSpPr/>
          <p:nvPr/>
        </p:nvSpPr>
        <p:spPr>
          <a:xfrm>
            <a:off x="3284640" y="3635280"/>
            <a:ext cx="57600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9"/>
          <p:cNvSpPr/>
          <p:nvPr/>
        </p:nvSpPr>
        <p:spPr>
          <a:xfrm>
            <a:off x="3860640" y="3659040"/>
            <a:ext cx="46080" cy="1922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Арка 30"/>
          <p:cNvSpPr/>
          <p:nvPr/>
        </p:nvSpPr>
        <p:spPr>
          <a:xfrm>
            <a:off x="4149720" y="3564000"/>
            <a:ext cx="851040" cy="274680"/>
          </a:xfrm>
          <a:prstGeom prst="pie">
            <a:avLst/>
          </a:prstGeom>
          <a:solidFill>
            <a:srgbClr val="00b05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овина рамки 31"/>
          <p:cNvSpPr/>
          <p:nvPr/>
        </p:nvSpPr>
        <p:spPr>
          <a:xfrm rot="2784000">
            <a:off x="5249520" y="3471840"/>
            <a:ext cx="385560" cy="43668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2"/>
          <p:cNvSpPr/>
          <p:nvPr/>
        </p:nvSpPr>
        <p:spPr>
          <a:xfrm>
            <a:off x="5994360" y="3681360"/>
            <a:ext cx="46080" cy="2984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6040440" y="3701880"/>
            <a:ext cx="268200" cy="44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6308640" y="3724200"/>
            <a:ext cx="46080" cy="2556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6040440" y="3979800"/>
            <a:ext cx="29196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7"/>
          <p:cNvSpPr/>
          <p:nvPr/>
        </p:nvSpPr>
        <p:spPr>
          <a:xfrm>
            <a:off x="3284640" y="397980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9"/>
          <p:cNvSpPr/>
          <p:nvPr/>
        </p:nvSpPr>
        <p:spPr>
          <a:xfrm>
            <a:off x="3284640" y="4211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41"/>
          <p:cNvSpPr/>
          <p:nvPr/>
        </p:nvSpPr>
        <p:spPr>
          <a:xfrm flipV="1">
            <a:off x="5950080" y="397980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2"/>
          <p:cNvSpPr/>
          <p:nvPr/>
        </p:nvSpPr>
        <p:spPr>
          <a:xfrm>
            <a:off x="3284640" y="4670280"/>
            <a:ext cx="62208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Арка 44"/>
          <p:cNvSpPr/>
          <p:nvPr/>
        </p:nvSpPr>
        <p:spPr>
          <a:xfrm>
            <a:off x="4149720" y="4500720"/>
            <a:ext cx="1001880" cy="28728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5"/>
          <p:cNvSpPr/>
          <p:nvPr/>
        </p:nvSpPr>
        <p:spPr>
          <a:xfrm>
            <a:off x="3884760" y="4716360"/>
            <a:ext cx="44280" cy="71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6"/>
          <p:cNvSpPr/>
          <p:nvPr/>
        </p:nvSpPr>
        <p:spPr>
          <a:xfrm>
            <a:off x="5589720" y="4716360"/>
            <a:ext cx="46080" cy="2160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7"/>
          <p:cNvSpPr/>
          <p:nvPr/>
        </p:nvSpPr>
        <p:spPr>
          <a:xfrm>
            <a:off x="5635800" y="4692600"/>
            <a:ext cx="38232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8"/>
          <p:cNvSpPr/>
          <p:nvPr/>
        </p:nvSpPr>
        <p:spPr>
          <a:xfrm>
            <a:off x="5972040" y="4716360"/>
            <a:ext cx="46080" cy="2160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9"/>
          <p:cNvSpPr/>
          <p:nvPr/>
        </p:nvSpPr>
        <p:spPr>
          <a:xfrm>
            <a:off x="5635800" y="4932360"/>
            <a:ext cx="31428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51"/>
          <p:cNvSpPr/>
          <p:nvPr/>
        </p:nvSpPr>
        <p:spPr>
          <a:xfrm>
            <a:off x="3284640" y="4978440"/>
            <a:ext cx="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53"/>
          <p:cNvSpPr/>
          <p:nvPr/>
        </p:nvSpPr>
        <p:spPr>
          <a:xfrm>
            <a:off x="3284640" y="5148360"/>
            <a:ext cx="21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55"/>
          <p:cNvSpPr/>
          <p:nvPr/>
        </p:nvSpPr>
        <p:spPr>
          <a:xfrm flipV="1">
            <a:off x="5442120" y="4932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Прямая со стрелкой 58"/>
          <p:cNvCxnSpPr/>
          <p:nvPr/>
        </p:nvCxnSpPr>
        <p:spPr>
          <a:xfrm>
            <a:off x="2420640" y="1528560"/>
            <a:ext cx="864360" cy="114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Прямая со стрелкой 60"/>
          <p:cNvCxnSpPr/>
          <p:nvPr/>
        </p:nvCxnSpPr>
        <p:spPr>
          <a:xfrm flipV="1">
            <a:off x="2276280" y="1978920"/>
            <a:ext cx="865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Прямая со стрелкой 62"/>
          <p:cNvCxnSpPr/>
          <p:nvPr/>
        </p:nvCxnSpPr>
        <p:spPr>
          <a:xfrm>
            <a:off x="2421000" y="3723840"/>
            <a:ext cx="721440" cy="10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Прямая со стрелкой 64"/>
          <p:cNvCxnSpPr/>
          <p:nvPr/>
        </p:nvCxnSpPr>
        <p:spPr>
          <a:xfrm flipV="1">
            <a:off x="2852640" y="4025160"/>
            <a:ext cx="432720" cy="72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inion Pro Cond"/>
              </a:rPr>
              <a:t>Алгоритм разбора слов по составу</a:t>
            </a:r>
            <a:endParaRPr b="1" lang="en-US" sz="36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57160" y="1402920"/>
            <a:ext cx="585792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Найди окончание. (Для этого измени форму слова.)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Отдели основу от окончания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 основе найди корень. (Для этого подбери однокоренные слова.)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ыдели приставку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ыдели суффикс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inion Pro Cond"/>
              </a:rPr>
              <a:t>Разбери слова по составу</a:t>
            </a:r>
            <a:endParaRPr b="1" lang="en-US" sz="36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07560" y="1214280"/>
            <a:ext cx="58071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1 вар.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Водичка,   подберёзовик,       лесной, речушка, пересадка.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2 вар.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Лисонька, дворник, подруга, грибник, постройка.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Проверка работы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ценка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очинение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асписание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Вопрос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Итог урока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акую цель мы ставили в начале урока?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Выполнили ли мы её?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акое задание вам понравилось больше всего?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Возникали ли у вас трудности?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«Разминка для ума»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кончание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Корень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риставка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уффикс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снова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inion Pro Cond"/>
              </a:rPr>
              <a:t>Алгоритм разбора слов по составу</a:t>
            </a:r>
            <a:endParaRPr b="1" lang="en-US" sz="36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Найди окончание. (Для этого измени форму слова.)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Отдели основу от окончания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 основе найди корень. (Для этого подбери однокоренные слова.)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ыдели приставку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Выдели суффикс.</a:t>
            </a: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24000"/>
            <a:ext cx="685800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Minion Pro Cond"/>
              </a:rPr>
              <a:t>Задание по вариантам</a:t>
            </a: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57160" y="2123640"/>
            <a:ext cx="5857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1 вар.    ушк,  а,  корм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2 вар.   сад,  а,  по,  к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Minion Pro Cond"/>
              </a:rPr>
              <a:t>Проверка</a:t>
            </a:r>
            <a:endParaRPr b="1" lang="en-US" sz="48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57160" y="1213920"/>
            <a:ext cx="5857920" cy="414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К о р м у ш к а</a:t>
            </a:r>
            <a:endParaRPr b="1" lang="en-US" sz="4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П о с а д к а</a:t>
            </a:r>
            <a:endParaRPr b="1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Арка 20"/>
          <p:cNvSpPr/>
          <p:nvPr/>
        </p:nvSpPr>
        <p:spPr>
          <a:xfrm>
            <a:off x="1916280" y="1692360"/>
            <a:ext cx="144144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Арка 21"/>
          <p:cNvSpPr/>
          <p:nvPr/>
        </p:nvSpPr>
        <p:spPr>
          <a:xfrm>
            <a:off x="2781360" y="3348000"/>
            <a:ext cx="792000" cy="287280"/>
          </a:xfrm>
          <a:prstGeom prst="pi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2"/>
          <p:cNvSpPr/>
          <p:nvPr/>
        </p:nvSpPr>
        <p:spPr>
          <a:xfrm>
            <a:off x="4653000" y="1979640"/>
            <a:ext cx="4608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5084640" y="2001960"/>
            <a:ext cx="46080" cy="4348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4699080" y="2436840"/>
            <a:ext cx="38556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9"/>
          <p:cNvSpPr/>
          <p:nvPr/>
        </p:nvSpPr>
        <p:spPr>
          <a:xfrm>
            <a:off x="1916280" y="3348000"/>
            <a:ext cx="72072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0"/>
          <p:cNvSpPr/>
          <p:nvPr/>
        </p:nvSpPr>
        <p:spPr>
          <a:xfrm>
            <a:off x="2637000" y="3394080"/>
            <a:ext cx="45720" cy="241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1"/>
          <p:cNvSpPr/>
          <p:nvPr/>
        </p:nvSpPr>
        <p:spPr>
          <a:xfrm>
            <a:off x="4076640" y="3514680"/>
            <a:ext cx="46080" cy="4096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2"/>
          <p:cNvSpPr/>
          <p:nvPr/>
        </p:nvSpPr>
        <p:spPr>
          <a:xfrm>
            <a:off x="4122720" y="3492360"/>
            <a:ext cx="254160" cy="446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3"/>
          <p:cNvSpPr/>
          <p:nvPr/>
        </p:nvSpPr>
        <p:spPr>
          <a:xfrm>
            <a:off x="4122720" y="3924360"/>
            <a:ext cx="25416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4"/>
          <p:cNvSpPr/>
          <p:nvPr/>
        </p:nvSpPr>
        <p:spPr>
          <a:xfrm>
            <a:off x="4411800" y="3514680"/>
            <a:ext cx="46080" cy="4096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овина рамки 35"/>
          <p:cNvSpPr/>
          <p:nvPr/>
        </p:nvSpPr>
        <p:spPr>
          <a:xfrm rot="2622600">
            <a:off x="3722400" y="3293640"/>
            <a:ext cx="276120" cy="285840"/>
          </a:xfrm>
          <a:prstGeom prst="pi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Диагональная полоса 37"/>
          <p:cNvSpPr/>
          <p:nvPr/>
        </p:nvSpPr>
        <p:spPr>
          <a:xfrm>
            <a:off x="3573360" y="1476360"/>
            <a:ext cx="486000" cy="503280"/>
          </a:xfrm>
          <a:prstGeom prst="pi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иагональная полоса 38"/>
          <p:cNvSpPr/>
          <p:nvPr/>
        </p:nvSpPr>
        <p:spPr>
          <a:xfrm rot="4181400">
            <a:off x="3913200" y="1662120"/>
            <a:ext cx="560160" cy="233280"/>
          </a:xfrm>
          <a:prstGeom prst="pi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1"/>
          <p:cNvSpPr/>
          <p:nvPr/>
        </p:nvSpPr>
        <p:spPr>
          <a:xfrm>
            <a:off x="1628640" y="2219400"/>
            <a:ext cx="46080" cy="2635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3"/>
          <p:cNvSpPr/>
          <p:nvPr/>
        </p:nvSpPr>
        <p:spPr>
          <a:xfrm>
            <a:off x="4653000" y="2436840"/>
            <a:ext cx="46080" cy="684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5"/>
          <p:cNvSpPr/>
          <p:nvPr/>
        </p:nvSpPr>
        <p:spPr>
          <a:xfrm>
            <a:off x="4699080" y="1979640"/>
            <a:ext cx="38556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7"/>
          <p:cNvSpPr/>
          <p:nvPr/>
        </p:nvSpPr>
        <p:spPr>
          <a:xfrm>
            <a:off x="1674720" y="2505240"/>
            <a:ext cx="297828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8"/>
          <p:cNvSpPr/>
          <p:nvPr/>
        </p:nvSpPr>
        <p:spPr>
          <a:xfrm>
            <a:off x="1674720" y="3719520"/>
            <a:ext cx="46080" cy="2509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9"/>
          <p:cNvSpPr/>
          <p:nvPr/>
        </p:nvSpPr>
        <p:spPr>
          <a:xfrm>
            <a:off x="1697040" y="3970440"/>
            <a:ext cx="2425680" cy="442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6858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inion Pro Cond"/>
              </a:rPr>
              <a:t>Тема урока: Состав слова. Разбор слов по составу</a:t>
            </a:r>
            <a:endParaRPr b="1" lang="en-US" sz="36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57160" y="2410920"/>
            <a:ext cx="58579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Цели урока :</a:t>
            </a:r>
            <a:endParaRPr b="1" lang="en-US" sz="40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вторить изученные части слова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вторить разбор слов по составу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640" y="323640"/>
            <a:ext cx="6669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inion Pro Cond"/>
              </a:rPr>
              <a:t>Составь новые слова</a:t>
            </a:r>
            <a:endParaRPr b="1" lang="en-US" sz="36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88640" y="1618920"/>
            <a:ext cx="66690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риставка        Корень      Суффикс       Окончание</a:t>
            </a:r>
            <a:endParaRPr b="1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1)Расписка          Краски           Дочка            Лапа</a:t>
            </a:r>
            <a:endParaRPr b="1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2)Занос               Морозец       Горка           Ласточки</a:t>
            </a:r>
            <a:endParaRPr b="1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3) Подарок         Ходить          Лодка              Ваза</a:t>
            </a:r>
            <a:endParaRPr b="1" lang="en-US" sz="2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Проверка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57160" y="1214280"/>
            <a:ext cx="58579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1)   Раскраска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2)  Заморозки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3)   Походка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Minion Pro Cond"/>
              </a:rPr>
              <a:t>Соотнеси слово со схемой</a:t>
            </a:r>
            <a:endParaRPr b="1" lang="en-US" sz="4000" spc="-1" strike="noStrike">
              <a:solidFill>
                <a:srgbClr val="17375e"/>
              </a:solidFill>
              <a:latin typeface="Minion Pro Cond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1800" y="1112760"/>
            <a:ext cx="5881680" cy="60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есенка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енал       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друга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одсказка                     </a:t>
            </a: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Арка 3"/>
          <p:cNvSpPr/>
          <p:nvPr/>
        </p:nvSpPr>
        <p:spPr>
          <a:xfrm>
            <a:off x="3284640" y="1528920"/>
            <a:ext cx="1152360" cy="29340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4724280" y="1665360"/>
            <a:ext cx="46080" cy="314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4724280" y="1619280"/>
            <a:ext cx="47808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5151600" y="1665360"/>
            <a:ext cx="45720" cy="314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4724280" y="1979640"/>
            <a:ext cx="47808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1"/>
          <p:cNvSpPr/>
          <p:nvPr/>
        </p:nvSpPr>
        <p:spPr>
          <a:xfrm>
            <a:off x="3284640" y="1979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3"/>
          <p:cNvSpPr/>
          <p:nvPr/>
        </p:nvSpPr>
        <p:spPr>
          <a:xfrm>
            <a:off x="3284640" y="2259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5"/>
          <p:cNvSpPr/>
          <p:nvPr/>
        </p:nvSpPr>
        <p:spPr>
          <a:xfrm flipV="1">
            <a:off x="4437000" y="1979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Арка 16"/>
          <p:cNvSpPr/>
          <p:nvPr/>
        </p:nvSpPr>
        <p:spPr>
          <a:xfrm>
            <a:off x="3284640" y="2627280"/>
            <a:ext cx="1152360" cy="252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овина рамки 19"/>
          <p:cNvSpPr/>
          <p:nvPr/>
        </p:nvSpPr>
        <p:spPr>
          <a:xfrm flipV="1" rot="8492400">
            <a:off x="4872960" y="2589840"/>
            <a:ext cx="431640" cy="39672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0"/>
          <p:cNvSpPr/>
          <p:nvPr/>
        </p:nvSpPr>
        <p:spPr>
          <a:xfrm>
            <a:off x="5732640" y="2627280"/>
            <a:ext cx="45720" cy="2984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2"/>
          <p:cNvSpPr/>
          <p:nvPr/>
        </p:nvSpPr>
        <p:spPr>
          <a:xfrm>
            <a:off x="5778360" y="2928960"/>
            <a:ext cx="31464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3"/>
          <p:cNvSpPr/>
          <p:nvPr/>
        </p:nvSpPr>
        <p:spPr>
          <a:xfrm>
            <a:off x="5732640" y="2627280"/>
            <a:ext cx="36036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5"/>
          <p:cNvSpPr/>
          <p:nvPr/>
        </p:nvSpPr>
        <p:spPr>
          <a:xfrm>
            <a:off x="6093000" y="2651040"/>
            <a:ext cx="45720" cy="2746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7"/>
          <p:cNvSpPr/>
          <p:nvPr/>
        </p:nvSpPr>
        <p:spPr>
          <a:xfrm>
            <a:off x="3284640" y="28796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35"/>
          <p:cNvSpPr/>
          <p:nvPr/>
        </p:nvSpPr>
        <p:spPr>
          <a:xfrm>
            <a:off x="3284640" y="3078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37"/>
          <p:cNvSpPr/>
          <p:nvPr/>
        </p:nvSpPr>
        <p:spPr>
          <a:xfrm flipV="1">
            <a:off x="5516640" y="28792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8"/>
          <p:cNvSpPr/>
          <p:nvPr/>
        </p:nvSpPr>
        <p:spPr>
          <a:xfrm>
            <a:off x="3284640" y="3708360"/>
            <a:ext cx="576000" cy="44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9"/>
          <p:cNvSpPr/>
          <p:nvPr/>
        </p:nvSpPr>
        <p:spPr>
          <a:xfrm>
            <a:off x="3860640" y="3753000"/>
            <a:ext cx="46080" cy="1713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Арка 40"/>
          <p:cNvSpPr/>
          <p:nvPr/>
        </p:nvSpPr>
        <p:spPr>
          <a:xfrm>
            <a:off x="4149720" y="3564000"/>
            <a:ext cx="851040" cy="274680"/>
          </a:xfrm>
          <a:prstGeom prst="pie">
            <a:avLst/>
          </a:prstGeom>
          <a:solidFill>
            <a:srgbClr val="00b05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ловина рамки 41"/>
          <p:cNvSpPr/>
          <p:nvPr/>
        </p:nvSpPr>
        <p:spPr>
          <a:xfrm rot="2784000">
            <a:off x="5226120" y="3438720"/>
            <a:ext cx="433440" cy="38880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2"/>
          <p:cNvSpPr/>
          <p:nvPr/>
        </p:nvSpPr>
        <p:spPr>
          <a:xfrm>
            <a:off x="5935680" y="3701880"/>
            <a:ext cx="46080" cy="222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3"/>
          <p:cNvSpPr/>
          <p:nvPr/>
        </p:nvSpPr>
        <p:spPr>
          <a:xfrm>
            <a:off x="5935680" y="3633840"/>
            <a:ext cx="372960" cy="680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4"/>
          <p:cNvSpPr/>
          <p:nvPr/>
        </p:nvSpPr>
        <p:spPr>
          <a:xfrm>
            <a:off x="6308640" y="3666960"/>
            <a:ext cx="46080" cy="303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5"/>
          <p:cNvSpPr/>
          <p:nvPr/>
        </p:nvSpPr>
        <p:spPr>
          <a:xfrm>
            <a:off x="5935680" y="3924360"/>
            <a:ext cx="37296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47"/>
          <p:cNvSpPr/>
          <p:nvPr/>
        </p:nvSpPr>
        <p:spPr>
          <a:xfrm>
            <a:off x="3284640" y="39704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49"/>
          <p:cNvSpPr/>
          <p:nvPr/>
        </p:nvSpPr>
        <p:spPr>
          <a:xfrm>
            <a:off x="3284640" y="4284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1"/>
          <p:cNvSpPr/>
          <p:nvPr/>
        </p:nvSpPr>
        <p:spPr>
          <a:xfrm flipV="1">
            <a:off x="5756400" y="39700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2"/>
          <p:cNvSpPr/>
          <p:nvPr/>
        </p:nvSpPr>
        <p:spPr>
          <a:xfrm>
            <a:off x="3284640" y="4643280"/>
            <a:ext cx="57600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3"/>
          <p:cNvSpPr/>
          <p:nvPr/>
        </p:nvSpPr>
        <p:spPr>
          <a:xfrm>
            <a:off x="3860640" y="4643280"/>
            <a:ext cx="46080" cy="289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Арка 54"/>
          <p:cNvSpPr/>
          <p:nvPr/>
        </p:nvSpPr>
        <p:spPr>
          <a:xfrm>
            <a:off x="4149720" y="4500720"/>
            <a:ext cx="1001880" cy="28728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7"/>
          <p:cNvSpPr/>
          <p:nvPr/>
        </p:nvSpPr>
        <p:spPr>
          <a:xfrm>
            <a:off x="5487840" y="4689360"/>
            <a:ext cx="29052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8"/>
          <p:cNvSpPr/>
          <p:nvPr/>
        </p:nvSpPr>
        <p:spPr>
          <a:xfrm>
            <a:off x="5778360" y="4735440"/>
            <a:ext cx="46080" cy="1969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0"/>
          <p:cNvSpPr/>
          <p:nvPr/>
        </p:nvSpPr>
        <p:spPr>
          <a:xfrm>
            <a:off x="5442120" y="4932360"/>
            <a:ext cx="382320" cy="46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1"/>
          <p:cNvSpPr/>
          <p:nvPr/>
        </p:nvSpPr>
        <p:spPr>
          <a:xfrm>
            <a:off x="5442120" y="4735440"/>
            <a:ext cx="45720" cy="196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63"/>
          <p:cNvSpPr/>
          <p:nvPr/>
        </p:nvSpPr>
        <p:spPr>
          <a:xfrm>
            <a:off x="3284640" y="495468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65"/>
          <p:cNvSpPr/>
          <p:nvPr/>
        </p:nvSpPr>
        <p:spPr>
          <a:xfrm>
            <a:off x="3284640" y="5219640"/>
            <a:ext cx="20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67"/>
          <p:cNvSpPr/>
          <p:nvPr/>
        </p:nvSpPr>
        <p:spPr>
          <a:xfrm flipV="1">
            <a:off x="5381640" y="4932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38:48Z</dcterms:created>
  <dc:creator>zampoto</dc:creator>
  <dc:description/>
  <dc:language>en-US</dc:language>
  <cp:lastModifiedBy>User</cp:lastModifiedBy>
  <dcterms:modified xsi:type="dcterms:W3CDTF">2018-11-12T10:19:37Z</dcterms:modified>
  <cp:revision>21</cp:revision>
  <dc:subject/>
  <dc:title>Чистопис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251049</vt:lpwstr>
  </property>
</Properties>
</file>