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A27-74CE-4824-93B2-7E439279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A7F-7C67-4E74-81E7-395CC9CE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17B-702B-4BFC-A9F1-0CC371D9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DD1-8692-4C96-8B1A-E7D866E0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7DF-787C-4EE3-8B53-C9BC2581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ACE4-4FAA-4BE1-B3AA-AB8CDD74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0D4-B8F0-41BC-85F2-0E07FC63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D58-EA6D-40C5-B65C-A1693AB5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086E-65BA-436E-96FE-9040317A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A43F-FEAD-479C-BE8B-BE83A641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1BBF-370E-4F86-8410-92E7661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F71-B4AB-4E12-A61E-5699BF2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C069-71FC-4F16-8B2A-1E13FD5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F232-D757-4F43-9CD1-4EE37F06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4524-7A7B-4333-8649-D540CFA4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04C4-54BB-4387-B0EE-BB1B2520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3AB5-C5A2-41FD-8F06-394628CE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AF9-E54A-43ED-A5CC-4662FF73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D8F-8455-44F6-9958-C882C0C0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CAB-C3E5-48A4-8272-8A8B67E5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2D2-42E4-4F7B-A02F-EF75C39E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FBF-1055-4A36-826B-EC670FE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68A-99EB-4854-86AF-D44CC4E2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8E6-896B-4F0F-9D38-FFB2AE7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2E7-066F-4635-8A6A-7C3494EDA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042C-0620-43B4-92EB-5183A8F73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2171880" cy="2133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284720" y="6922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804000" y="98100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nimated gifs : Fireworks"/>
          <p:cNvPicPr/>
          <p:nvPr/>
        </p:nvPicPr>
        <p:blipFill>
          <a:blip r:embed="rId11"/>
          <a:stretch/>
        </p:blipFill>
        <p:spPr>
          <a:xfrm>
            <a:off x="1258920" y="33577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nimated gifs : Fireworks"/>
          <p:cNvPicPr/>
          <p:nvPr/>
        </p:nvPicPr>
        <p:blipFill>
          <a:blip r:embed="rId12"/>
          <a:stretch/>
        </p:blipFill>
        <p:spPr>
          <a:xfrm>
            <a:off x="395280" y="1125360"/>
            <a:ext cx="2262240" cy="262116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6 -0.10014 L 0.31666 -0.43316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564000" y="692280"/>
            <a:ext cx="2467080" cy="1866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90792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73272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659640" y="90792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nimated gifs : Fireworks"/>
          <p:cNvPicPr/>
          <p:nvPr/>
        </p:nvPicPr>
        <p:blipFill>
          <a:blip r:embed="rId11"/>
          <a:stretch/>
        </p:blipFill>
        <p:spPr>
          <a:xfrm>
            <a:off x="1403280" y="3213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nimated gifs : Fireworks"/>
          <p:cNvPicPr/>
          <p:nvPr/>
        </p:nvPicPr>
        <p:blipFill>
          <a:blip r:embed="rId12"/>
          <a:stretch/>
        </p:blipFill>
        <p:spPr>
          <a:xfrm>
            <a:off x="108000" y="1268280"/>
            <a:ext cx="2262240" cy="262116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885080" y="189000"/>
            <a:ext cx="1079640" cy="1008000"/>
          </a:xfrm>
          <a:custGeom>
            <a:avLst/>
            <a:gdLst>
              <a:gd name="textAreaLeft" fmla="*/ 65160 w 1079640"/>
              <a:gd name="textAreaRight" fmla="*/ 1014480 w 107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3135" h="21600">
                <a:moveTo>
                  <a:pt x="0" y="0"/>
                </a:moveTo>
                <a:lnTo>
                  <a:pt x="23135" y="0"/>
                </a:lnTo>
                <a:lnTo>
                  <a:pt x="23135" y="21600"/>
                </a:lnTo>
                <a:lnTo>
                  <a:pt x="0" y="21600"/>
                </a:lnTo>
                <a:close/>
              </a:path>
              <a:path fill="lightenLess" w="23135" h="21600">
                <a:moveTo>
                  <a:pt x="0" y="0"/>
                </a:moveTo>
                <a:lnTo>
                  <a:pt x="23135" y="0"/>
                </a:lnTo>
                <a:lnTo>
                  <a:pt x="21735" y="1400"/>
                </a:lnTo>
                <a:lnTo>
                  <a:pt x="1400" y="1400"/>
                </a:lnTo>
                <a:close/>
              </a:path>
              <a:path fill="darken" w="23135" h="21600">
                <a:moveTo>
                  <a:pt x="23135" y="0"/>
                </a:moveTo>
                <a:lnTo>
                  <a:pt x="23135" y="21600"/>
                </a:lnTo>
                <a:lnTo>
                  <a:pt x="21735" y="20200"/>
                </a:lnTo>
                <a:lnTo>
                  <a:pt x="21735" y="1400"/>
                </a:lnTo>
                <a:close/>
              </a:path>
              <a:path fill="darkenLess" w="23135" h="21600">
                <a:moveTo>
                  <a:pt x="2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5" y="20200"/>
                </a:lnTo>
                <a:close/>
              </a:path>
              <a:path fill="lighten" w="2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5" h="21600">
                <a:moveTo>
                  <a:pt x="4561" y="3794"/>
                </a:moveTo>
                <a:lnTo>
                  <a:pt x="18574" y="10800"/>
                </a:lnTo>
                <a:lnTo>
                  <a:pt x="456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34043E-006 L -0.23629 -0.41373 E">
                                      <p:cBhvr>
                                        <p:cTn id="7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492360" y="981000"/>
            <a:ext cx="2362320" cy="1762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284720" y="105264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292428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227640" y="-9972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nimated gifs : Fireworks"/>
          <p:cNvPicPr/>
          <p:nvPr/>
        </p:nvPicPr>
        <p:blipFill>
          <a:blip r:embed="rId11"/>
          <a:stretch/>
        </p:blipFill>
        <p:spPr>
          <a:xfrm>
            <a:off x="-36360" y="2205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nimated gifs : Fireworks"/>
          <p:cNvPicPr/>
          <p:nvPr/>
        </p:nvPicPr>
        <p:blipFill>
          <a:blip r:embed="rId12"/>
          <a:stretch/>
        </p:blipFill>
        <p:spPr>
          <a:xfrm>
            <a:off x="1116000" y="-458640"/>
            <a:ext cx="2262240" cy="262080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30805E-007 L 0.20469 -0.39847 E">
                                      <p:cBhvr>
                                        <p:cTn id="11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3564000" y="404640"/>
            <a:ext cx="2124000" cy="2324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211640" y="6922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292428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732720" y="836280"/>
            <a:ext cx="2261880" cy="2620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nimated gifs : Fireworks"/>
          <p:cNvPicPr/>
          <p:nvPr/>
        </p:nvPicPr>
        <p:blipFill>
          <a:blip r:embed="rId11"/>
          <a:stretch/>
        </p:blipFill>
        <p:spPr>
          <a:xfrm>
            <a:off x="1547640" y="314172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nimated gifs : Fireworks"/>
          <p:cNvPicPr/>
          <p:nvPr/>
        </p:nvPicPr>
        <p:blipFill>
          <a:blip r:embed="rId12"/>
          <a:stretch/>
        </p:blipFill>
        <p:spPr>
          <a:xfrm>
            <a:off x="395280" y="765000"/>
            <a:ext cx="2262240" cy="262116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1.46161E-006 L -7.22222E-006 -0.34621 E">
                                      <p:cBhvr>
                                        <p:cTn id="15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3419640" y="351000"/>
            <a:ext cx="2665080" cy="2527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284720" y="90792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5435640" y="4869000"/>
            <a:ext cx="1655640" cy="1412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925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3213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516720" y="76500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nimated gifs : Fireworks"/>
          <p:cNvPicPr/>
          <p:nvPr/>
        </p:nvPicPr>
        <p:blipFill>
          <a:blip r:embed="rId11"/>
          <a:stretch/>
        </p:blipFill>
        <p:spPr>
          <a:xfrm>
            <a:off x="1619280" y="33577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nimated gifs : Fireworks"/>
          <p:cNvPicPr/>
          <p:nvPr/>
        </p:nvPicPr>
        <p:blipFill>
          <a:blip r:embed="rId12"/>
          <a:stretch/>
        </p:blipFill>
        <p:spPr>
          <a:xfrm>
            <a:off x="539640" y="549360"/>
            <a:ext cx="2262240" cy="262080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9.15819E-007 L -0.1691 -0.38622 E">
                                      <p:cBhvr>
                                        <p:cTn id="20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640" y="765000"/>
            <a:ext cx="6983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6" name="" descr="Animated gifs : Fireworks"/>
          <p:cNvPicPr/>
          <p:nvPr/>
        </p:nvPicPr>
        <p:blipFill>
          <a:blip r:embed="rId1"/>
          <a:stretch/>
        </p:blipFill>
        <p:spPr>
          <a:xfrm>
            <a:off x="-18108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Animated gifs : Fireworks"/>
          <p:cNvPicPr/>
          <p:nvPr/>
        </p:nvPicPr>
        <p:blipFill>
          <a:blip r:embed="rId2"/>
          <a:stretch/>
        </p:blipFill>
        <p:spPr>
          <a:xfrm rot="20149200">
            <a:off x="8243640" y="2925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Animated gifs : Fireworks"/>
          <p:cNvPicPr/>
          <p:nvPr/>
        </p:nvPicPr>
        <p:blipFill>
          <a:blip r:embed="rId3"/>
          <a:stretch/>
        </p:blipFill>
        <p:spPr>
          <a:xfrm rot="20501400">
            <a:off x="6948360" y="3213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Animated gifs : Fireworks"/>
          <p:cNvPicPr/>
          <p:nvPr/>
        </p:nvPicPr>
        <p:blipFill>
          <a:blip r:embed="rId4"/>
          <a:stretch/>
        </p:blipFill>
        <p:spPr>
          <a:xfrm rot="20478000">
            <a:off x="6881760" y="328464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Animated gifs : Fireworks"/>
          <p:cNvPicPr/>
          <p:nvPr/>
        </p:nvPicPr>
        <p:blipFill>
          <a:blip r:embed="rId5"/>
          <a:stretch/>
        </p:blipFill>
        <p:spPr>
          <a:xfrm>
            <a:off x="1619280" y="33577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Animated gifs : Fireworks"/>
          <p:cNvPicPr/>
          <p:nvPr/>
        </p:nvPicPr>
        <p:blipFill>
          <a:blip r:embed="rId6"/>
          <a:stretch/>
        </p:blipFill>
        <p:spPr>
          <a:xfrm>
            <a:off x="-684360" y="42372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Animated gifs : Fireworks"/>
          <p:cNvPicPr/>
          <p:nvPr/>
        </p:nvPicPr>
        <p:blipFill>
          <a:blip r:embed="rId7"/>
          <a:stretch/>
        </p:blipFill>
        <p:spPr>
          <a:xfrm>
            <a:off x="5003640" y="5805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459280" y="3141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227640" y="522936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588000" y="501336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Animated gifs : Fireworks"/>
          <p:cNvPicPr/>
          <p:nvPr/>
        </p:nvPicPr>
        <p:blipFill>
          <a:blip r:embed="rId11"/>
          <a:stretch/>
        </p:blipFill>
        <p:spPr>
          <a:xfrm>
            <a:off x="1835280" y="3573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Animated gifs : Fireworks"/>
          <p:cNvPicPr/>
          <p:nvPr/>
        </p:nvPicPr>
        <p:blipFill>
          <a:blip r:embed="rId12"/>
          <a:stretch/>
        </p:blipFill>
        <p:spPr>
          <a:xfrm>
            <a:off x="-252360" y="42372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Animated gifs : Fireworks"/>
          <p:cNvPicPr/>
          <p:nvPr/>
        </p:nvPicPr>
        <p:blipFill>
          <a:blip r:embed="rId13"/>
          <a:stretch/>
        </p:blipFill>
        <p:spPr>
          <a:xfrm>
            <a:off x="682560" y="654048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Animated gifs : Fireworks"/>
          <p:cNvPicPr/>
          <p:nvPr/>
        </p:nvPicPr>
        <p:blipFill>
          <a:blip r:embed="rId14"/>
          <a:stretch/>
        </p:blipFill>
        <p:spPr>
          <a:xfrm rot="20149200">
            <a:off x="9107280" y="63972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Animated gifs : Fireworks"/>
          <p:cNvPicPr/>
          <p:nvPr/>
        </p:nvPicPr>
        <p:blipFill>
          <a:blip r:embed="rId15"/>
          <a:stretch/>
        </p:blipFill>
        <p:spPr>
          <a:xfrm rot="20501400">
            <a:off x="7812000" y="66848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Animated gifs : Fireworks"/>
          <p:cNvPicPr/>
          <p:nvPr/>
        </p:nvPicPr>
        <p:blipFill>
          <a:blip r:embed="rId16"/>
          <a:stretch/>
        </p:blipFill>
        <p:spPr>
          <a:xfrm rot="20478000">
            <a:off x="7380360" y="42372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Animated gifs : Fireworks"/>
          <p:cNvPicPr/>
          <p:nvPr/>
        </p:nvPicPr>
        <p:blipFill>
          <a:blip r:embed="rId17"/>
          <a:stretch/>
        </p:blipFill>
        <p:spPr>
          <a:xfrm>
            <a:off x="2482920" y="682956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Animated gifs : Fireworks"/>
          <p:cNvPicPr/>
          <p:nvPr/>
        </p:nvPicPr>
        <p:blipFill>
          <a:blip r:embed="rId18"/>
          <a:stretch/>
        </p:blipFill>
        <p:spPr>
          <a:xfrm>
            <a:off x="1332000" y="48690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Animated gifs : Fireworks"/>
          <p:cNvPicPr/>
          <p:nvPr/>
        </p:nvPicPr>
        <p:blipFill>
          <a:blip r:embed="rId19"/>
          <a:stretch/>
        </p:blipFill>
        <p:spPr>
          <a:xfrm>
            <a:off x="2411280" y="72439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Animated gifs : Fireworks"/>
          <p:cNvPicPr/>
          <p:nvPr/>
        </p:nvPicPr>
        <p:blipFill>
          <a:blip r:embed="rId20"/>
          <a:stretch/>
        </p:blipFill>
        <p:spPr>
          <a:xfrm rot="20149200">
            <a:off x="10836000" y="7100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Animated gifs : Fireworks"/>
          <p:cNvPicPr/>
          <p:nvPr/>
        </p:nvPicPr>
        <p:blipFill>
          <a:blip r:embed="rId21"/>
          <a:stretch/>
        </p:blipFill>
        <p:spPr>
          <a:xfrm rot="20501400">
            <a:off x="9540720" y="738828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Animated gifs : Fireworks"/>
          <p:cNvPicPr/>
          <p:nvPr/>
        </p:nvPicPr>
        <p:blipFill>
          <a:blip r:embed="rId22"/>
          <a:stretch/>
        </p:blipFill>
        <p:spPr>
          <a:xfrm rot="20478000">
            <a:off x="9109080" y="494028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Animated gifs : Fireworks"/>
          <p:cNvPicPr/>
          <p:nvPr/>
        </p:nvPicPr>
        <p:blipFill>
          <a:blip r:embed="rId23"/>
          <a:stretch/>
        </p:blipFill>
        <p:spPr>
          <a:xfrm>
            <a:off x="4211640" y="7532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Animated gifs : Fireworks"/>
          <p:cNvPicPr/>
          <p:nvPr/>
        </p:nvPicPr>
        <p:blipFill>
          <a:blip r:embed="rId24"/>
          <a:stretch/>
        </p:blipFill>
        <p:spPr>
          <a:xfrm>
            <a:off x="3132000" y="4724280"/>
            <a:ext cx="22622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3:05:28Z</dcterms:created>
  <dc:creator>Пользователь</dc:creator>
  <dc:description/>
  <dc:language>en-US</dc:language>
  <cp:lastModifiedBy>Пользователь</cp:lastModifiedBy>
  <dcterms:modified xsi:type="dcterms:W3CDTF">2014-08-14T13:49:08Z</dcterms:modified>
  <cp:revision>3</cp:revision>
  <dc:subject/>
  <dc:title>Слайд 1</dc:title>
</cp:coreProperties>
</file>