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CF2B-5D77-42F5-838F-026D52EB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A15-F7E0-47A8-9308-6429F85D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6AF-6511-4F60-ACD5-6DE20EBF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B5B-D36E-4DFE-8577-9713147B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3538-0BD6-4362-9F3D-A1FBDC3B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DA7A-07C2-4C5F-98F3-4795FE55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84EB-89AB-479B-A00A-6076B4F0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6B8E-5310-474D-88DA-1AB4AD66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0BFD-5BC4-45BC-922E-0684F01E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AC65-BC99-4B34-A40C-6997E8B2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4554-6C8E-4828-8182-9FD333A4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AE9-D03F-43AA-BB53-644D3E19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31A5-2CEA-4CA4-BD86-76D0D3D6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412F-5462-4E71-88EF-54ADE7A3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6931-6DC8-4EED-A820-7B99F4EC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B25F-7485-453C-936F-EB44CE4F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55E0-9FFC-4DD6-A32A-7C080790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331-3998-4C26-9770-3EA5A244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8274-6DB1-437A-AFEF-970BDBC0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B23-58BE-484A-A1D0-3D8DE83A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4FF9-0E39-4CF9-8439-5CE93B1C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176-F548-4427-9088-BCA01677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FA0-BD03-4267-A168-A1C0C9F6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8DAD-56BC-45DB-B8D7-CCC730EE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7E53-01D1-428A-A76A-DA5C40B1A5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cc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09DE-5D6E-4D5F-8014-9B33A8580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5.png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image" Target="../media/image3.png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image" Target="../media/image7.gif"/><Relationship Id="rId22" Type="http://schemas.openxmlformats.org/officeDocument/2006/relationships/image" Target="../media/image7.gif"/><Relationship Id="rId23" Type="http://schemas.openxmlformats.org/officeDocument/2006/relationships/image" Target="../media/image7.gif"/><Relationship Id="rId24" Type="http://schemas.openxmlformats.org/officeDocument/2006/relationships/image" Target="../media/image7.gif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635280" y="476280"/>
            <a:ext cx="2171880" cy="2133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835280" y="5013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1655640" cy="1339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250920" y="4724280"/>
            <a:ext cx="1519200" cy="1629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7164360" y="4653000"/>
            <a:ext cx="1584360" cy="1649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3780000" y="4653000"/>
            <a:ext cx="1606320" cy="1657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284720" y="69228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cc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Animated gifs : Fireworks"/>
          <p:cNvPicPr/>
          <p:nvPr/>
        </p:nvPicPr>
        <p:blipFill>
          <a:blip r:embed="rId7"/>
          <a:stretch/>
        </p:blipFill>
        <p:spPr>
          <a:xfrm>
            <a:off x="-181080" y="328464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Animated gifs : Fireworks"/>
          <p:cNvPicPr/>
          <p:nvPr/>
        </p:nvPicPr>
        <p:blipFill>
          <a:blip r:embed="rId8"/>
          <a:stretch/>
        </p:blipFill>
        <p:spPr>
          <a:xfrm rot="20149200">
            <a:off x="8243640" y="263664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Animated gifs : Fireworks"/>
          <p:cNvPicPr/>
          <p:nvPr/>
        </p:nvPicPr>
        <p:blipFill>
          <a:blip r:embed="rId9"/>
          <a:stretch/>
        </p:blipFill>
        <p:spPr>
          <a:xfrm rot="20501400">
            <a:off x="6948360" y="306864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Animated gifs : Fireworks"/>
          <p:cNvPicPr/>
          <p:nvPr/>
        </p:nvPicPr>
        <p:blipFill>
          <a:blip r:embed="rId10"/>
          <a:stretch/>
        </p:blipFill>
        <p:spPr>
          <a:xfrm rot="20478000">
            <a:off x="6804000" y="981000"/>
            <a:ext cx="2262240" cy="2621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Animated gifs : Fireworks"/>
          <p:cNvPicPr/>
          <p:nvPr/>
        </p:nvPicPr>
        <p:blipFill>
          <a:blip r:embed="rId11"/>
          <a:stretch/>
        </p:blipFill>
        <p:spPr>
          <a:xfrm>
            <a:off x="1258920" y="335772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Animated gifs : Fireworks"/>
          <p:cNvPicPr/>
          <p:nvPr/>
        </p:nvPicPr>
        <p:blipFill>
          <a:blip r:embed="rId12"/>
          <a:stretch/>
        </p:blipFill>
        <p:spPr>
          <a:xfrm>
            <a:off x="395280" y="1125360"/>
            <a:ext cx="2262240" cy="2621160"/>
          </a:xfrm>
          <a:prstGeom prst="rect">
            <a:avLst/>
          </a:prstGeom>
          <a:ln w="0">
            <a:noFill/>
          </a:ln>
        </p:spPr>
      </p:pic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7740720" y="189000"/>
            <a:ext cx="1224000" cy="936360"/>
          </a:xfrm>
          <a:custGeom>
            <a:avLst/>
            <a:gdLst>
              <a:gd name="textAreaLeft" fmla="*/ 60480 w 1224000"/>
              <a:gd name="textAreaRight" fmla="*/ 1163520 w 122400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8233" h="21600">
                <a:moveTo>
                  <a:pt x="0" y="0"/>
                </a:moveTo>
                <a:lnTo>
                  <a:pt x="28233" y="0"/>
                </a:lnTo>
                <a:lnTo>
                  <a:pt x="28233" y="21600"/>
                </a:lnTo>
                <a:lnTo>
                  <a:pt x="0" y="21600"/>
                </a:lnTo>
                <a:close/>
              </a:path>
              <a:path fill="lightenLess" w="28233" h="21600">
                <a:moveTo>
                  <a:pt x="0" y="0"/>
                </a:moveTo>
                <a:lnTo>
                  <a:pt x="28233" y="0"/>
                </a:lnTo>
                <a:lnTo>
                  <a:pt x="26833" y="1400"/>
                </a:lnTo>
                <a:lnTo>
                  <a:pt x="1400" y="1400"/>
                </a:lnTo>
                <a:close/>
              </a:path>
              <a:path fill="darken" w="28233" h="21600">
                <a:moveTo>
                  <a:pt x="28233" y="0"/>
                </a:moveTo>
                <a:lnTo>
                  <a:pt x="28233" y="21600"/>
                </a:lnTo>
                <a:lnTo>
                  <a:pt x="26833" y="20200"/>
                </a:lnTo>
                <a:lnTo>
                  <a:pt x="26833" y="1400"/>
                </a:lnTo>
                <a:close/>
              </a:path>
              <a:path fill="darkenLess" w="28233" h="21600">
                <a:moveTo>
                  <a:pt x="28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33" y="20200"/>
                </a:lnTo>
                <a:close/>
              </a:path>
              <a:path fill="lighten" w="28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33" h="21600">
                <a:moveTo>
                  <a:pt x="7110" y="3794"/>
                </a:moveTo>
                <a:lnTo>
                  <a:pt x="21123" y="10800"/>
                </a:lnTo>
                <a:lnTo>
                  <a:pt x="7110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66 -0.10014 L 0.31666 -0.43316 E">
                                      <p:cBhvr>
                                        <p:cTn id="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835280" y="5013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435640" y="4941720"/>
            <a:ext cx="1655640" cy="1339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0920" y="4724280"/>
            <a:ext cx="1519200" cy="1629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3780000" y="4653000"/>
            <a:ext cx="1606320" cy="1657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3564000" y="692280"/>
            <a:ext cx="2467080" cy="1866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356000" y="90792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cc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7164360" y="4653000"/>
            <a:ext cx="1584360" cy="1649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Animated gifs : Fireworks"/>
          <p:cNvPicPr/>
          <p:nvPr/>
        </p:nvPicPr>
        <p:blipFill>
          <a:blip r:embed="rId7"/>
          <a:stretch/>
        </p:blipFill>
        <p:spPr>
          <a:xfrm>
            <a:off x="-181080" y="328464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Animated gifs : Fireworks"/>
          <p:cNvPicPr/>
          <p:nvPr/>
        </p:nvPicPr>
        <p:blipFill>
          <a:blip r:embed="rId8"/>
          <a:stretch/>
        </p:blipFill>
        <p:spPr>
          <a:xfrm rot="20149200">
            <a:off x="8243640" y="263664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Animated gifs : Fireworks"/>
          <p:cNvPicPr/>
          <p:nvPr/>
        </p:nvPicPr>
        <p:blipFill>
          <a:blip r:embed="rId9"/>
          <a:stretch/>
        </p:blipFill>
        <p:spPr>
          <a:xfrm rot="20501400">
            <a:off x="6732720" y="306864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Animated gifs : Fireworks"/>
          <p:cNvPicPr/>
          <p:nvPr/>
        </p:nvPicPr>
        <p:blipFill>
          <a:blip r:embed="rId10"/>
          <a:stretch/>
        </p:blipFill>
        <p:spPr>
          <a:xfrm rot="20478000">
            <a:off x="6659640" y="907920"/>
            <a:ext cx="2262240" cy="2621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Animated gifs : Fireworks"/>
          <p:cNvPicPr/>
          <p:nvPr/>
        </p:nvPicPr>
        <p:blipFill>
          <a:blip r:embed="rId11"/>
          <a:stretch/>
        </p:blipFill>
        <p:spPr>
          <a:xfrm>
            <a:off x="1403280" y="321300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Animated gifs : Fireworks"/>
          <p:cNvPicPr/>
          <p:nvPr/>
        </p:nvPicPr>
        <p:blipFill>
          <a:blip r:embed="rId12"/>
          <a:stretch/>
        </p:blipFill>
        <p:spPr>
          <a:xfrm>
            <a:off x="108000" y="1268280"/>
            <a:ext cx="2262240" cy="262116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885080" y="189000"/>
            <a:ext cx="1079640" cy="1008000"/>
          </a:xfrm>
          <a:custGeom>
            <a:avLst/>
            <a:gdLst>
              <a:gd name="textAreaLeft" fmla="*/ 65160 w 1079640"/>
              <a:gd name="textAreaRight" fmla="*/ 1014480 w 107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3135" h="21600">
                <a:moveTo>
                  <a:pt x="0" y="0"/>
                </a:moveTo>
                <a:lnTo>
                  <a:pt x="23135" y="0"/>
                </a:lnTo>
                <a:lnTo>
                  <a:pt x="23135" y="21600"/>
                </a:lnTo>
                <a:lnTo>
                  <a:pt x="0" y="21600"/>
                </a:lnTo>
                <a:close/>
              </a:path>
              <a:path fill="lightenLess" w="23135" h="21600">
                <a:moveTo>
                  <a:pt x="0" y="0"/>
                </a:moveTo>
                <a:lnTo>
                  <a:pt x="23135" y="0"/>
                </a:lnTo>
                <a:lnTo>
                  <a:pt x="21735" y="1400"/>
                </a:lnTo>
                <a:lnTo>
                  <a:pt x="1400" y="1400"/>
                </a:lnTo>
                <a:close/>
              </a:path>
              <a:path fill="darken" w="23135" h="21600">
                <a:moveTo>
                  <a:pt x="23135" y="0"/>
                </a:moveTo>
                <a:lnTo>
                  <a:pt x="23135" y="21600"/>
                </a:lnTo>
                <a:lnTo>
                  <a:pt x="21735" y="20200"/>
                </a:lnTo>
                <a:lnTo>
                  <a:pt x="21735" y="1400"/>
                </a:lnTo>
                <a:close/>
              </a:path>
              <a:path fill="darkenLess" w="23135" h="21600">
                <a:moveTo>
                  <a:pt x="23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5" y="20200"/>
                </a:lnTo>
                <a:close/>
              </a:path>
              <a:path fill="lighten" w="23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5" h="21600">
                <a:moveTo>
                  <a:pt x="4561" y="3794"/>
                </a:moveTo>
                <a:lnTo>
                  <a:pt x="18574" y="10800"/>
                </a:lnTo>
                <a:lnTo>
                  <a:pt x="4561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1079640" cy="936360"/>
          </a:xfrm>
          <a:custGeom>
            <a:avLst/>
            <a:gdLst>
              <a:gd name="textAreaLeft" fmla="*/ 60480 w 1079640"/>
              <a:gd name="textAreaRight" fmla="*/ 1019160 w 107964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4904" h="21600">
                <a:moveTo>
                  <a:pt x="0" y="0"/>
                </a:moveTo>
                <a:lnTo>
                  <a:pt x="24904" y="0"/>
                </a:lnTo>
                <a:lnTo>
                  <a:pt x="24904" y="21600"/>
                </a:lnTo>
                <a:lnTo>
                  <a:pt x="0" y="21600"/>
                </a:lnTo>
                <a:close/>
              </a:path>
              <a:path fill="lightenLess" w="24904" h="21600">
                <a:moveTo>
                  <a:pt x="0" y="0"/>
                </a:moveTo>
                <a:lnTo>
                  <a:pt x="24904" y="0"/>
                </a:lnTo>
                <a:lnTo>
                  <a:pt x="23504" y="1400"/>
                </a:lnTo>
                <a:lnTo>
                  <a:pt x="1400" y="1400"/>
                </a:lnTo>
                <a:close/>
              </a:path>
              <a:path fill="darken" w="24904" h="21600">
                <a:moveTo>
                  <a:pt x="24904" y="0"/>
                </a:moveTo>
                <a:lnTo>
                  <a:pt x="24904" y="21600"/>
                </a:lnTo>
                <a:lnTo>
                  <a:pt x="23504" y="20200"/>
                </a:lnTo>
                <a:lnTo>
                  <a:pt x="23504" y="1400"/>
                </a:lnTo>
                <a:close/>
              </a:path>
              <a:path fill="darkenLess" w="24904" h="21600">
                <a:moveTo>
                  <a:pt x="24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04" y="20200"/>
                </a:lnTo>
                <a:close/>
              </a:path>
              <a:path fill="lighten" w="24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04" h="21600">
                <a:moveTo>
                  <a:pt x="5445" y="10800"/>
                </a:moveTo>
                <a:lnTo>
                  <a:pt x="19458" y="3794"/>
                </a:lnTo>
                <a:lnTo>
                  <a:pt x="19458" y="17806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34043E-006 L -0.23629 -0.41373 E">
                                      <p:cBhvr>
                                        <p:cTn id="7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435640" y="4941720"/>
            <a:ext cx="1655640" cy="1339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1519200" cy="1629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164360" y="4653000"/>
            <a:ext cx="1584360" cy="16495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780000" y="4653000"/>
            <a:ext cx="1606320" cy="1657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3492360" y="981000"/>
            <a:ext cx="2362320" cy="17622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284720" y="105264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cc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1835280" y="5013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Animated gifs : Fireworks"/>
          <p:cNvPicPr/>
          <p:nvPr/>
        </p:nvPicPr>
        <p:blipFill>
          <a:blip r:embed="rId7"/>
          <a:stretch/>
        </p:blipFill>
        <p:spPr>
          <a:xfrm>
            <a:off x="-181080" y="328464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Animated gifs : Fireworks"/>
          <p:cNvPicPr/>
          <p:nvPr/>
        </p:nvPicPr>
        <p:blipFill>
          <a:blip r:embed="rId8"/>
          <a:stretch/>
        </p:blipFill>
        <p:spPr>
          <a:xfrm rot="20149200">
            <a:off x="8243640" y="263664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Animated gifs : Fireworks"/>
          <p:cNvPicPr/>
          <p:nvPr/>
        </p:nvPicPr>
        <p:blipFill>
          <a:blip r:embed="rId9"/>
          <a:stretch/>
        </p:blipFill>
        <p:spPr>
          <a:xfrm rot="20501400">
            <a:off x="6948360" y="292428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Animated gifs : Fireworks"/>
          <p:cNvPicPr/>
          <p:nvPr/>
        </p:nvPicPr>
        <p:blipFill>
          <a:blip r:embed="rId10"/>
          <a:stretch/>
        </p:blipFill>
        <p:spPr>
          <a:xfrm rot="20478000">
            <a:off x="6227640" y="-99720"/>
            <a:ext cx="2262240" cy="2621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Animated gifs : Fireworks"/>
          <p:cNvPicPr/>
          <p:nvPr/>
        </p:nvPicPr>
        <p:blipFill>
          <a:blip r:embed="rId11"/>
          <a:stretch/>
        </p:blipFill>
        <p:spPr>
          <a:xfrm>
            <a:off x="-36360" y="220500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Animated gifs : Fireworks"/>
          <p:cNvPicPr/>
          <p:nvPr/>
        </p:nvPicPr>
        <p:blipFill>
          <a:blip r:embed="rId12"/>
          <a:stretch/>
        </p:blipFill>
        <p:spPr>
          <a:xfrm>
            <a:off x="1116000" y="-458640"/>
            <a:ext cx="2262240" cy="2620800"/>
          </a:xfrm>
          <a:prstGeom prst="rect">
            <a:avLst/>
          </a:prstGeom>
          <a:ln w="0">
            <a:noFill/>
          </a:ln>
        </p:spPr>
      </p:pic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7740720" y="189000"/>
            <a:ext cx="1224000" cy="936360"/>
          </a:xfrm>
          <a:custGeom>
            <a:avLst/>
            <a:gdLst>
              <a:gd name="textAreaLeft" fmla="*/ 60480 w 1224000"/>
              <a:gd name="textAreaRight" fmla="*/ 1163520 w 122400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8233" h="21600">
                <a:moveTo>
                  <a:pt x="0" y="0"/>
                </a:moveTo>
                <a:lnTo>
                  <a:pt x="28233" y="0"/>
                </a:lnTo>
                <a:lnTo>
                  <a:pt x="28233" y="21600"/>
                </a:lnTo>
                <a:lnTo>
                  <a:pt x="0" y="21600"/>
                </a:lnTo>
                <a:close/>
              </a:path>
              <a:path fill="lightenLess" w="28233" h="21600">
                <a:moveTo>
                  <a:pt x="0" y="0"/>
                </a:moveTo>
                <a:lnTo>
                  <a:pt x="28233" y="0"/>
                </a:lnTo>
                <a:lnTo>
                  <a:pt x="26833" y="1400"/>
                </a:lnTo>
                <a:lnTo>
                  <a:pt x="1400" y="1400"/>
                </a:lnTo>
                <a:close/>
              </a:path>
              <a:path fill="darken" w="28233" h="21600">
                <a:moveTo>
                  <a:pt x="28233" y="0"/>
                </a:moveTo>
                <a:lnTo>
                  <a:pt x="28233" y="21600"/>
                </a:lnTo>
                <a:lnTo>
                  <a:pt x="26833" y="20200"/>
                </a:lnTo>
                <a:lnTo>
                  <a:pt x="26833" y="1400"/>
                </a:lnTo>
                <a:close/>
              </a:path>
              <a:path fill="darkenLess" w="28233" h="21600">
                <a:moveTo>
                  <a:pt x="28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33" y="20200"/>
                </a:lnTo>
                <a:close/>
              </a:path>
              <a:path fill="lighten" w="28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33" h="21600">
                <a:moveTo>
                  <a:pt x="7110" y="3794"/>
                </a:moveTo>
                <a:lnTo>
                  <a:pt x="21123" y="10800"/>
                </a:lnTo>
                <a:lnTo>
                  <a:pt x="7110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1079640" cy="936360"/>
          </a:xfrm>
          <a:custGeom>
            <a:avLst/>
            <a:gdLst>
              <a:gd name="textAreaLeft" fmla="*/ 60480 w 1079640"/>
              <a:gd name="textAreaRight" fmla="*/ 1019160 w 107964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4904" h="21600">
                <a:moveTo>
                  <a:pt x="0" y="0"/>
                </a:moveTo>
                <a:lnTo>
                  <a:pt x="24904" y="0"/>
                </a:lnTo>
                <a:lnTo>
                  <a:pt x="24904" y="21600"/>
                </a:lnTo>
                <a:lnTo>
                  <a:pt x="0" y="21600"/>
                </a:lnTo>
                <a:close/>
              </a:path>
              <a:path fill="lightenLess" w="24904" h="21600">
                <a:moveTo>
                  <a:pt x="0" y="0"/>
                </a:moveTo>
                <a:lnTo>
                  <a:pt x="24904" y="0"/>
                </a:lnTo>
                <a:lnTo>
                  <a:pt x="23504" y="1400"/>
                </a:lnTo>
                <a:lnTo>
                  <a:pt x="1400" y="1400"/>
                </a:lnTo>
                <a:close/>
              </a:path>
              <a:path fill="darken" w="24904" h="21600">
                <a:moveTo>
                  <a:pt x="24904" y="0"/>
                </a:moveTo>
                <a:lnTo>
                  <a:pt x="24904" y="21600"/>
                </a:lnTo>
                <a:lnTo>
                  <a:pt x="23504" y="20200"/>
                </a:lnTo>
                <a:lnTo>
                  <a:pt x="23504" y="1400"/>
                </a:lnTo>
                <a:close/>
              </a:path>
              <a:path fill="darkenLess" w="24904" h="21600">
                <a:moveTo>
                  <a:pt x="24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04" y="20200"/>
                </a:lnTo>
                <a:close/>
              </a:path>
              <a:path fill="lighten" w="24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04" h="21600">
                <a:moveTo>
                  <a:pt x="5445" y="10800"/>
                </a:moveTo>
                <a:lnTo>
                  <a:pt x="19458" y="3794"/>
                </a:lnTo>
                <a:lnTo>
                  <a:pt x="19458" y="17806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30805E-007 L 0.20469 -0.39847 E">
                                      <p:cBhvr>
                                        <p:cTn id="114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835280" y="5013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435640" y="4941720"/>
            <a:ext cx="1655640" cy="1339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50920" y="4724280"/>
            <a:ext cx="1519200" cy="1629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7164360" y="4653000"/>
            <a:ext cx="1584360" cy="1649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3564000" y="404640"/>
            <a:ext cx="2124000" cy="2324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211640" y="69228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cc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3780000" y="4653000"/>
            <a:ext cx="1606320" cy="1657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Animated gifs : Fireworks"/>
          <p:cNvPicPr/>
          <p:nvPr/>
        </p:nvPicPr>
        <p:blipFill>
          <a:blip r:embed="rId7"/>
          <a:stretch/>
        </p:blipFill>
        <p:spPr>
          <a:xfrm>
            <a:off x="-181080" y="328464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Animated gifs : Fireworks"/>
          <p:cNvPicPr/>
          <p:nvPr/>
        </p:nvPicPr>
        <p:blipFill>
          <a:blip r:embed="rId8"/>
          <a:stretch/>
        </p:blipFill>
        <p:spPr>
          <a:xfrm rot="20149200">
            <a:off x="8243640" y="263664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Animated gifs : Fireworks"/>
          <p:cNvPicPr/>
          <p:nvPr/>
        </p:nvPicPr>
        <p:blipFill>
          <a:blip r:embed="rId9"/>
          <a:stretch/>
        </p:blipFill>
        <p:spPr>
          <a:xfrm rot="20501400">
            <a:off x="6948360" y="292428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Animated gifs : Fireworks"/>
          <p:cNvPicPr/>
          <p:nvPr/>
        </p:nvPicPr>
        <p:blipFill>
          <a:blip r:embed="rId10"/>
          <a:stretch/>
        </p:blipFill>
        <p:spPr>
          <a:xfrm rot="20478000">
            <a:off x="6732720" y="836280"/>
            <a:ext cx="2261880" cy="26208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Animated gifs : Fireworks"/>
          <p:cNvPicPr/>
          <p:nvPr/>
        </p:nvPicPr>
        <p:blipFill>
          <a:blip r:embed="rId11"/>
          <a:stretch/>
        </p:blipFill>
        <p:spPr>
          <a:xfrm>
            <a:off x="1547640" y="314172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Animated gifs : Fireworks"/>
          <p:cNvPicPr/>
          <p:nvPr/>
        </p:nvPicPr>
        <p:blipFill>
          <a:blip r:embed="rId12"/>
          <a:stretch/>
        </p:blipFill>
        <p:spPr>
          <a:xfrm>
            <a:off x="395280" y="765000"/>
            <a:ext cx="2262240" cy="2621160"/>
          </a:xfrm>
          <a:prstGeom prst="rect">
            <a:avLst/>
          </a:prstGeom>
          <a:ln w="0">
            <a:noFill/>
          </a:ln>
        </p:spPr>
      </p:pic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7740720" y="189000"/>
            <a:ext cx="1224000" cy="936360"/>
          </a:xfrm>
          <a:custGeom>
            <a:avLst/>
            <a:gdLst>
              <a:gd name="textAreaLeft" fmla="*/ 60480 w 1224000"/>
              <a:gd name="textAreaRight" fmla="*/ 1163520 w 122400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8233" h="21600">
                <a:moveTo>
                  <a:pt x="0" y="0"/>
                </a:moveTo>
                <a:lnTo>
                  <a:pt x="28233" y="0"/>
                </a:lnTo>
                <a:lnTo>
                  <a:pt x="28233" y="21600"/>
                </a:lnTo>
                <a:lnTo>
                  <a:pt x="0" y="21600"/>
                </a:lnTo>
                <a:close/>
              </a:path>
              <a:path fill="lightenLess" w="28233" h="21600">
                <a:moveTo>
                  <a:pt x="0" y="0"/>
                </a:moveTo>
                <a:lnTo>
                  <a:pt x="28233" y="0"/>
                </a:lnTo>
                <a:lnTo>
                  <a:pt x="26833" y="1400"/>
                </a:lnTo>
                <a:lnTo>
                  <a:pt x="1400" y="1400"/>
                </a:lnTo>
                <a:close/>
              </a:path>
              <a:path fill="darken" w="28233" h="21600">
                <a:moveTo>
                  <a:pt x="28233" y="0"/>
                </a:moveTo>
                <a:lnTo>
                  <a:pt x="28233" y="21600"/>
                </a:lnTo>
                <a:lnTo>
                  <a:pt x="26833" y="20200"/>
                </a:lnTo>
                <a:lnTo>
                  <a:pt x="26833" y="1400"/>
                </a:lnTo>
                <a:close/>
              </a:path>
              <a:path fill="darkenLess" w="28233" h="21600">
                <a:moveTo>
                  <a:pt x="28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33" y="20200"/>
                </a:lnTo>
                <a:close/>
              </a:path>
              <a:path fill="lighten" w="28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33" h="21600">
                <a:moveTo>
                  <a:pt x="7110" y="3794"/>
                </a:moveTo>
                <a:lnTo>
                  <a:pt x="21123" y="10800"/>
                </a:lnTo>
                <a:lnTo>
                  <a:pt x="7110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1079640" cy="936360"/>
          </a:xfrm>
          <a:custGeom>
            <a:avLst/>
            <a:gdLst>
              <a:gd name="textAreaLeft" fmla="*/ 60480 w 1079640"/>
              <a:gd name="textAreaRight" fmla="*/ 1019160 w 107964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4904" h="21600">
                <a:moveTo>
                  <a:pt x="0" y="0"/>
                </a:moveTo>
                <a:lnTo>
                  <a:pt x="24904" y="0"/>
                </a:lnTo>
                <a:lnTo>
                  <a:pt x="24904" y="21600"/>
                </a:lnTo>
                <a:lnTo>
                  <a:pt x="0" y="21600"/>
                </a:lnTo>
                <a:close/>
              </a:path>
              <a:path fill="lightenLess" w="24904" h="21600">
                <a:moveTo>
                  <a:pt x="0" y="0"/>
                </a:moveTo>
                <a:lnTo>
                  <a:pt x="24904" y="0"/>
                </a:lnTo>
                <a:lnTo>
                  <a:pt x="23504" y="1400"/>
                </a:lnTo>
                <a:lnTo>
                  <a:pt x="1400" y="1400"/>
                </a:lnTo>
                <a:close/>
              </a:path>
              <a:path fill="darken" w="24904" h="21600">
                <a:moveTo>
                  <a:pt x="24904" y="0"/>
                </a:moveTo>
                <a:lnTo>
                  <a:pt x="24904" y="21600"/>
                </a:lnTo>
                <a:lnTo>
                  <a:pt x="23504" y="20200"/>
                </a:lnTo>
                <a:lnTo>
                  <a:pt x="23504" y="1400"/>
                </a:lnTo>
                <a:close/>
              </a:path>
              <a:path fill="darkenLess" w="24904" h="21600">
                <a:moveTo>
                  <a:pt x="24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04" y="20200"/>
                </a:lnTo>
                <a:close/>
              </a:path>
              <a:path fill="lighten" w="24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04" h="21600">
                <a:moveTo>
                  <a:pt x="5445" y="10800"/>
                </a:moveTo>
                <a:lnTo>
                  <a:pt x="19458" y="3794"/>
                </a:lnTo>
                <a:lnTo>
                  <a:pt x="19458" y="17806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-1.46161E-006 L -7.22222E-006 -0.34621 E">
                                      <p:cBhvr>
                                        <p:cTn id="158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835280" y="5013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1519200" cy="1629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7164360" y="4653000"/>
            <a:ext cx="1584360" cy="16495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3780000" y="4653000"/>
            <a:ext cx="1606320" cy="1657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3419640" y="351000"/>
            <a:ext cx="2665080" cy="2527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284720" y="90792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cc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6"/>
          <a:stretch/>
        </p:blipFill>
        <p:spPr>
          <a:xfrm>
            <a:off x="5435640" y="4869000"/>
            <a:ext cx="1655640" cy="1412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Animated gifs : Fireworks"/>
          <p:cNvPicPr/>
          <p:nvPr/>
        </p:nvPicPr>
        <p:blipFill>
          <a:blip r:embed="rId7"/>
          <a:stretch/>
        </p:blipFill>
        <p:spPr>
          <a:xfrm>
            <a:off x="-181080" y="306864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Animated gifs : Fireworks"/>
          <p:cNvPicPr/>
          <p:nvPr/>
        </p:nvPicPr>
        <p:blipFill>
          <a:blip r:embed="rId8"/>
          <a:stretch/>
        </p:blipFill>
        <p:spPr>
          <a:xfrm rot="20149200">
            <a:off x="8243640" y="292536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Animated gifs : Fireworks"/>
          <p:cNvPicPr/>
          <p:nvPr/>
        </p:nvPicPr>
        <p:blipFill>
          <a:blip r:embed="rId9"/>
          <a:stretch/>
        </p:blipFill>
        <p:spPr>
          <a:xfrm rot="20501400">
            <a:off x="6948360" y="321300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Animated gifs : Fireworks"/>
          <p:cNvPicPr/>
          <p:nvPr/>
        </p:nvPicPr>
        <p:blipFill>
          <a:blip r:embed="rId10"/>
          <a:stretch/>
        </p:blipFill>
        <p:spPr>
          <a:xfrm rot="20478000">
            <a:off x="6516720" y="765000"/>
            <a:ext cx="2262240" cy="26211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Animated gifs : Fireworks"/>
          <p:cNvPicPr/>
          <p:nvPr/>
        </p:nvPicPr>
        <p:blipFill>
          <a:blip r:embed="rId11"/>
          <a:stretch/>
        </p:blipFill>
        <p:spPr>
          <a:xfrm>
            <a:off x="1619280" y="335772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Animated gifs : Fireworks"/>
          <p:cNvPicPr/>
          <p:nvPr/>
        </p:nvPicPr>
        <p:blipFill>
          <a:blip r:embed="rId12"/>
          <a:stretch/>
        </p:blipFill>
        <p:spPr>
          <a:xfrm>
            <a:off x="539640" y="549360"/>
            <a:ext cx="2262240" cy="2620800"/>
          </a:xfrm>
          <a:prstGeom prst="rect">
            <a:avLst/>
          </a:prstGeom>
          <a:ln w="0">
            <a:noFill/>
          </a:ln>
        </p:spPr>
      </p:pic>
      <p:sp>
        <p:nvSpPr>
          <p:cNvPr id="283" name="">
            <a:hlinkClick r:id="" action="ppaction://hlinkshowjump?jump=nextslide"/>
          </p:cNvPr>
          <p:cNvSpPr/>
          <p:nvPr/>
        </p:nvSpPr>
        <p:spPr>
          <a:xfrm>
            <a:off x="7740720" y="189000"/>
            <a:ext cx="1224000" cy="936360"/>
          </a:xfrm>
          <a:custGeom>
            <a:avLst/>
            <a:gdLst>
              <a:gd name="textAreaLeft" fmla="*/ 60480 w 1224000"/>
              <a:gd name="textAreaRight" fmla="*/ 1163520 w 122400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8233" h="21600">
                <a:moveTo>
                  <a:pt x="0" y="0"/>
                </a:moveTo>
                <a:lnTo>
                  <a:pt x="28233" y="0"/>
                </a:lnTo>
                <a:lnTo>
                  <a:pt x="28233" y="21600"/>
                </a:lnTo>
                <a:lnTo>
                  <a:pt x="0" y="21600"/>
                </a:lnTo>
                <a:close/>
              </a:path>
              <a:path fill="lightenLess" w="28233" h="21600">
                <a:moveTo>
                  <a:pt x="0" y="0"/>
                </a:moveTo>
                <a:lnTo>
                  <a:pt x="28233" y="0"/>
                </a:lnTo>
                <a:lnTo>
                  <a:pt x="26833" y="1400"/>
                </a:lnTo>
                <a:lnTo>
                  <a:pt x="1400" y="1400"/>
                </a:lnTo>
                <a:close/>
              </a:path>
              <a:path fill="darken" w="28233" h="21600">
                <a:moveTo>
                  <a:pt x="28233" y="0"/>
                </a:moveTo>
                <a:lnTo>
                  <a:pt x="28233" y="21600"/>
                </a:lnTo>
                <a:lnTo>
                  <a:pt x="26833" y="20200"/>
                </a:lnTo>
                <a:lnTo>
                  <a:pt x="26833" y="1400"/>
                </a:lnTo>
                <a:close/>
              </a:path>
              <a:path fill="darkenLess" w="28233" h="21600">
                <a:moveTo>
                  <a:pt x="28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33" y="20200"/>
                </a:lnTo>
                <a:close/>
              </a:path>
              <a:path fill="lighten" w="28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33" h="21600">
                <a:moveTo>
                  <a:pt x="7110" y="3794"/>
                </a:moveTo>
                <a:lnTo>
                  <a:pt x="21123" y="10800"/>
                </a:lnTo>
                <a:lnTo>
                  <a:pt x="7110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1079640" cy="936360"/>
          </a:xfrm>
          <a:custGeom>
            <a:avLst/>
            <a:gdLst>
              <a:gd name="textAreaLeft" fmla="*/ 60480 w 1079640"/>
              <a:gd name="textAreaRight" fmla="*/ 1019160 w 107964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4904" h="21600">
                <a:moveTo>
                  <a:pt x="0" y="0"/>
                </a:moveTo>
                <a:lnTo>
                  <a:pt x="24904" y="0"/>
                </a:lnTo>
                <a:lnTo>
                  <a:pt x="24904" y="21600"/>
                </a:lnTo>
                <a:lnTo>
                  <a:pt x="0" y="21600"/>
                </a:lnTo>
                <a:close/>
              </a:path>
              <a:path fill="lightenLess" w="24904" h="21600">
                <a:moveTo>
                  <a:pt x="0" y="0"/>
                </a:moveTo>
                <a:lnTo>
                  <a:pt x="24904" y="0"/>
                </a:lnTo>
                <a:lnTo>
                  <a:pt x="23504" y="1400"/>
                </a:lnTo>
                <a:lnTo>
                  <a:pt x="1400" y="1400"/>
                </a:lnTo>
                <a:close/>
              </a:path>
              <a:path fill="darken" w="24904" h="21600">
                <a:moveTo>
                  <a:pt x="24904" y="0"/>
                </a:moveTo>
                <a:lnTo>
                  <a:pt x="24904" y="21600"/>
                </a:lnTo>
                <a:lnTo>
                  <a:pt x="23504" y="20200"/>
                </a:lnTo>
                <a:lnTo>
                  <a:pt x="23504" y="1400"/>
                </a:lnTo>
                <a:close/>
              </a:path>
              <a:path fill="darkenLess" w="24904" h="21600">
                <a:moveTo>
                  <a:pt x="24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04" y="20200"/>
                </a:lnTo>
                <a:close/>
              </a:path>
              <a:path fill="lighten" w="24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04" h="21600">
                <a:moveTo>
                  <a:pt x="5445" y="10800"/>
                </a:moveTo>
                <a:lnTo>
                  <a:pt x="19458" y="3794"/>
                </a:lnTo>
                <a:lnTo>
                  <a:pt x="19458" y="17806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9.15819E-007 L -0.1691 -0.38622 E">
                                      <p:cBhvr>
                                        <p:cTn id="202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71640" y="765000"/>
            <a:ext cx="69832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6" name="" descr="Animated gifs : Fireworks"/>
          <p:cNvPicPr/>
          <p:nvPr/>
        </p:nvPicPr>
        <p:blipFill>
          <a:blip r:embed="rId1"/>
          <a:stretch/>
        </p:blipFill>
        <p:spPr>
          <a:xfrm>
            <a:off x="-181080" y="306864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Animated gifs : Fireworks"/>
          <p:cNvPicPr/>
          <p:nvPr/>
        </p:nvPicPr>
        <p:blipFill>
          <a:blip r:embed="rId2"/>
          <a:stretch/>
        </p:blipFill>
        <p:spPr>
          <a:xfrm rot="20149200">
            <a:off x="8243640" y="292536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Animated gifs : Fireworks"/>
          <p:cNvPicPr/>
          <p:nvPr/>
        </p:nvPicPr>
        <p:blipFill>
          <a:blip r:embed="rId3"/>
          <a:stretch/>
        </p:blipFill>
        <p:spPr>
          <a:xfrm rot="20501400">
            <a:off x="6948360" y="321300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Animated gifs : Fireworks"/>
          <p:cNvPicPr/>
          <p:nvPr/>
        </p:nvPicPr>
        <p:blipFill>
          <a:blip r:embed="rId4"/>
          <a:stretch/>
        </p:blipFill>
        <p:spPr>
          <a:xfrm rot="20478000">
            <a:off x="6881760" y="3284640"/>
            <a:ext cx="2262240" cy="26208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Animated gifs : Fireworks"/>
          <p:cNvPicPr/>
          <p:nvPr/>
        </p:nvPicPr>
        <p:blipFill>
          <a:blip r:embed="rId5"/>
          <a:stretch/>
        </p:blipFill>
        <p:spPr>
          <a:xfrm>
            <a:off x="1619280" y="335772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Animated gifs : Fireworks"/>
          <p:cNvPicPr/>
          <p:nvPr/>
        </p:nvPicPr>
        <p:blipFill>
          <a:blip r:embed="rId6"/>
          <a:stretch/>
        </p:blipFill>
        <p:spPr>
          <a:xfrm>
            <a:off x="-684360" y="4237200"/>
            <a:ext cx="2262240" cy="26208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Animated gifs : Fireworks"/>
          <p:cNvPicPr/>
          <p:nvPr/>
        </p:nvPicPr>
        <p:blipFill>
          <a:blip r:embed="rId7"/>
          <a:stretch/>
        </p:blipFill>
        <p:spPr>
          <a:xfrm>
            <a:off x="5003640" y="580536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Animated gifs : Fireworks"/>
          <p:cNvPicPr/>
          <p:nvPr/>
        </p:nvPicPr>
        <p:blipFill>
          <a:blip r:embed="rId8"/>
          <a:stretch/>
        </p:blipFill>
        <p:spPr>
          <a:xfrm rot="20149200">
            <a:off x="8459280" y="314136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Animated gifs : Fireworks"/>
          <p:cNvPicPr/>
          <p:nvPr/>
        </p:nvPicPr>
        <p:blipFill>
          <a:blip r:embed="rId9"/>
          <a:stretch/>
        </p:blipFill>
        <p:spPr>
          <a:xfrm rot="20501400">
            <a:off x="6227640" y="522936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Animated gifs : Fireworks"/>
          <p:cNvPicPr/>
          <p:nvPr/>
        </p:nvPicPr>
        <p:blipFill>
          <a:blip r:embed="rId10"/>
          <a:stretch/>
        </p:blipFill>
        <p:spPr>
          <a:xfrm rot="20478000">
            <a:off x="6588000" y="5013360"/>
            <a:ext cx="2262240" cy="26208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Animated gifs : Fireworks"/>
          <p:cNvPicPr/>
          <p:nvPr/>
        </p:nvPicPr>
        <p:blipFill>
          <a:blip r:embed="rId11"/>
          <a:stretch/>
        </p:blipFill>
        <p:spPr>
          <a:xfrm>
            <a:off x="1835280" y="357336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Animated gifs : Fireworks"/>
          <p:cNvPicPr/>
          <p:nvPr/>
        </p:nvPicPr>
        <p:blipFill>
          <a:blip r:embed="rId12"/>
          <a:stretch/>
        </p:blipFill>
        <p:spPr>
          <a:xfrm>
            <a:off x="-252360" y="4237200"/>
            <a:ext cx="2262240" cy="26208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Animated gifs : Fireworks"/>
          <p:cNvPicPr/>
          <p:nvPr/>
        </p:nvPicPr>
        <p:blipFill>
          <a:blip r:embed="rId13"/>
          <a:stretch/>
        </p:blipFill>
        <p:spPr>
          <a:xfrm>
            <a:off x="682560" y="654048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Animated gifs : Fireworks"/>
          <p:cNvPicPr/>
          <p:nvPr/>
        </p:nvPicPr>
        <p:blipFill>
          <a:blip r:embed="rId14"/>
          <a:stretch/>
        </p:blipFill>
        <p:spPr>
          <a:xfrm rot="20149200">
            <a:off x="9107280" y="639720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Animated gifs : Fireworks"/>
          <p:cNvPicPr/>
          <p:nvPr/>
        </p:nvPicPr>
        <p:blipFill>
          <a:blip r:embed="rId15"/>
          <a:stretch/>
        </p:blipFill>
        <p:spPr>
          <a:xfrm rot="20501400">
            <a:off x="7812000" y="668484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Animated gifs : Fireworks"/>
          <p:cNvPicPr/>
          <p:nvPr/>
        </p:nvPicPr>
        <p:blipFill>
          <a:blip r:embed="rId16"/>
          <a:stretch/>
        </p:blipFill>
        <p:spPr>
          <a:xfrm rot="20478000">
            <a:off x="7380360" y="4237200"/>
            <a:ext cx="2262240" cy="26208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Animated gifs : Fireworks"/>
          <p:cNvPicPr/>
          <p:nvPr/>
        </p:nvPicPr>
        <p:blipFill>
          <a:blip r:embed="rId17"/>
          <a:stretch/>
        </p:blipFill>
        <p:spPr>
          <a:xfrm>
            <a:off x="2482920" y="682956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Animated gifs : Fireworks"/>
          <p:cNvPicPr/>
          <p:nvPr/>
        </p:nvPicPr>
        <p:blipFill>
          <a:blip r:embed="rId18"/>
          <a:stretch/>
        </p:blipFill>
        <p:spPr>
          <a:xfrm>
            <a:off x="1332000" y="4869000"/>
            <a:ext cx="2262240" cy="26208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Animated gifs : Fireworks"/>
          <p:cNvPicPr/>
          <p:nvPr/>
        </p:nvPicPr>
        <p:blipFill>
          <a:blip r:embed="rId19"/>
          <a:stretch/>
        </p:blipFill>
        <p:spPr>
          <a:xfrm>
            <a:off x="2411280" y="724392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Animated gifs : Fireworks"/>
          <p:cNvPicPr/>
          <p:nvPr/>
        </p:nvPicPr>
        <p:blipFill>
          <a:blip r:embed="rId20"/>
          <a:stretch/>
        </p:blipFill>
        <p:spPr>
          <a:xfrm rot="20149200">
            <a:off x="10836000" y="7100640"/>
            <a:ext cx="1143000" cy="1323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Animated gifs : Fireworks"/>
          <p:cNvPicPr/>
          <p:nvPr/>
        </p:nvPicPr>
        <p:blipFill>
          <a:blip r:embed="rId21"/>
          <a:stretch/>
        </p:blipFill>
        <p:spPr>
          <a:xfrm rot="20501400">
            <a:off x="9540720" y="738828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Animated gifs : Fireworks"/>
          <p:cNvPicPr/>
          <p:nvPr/>
        </p:nvPicPr>
        <p:blipFill>
          <a:blip r:embed="rId22"/>
          <a:stretch/>
        </p:blipFill>
        <p:spPr>
          <a:xfrm rot="20478000">
            <a:off x="9109080" y="4940280"/>
            <a:ext cx="2262240" cy="2621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Animated gifs : Fireworks"/>
          <p:cNvPicPr/>
          <p:nvPr/>
        </p:nvPicPr>
        <p:blipFill>
          <a:blip r:embed="rId23"/>
          <a:stretch/>
        </p:blipFill>
        <p:spPr>
          <a:xfrm>
            <a:off x="4211640" y="7532640"/>
            <a:ext cx="1143000" cy="1324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Animated gifs : Fireworks"/>
          <p:cNvPicPr/>
          <p:nvPr/>
        </p:nvPicPr>
        <p:blipFill>
          <a:blip r:embed="rId24"/>
          <a:stretch/>
        </p:blipFill>
        <p:spPr>
          <a:xfrm>
            <a:off x="3132000" y="4724280"/>
            <a:ext cx="226224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4T13:05:28Z</dcterms:created>
  <dc:creator>Пользователь</dc:creator>
  <dc:description/>
  <dc:language>en-US</dc:language>
  <cp:lastModifiedBy>Пользователь</cp:lastModifiedBy>
  <dcterms:modified xsi:type="dcterms:W3CDTF">2014-08-14T13:49:08Z</dcterms:modified>
  <cp:revision>3</cp:revision>
  <dc:subject/>
  <dc:title>Слайд 1</dc:title>
</cp:coreProperties>
</file>