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96DA-B10B-49B0-98E7-CB6BA1A00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7AAA-AA7D-4174-9662-C7D246B88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4139-E560-4482-ACB5-9F77D2515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8B0D-8399-4776-BB8E-C64B0B677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F4665-9E6F-43B9-8EDF-5BE50F514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7616A-A57E-45F6-961E-1941CC81A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8A977-6AF7-43F9-BDC3-4C20CA135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F493A-9FB4-4281-AD05-C561D2039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7D272-6579-4124-958A-F7D7EDD25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9300E-E3D4-42DD-8564-1173935A1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32E70-988F-4C9D-9E5B-4886CA52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4ED4-08D7-4CD6-AF6D-5FB2DF795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DDCBD-FA44-437C-8A6D-748F4B51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40C2B-04EE-4F89-A533-6095B9E55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107B2-800E-4156-AF00-3C7A549AB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8D8ED-0F75-441C-AC17-D7C7A5AB1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EF951-1917-4EDD-8D8A-BF04CEC07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5789-BD44-4F96-85E9-6D57434E1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A78C-58AD-42F5-BE70-75073966C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6CE7-86CC-4F5B-A391-2D81CB076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1508-8E64-44AE-90F9-1CD749A78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8174-0154-4979-AD3C-4F7B16BFF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6870-E4DD-4717-8A58-DC30B377E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E73B-2618-41AE-9762-6F36553B1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ff99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358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358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25203"/>
                </a:gs>
                <a:gs pos="100000">
                  <a:srgbClr val="ea930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dd1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666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5A096-E1D7-4816-9817-6C465385EA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ff99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358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358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25203"/>
                </a:gs>
                <a:gs pos="100000">
                  <a:srgbClr val="ea930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dd1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3048E-A7C9-4F26-9195-414E837BE4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666633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3.png"/><Relationship Id="rId1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900000" y="692280"/>
            <a:ext cx="7488360" cy="54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Собери цветы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в корзинк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484360" y="3068640"/>
            <a:ext cx="3973680" cy="353232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19" descr="tcvet80.png"/>
          <p:cNvPicPr/>
          <p:nvPr/>
        </p:nvPicPr>
        <p:blipFill>
          <a:blip r:embed="rId2"/>
          <a:stretch/>
        </p:blipFill>
        <p:spPr>
          <a:xfrm rot="20737200">
            <a:off x="2389320" y="512280"/>
            <a:ext cx="1933560" cy="204804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22" descr="roza44.png"/>
          <p:cNvPicPr/>
          <p:nvPr/>
        </p:nvPicPr>
        <p:blipFill>
          <a:blip r:embed="rId3"/>
          <a:stretch/>
        </p:blipFill>
        <p:spPr>
          <a:xfrm rot="1004400">
            <a:off x="3924360" y="476280"/>
            <a:ext cx="1751040" cy="185400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10" descr="derev47.png"/>
          <p:cNvPicPr/>
          <p:nvPr/>
        </p:nvPicPr>
        <p:blipFill>
          <a:blip r:embed="rId4"/>
          <a:stretch/>
        </p:blipFill>
        <p:spPr>
          <a:xfrm>
            <a:off x="6300720" y="765000"/>
            <a:ext cx="1739880" cy="184176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17" descr="elky56.png"/>
          <p:cNvPicPr/>
          <p:nvPr/>
        </p:nvPicPr>
        <p:blipFill>
          <a:blip r:embed="rId5"/>
          <a:stretch/>
        </p:blipFill>
        <p:spPr>
          <a:xfrm>
            <a:off x="7397640" y="333360"/>
            <a:ext cx="1746360" cy="184788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18" descr="palma24.png"/>
          <p:cNvPicPr/>
          <p:nvPr/>
        </p:nvPicPr>
        <p:blipFill>
          <a:blip r:embed="rId6"/>
          <a:stretch/>
        </p:blipFill>
        <p:spPr>
          <a:xfrm>
            <a:off x="1042920" y="765000"/>
            <a:ext cx="1741680" cy="184500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19" descr="tcvet12.png"/>
          <p:cNvPicPr/>
          <p:nvPr/>
        </p:nvPicPr>
        <p:blipFill>
          <a:blip r:embed="rId7"/>
          <a:stretch/>
        </p:blipFill>
        <p:spPr>
          <a:xfrm rot="20614800">
            <a:off x="179280" y="2349000"/>
            <a:ext cx="1549440" cy="164016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7" descr="ananas10.png"/>
          <p:cNvPicPr/>
          <p:nvPr/>
        </p:nvPicPr>
        <p:blipFill>
          <a:blip r:embed="rId8"/>
          <a:stretch/>
        </p:blipFill>
        <p:spPr>
          <a:xfrm>
            <a:off x="6156360" y="2492280"/>
            <a:ext cx="1668600" cy="176688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8" descr="vipech22.png"/>
          <p:cNvPicPr/>
          <p:nvPr/>
        </p:nvPicPr>
        <p:blipFill>
          <a:blip r:embed="rId9"/>
          <a:stretch/>
        </p:blipFill>
        <p:spPr>
          <a:xfrm>
            <a:off x="755640" y="3716280"/>
            <a:ext cx="1839960" cy="165600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5" descr="2504f1a734a7.png"/>
          <p:cNvPicPr/>
          <p:nvPr/>
        </p:nvPicPr>
        <p:blipFill>
          <a:blip r:embed="rId10"/>
          <a:stretch/>
        </p:blipFill>
        <p:spPr>
          <a:xfrm rot="20910000">
            <a:off x="6804000" y="4436640"/>
            <a:ext cx="747720" cy="108288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8" descr="c7b17be309ff.png"/>
          <p:cNvPicPr/>
          <p:nvPr/>
        </p:nvPicPr>
        <p:blipFill>
          <a:blip r:embed="rId11"/>
          <a:stretch/>
        </p:blipFill>
        <p:spPr>
          <a:xfrm>
            <a:off x="5580000" y="1773360"/>
            <a:ext cx="785880" cy="104616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5" descr="a2ccb854765b.png"/>
          <p:cNvPicPr/>
          <p:nvPr/>
        </p:nvPicPr>
        <p:blipFill>
          <a:blip r:embed="rId12"/>
          <a:stretch/>
        </p:blipFill>
        <p:spPr>
          <a:xfrm>
            <a:off x="7740720" y="4508640"/>
            <a:ext cx="1123920" cy="189540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8" descr="fd8aeedba7b0.png"/>
          <p:cNvPicPr/>
          <p:nvPr/>
        </p:nvPicPr>
        <p:blipFill>
          <a:blip r:embed="rId13"/>
          <a:stretch/>
        </p:blipFill>
        <p:spPr>
          <a:xfrm rot="600000">
            <a:off x="7811640" y="2781360"/>
            <a:ext cx="1022400" cy="128412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22" descr="roza44.png"/>
          <p:cNvPicPr/>
          <p:nvPr/>
        </p:nvPicPr>
        <p:blipFill>
          <a:blip r:embed="rId14"/>
          <a:stretch/>
        </p:blipFill>
        <p:spPr>
          <a:xfrm rot="20668800">
            <a:off x="324000" y="5157720"/>
            <a:ext cx="126684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246 -0.07055 L 0.07691 0.43604 E">
                                      <p:cBhvr>
                                        <p:cTn id="6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" dur="250" autoRev="1" fill="hold"/>
                                        <p:tgtEl>
                                          <p:spTgt spid="1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72126E-006 L -0.32274 0.21004 E">
                                      <p:cBhvr>
                                        <p:cTn id="17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" dur="250" autoRev="1" fill="hold"/>
                                        <p:tgtEl>
                                          <p:spTgt spid="13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" dur="250" autoRev="1" fill="hold"/>
                                        <p:tgtEl>
                                          <p:spTgt spid="1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250" autoRev="1" fill="hold"/>
                                        <p:tgtEl>
                                          <p:spTgt spid="1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250" autoRev="1" fill="hold"/>
                                        <p:tgtEl>
                                          <p:spTgt spid="1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250" autoRev="1" fill="hold"/>
                                        <p:tgtEl>
                                          <p:spTgt spid="1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" dur="250" autoRev="1" fill="hold"/>
                                        <p:tgtEl>
                                          <p:spTgt spid="13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3.1876E-006 C 0.13437 0.1196 0.26892 0.23919 0.31979 0.28892 C 0.37066 0.33866 0.30625 0.29794 0.30503 0.29818 C 0.30382 0.29841 0.30781 0.29424 0.31198 0.29031 E">
                                      <p:cBhvr>
                                        <p:cTn id="58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4.8161E-006 L -0.01562 0.39879 E">
                                      <p:cBhvr>
                                        <p:cTn id="63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250" autoRev="1" fill="hold"/>
                                        <p:tgtEl>
                                          <p:spTgt spid="1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878 0.0495 C 0.125 -0.17488 0.20139 -0.39903 0.26753 -0.42679 C 0.33368 -0.45455 0.41909 -0.16077 0.44583 -0.11682 C 0.47257 -0.07287 0.45017 -0.11797 0.42795 -0.16308 E">
                                      <p:cBhvr>
                                        <p:cTn id="74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5T07:43:53Z</dcterms:created>
  <dc:creator>Пользователь</dc:creator>
  <dc:description/>
  <dc:language>en-US</dc:language>
  <cp:lastModifiedBy>Пользователь</cp:lastModifiedBy>
  <dcterms:modified xsi:type="dcterms:W3CDTF">2014-02-25T08:00:35Z</dcterms:modified>
  <cp:revision>2</cp:revision>
  <dc:subject/>
  <dc:title>Слайд 1</dc:title>
</cp:coreProperties>
</file>