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9D8D-8BB3-4296-9DCA-21D7CF8A4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F420-AC23-4FC5-BD78-9D0F08EC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64E6-F0CB-413D-B079-EFD4C9452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1D98-9EAE-4D0D-AD63-D132C8C06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7D01-EF55-4EAE-823B-2215D8C0C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7227-F329-405D-B25B-A487C400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6DAF-53A6-492C-969C-9AF01581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94BD-01BD-4C52-A72A-7EFCEF2B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5B65-6B66-4096-B436-E26C0843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543A-1BAF-47CA-B783-18989961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7CBD-BEB9-4F6E-BD2F-BD0091E4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A3C7-DB96-4FB6-8230-DC256C5E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89EF-13EC-4BAB-9CFC-92B12E51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183E-0BD8-4D53-AB8A-B82DB55C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F3AC-5C39-4F19-8837-1C96957F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9676-72BA-43A3-B9D7-BB6BB1C2F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69A3-3327-4E04-ADAA-B207DC5CD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DB9D-15D2-4567-AB24-1B023C64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B690-6A23-496F-AA56-8772AFE5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ED57-3DDB-40B7-89F7-31F72BB6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DDBB-D61C-419B-A5B1-335502E9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7383-2E18-41C8-A2D5-A87F2408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C969-D504-4E3A-AFC9-B3EA7578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5E0A-5CB9-4B53-9B83-802BE4A2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2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0A7E-3C37-4C9C-82FE-83620D16D5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2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FA45-8353-4EDB-ACE4-3AB0D8B9D3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00000" y="692280"/>
            <a:ext cx="7488360" cy="54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Собери цвет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в корзинк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484360" y="3068640"/>
            <a:ext cx="3973680" cy="353232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9" descr="tcvet80.png"/>
          <p:cNvPicPr/>
          <p:nvPr/>
        </p:nvPicPr>
        <p:blipFill>
          <a:blip r:embed="rId2"/>
          <a:stretch/>
        </p:blipFill>
        <p:spPr>
          <a:xfrm rot="20737200">
            <a:off x="2389320" y="512280"/>
            <a:ext cx="1933560" cy="20480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22" descr="roza44.png"/>
          <p:cNvPicPr/>
          <p:nvPr/>
        </p:nvPicPr>
        <p:blipFill>
          <a:blip r:embed="rId3"/>
          <a:stretch/>
        </p:blipFill>
        <p:spPr>
          <a:xfrm rot="1004400">
            <a:off x="3924360" y="476280"/>
            <a:ext cx="1751040" cy="18540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0" descr="derev47.png"/>
          <p:cNvPicPr/>
          <p:nvPr/>
        </p:nvPicPr>
        <p:blipFill>
          <a:blip r:embed="rId4"/>
          <a:stretch/>
        </p:blipFill>
        <p:spPr>
          <a:xfrm>
            <a:off x="6300720" y="765000"/>
            <a:ext cx="1739880" cy="184176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7" descr="elky56.png"/>
          <p:cNvPicPr/>
          <p:nvPr/>
        </p:nvPicPr>
        <p:blipFill>
          <a:blip r:embed="rId5"/>
          <a:stretch/>
        </p:blipFill>
        <p:spPr>
          <a:xfrm>
            <a:off x="7397640" y="333360"/>
            <a:ext cx="1746360" cy="18478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8" descr="palma24.png"/>
          <p:cNvPicPr/>
          <p:nvPr/>
        </p:nvPicPr>
        <p:blipFill>
          <a:blip r:embed="rId6"/>
          <a:stretch/>
        </p:blipFill>
        <p:spPr>
          <a:xfrm>
            <a:off x="1042920" y="765000"/>
            <a:ext cx="1741680" cy="18450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9" descr="tcvet12.png"/>
          <p:cNvPicPr/>
          <p:nvPr/>
        </p:nvPicPr>
        <p:blipFill>
          <a:blip r:embed="rId7"/>
          <a:stretch/>
        </p:blipFill>
        <p:spPr>
          <a:xfrm rot="20614800">
            <a:off x="179280" y="2349000"/>
            <a:ext cx="1549440" cy="164016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7" descr="ananas10.png"/>
          <p:cNvPicPr/>
          <p:nvPr/>
        </p:nvPicPr>
        <p:blipFill>
          <a:blip r:embed="rId8"/>
          <a:stretch/>
        </p:blipFill>
        <p:spPr>
          <a:xfrm>
            <a:off x="6156360" y="2492280"/>
            <a:ext cx="1668600" cy="176688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8" descr="vipech22.png"/>
          <p:cNvPicPr/>
          <p:nvPr/>
        </p:nvPicPr>
        <p:blipFill>
          <a:blip r:embed="rId9"/>
          <a:stretch/>
        </p:blipFill>
        <p:spPr>
          <a:xfrm>
            <a:off x="755640" y="3716280"/>
            <a:ext cx="1839960" cy="16560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5" descr="2504f1a734a7.png"/>
          <p:cNvPicPr/>
          <p:nvPr/>
        </p:nvPicPr>
        <p:blipFill>
          <a:blip r:embed="rId10"/>
          <a:stretch/>
        </p:blipFill>
        <p:spPr>
          <a:xfrm rot="20910000">
            <a:off x="6804000" y="4436640"/>
            <a:ext cx="747720" cy="108288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8" descr="c7b17be309ff.png"/>
          <p:cNvPicPr/>
          <p:nvPr/>
        </p:nvPicPr>
        <p:blipFill>
          <a:blip r:embed="rId11"/>
          <a:stretch/>
        </p:blipFill>
        <p:spPr>
          <a:xfrm>
            <a:off x="5580000" y="1773360"/>
            <a:ext cx="785880" cy="10461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5" descr="a2ccb854765b.png"/>
          <p:cNvPicPr/>
          <p:nvPr/>
        </p:nvPicPr>
        <p:blipFill>
          <a:blip r:embed="rId12"/>
          <a:stretch/>
        </p:blipFill>
        <p:spPr>
          <a:xfrm>
            <a:off x="7740720" y="4508640"/>
            <a:ext cx="1123920" cy="18954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8" descr="fd8aeedba7b0.png"/>
          <p:cNvPicPr/>
          <p:nvPr/>
        </p:nvPicPr>
        <p:blipFill>
          <a:blip r:embed="rId13"/>
          <a:stretch/>
        </p:blipFill>
        <p:spPr>
          <a:xfrm rot="600000">
            <a:off x="7811640" y="2781360"/>
            <a:ext cx="1022400" cy="128412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22" descr="roza44.png"/>
          <p:cNvPicPr/>
          <p:nvPr/>
        </p:nvPicPr>
        <p:blipFill>
          <a:blip r:embed="rId14"/>
          <a:stretch/>
        </p:blipFill>
        <p:spPr>
          <a:xfrm rot="20668800">
            <a:off x="324000" y="5157720"/>
            <a:ext cx="12668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246 -0.07055 L 0.07691 0.43604 E">
                                      <p:cBhvr>
                                        <p:cTn id="6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250" autoRev="1" fill="hold"/>
                                        <p:tgtEl>
                                          <p:spTgt spid="1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72126E-006 L -0.32274 0.21004 E">
                                      <p:cBhvr>
                                        <p:cTn id="17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250" autoRev="1" fill="hold"/>
                                        <p:tgtEl>
                                          <p:spTgt spid="1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250" autoRev="1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25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250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250" autoRev="1" fill="hold"/>
                                        <p:tgtEl>
                                          <p:spTgt spid="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250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1876E-006 C 0.13437 0.1196 0.26892 0.23919 0.31979 0.28892 C 0.37066 0.33866 0.30625 0.29794 0.30503 0.29818 C 0.30382 0.29841 0.30781 0.29424 0.31198 0.29031 E">
                                      <p:cBhvr>
                                        <p:cTn id="58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8161E-006 L -0.01562 0.39879 E">
                                      <p:cBhvr>
                                        <p:cTn id="63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25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878 0.0495 C 0.125 -0.17488 0.20139 -0.39903 0.26753 -0.42679 C 0.33368 -0.45455 0.41909 -0.16077 0.44583 -0.11682 C 0.47257 -0.07287 0.45017 -0.11797 0.42795 -0.16308 E">
                                      <p:cBhvr>
                                        <p:cTn id="74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5T07:43:53Z</dcterms:created>
  <dc:creator>Пользователь</dc:creator>
  <dc:description/>
  <dc:language>en-US</dc:language>
  <cp:lastModifiedBy>Пользователь</cp:lastModifiedBy>
  <dcterms:modified xsi:type="dcterms:W3CDTF">2014-02-25T08:00:35Z</dcterms:modified>
  <cp:revision>2</cp:revision>
  <dc:subject/>
  <dc:title>Слайд 1</dc:title>
</cp:coreProperties>
</file>