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C90-0C36-46BF-BC5F-80F9C392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7E5-CE30-48F8-B1E7-E5E41A7C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4C4-F280-4D35-AB55-2F65F0DE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20E-5315-4E04-AB07-2EC18885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DCD-520B-4847-9A65-252090AE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6AE-2E4E-47CD-A962-565DCA98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24A-9593-4F40-862E-1DE02FFA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776-AA68-4C09-B02F-890CBDC4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16F-675D-4FA0-916B-D47CF3E6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CC7-3227-4672-9DA0-6E47EDF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6DF-AB70-4E91-932C-DE84625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6B3-23C5-4E52-B6B6-78691EB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D2BF-AD06-4D81-AE72-40F5E8C20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ВЕЛИКИЕ ГЕОГРАФИЧЕСКИЕ ОТКРЫ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009982094"/>
          <p:cNvPicPr/>
          <p:nvPr/>
        </p:nvPicPr>
        <p:blipFill>
          <a:blip r:embed="rId1"/>
          <a:stretch/>
        </p:blipFill>
        <p:spPr>
          <a:xfrm>
            <a:off x="4179960" y="0"/>
            <a:ext cx="4964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10" descr="Аф"/>
          <p:cNvPicPr/>
          <p:nvPr/>
        </p:nvPicPr>
        <p:blipFill>
          <a:blip r:embed="rId2"/>
          <a:srcRect l="0" t="0" r="7172" b="11144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200" y="0"/>
            <a:ext cx="911844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Открытия Колумба и Васко да Гамы увеличивают популярность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появляются подробные описания стран, ученые изучают морские течения, ветры, приливы и отливы, магнитное склон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Математическая география (картография):      новые карты, атласы, глоб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GL002A-hi_z"/>
          <p:cNvPicPr/>
          <p:nvPr/>
        </p:nvPicPr>
        <p:blipFill>
          <a:blip r:embed="rId1"/>
          <a:stretch/>
        </p:blipFill>
        <p:spPr>
          <a:xfrm>
            <a:off x="6156360" y="3276720"/>
            <a:ext cx="26449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8" descr="http://kometa-vozmezdie.ru/uploads/posts/2011-08/1312366994_carte_mercator.jpg"/>
          <p:cNvPicPr/>
          <p:nvPr/>
        </p:nvPicPr>
        <p:blipFill>
          <a:blip r:embed="rId2"/>
          <a:stretch/>
        </p:blipFill>
        <p:spPr>
          <a:xfrm>
            <a:off x="250920" y="3276720"/>
            <a:ext cx="53118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https://i.pinimg.com/736x/63/f9/e1/63f9e14ced05bc2b6b7f3878ba31838e--history-memes-knowledge.jpg"/>
          <p:cNvPicPr/>
          <p:nvPr/>
        </p:nvPicPr>
        <p:blipFill>
          <a:blip r:embed="rId1"/>
          <a:stretch/>
        </p:blipFill>
        <p:spPr>
          <a:xfrm>
            <a:off x="0" y="1700280"/>
            <a:ext cx="4024440" cy="5172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askerville Old Face"/>
              </a:rPr>
              <a:t>ПЕРВОЕ КРУГОСВЕТНОЕ ПУТЕШЕСТВ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700280"/>
            <a:ext cx="424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рнан Магел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https://interesnie-fakti.net/wp-content/uploads/2017/11/korabli.jpg"/>
          <p:cNvPicPr/>
          <p:nvPr/>
        </p:nvPicPr>
        <p:blipFill>
          <a:blip r:embed="rId2"/>
          <a:stretch/>
        </p:blipFill>
        <p:spPr>
          <a:xfrm>
            <a:off x="4140360" y="3166920"/>
            <a:ext cx="498456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Первым разработал проект плавания западным путём вдоль побережья Южной Америки к островам ЮВ Аз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.09.1519г.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5-280 чел.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ораблей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ринидад», «Сантьяго», «Сан-Антонио», «Консепсьон», «Виктория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 1520г. – открыт пролив (Магелланов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ноябрь 1520г. – вошли в океан (Тихий 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март 1521- отрыты Марианские и Филиппинские остро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27.04.1521г., смерть Магелла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6.09.1522г.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чел., 1 корабль «Виктория», Хуан Себастья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ькан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ds04.infourok.ru/uploads/ex/0f00/000cb92f-c842da07/img16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едиция Магеллана установила наличие океана между Азией и Америкой, назвав его Тихим,  доказала наличие единого Мирового океана и представила практическое свидетельство шарообразности Земл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ли новые географические объекты, в т.ч. Магелланов пролив и острова Огненная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ека началась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поха Великих географических открыт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географи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ричины наступления Эпохи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В Европе рост крупных городов и быстрое развитие торговл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Путь из Европы в Азию по суше и через Индийский океан опасен. Почему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Три пути к берегам Индии. Какие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Развивается европейское книгопечатание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Появились новые ка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askerville Old Face"/>
              </a:rPr>
              <a:t>Христофор Колум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3.08.1492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а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рт 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ос, 100 чел., 3 корабл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гман - каракка «Санта-Мария», и две каравеллы: «Нинья» и «Пин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Цель – Индия, Кит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10.1492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– Америка (Индия, индийц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Всего путешествие туда и обратно заняло около семи с половиной месяцев. Во время этой экспедиции мореплавате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крыли острова Кубу, Гаити и Багамы в Карибском мо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Открытые Колумбом земли еще долгие годы все называли Западной Инд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&amp;kcy;&amp;ocy;&amp;rcy;&amp;acy;&amp;bcy;&amp;lcy;&amp;softcy; &amp;kcy;&amp;ocy;&amp;lcy;&amp;ucy;&amp;mcy;&amp;bcy;&amp;acy;"/>
          <p:cNvPicPr/>
          <p:nvPr/>
        </p:nvPicPr>
        <p:blipFill>
          <a:blip r:embed="rId1"/>
          <a:stretch/>
        </p:blipFill>
        <p:spPr>
          <a:xfrm>
            <a:off x="0" y="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&amp;kcy;&amp;ocy;&amp;rcy;&amp;acy;&amp;bcy;&amp;lcy;&amp;icy; &amp;kcy;&amp;ocy;&amp;lcy;&amp;ucy;&amp;mcy;&amp;bcy;&amp;acy; &amp;ncy;&amp;acy;&amp;zcy;&amp;vcy;&amp;acy;&amp;ncy;&amp;icy;&amp;yacy;"/>
          <p:cNvPicPr/>
          <p:nvPr/>
        </p:nvPicPr>
        <p:blipFill>
          <a:blip r:embed="rId2"/>
          <a:stretch/>
        </p:blipFill>
        <p:spPr>
          <a:xfrm>
            <a:off x="0" y="2997360"/>
            <a:ext cx="3281400" cy="386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 &amp;scy;&amp;acy;&amp;ncy;&amp;tcy;&amp;acy; &amp;mcy;&amp;acy;&amp;rcy;&amp;icy;&amp;yacy; &amp;kcy;&amp;ocy;&amp;rcy;&amp;acy;&amp;bcy;&amp;lcy;&amp;softcy; &amp;kcy;&amp;ocy;&amp;lcy;&amp;ucy;&amp;mcy;&amp;bcy;&amp;acy;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40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&amp;kcy;&amp;acy;&amp;kcy; &amp;ncy;&amp;acy;&amp;zcy;&amp;ycy;&amp;vcy;&amp;acy;&amp;lcy;&amp;icy;&amp;scy;&amp;softcy; &amp;kcy;&amp;ocy;&amp;rcy;&amp;acy;&amp;bcy;&amp;lcy;&amp;icy; &amp;kcy;&amp;ocy;&amp;lcy;&amp;ucy;&amp;mcy;&amp;bcy;&amp;acy;"/>
          <p:cNvPicPr/>
          <p:nvPr/>
        </p:nvPicPr>
        <p:blipFill>
          <a:blip r:embed="rId4"/>
          <a:stretch/>
        </p:blipFill>
        <p:spPr>
          <a:xfrm>
            <a:off x="3348000" y="3457440"/>
            <a:ext cx="579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&amp;KHcy;&amp;rcy;&amp;icy;&amp;scy;&amp;tcy;&amp;ocy;&amp;fcy;&amp;ocy;&amp;rcy; &amp;Kcy;&amp;ocy;&amp;lcy;&amp;ucy;&amp;mcy;&amp;bcy; &amp;bcy;&amp;icy;&amp;ocy;&amp;gcy;&amp;rcy;&amp;acy;&amp;fcy;&amp;icy;&amp;yacy; &amp;mcy;&amp;ocy;&amp;rcy;&amp;iecy;&amp;pcy;&amp;lcy;&amp;acy;&amp;vcy;&amp;acy;&amp;tcy;&amp;iecy;&amp;lcy;&amp;yacy;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умб не нашёл сокровища Индии и Китая. Важность открытия этих  земель оценили через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0 лет, после завоевания территории ацтеков и ин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Baracoa,%20Cuba%20%282%29"/>
          <p:cNvPicPr/>
          <p:nvPr/>
        </p:nvPicPr>
        <p:blipFill>
          <a:blip r:embed="rId1"/>
          <a:stretch/>
        </p:blipFill>
        <p:spPr>
          <a:xfrm>
            <a:off x="17640" y="2463840"/>
            <a:ext cx="2850840" cy="3486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07800" y="5850000"/>
            <a:ext cx="227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ракоа (Куба)- любимое мест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. Колумб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9" descr="lahabana8"/>
          <p:cNvPicPr/>
          <p:nvPr/>
        </p:nvPicPr>
        <p:blipFill>
          <a:blip r:embed="rId2"/>
          <a:stretch/>
        </p:blipFill>
        <p:spPr>
          <a:xfrm>
            <a:off x="5853240" y="2459160"/>
            <a:ext cx="3290760" cy="439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848200" y="2463840"/>
            <a:ext cx="11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аван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у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24" descr="kolumb6"/>
          <p:cNvPicPr/>
          <p:nvPr/>
        </p:nvPicPr>
        <p:blipFill>
          <a:blip r:embed="rId3"/>
          <a:stretch/>
        </p:blipFill>
        <p:spPr>
          <a:xfrm>
            <a:off x="3059280" y="2459160"/>
            <a:ext cx="2625480" cy="4373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123720" y="2595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askerville Old Face"/>
              </a:rPr>
              <a:t>Васко да Га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ртугаль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морские пути в Инд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97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– выйдя из Лиссабона, экспедиция обогнула Африку, пересекла Индийский океан и достигла берегов Ин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тябрь 1499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озвратились в Лиссабон с грузом пряностей и драго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ерв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ожен морской путь из Европы в страны Южной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Установил, что Атлантический и Индийский океан соединены между собой. На карту точн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есены западные и восточные берега Африки и Мадагаск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24, рис.1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62193"/>
          <p:cNvPicPr/>
          <p:nvPr/>
        </p:nvPicPr>
        <p:blipFill>
          <a:blip r:embed="rId1"/>
          <a:stretch/>
        </p:blipFill>
        <p:spPr>
          <a:xfrm>
            <a:off x="49320" y="977760"/>
            <a:ext cx="3730680" cy="49024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9" descr="vasco-de-gama-1"/>
          <p:cNvPicPr/>
          <p:nvPr/>
        </p:nvPicPr>
        <p:blipFill>
          <a:blip r:embed="rId2"/>
          <a:stretch/>
        </p:blipFill>
        <p:spPr>
          <a:xfrm>
            <a:off x="3900600" y="0"/>
            <a:ext cx="52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askerville Old Face"/>
              </a:rPr>
              <a:t>Афанасий Никит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Тверской купец, Волга, Астрахань (ограблен), продолжил путь в южные страны, Персия (жил более 2-х лет)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р.25, рис.12.1 и 1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71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арабскими мореходами пересёк Аравийское море и достиг Ин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Хождение за три мор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638280" y="476280"/>
            <a:ext cx="7867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15" descr="Афан"/>
          <p:cNvPicPr/>
          <p:nvPr/>
        </p:nvPicPr>
        <p:blipFill>
          <a:blip r:embed="rId1"/>
          <a:stretch/>
        </p:blipFill>
        <p:spPr>
          <a:xfrm>
            <a:off x="2654280" y="4067280"/>
            <a:ext cx="41403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9:44:54Z</dcterms:created>
  <dc:creator>Интернет</dc:creator>
  <dc:description/>
  <dc:language>en-US</dc:language>
  <cp:lastModifiedBy>Краснова Н.В.</cp:lastModifiedBy>
  <dcterms:modified xsi:type="dcterms:W3CDTF">2018-11-15T09:41:12Z</dcterms:modified>
  <cp:revision>179</cp:revision>
  <dc:subject/>
  <dc:title>КАК ЧЕЛОВЕК ОТКРЫВАЛ ЗЕМЛЮ</dc:title>
</cp:coreProperties>
</file>