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49A-9362-4E37-B2F0-79C907F4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80C-37C8-43E5-8E2F-17887138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2954-50B6-413F-A676-A4CAD468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A081-1F12-4F95-88E4-9E087EF1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CE4-C70A-4075-AC65-95CC258F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F6C-A651-4273-A101-5BF8CCB4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97D6-F2F5-4F77-AD58-6B193940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5EF-C81B-451E-8079-30004BAC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73F-A8DB-4CB7-AB06-A4BCD3E4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1D5-8885-49F3-9D78-1A759BD8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A7E9-E8F8-40DE-9D7E-35710B01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5540-D5F1-44BA-BD87-CB4B87E1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8E50-F168-48D1-8233-658B998B75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Bookman Old Style"/>
              </a:rPr>
              <a:t>ВЕЛИКИЕ ГЕОГРАФИЧЕСКИЕ ОТКРЫТ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009982094"/>
          <p:cNvPicPr/>
          <p:nvPr/>
        </p:nvPicPr>
        <p:blipFill>
          <a:blip r:embed="rId1"/>
          <a:stretch/>
        </p:blipFill>
        <p:spPr>
          <a:xfrm>
            <a:off x="4179960" y="0"/>
            <a:ext cx="49640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10" descr="Аф"/>
          <p:cNvPicPr/>
          <p:nvPr/>
        </p:nvPicPr>
        <p:blipFill>
          <a:blip r:embed="rId2"/>
          <a:srcRect l="0" t="0" r="7172" b="11144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200" y="0"/>
            <a:ext cx="911844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Открытия Колумба и Васко да Гамы увеличивают популярность географ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. появляются подробные описания стран, ученые изучают морские течения, ветры, приливы и отливы, магнитное склонен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Математическая география (картография):      новые карты, атласы, глоб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GL002A-hi_z"/>
          <p:cNvPicPr/>
          <p:nvPr/>
        </p:nvPicPr>
        <p:blipFill>
          <a:blip r:embed="rId1"/>
          <a:stretch/>
        </p:blipFill>
        <p:spPr>
          <a:xfrm>
            <a:off x="6156360" y="3276720"/>
            <a:ext cx="2644920" cy="35812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8" descr="http://kometa-vozmezdie.ru/uploads/posts/2011-08/1312366994_carte_mercator.jpg"/>
          <p:cNvPicPr/>
          <p:nvPr/>
        </p:nvPicPr>
        <p:blipFill>
          <a:blip r:embed="rId2"/>
          <a:stretch/>
        </p:blipFill>
        <p:spPr>
          <a:xfrm>
            <a:off x="250920" y="3276720"/>
            <a:ext cx="531180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https://i.pinimg.com/736x/63/f9/e1/63f9e14ced05bc2b6b7f3878ba31838e--history-memes-knowledge.jpg"/>
          <p:cNvPicPr/>
          <p:nvPr/>
        </p:nvPicPr>
        <p:blipFill>
          <a:blip r:embed="rId1"/>
          <a:stretch/>
        </p:blipFill>
        <p:spPr>
          <a:xfrm>
            <a:off x="0" y="1700280"/>
            <a:ext cx="4024440" cy="5172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askerville Old Face"/>
              </a:rPr>
              <a:t>ПЕРВОЕ КРУГОСВЕТНОЕ ПУТЕШЕСТВ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1700280"/>
            <a:ext cx="4248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рнан Магел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https://interesnie-fakti.net/wp-content/uploads/2017/11/korabli.jpg"/>
          <p:cNvPicPr/>
          <p:nvPr/>
        </p:nvPicPr>
        <p:blipFill>
          <a:blip r:embed="rId2"/>
          <a:stretch/>
        </p:blipFill>
        <p:spPr>
          <a:xfrm>
            <a:off x="4140360" y="3166920"/>
            <a:ext cx="498456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Первым разработал проект плавания западным путём вдоль побережья Южной Америки к островам ЮВ Аз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.09.1519г.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65-280 чел.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кораблей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Тринидад», «Сантьяго», «Сан-Антонио», «Консепсьон», «Виктория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о 1520г. – открыт пролив (Магелланов)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ноябрь 1520г. – вошли в океан (Тихий )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март 1521- отрыты Марианские и Филиппинские остров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27.04.1521г., смерть Магеллан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6.09.1522г.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 чел., 1 корабль «Виктория», Хуан Себастьян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ькан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s://ds04.infourok.ru/uploads/ex/0f00/000cb92f-c842da07/img16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спедиция Магеллана установила наличие океана между Азией и Америкой, назвав его Тихим,  доказала наличие единого Мирового океана и представила практическое свидетельство шарообразности Земли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крыли новые географические объекты, в т.ч. Магелланов пролив и острова Огненная Зем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онц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ека началась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поха Великих географических открыт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географи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Причины наступления Эпохи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В Европе рост крупных городов и быстрое развитие торговл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Путь из Европы в Азию по суше и через Индийский океан опасен. Почему?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Три пути к берегам Индии. Какие?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Развивается европейское книгопечатание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Появились новые кар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askerville Old Face"/>
              </a:rPr>
              <a:t>Христофор Колум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3.08.1492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спан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рт 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ос, 100 чел., 3 корабля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лагман - каракка «Санта-Мария», и две каравеллы: «Нинья» и «Пин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Цель – Индия, Кита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.10.1492 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– Америка (Индия, индийц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Всего путешествие туда и обратно заняло около семи с половиной месяцев. Во время этой экспедиции мореплавате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ткрыли острова Кубу, Гаити и Багамы в Карибском мор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Открытые Колумбом земли еще долгие годы все называли Западной Инд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&amp;kcy;&amp;ocy;&amp;rcy;&amp;acy;&amp;bcy;&amp;lcy;&amp;softcy; &amp;kcy;&amp;ocy;&amp;lcy;&amp;ucy;&amp;mcy;&amp;bcy;&amp;acy;"/>
          <p:cNvPicPr/>
          <p:nvPr/>
        </p:nvPicPr>
        <p:blipFill>
          <a:blip r:embed="rId1"/>
          <a:stretch/>
        </p:blipFill>
        <p:spPr>
          <a:xfrm>
            <a:off x="0" y="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&amp;kcy;&amp;ocy;&amp;rcy;&amp;acy;&amp;bcy;&amp;lcy;&amp;icy; &amp;kcy;&amp;ocy;&amp;lcy;&amp;ucy;&amp;mcy;&amp;bcy;&amp;acy; &amp;ncy;&amp;acy;&amp;zcy;&amp;vcy;&amp;acy;&amp;ncy;&amp;icy;&amp;yacy;"/>
          <p:cNvPicPr/>
          <p:nvPr/>
        </p:nvPicPr>
        <p:blipFill>
          <a:blip r:embed="rId2"/>
          <a:stretch/>
        </p:blipFill>
        <p:spPr>
          <a:xfrm>
            <a:off x="0" y="2997360"/>
            <a:ext cx="3281400" cy="3860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 &amp;scy;&amp;acy;&amp;ncy;&amp;tcy;&amp;acy; &amp;mcy;&amp;acy;&amp;rcy;&amp;icy;&amp;yacy; &amp;kcy;&amp;ocy;&amp;rcy;&amp;acy;&amp;bcy;&amp;lcy;&amp;softcy; &amp;kcy;&amp;ocy;&amp;lcy;&amp;ucy;&amp;mcy;&amp;bcy;&amp;acy;"/>
          <p:cNvPicPr/>
          <p:nvPr/>
        </p:nvPicPr>
        <p:blipFill>
          <a:blip r:embed="rId3"/>
          <a:stretch/>
        </p:blipFill>
        <p:spPr>
          <a:xfrm>
            <a:off x="4788000" y="0"/>
            <a:ext cx="4356000" cy="340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&amp;kcy;&amp;acy;&amp;kcy; &amp;ncy;&amp;acy;&amp;zcy;&amp;ycy;&amp;vcy;&amp;acy;&amp;lcy;&amp;icy;&amp;scy;&amp;softcy; &amp;kcy;&amp;ocy;&amp;rcy;&amp;acy;&amp;bcy;&amp;lcy;&amp;icy; &amp;kcy;&amp;ocy;&amp;lcy;&amp;ucy;&amp;mcy;&amp;bcy;&amp;acy;"/>
          <p:cNvPicPr/>
          <p:nvPr/>
        </p:nvPicPr>
        <p:blipFill>
          <a:blip r:embed="rId4"/>
          <a:stretch/>
        </p:blipFill>
        <p:spPr>
          <a:xfrm>
            <a:off x="3348000" y="3457440"/>
            <a:ext cx="57960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&amp;KHcy;&amp;rcy;&amp;icy;&amp;scy;&amp;tcy;&amp;ocy;&amp;fcy;&amp;ocy;&amp;rcy; &amp;Kcy;&amp;ocy;&amp;lcy;&amp;ucy;&amp;mcy;&amp;bcy; &amp;bcy;&amp;icy;&amp;ocy;&amp;gcy;&amp;rcy;&amp;acy;&amp;fcy;&amp;icy;&amp;yacy; &amp;mcy;&amp;ocy;&amp;rcy;&amp;iecy;&amp;pcy;&amp;lcy;&amp;acy;&amp;vcy;&amp;acy;&amp;tcy;&amp;iecy;&amp;lcy;&amp;yacy;"/>
          <p:cNvPicPr/>
          <p:nvPr/>
        </p:nvPicPr>
        <p:blipFill>
          <a:blip r:embed="rId1"/>
          <a:stretch/>
        </p:blipFill>
        <p:spPr>
          <a:xfrm>
            <a:off x="0" y="361800"/>
            <a:ext cx="91440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лумб не нашёл сокровища Индии и Китая. Важность открытия этих  земель оценили через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0 лет, после завоевания территории ацтеков и ин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Baracoa,%20Cuba%20%282%29"/>
          <p:cNvPicPr/>
          <p:nvPr/>
        </p:nvPicPr>
        <p:blipFill>
          <a:blip r:embed="rId1"/>
          <a:stretch/>
        </p:blipFill>
        <p:spPr>
          <a:xfrm>
            <a:off x="17640" y="2463840"/>
            <a:ext cx="2850840" cy="3486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07800" y="5850000"/>
            <a:ext cx="227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аракоа (Куба)- любимое мест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. Колумб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Picture 9" descr="lahabana8"/>
          <p:cNvPicPr/>
          <p:nvPr/>
        </p:nvPicPr>
        <p:blipFill>
          <a:blip r:embed="rId2"/>
          <a:stretch/>
        </p:blipFill>
        <p:spPr>
          <a:xfrm>
            <a:off x="5853240" y="2459160"/>
            <a:ext cx="3290760" cy="4398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5848200" y="2463840"/>
            <a:ext cx="112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аван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уб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24" descr="kolumb6"/>
          <p:cNvPicPr/>
          <p:nvPr/>
        </p:nvPicPr>
        <p:blipFill>
          <a:blip r:embed="rId3"/>
          <a:stretch/>
        </p:blipFill>
        <p:spPr>
          <a:xfrm>
            <a:off x="3059280" y="2459160"/>
            <a:ext cx="2625480" cy="4373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123720" y="259560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уб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askerville Old Face"/>
              </a:rPr>
              <a:t>Васко да Га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ртугальц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морские пути в Инд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97 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– выйдя из Лиссабона, экспедиция обогнула Африку, пересекла Индийский океан и достигла берегов Ин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нтябрь 1499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озвратились в Лиссабон с грузом пряностей и драгоцен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первы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ложен морской путь из Европы в страны Южной Аз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Установил, что Атлантический и Индийский океан соединены между собой. На карту точн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несены западные и восточные берега Африки и Мадагаск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 24, рис.1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62193"/>
          <p:cNvPicPr/>
          <p:nvPr/>
        </p:nvPicPr>
        <p:blipFill>
          <a:blip r:embed="rId1"/>
          <a:stretch/>
        </p:blipFill>
        <p:spPr>
          <a:xfrm>
            <a:off x="49320" y="977760"/>
            <a:ext cx="3730680" cy="490248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19" descr="vasco-de-gama-1"/>
          <p:cNvPicPr/>
          <p:nvPr/>
        </p:nvPicPr>
        <p:blipFill>
          <a:blip r:embed="rId2"/>
          <a:stretch/>
        </p:blipFill>
        <p:spPr>
          <a:xfrm>
            <a:off x="3900600" y="0"/>
            <a:ext cx="524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askerville Old Face"/>
              </a:rPr>
              <a:t>Афанасий Никит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83664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Тверской купец, Волга, Астрахань (ограблен), продолжил путь в южные страны, Персия (жил более 2-х лет)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р.25, рис.12.1 и 1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71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арабскими мореходами пересёк Аравийское море и достиг Ин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Хождение за три мор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638280" y="476280"/>
            <a:ext cx="786744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15" descr="Афан"/>
          <p:cNvPicPr/>
          <p:nvPr/>
        </p:nvPicPr>
        <p:blipFill>
          <a:blip r:embed="rId1"/>
          <a:stretch/>
        </p:blipFill>
        <p:spPr>
          <a:xfrm>
            <a:off x="2654280" y="4067280"/>
            <a:ext cx="41403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19:44:54Z</dcterms:created>
  <dc:creator>Интернет</dc:creator>
  <dc:description/>
  <dc:language>en-US</dc:language>
  <cp:lastModifiedBy>Краснова Н.В.</cp:lastModifiedBy>
  <dcterms:modified xsi:type="dcterms:W3CDTF">2018-11-15T09:41:12Z</dcterms:modified>
  <cp:revision>179</cp:revision>
  <dc:subject/>
  <dc:title>КАК ЧЕЛОВЕК ОТКРЫВАЛ ЗЕМЛЮ</dc:title>
</cp:coreProperties>
</file>