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1D2-8598-4043-BA36-C04559F4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B6C-2B0D-4723-B6A6-1FD5273E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1F3-C2AD-45CE-BA35-62C281D5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02E-2AF0-4863-AD9D-32F0DB93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F6AA-07E4-447D-A708-06E074F2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FF90-33C5-4F62-8047-DE0BE9A9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16E8-D729-4EEF-AA9F-FCE93328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26D7-D605-4561-AAB4-A4082A6D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B00F-4A17-44A7-B94E-054F857A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DFC4-3A15-428C-AB2F-06B532AD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9FA4-B5A8-46FB-A5B6-54E55381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91A-2AB5-4A9A-8BBE-717E8A95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6D3E-7231-434A-85EA-80B7F0EB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2F5F-6EBE-452E-BB4A-F3F7AB0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993E-EACE-48EF-ACFF-B9911ADD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1374-6203-4F8A-A76A-F84581F3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1DE7-DE8E-4915-8F41-81DE4B3A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D62-E44B-4312-895E-8B0F5821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F7B-43DD-4E49-B1FA-5B60B3DB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655-298E-4420-82DA-B819D04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AEE-7D22-4452-97B2-118608AA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141-2868-461A-9AEC-779573F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D10-9E6C-4AC5-BC98-B6EAE177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40E-348D-4983-8F32-7ECA539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BB9B-C698-4241-8A03-A2D1EE09135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0337-ED77-49F1-BF5A-0F7ADA969C1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gabook.ru/MediaViewer.asp?AID=62668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рок рисования в 4 классе по картине С.Григорьева «Вратарь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рок подготовила учитель истор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Орлова Л.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Вратарь» 1949 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Picture 4" descr="65-5"/>
          <p:cNvPicPr/>
          <p:nvPr/>
        </p:nvPicPr>
        <p:blipFill>
          <a:blip r:embed="rId1"/>
          <a:stretch/>
        </p:blipFill>
        <p:spPr>
          <a:xfrm>
            <a:off x="1619280" y="2276640"/>
            <a:ext cx="684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ратар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т, кто защищает ворота команды в некоторых спортивных играх (футболе, хоккее и т.п.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просы, подготавливающие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сприятие картин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мент какой игры изображён на картине С.А. Григорьев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равится ли вам эта игр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скажите, пожалуйста, об этой игре (состав команд, форма, задачи игры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овы обязанности вратаря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седа по картин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то изображено на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ртине «Вратарь»? Как ребята играют в футбол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ое время года и суток изображено на картине? Как вы это определил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де происходит действие, изображенное на картин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то является главным действующим лицом картины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им изобразил художник вратаря? Опишите его позу, фигуру, выражение лица, одежд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ишите маленького мальчика, который стоит позади вратар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седа по картин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художник показал заинтересованность зрителей игрой в футбол? Кто особенно сильно увлечен происходящим? Опишите их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то равнодушно относится к происходящему на пол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чему картина называется «Вратарь»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 как бы вы по-другому назвали картин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еседа по композиции картин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мотрите, как построена картина. Где  - на переднем или на заднем плане – изобразил С.А.Григорьев главного героя, вратаря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то изображен на втором плане картин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вы видите на заднем план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ловарно-стилистическая работа с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проверко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у..больное сост..зание, увл..кательный матч(?), бе(сс,с)трашный вр..тарь, хватка заправского фу..болиста, на страже в..рот, ринут(?)ся в бой, темный свитер, кожа(нн,н)ые п..рчатки,перевяза(нн,н)ая коленка, спустившиеся чулки, подвяза(нн,н)ые т..семками к..лоши, гру(пп,п)а зрителей, увлече(нн,н)ые игрой болельщ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рок рисования по картине С.Григорьева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«Вратарь».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7" descr="65-5"/>
          <p:cNvPicPr/>
          <p:nvPr/>
        </p:nvPicPr>
        <p:blipFill>
          <a:blip r:embed="rId1"/>
          <a:stretch/>
        </p:blipFill>
        <p:spPr>
          <a:xfrm>
            <a:off x="1547640" y="2349360"/>
            <a:ext cx="6985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учающая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Научить описывать действия людей, изображенных на карти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азвивающая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вести в активный словарь учащихся  слово «композиция» и слова на тему «Спорт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оспитывающая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ызвать у обучающихся интерес к игре футбо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ригорьев Сергей Алексеевич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1910 – 1988 г.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5" descr="07ds115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349360"/>
            <a:ext cx="46800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Приём в комсомол» 1949 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BLOGGER_PHOTO_ID_5324162167534008626" descr="09-04-101"/>
          <p:cNvPicPr/>
          <p:nvPr/>
        </p:nvPicPr>
        <p:blipFill>
          <a:blip r:embed="rId1"/>
          <a:stretch/>
        </p:blipFill>
        <p:spPr>
          <a:xfrm>
            <a:off x="1835280" y="2276640"/>
            <a:ext cx="6049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Пионерский галсту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09-04-100"/>
          <p:cNvPicPr/>
          <p:nvPr/>
        </p:nvPicPr>
        <p:blipFill>
          <a:blip r:embed="rId1"/>
          <a:stretch/>
        </p:blipFill>
        <p:spPr>
          <a:xfrm>
            <a:off x="1835280" y="2276640"/>
            <a:ext cx="62658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"Обсуждение двойки"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59f2331b8add"/>
          <p:cNvPicPr/>
          <p:nvPr/>
        </p:nvPicPr>
        <p:blipFill>
          <a:blip r:embed="rId1"/>
          <a:stretch/>
        </p:blipFill>
        <p:spPr>
          <a:xfrm>
            <a:off x="154764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Девочка в белой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косынке» (1960 г.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4" descr="„Девочка в белой косынке”, 1960-е гг.&#13;&#10;картон, масло; 31,5х37; правый нижний угол „С. Григорьев”"/>
          <p:cNvPicPr/>
          <p:nvPr/>
        </p:nvPicPr>
        <p:blipFill>
          <a:blip r:embed="rId1"/>
          <a:stretch/>
        </p:blipFill>
        <p:spPr>
          <a:xfrm>
            <a:off x="1547640" y="236232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продук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продук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,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продук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ж. (от латин. re - вновь и productio - продолжение). 1. Воспроизведение и размножение рисунков путем фотографии, клише и т. п. (тип.). 2. Картина, рисунок, воспроизведенный типографским способо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5:17:12Z</dcterms:created>
  <dc:creator>Филиппова</dc:creator>
  <dc:description/>
  <dc:language>en-US</dc:language>
  <cp:lastModifiedBy>Диана Валеева</cp:lastModifiedBy>
  <dcterms:modified xsi:type="dcterms:W3CDTF">2018-11-15T19:38:56Z</dcterms:modified>
  <cp:revision>11</cp:revision>
  <dc:subject/>
  <dc:title>Урок развития речи в7 классе по картине С.Григорьева «Вратарь»</dc:title>
</cp:coreProperties>
</file>