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741-F772-4470-9D0A-9A8721DC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DF0-02B1-4501-9332-80DC4BEF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045-021D-400A-B5A2-66B0F687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FC2-2EB3-4C63-A894-58DE4A61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87BD-0302-401C-86A1-63D17484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606E-0480-44F2-85F3-36C9E855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4802-1B32-4560-ADDD-347CB18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7287-687E-46CD-AE77-B877A5B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D396-4BF8-4190-B2CD-D30F9139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714C-1EC6-442D-BAD2-71B5C345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1BAE-C277-4D92-AE4A-BF20D61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C91-72F5-4609-BCAE-64B48F3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6251-1644-4C5B-A3D3-EA543DD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169B-38BC-4C98-958D-CF130BD6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F023-11B3-46A0-AB8F-0B5292BC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1884-F6AD-4A16-9CE9-09F501A6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0F0E-F9A3-4B9F-9B49-D8401BBE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D3E-6835-4B1F-8FDA-16E9A57B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54A-FD64-4E1A-A8A7-921A832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478-DDCD-4ECD-AEB1-DC5C3160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C1A-1836-4D6C-A99B-49EF85A5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064-666F-44A5-B24B-D732654C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EC4-FB45-48A3-85E4-C6BF754C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8F9-6127-4759-B477-6157CC1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CAF9-3B68-4B44-832F-0E537CF94F2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EF5-9DD4-4AC8-9A1C-A5D8BA12BE0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gabook.ru/MediaViewer.asp?AID=62668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рок рисования в 4 классе по картине С.Григорьева «Вратарь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рок подготовила учитель истор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Орлова Л.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Вратарь» 1949 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Picture 4" descr="65-5"/>
          <p:cNvPicPr/>
          <p:nvPr/>
        </p:nvPicPr>
        <p:blipFill>
          <a:blip r:embed="rId1"/>
          <a:stretch/>
        </p:blipFill>
        <p:spPr>
          <a:xfrm>
            <a:off x="1619280" y="2276640"/>
            <a:ext cx="684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ратар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т, кто защищает ворота команды в некоторых спортивных играх (футболе, хоккее и т.п.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просы, подготавливающие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сприятие картин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мент какой игры изображён на картине С.А. Григорьев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равится ли вам эта игр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скажите, пожалуйста, об этой игре (состав команд, форма, задачи игры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овы обязанности вратаря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седа по картин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то изображено на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ртине «Вратарь»? Как ребята играют в футбол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ое время года и суток изображено на картине? Как вы это определил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де происходит действие, изображенное на картин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то является главным действующим лицом картины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им изобразил художник вратаря? Опишите его позу, фигуру, выражение лица, одежд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ишите маленького мальчика, который стоит позади вратар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седа по картин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художник показал заинтересованность зрителей игрой в футбол? Кто особенно сильно увлечен происходящим? Опишите их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то равнодушно относится к происходящему на пол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чему картина называется «Вратарь»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 как бы вы по-другому назвали картин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седа по композиции картин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мотрите, как построена картина. Где  - на переднем или на заднем плане – изобразил С.А.Григорьев главного героя, вратаря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то изображен на втором плане картин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вы видите на заднем план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ловарно-стилистическая работа с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проверко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у..больное сост..зание, увл..кательный матч(?), бе(сс,с)трашный вр..тарь, хватка заправского фу..болиста, на страже в..рот, ринут(?)ся в бой, темный свитер, кожа(нн,н)ые п..рчатки,перевяза(нн,н)ая коленка, спустившиеся чулки, подвяза(нн,н)ые т..семками к..лоши, гру(пп,п)а зрителей, увлече(нн,н)ые игрой болельщ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ок рисования по картине С.Григорьева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«Вратарь».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7" descr="65-5"/>
          <p:cNvPicPr/>
          <p:nvPr/>
        </p:nvPicPr>
        <p:blipFill>
          <a:blip r:embed="rId1"/>
          <a:stretch/>
        </p:blipFill>
        <p:spPr>
          <a:xfrm>
            <a:off x="1547640" y="2349360"/>
            <a:ext cx="6985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учающая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Научить описывать действия людей, изображенных на карти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азвивающая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вести в активный словарь учащихся  слово «композиция» и слова на тему «Спорт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оспитывающая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ызвать у обучающихся интерес к игре футбо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ригорьев Сергей Алексеевич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1910 – 1988 г.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5" descr="07ds115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349360"/>
            <a:ext cx="46800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Приём в комсомол» 1949 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BLOGGER_PHOTO_ID_5324162167534008626" descr="09-04-101"/>
          <p:cNvPicPr/>
          <p:nvPr/>
        </p:nvPicPr>
        <p:blipFill>
          <a:blip r:embed="rId1"/>
          <a:stretch/>
        </p:blipFill>
        <p:spPr>
          <a:xfrm>
            <a:off x="1835280" y="2276640"/>
            <a:ext cx="6049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Пионерский галсту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09-04-100"/>
          <p:cNvPicPr/>
          <p:nvPr/>
        </p:nvPicPr>
        <p:blipFill>
          <a:blip r:embed="rId1"/>
          <a:stretch/>
        </p:blipFill>
        <p:spPr>
          <a:xfrm>
            <a:off x="1835280" y="2276640"/>
            <a:ext cx="62658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"Обсуждение двойки"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59f2331b8add"/>
          <p:cNvPicPr/>
          <p:nvPr/>
        </p:nvPicPr>
        <p:blipFill>
          <a:blip r:embed="rId1"/>
          <a:stretch/>
        </p:blipFill>
        <p:spPr>
          <a:xfrm>
            <a:off x="154764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Девочка в белой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косынке» (1960 г.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4" descr="„Девочка в белой косынке”, 1960-е гг.&#13;&#10;картон, масло; 31,5х37; правый нижний угол „С. Григорьев”"/>
          <p:cNvPicPr/>
          <p:nvPr/>
        </p:nvPicPr>
        <p:blipFill>
          <a:blip r:embed="rId1"/>
          <a:stretch/>
        </p:blipFill>
        <p:spPr>
          <a:xfrm>
            <a:off x="1547640" y="236232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продук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продук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,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продук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ж. (от латин. re - вновь и productio - продолжение). 1. Воспроизведение и размножение рисунков путем фотографии, клише и т. п. (тип.). 2. Картина, рисунок, воспроизведенный типографским способо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5:17:12Z</dcterms:created>
  <dc:creator>Филиппова</dc:creator>
  <dc:description/>
  <dc:language>en-US</dc:language>
  <cp:lastModifiedBy>Диана Валеева</cp:lastModifiedBy>
  <dcterms:modified xsi:type="dcterms:W3CDTF">2018-11-15T19:38:56Z</dcterms:modified>
  <cp:revision>11</cp:revision>
  <dc:subject/>
  <dc:title>Урок развития речи в7 классе по картине С.Григорьева «Вратарь»</dc:title>
</cp:coreProperties>
</file>