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14E-E3C3-4D12-96C7-D9CDBBE7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0C6-B642-4838-B7E0-A0618972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12D-29FE-46AB-AD08-045D880F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32D-F755-45AB-8E51-114A24BF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A33-F7BB-47A7-B287-7008202F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EBF-E7BF-491A-8947-100F637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C76-9BD8-4BB9-9C06-26EB4E5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097-353E-4D30-997D-4906724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BDC-3537-4A66-ADD3-7F76E5AA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97E-08E7-46CC-9E86-D0B3A39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E7B-5E28-4F0E-8601-74435C3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891-28C7-45C4-B855-CF1AB39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E5E3-54D0-453E-9E49-E870193C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дите расстояние от вершин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ия правильной четырехугольной призм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BCD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1C1D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о диагонал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1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если сторона основания равна 12, а боковое ребро призмы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564000" y="2349360"/>
            <a:ext cx="2952720" cy="309564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428472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 flipH="1">
            <a:off x="4284720" y="472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 flipH="1">
            <a:off x="356400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258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3931920" y="442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7"/>
              <p:cNvSpPr txBox="1"/>
              <p:nvPr/>
            </p:nvSpPr>
            <p:spPr>
              <a:xfrm>
                <a:off x="2411280" y="1197000"/>
                <a:ext cx="576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" name="TextBox 15"/>
          <p:cNvSpPr/>
          <p:nvPr/>
        </p:nvSpPr>
        <p:spPr>
          <a:xfrm>
            <a:off x="5929200" y="5214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650088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8"/>
          <p:cNvSpPr/>
          <p:nvPr/>
        </p:nvSpPr>
        <p:spPr>
          <a:xfrm>
            <a:off x="3132000" y="285264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3851280" y="206064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372360" y="206064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586728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31"/>
          <p:cNvSpPr/>
          <p:nvPr/>
        </p:nvSpPr>
        <p:spPr>
          <a:xfrm>
            <a:off x="3571920" y="3071880"/>
            <a:ext cx="2944800" cy="1652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3"/>
          <p:cNvSpPr/>
          <p:nvPr/>
        </p:nvSpPr>
        <p:spPr>
          <a:xfrm>
            <a:off x="3571200" y="3071880"/>
            <a:ext cx="2214360" cy="235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5"/>
          <p:cNvSpPr/>
          <p:nvPr/>
        </p:nvSpPr>
        <p:spPr>
          <a:xfrm flipH="1">
            <a:off x="5785920" y="4714920"/>
            <a:ext cx="714600" cy="74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9"/>
          <p:cNvSpPr/>
          <p:nvPr/>
        </p:nvSpPr>
        <p:spPr>
          <a:xfrm flipV="1">
            <a:off x="5786280" y="4571640"/>
            <a:ext cx="500400" cy="85716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0"/>
          <p:cNvSpPr/>
          <p:nvPr/>
        </p:nvSpPr>
        <p:spPr>
          <a:xfrm>
            <a:off x="6215040" y="421488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 rot="1897800">
            <a:off x="6103440" y="4525920"/>
            <a:ext cx="142920" cy="16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2"/>
          <p:cNvSpPr/>
          <p:nvPr/>
        </p:nvSpPr>
        <p:spPr>
          <a:xfrm>
            <a:off x="4786200" y="55720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"/>
          <p:cNvSpPr/>
          <p:nvPr/>
        </p:nvSpPr>
        <p:spPr>
          <a:xfrm>
            <a:off x="628668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"/>
          <p:cNvSpPr/>
          <p:nvPr/>
        </p:nvSpPr>
        <p:spPr>
          <a:xfrm>
            <a:off x="285768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8"/>
              <p:cNvSpPr txBox="1"/>
              <p:nvPr/>
            </p:nvSpPr>
            <p:spPr>
              <a:xfrm>
                <a:off x="3071880" y="3857760"/>
                <a:ext cx="357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Прямоугольник 46"/>
          <p:cNvSpPr/>
          <p:nvPr/>
        </p:nvSpPr>
        <p:spPr>
          <a:xfrm rot="2660400">
            <a:off x="5694120" y="5176440"/>
            <a:ext cx="183960" cy="219240"/>
          </a:xfrm>
          <a:prstGeom prst="rect">
            <a:avLst/>
          </a:prstGeom>
          <a:solidFill>
            <a:srgbClr val="72bfc5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авильной треугольной призм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A1B1C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рона основания равна 2, высота равна 3. В треугольнике АВС проведена биссектриса АМ. Найдите косинус угла между прямыми А1М и В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169000">
            <a:off x="3492360" y="1700280"/>
            <a:ext cx="2232000" cy="9367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234400">
            <a:off x="3492000" y="3860640"/>
            <a:ext cx="2232000" cy="9367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306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299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4365720"/>
            <a:ext cx="1439640" cy="3585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92360" y="4292640"/>
            <a:ext cx="216000" cy="28872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8690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4508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2205000"/>
            <a:ext cx="1439640" cy="25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780000" y="2133720"/>
            <a:ext cx="201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3357720"/>
            <a:ext cx="936720" cy="136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4508640"/>
            <a:ext cx="28728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2205000"/>
            <a:ext cx="2376360" cy="1152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26370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24000" y="2781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24000" y="371628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24000" y="386064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9983000">
            <a:off x="4643280" y="4723200"/>
            <a:ext cx="14472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 куб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A1B1C1D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Найдите тангенс угла между плоскостью, проходящей через середины ребер АВ, 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ередину диагонали куба, и плоскостью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1B1C1D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276640"/>
            <a:ext cx="2663640" cy="25207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276640"/>
            <a:ext cx="0" cy="1873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2000" y="4149720"/>
            <a:ext cx="2016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24000" y="414972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7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2708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2708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58920" y="3573360"/>
            <a:ext cx="36036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219280" y="3500280"/>
            <a:ext cx="1081080" cy="9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32360" y="4436640"/>
            <a:ext cx="1368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7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32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364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429264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4581360"/>
            <a:ext cx="215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24000" y="2276640"/>
            <a:ext cx="2663640" cy="25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500280"/>
            <a:ext cx="360360" cy="1152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49720"/>
            <a:ext cx="1008000" cy="50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2852640"/>
            <a:ext cx="172872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71640" y="2852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852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835280" y="364464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56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24000" y="227664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276640"/>
            <a:ext cx="1368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256536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4365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52:54Z</dcterms:created>
  <dc:creator>User</dc:creator>
  <dc:description/>
  <dc:language>en-US</dc:language>
  <cp:lastModifiedBy>User</cp:lastModifiedBy>
  <dcterms:modified xsi:type="dcterms:W3CDTF">2013-02-15T04:24:40Z</dcterms:modified>
  <cp:revision>11</cp:revision>
  <dc:subject/>
  <dc:title>Слайд 1</dc:title>
</cp:coreProperties>
</file>