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427-BB33-4E58-80A2-B72BB8BC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C3F-42C3-4EBD-85D9-6D2EC0EC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EE8-470A-4053-813D-E427E74B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3A9-A85F-409D-8C64-472535A0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438-4D10-4D46-BDC7-B11FA946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A84-F4DA-404A-8E67-DB91960A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56C-7FF4-4161-AB23-36A1E238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0BA-BF58-4477-B5F8-6021C135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A1E-DA69-48A8-AB13-14CC2357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36E-81DD-4D82-AFFC-18725D28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022-A6DF-4E63-8F25-7343689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58F-2DC0-4BAC-A028-04321F65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9D5E-4414-4F77-AD34-787B553DA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дите расстояние от вершин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ания правильной четырехугольной призм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BCD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1C1D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до диагонал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1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если сторона основания равна 12, а боковое ребро призмы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3564000" y="2349360"/>
            <a:ext cx="2952720" cy="309564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428472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 flipH="1">
            <a:off x="4284720" y="47242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 flipH="1">
            <a:off x="356400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325872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3931920" y="442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7"/>
              <p:cNvSpPr txBox="1"/>
              <p:nvPr/>
            </p:nvSpPr>
            <p:spPr>
              <a:xfrm>
                <a:off x="2411280" y="1197000"/>
                <a:ext cx="576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" name="TextBox 15"/>
          <p:cNvSpPr/>
          <p:nvPr/>
        </p:nvSpPr>
        <p:spPr>
          <a:xfrm>
            <a:off x="5929200" y="5214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6500880" y="4500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3132000" y="285264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3851280" y="206064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6372360" y="206064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586728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31"/>
          <p:cNvSpPr/>
          <p:nvPr/>
        </p:nvSpPr>
        <p:spPr>
          <a:xfrm>
            <a:off x="3571920" y="3071880"/>
            <a:ext cx="2944800" cy="1652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3"/>
          <p:cNvSpPr/>
          <p:nvPr/>
        </p:nvSpPr>
        <p:spPr>
          <a:xfrm>
            <a:off x="3571200" y="3071880"/>
            <a:ext cx="2214360" cy="235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5"/>
          <p:cNvSpPr/>
          <p:nvPr/>
        </p:nvSpPr>
        <p:spPr>
          <a:xfrm flipH="1">
            <a:off x="5785920" y="4714920"/>
            <a:ext cx="714600" cy="744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9"/>
          <p:cNvSpPr/>
          <p:nvPr/>
        </p:nvSpPr>
        <p:spPr>
          <a:xfrm flipV="1">
            <a:off x="5786280" y="4571640"/>
            <a:ext cx="500400" cy="85716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0"/>
          <p:cNvSpPr/>
          <p:nvPr/>
        </p:nvSpPr>
        <p:spPr>
          <a:xfrm>
            <a:off x="6215040" y="421488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 rot="1897800">
            <a:off x="6103440" y="4525920"/>
            <a:ext cx="142920" cy="16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2"/>
          <p:cNvSpPr/>
          <p:nvPr/>
        </p:nvSpPr>
        <p:spPr>
          <a:xfrm>
            <a:off x="4786200" y="55720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3"/>
          <p:cNvSpPr/>
          <p:nvPr/>
        </p:nvSpPr>
        <p:spPr>
          <a:xfrm>
            <a:off x="6286680" y="5000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4"/>
          <p:cNvSpPr/>
          <p:nvPr/>
        </p:nvSpPr>
        <p:spPr>
          <a:xfrm>
            <a:off x="285768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8"/>
              <p:cNvSpPr txBox="1"/>
              <p:nvPr/>
            </p:nvSpPr>
            <p:spPr>
              <a:xfrm>
                <a:off x="3071880" y="3857760"/>
                <a:ext cx="357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Прямоугольник 46"/>
          <p:cNvSpPr/>
          <p:nvPr/>
        </p:nvSpPr>
        <p:spPr>
          <a:xfrm rot="2660400">
            <a:off x="5694120" y="5176440"/>
            <a:ext cx="183960" cy="219240"/>
          </a:xfrm>
          <a:prstGeom prst="rect">
            <a:avLst/>
          </a:prstGeom>
          <a:solidFill>
            <a:srgbClr val="72bfc5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2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правильной треугольной призм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CA1B1C1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рона основания равна 2, высота равна 3. В треугольнике АВС проведена биссектриса АМ. Найдите косинус угла между прямыми А1М и В1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169000">
            <a:off x="3492360" y="1700280"/>
            <a:ext cx="2232000" cy="93672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234400">
            <a:off x="3492000" y="3860640"/>
            <a:ext cx="2232000" cy="93672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205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3068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51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299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47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4365720"/>
            <a:ext cx="1439640" cy="35856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465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92360" y="4292640"/>
            <a:ext cx="216000" cy="28872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48690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4508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2205000"/>
            <a:ext cx="1439640" cy="25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780000" y="2133720"/>
            <a:ext cx="201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859280" y="3357720"/>
            <a:ext cx="936720" cy="1366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4508640"/>
            <a:ext cx="28728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2205000"/>
            <a:ext cx="2376360" cy="1152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24000" y="263700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24000" y="278136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24000" y="371628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724000" y="386064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 rot="19983000">
            <a:off x="4643280" y="4723200"/>
            <a:ext cx="144720" cy="6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3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 куб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CDA1B1C1D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Найдите тангенс угла между плоскостью, проходящей через середины ребер АВ, 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середину диагонали куба, и плоскостью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1B1C1D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2276640"/>
            <a:ext cx="2663640" cy="25207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276640"/>
            <a:ext cx="0" cy="18730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572000" y="4149720"/>
            <a:ext cx="20160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24000" y="4149720"/>
            <a:ext cx="647640" cy="6476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47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37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2708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2708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858920" y="3573360"/>
            <a:ext cx="360360" cy="122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219280" y="3500280"/>
            <a:ext cx="1081080" cy="93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932360" y="4436640"/>
            <a:ext cx="136836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479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32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27280" y="4724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63640" y="4724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4292640"/>
            <a:ext cx="215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4581360"/>
            <a:ext cx="215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924000" y="2276640"/>
            <a:ext cx="2663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500280"/>
            <a:ext cx="360360" cy="1152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149720"/>
            <a:ext cx="1008000" cy="503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4221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2852640"/>
            <a:ext cx="172872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71640" y="2852640"/>
            <a:ext cx="172872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2852640"/>
            <a:ext cx="172872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835280" y="3644640"/>
            <a:ext cx="86508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256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45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342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24000" y="2276640"/>
            <a:ext cx="2663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276640"/>
            <a:ext cx="1368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256536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72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4365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5:52:54Z</dcterms:created>
  <dc:creator>User</dc:creator>
  <dc:description/>
  <dc:language>en-US</dc:language>
  <cp:lastModifiedBy>User</cp:lastModifiedBy>
  <dcterms:modified xsi:type="dcterms:W3CDTF">2013-02-15T04:24:40Z</dcterms:modified>
  <cp:revision>11</cp:revision>
  <dc:subject/>
  <dc:title>Слайд 1</dc:title>
</cp:coreProperties>
</file>