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E841-6E8E-4256-8837-093C1F30C3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7B33-7113-4B87-9141-FBFFE956258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CE38-69C0-477C-A56F-207C6E36D01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0706-ACAB-4D48-84C9-85F5A32F7F0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18B4-6B24-46BC-B11F-2EDB846F917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D763-6D1A-4E88-9FE2-47C2DA1177E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B73D-3BCC-481A-86CA-F89A1EAEB79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A634-5357-4B77-A38C-72AC6626CF8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8268-3E7F-4C3F-B7B2-477F55D55DA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E989-1F84-4C74-88DD-CA9BEE89B49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31F3-8016-4165-826B-4C9D50555AA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3496-CAA6-44BE-BBD7-8DE9EF9AE47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7D5A-7C1D-4354-9CE6-F083492DBE8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2187-35CA-4099-9C3C-90DEBDE57F4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57CB-522D-4ED9-A334-DE91525E9F7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DB1-9430-49CA-B30A-28A98549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247-DF57-463D-8C0A-93DF5504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1CA-F0EC-4482-9069-6858239F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19D-02E1-4B39-B824-392952CE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C9AC-41EA-4B4D-BC04-85DA913C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DC99-AA27-4D09-A00E-88F6344F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0C39-7A36-40F7-8DC6-D0A5465C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0AD5-8214-4AF7-AC59-0FBE8168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7020-56D8-486A-8F53-27E5CA32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9D33-2B30-4AD0-B3CD-5CE6E4B4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89FA-114C-43DB-92BF-3FF10609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AD0-6395-4075-BF7B-B95AC549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10D4-2B2A-4E5C-B355-2F2915A7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E51D-2EF8-40BA-9025-0694F684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04B7-A4B5-4C3D-BA12-0ED9B32F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55E7-53AD-49AA-9C0E-12FEAFA4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511F-CFD9-4BE6-83AB-33F3BAC3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BD2-8358-4F8F-8B4D-870A90A4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445-D9CA-43A0-8016-42C19F03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04A-F15E-412F-B05C-C0EB6123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FE5-1350-4549-8EB3-A41E53BB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CE7-5CDC-4100-AD7A-027F88B7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B26-2720-4313-82D3-7C6DA3B8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72F-A25D-44ED-9047-8E5A2A0F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2801-5A73-48AA-976E-BD5E848A8A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F37C-E74D-4994-BA65-0176BB52F5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205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Environmental Problem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108000" y="142920"/>
            <a:ext cx="9036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108000" y="0"/>
            <a:ext cx="8893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5" descr="GD3997075@A-man-collects-dead-f-7985[1]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Save our fragile world!!!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Picture 5" descr="arms%20open[1]"/>
          <p:cNvPicPr/>
          <p:nvPr/>
        </p:nvPicPr>
        <p:blipFill>
          <a:blip r:embed="rId1"/>
          <a:stretch/>
        </p:blipFill>
        <p:spPr>
          <a:xfrm>
            <a:off x="0" y="1571760"/>
            <a:ext cx="9186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25560" y="142920"/>
            <a:ext cx="91184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28440" y="285840"/>
            <a:ext cx="911556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158920" y="285840"/>
            <a:ext cx="534204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142920" y="90360"/>
            <a:ext cx="878688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57120" y="61920"/>
            <a:ext cx="850104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87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-3240" y="142920"/>
            <a:ext cx="91472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3:34:07Z</dcterms:created>
  <dc:creator>МОЙ</dc:creator>
  <dc:description/>
  <dc:language>en-US</dc:language>
  <cp:lastModifiedBy>Пользователь Windows</cp:lastModifiedBy>
  <dcterms:modified xsi:type="dcterms:W3CDTF">2012-12-17T12:56:10Z</dcterms:modified>
  <cp:revision>15</cp:revision>
  <dc:subject/>
  <dc:title>The Environmental Problems</dc:title>
</cp:coreProperties>
</file>