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9E43-4FD2-44F4-8071-54C9C5741E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54BA-E71A-455C-9E29-FC4418B3D0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B1E-1C4A-48EF-923D-9F853A37293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31D-296B-48C7-A207-A56DBBBB10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016-D037-45CA-A4D3-20C6594A36E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6E9-3956-4867-8489-9AC1DCCFBBC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39B-04AC-4713-AA27-ED97A0113E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E11B-6A35-40C7-AB75-2F0C42CF388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1DB9-91C9-40FA-A504-A325F477E7D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EB7-DBCD-4AE1-ACA1-3EA9AB2949C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50F-9571-4BEA-84EC-E1C6C256598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2F3-9142-4CBC-B8AA-4DE5B87128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2D0D-4C01-4C70-ABB1-D1E31E56360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86F-E53B-4589-B3CB-DFE663E601F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647-44DA-44E7-9181-CEF8310F0D0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B26-3E08-4C61-B8AE-42AD4D91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FC2-1522-4A49-AE74-FC2A4DB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227-7A1B-4036-9D8D-6924F843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7A6-4E29-4FB0-A945-E909378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407-2B02-4C62-8F83-90C73B42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492-2111-4A3A-ACBB-944BC92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5FC-8E5D-4B34-BD06-F6357629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78F0-625A-4A98-B25E-B3D8B6AD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EE6C-45D5-4E3C-B720-ACAC8749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86A-AC97-4FD3-9CA0-A3F577C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EB72-6E1E-4340-ABA6-BADCEE6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DA1-ACAA-4C7E-ACA9-C9C52243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C09D-F279-4008-8E49-9F328F4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1809-63D7-46B8-B8F4-B36A686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C9B-3FEA-4E25-A33E-9B13E0C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7A4-F52B-467D-8465-09078239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2EE-DCB6-4FAD-AE95-FCC6050F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19F-CE7B-499C-A0B3-B342E8F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7AB-3BF0-43B9-97E6-44E5666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CFA-96AF-42B4-A613-456D3A0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42D-70EB-49CA-A560-B816D674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92B-E1F6-45D4-BF1D-4F4AE0D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2AF-60AB-4980-8F3A-E37A517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39E-59DD-420A-B622-EFF4EC2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DC1-E6A5-4248-9006-C39CB7BD56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762-E394-413B-BD32-1DEFCDAE15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Environmental Problem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08000" y="142920"/>
            <a:ext cx="9036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108000" y="0"/>
            <a:ext cx="8893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5" descr="GD3997075@A-man-collects-dead-f-7985[1]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Save our fragile world!!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Picture 5" descr="arms%20open[1]"/>
          <p:cNvPicPr/>
          <p:nvPr/>
        </p:nvPicPr>
        <p:blipFill>
          <a:blip r:embed="rId1"/>
          <a:stretch/>
        </p:blipFill>
        <p:spPr>
          <a:xfrm>
            <a:off x="0" y="1571760"/>
            <a:ext cx="91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5560" y="142920"/>
            <a:ext cx="9118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28440" y="285840"/>
            <a:ext cx="91155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158920" y="285840"/>
            <a:ext cx="534204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142920" y="90360"/>
            <a:ext cx="878688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57120" y="61920"/>
            <a:ext cx="850104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7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34:07Z</dcterms:created>
  <dc:creator>МОЙ</dc:creator>
  <dc:description/>
  <dc:language>en-US</dc:language>
  <cp:lastModifiedBy>Пользователь Windows</cp:lastModifiedBy>
  <dcterms:modified xsi:type="dcterms:W3CDTF">2012-12-17T12:56:10Z</dcterms:modified>
  <cp:revision>15</cp:revision>
  <dc:subject/>
  <dc:title>The Environmental Problems</dc:title>
</cp:coreProperties>
</file>