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2DDB-D286-4D58-9C20-393B080D3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45840" y="152280"/>
            <a:ext cx="786924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5840" y="1287360"/>
            <a:ext cx="786924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45840" y="3841560"/>
            <a:ext cx="786924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9B89-EC16-411C-842B-42CADE3C7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45840" y="152280"/>
            <a:ext cx="786924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45840" y="1287360"/>
            <a:ext cx="384012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200" y="1287360"/>
            <a:ext cx="384012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45840" y="3841560"/>
            <a:ext cx="384012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8200" y="3841560"/>
            <a:ext cx="384012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B70D-8989-48F9-920F-15755F68F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45840" y="152280"/>
            <a:ext cx="786924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5840" y="1287360"/>
            <a:ext cx="253368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6600" y="1287360"/>
            <a:ext cx="253368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7360" y="1287360"/>
            <a:ext cx="253368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45840" y="3841560"/>
            <a:ext cx="253368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6600" y="3841560"/>
            <a:ext cx="253368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7360" y="3841560"/>
            <a:ext cx="253368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5739-D3F4-40B2-BF53-66D282E76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45840" y="152280"/>
            <a:ext cx="786924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45840" y="1287360"/>
            <a:ext cx="7869240" cy="48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F1A4-A43F-4C42-AA57-C828D81C8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45840" y="152280"/>
            <a:ext cx="786924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45840" y="1287360"/>
            <a:ext cx="786924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113B-AFF2-4467-9AB5-9EE4AC9AB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45840" y="152280"/>
            <a:ext cx="786924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45840" y="1287360"/>
            <a:ext cx="384012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8200" y="1287360"/>
            <a:ext cx="384012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0F00-20DF-4650-BEFA-E12C4D1CE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45840" y="152280"/>
            <a:ext cx="786924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7F93-C95C-4657-B11E-BD37697A6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45840" y="152280"/>
            <a:ext cx="7869240" cy="46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A5F7-91BD-4E24-A42A-8D1858C30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5840" y="152280"/>
            <a:ext cx="786924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45840" y="1287360"/>
            <a:ext cx="384012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200" y="1287360"/>
            <a:ext cx="384012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45840" y="3841560"/>
            <a:ext cx="384012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C79D-08C8-4332-A7D0-F5514B54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45840" y="152280"/>
            <a:ext cx="786924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45840" y="1287360"/>
            <a:ext cx="384012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200" y="1287360"/>
            <a:ext cx="384012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8200" y="3841560"/>
            <a:ext cx="384012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046F-587C-4934-85A4-167F490E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45840" y="152280"/>
            <a:ext cx="786924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5840" y="1287360"/>
            <a:ext cx="384012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200" y="1287360"/>
            <a:ext cx="384012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5840" y="3841560"/>
            <a:ext cx="786924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009C-13F9-477D-8F03-4A92CD6F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45840" y="1287360"/>
            <a:ext cx="786924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9D337-F665-4E4C-9427-D0850BC170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645840" y="152280"/>
            <a:ext cx="786924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0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9144000" cy="173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0" y="-27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itle 1"/>
          <p:cNvSpPr/>
          <p:nvPr/>
        </p:nvSpPr>
        <p:spPr>
          <a:xfrm>
            <a:off x="2401920" y="2008080"/>
            <a:ext cx="434016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ли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1841400" y="6211800"/>
            <a:ext cx="566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а работу: Ермакова В.А. ,учитель химии, МБОУ «СОШ №106 г.Челябинс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979560"/>
            <a:ext cx="9144000" cy="33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06240" y="869760"/>
            <a:ext cx="7869240" cy="48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 на аноде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ит от материала анода и от природы аниона.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Если анод растворимый (железо, медь, цинк, серебро и все металлы, которые окисляются в процессе электролиза), то независимо от природы аниона всегда идёт окисление металла анод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Если анод нерастворимый, т.е. инертный (уголь, графит, платина, золото), то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при электролизе растворов солей бескислородных кислот (кроме фторидов) на аноде идёт процесс окисления анион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при электролизе растворов солей оксокислот и фторидов на аноде идёт процесс окисления воды (выделяется кислород); анион не окисляется, остаётся в растворе. При электролизе растворов щелочей идёт окисление гидроксид-ион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0" y="1241280"/>
            <a:ext cx="9144000" cy="3383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0" y="1227240"/>
            <a:ext cx="914400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45840" y="152280"/>
            <a:ext cx="786924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им электролиз раствора хлорида натрия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45840" y="1287360"/>
            <a:ext cx="786924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l = 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+ 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(-)      2 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+ 2ẽ = 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+ 2 ОН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(+)     2 Cl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- 2ẽ = Cl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арное ионное уравн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+ 2 Cl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= 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+ Cl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+ 2OH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NaCl + 2 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 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Электролиз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+ Cl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+ 2NaO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ello_html_m132edf15.gif"/>
          <p:cNvPicPr/>
          <p:nvPr/>
        </p:nvPicPr>
        <p:blipFill>
          <a:blip r:embed="rId1"/>
          <a:stretch/>
        </p:blipFill>
        <p:spPr>
          <a:xfrm>
            <a:off x="3683160" y="4122720"/>
            <a:ext cx="733320" cy="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45840" y="152280"/>
            <a:ext cx="828828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лиз раствора сульфата меди (II) на нерастворимом аноде: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45840" y="1287360"/>
            <a:ext cx="786924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O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u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+ S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(-)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2ẽ = Cu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(+)      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Н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- 4ẽ = O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+ 4 H</a:t>
            </a:r>
            <a:r>
              <a:rPr b="0" lang="pt-BR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 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арное ионное уравнени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 Cu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2 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= 2 Cu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 O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+ 4 Н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арное молекулярное уравнени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CuSO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+ 2 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 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Электролиз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2 Cu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 O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2 H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ello_html_m132edf15.gif"/>
          <p:cNvPicPr/>
          <p:nvPr/>
        </p:nvPicPr>
        <p:blipFill>
          <a:blip r:embed="rId1"/>
          <a:stretch/>
        </p:blipFill>
        <p:spPr>
          <a:xfrm>
            <a:off x="3890880" y="4683240"/>
            <a:ext cx="733680" cy="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5840" y="152280"/>
            <a:ext cx="786924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46200" y="1287000"/>
            <a:ext cx="827568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лиз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окислительно-восстановительные реакции, протекающие на электродах при пропускании через раствор или расплав электролита постоянного электрического то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Электро - » означает электрический ток, а « - лиз» - разложение. Значит, «электролиз» означает – разложение электрическим ток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д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роводник, обычно провод или стержень, по которому электрический ток поступает в какую-либо среду или уходит из не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им, какие бывают электро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5840" y="152280"/>
            <a:ext cx="786924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д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31440" y="960120"/>
            <a:ext cx="8147160" cy="56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од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отрицательно заряженный электр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од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ложительно заряженный электр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лектролизе электрическая энергия переходит в химическу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тоде протекает процесс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становл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.е. процесс присоединения электрон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аноде протекает процесс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исл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.е. процесс отдачи электрон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как катод заряжен отрицательно, к нему стремятся положительно заряженные ионы, называемые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ионам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 положительно заряженному аноду стремятся отрицательно заряженные ионы, называемые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ионам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тод является восстановителем, т.е. он отдает электроны катионам. Анод является окислителем, т.е он принимает электроны от анион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Т.е., достигнув электродов, ионы разряжаются, превращаясь в атомы или группы атом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5840" y="152280"/>
            <a:ext cx="786924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видность ано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45840" y="1287360"/>
            <a:ext cx="786924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ы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ерт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ы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зывается анод, материал которого может окисляться в ходе электролиза, в результате чего анод растворяется и в виде катионов переходит в раство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ертным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ется анод, материал которого не претерпевает окисления в ходе электролиза. Инертные аноды делают из графита, угля, платин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45840" y="152280"/>
            <a:ext cx="786924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45840" y="1287360"/>
            <a:ext cx="786924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ктивный анод                     Инертный ан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5467320" y="1392120"/>
            <a:ext cx="2676600" cy="3559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1346040" y="1346040"/>
            <a:ext cx="2743200" cy="37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45840" y="152280"/>
            <a:ext cx="786924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электролиз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45840" y="1287360"/>
            <a:ext cx="809316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ует два вида электролиза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лиз расплавов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лиз раствор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литическая диссоциац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процесс распада электролита на ионы при растворении его в воде или расплавлен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ли́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вещество, которое проводит электрический ток вследствие диссоциации на ионы, что происходит в растворах и расплавах, или движения ионов в кристаллических решётках твёрдых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лит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45840" y="1287360"/>
            <a:ext cx="786924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того чтобы произошла диссоциация, необходимо, чтобы вещество было электролитом (должны быть заряженные частицы, так как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ический ток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направленное движение заряженных частиц). Электролит надо расплавить или растворить, чтобы заряженные частицы свободно передвигалис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для того, чтобы прошел электролиз, необходим постоянный электрический то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5840" y="152280"/>
            <a:ext cx="786924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им электролиз расплава соли хлорида натрия NaC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99520" y="1287360"/>
            <a:ext cx="884412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жде всего, составляем уравнение электролитической диссоци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лиз расплава хлорида натр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l → Na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 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+ Cl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 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 (-)        Na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ẽ →Na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2    восстановл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(+)       2Cl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2ẽ → Cl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        1     окисл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 Na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+ 2Cl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Na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+ Cl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тоде разряжаются катионы натрия, на аноде – анионы хлора, суммарное уравнение электролиза имеет вид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NaCl → 2Na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+ Cl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45840" y="152280"/>
            <a:ext cx="786924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им электролиз для раствор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45840" y="1287360"/>
            <a:ext cx="7869240" cy="53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пределения результатов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лиза водных раствор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уществуют следующие правил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 на катоде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зависит от материала катода, а зависит от положения металла в электрохимическом ряду напряжен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Если катион электролита находится в начале ряда напряжений (по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ительно), то на катоде идёт процесс восстановления воды (выделяется Н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Катионы металла не восстанавливаются, остаются в раствор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Если катион электролита находится в ряду напряжений между алюминием и водородом, то на катоде восстанавливаются одновременно и ионы металла, и молекулы вод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Если катион электролита находится в ряду напряжений после водорода, то на катоде идёт только процесс восстановления ионов металл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Если в растворе находится смесь катионов разных металлов, то первым восстанавливается катион того металла, который имеет наибольшее алгебраическое значение электродного потенциал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8T14:12:19Z</dcterms:created>
  <dc:creator>Markasian, Pavel (KIEVH)</dc:creator>
  <dc:description/>
  <dc:language>en-US</dc:language>
  <cp:lastModifiedBy>user</cp:lastModifiedBy>
  <dcterms:modified xsi:type="dcterms:W3CDTF">2018-11-16T19:58:26Z</dcterms:modified>
  <cp:revision>209</cp:revision>
  <dc:subject/>
  <dc:title>Name of presentation</dc:title>
</cp:coreProperties>
</file>