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400C-BB3B-4DD2-8A7D-7199CDF2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78692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5840" y="3841560"/>
            <a:ext cx="78692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E60C-5A9A-49B0-857F-2B98A868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5840" y="38415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8415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5812-6AC6-409F-9501-2DE5FBCD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6600" y="12873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360" y="12873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5840" y="38415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6600" y="38415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360" y="38415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BA7C-62F3-42FA-9471-2E060163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A14-2AA2-4D57-A229-1403C42C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10A-A3D6-4972-B7ED-86242B26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3840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287360"/>
            <a:ext cx="3840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065-4B32-4239-ACFB-23981992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015-1F78-4E84-AEEE-6F4D2C73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5840" y="152280"/>
            <a:ext cx="7869240" cy="46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CF5-2DF5-4D45-8723-1082F5F1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287360"/>
            <a:ext cx="3840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5840" y="38415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E9B-AFF7-45E4-9109-1AE6FD14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3840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8415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36EF-ED43-403E-BE34-0D4EFCDC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5840" y="3841560"/>
            <a:ext cx="78692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4E7-A44C-4389-9AF4-ED5CDFD9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8F61-440C-40C0-AAE9-D4F2A9C53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0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173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-27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itle 1"/>
          <p:cNvSpPr/>
          <p:nvPr/>
        </p:nvSpPr>
        <p:spPr>
          <a:xfrm>
            <a:off x="2401920" y="2008080"/>
            <a:ext cx="43401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ли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1841400" y="6211800"/>
            <a:ext cx="56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работу: Ермакова В.А. ,учитель химии, МБОУ «СОШ №106 г.Челябин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979560"/>
            <a:ext cx="914400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06240" y="869760"/>
            <a:ext cx="7869240" cy="48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на анод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материала анода и от природы аниона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сли анод растворимый (железо, медь, цинк, серебро и все металлы, которые окисляются в процессе электролиза), то независимо от природы аниона всегда идёт окисление металла ан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сли анод нерастворимый, т.е. инертный (уголь, графит, платина, золото), т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и электролизе растворов солей бескислородных кислот (кроме фторидов) на аноде идёт процесс окисления анио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и электролизе растворов солей оксокислот и фторидов на аноде идёт процесс окисления воды (выделяется кислород); анион не окисляется, остаётся в растворе. При электролизе растворов щелочей идёт окисление гидроксид-ио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1241280"/>
            <a:ext cx="9144000" cy="338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0" y="1227240"/>
            <a:ext cx="91440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электролиз раствора хлорида натрия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 = 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 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(-)      2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+ 2ẽ =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+ 2 ОН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+)     2 Cl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 2ẽ = Cl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ое ионное уравн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+ 2 Cl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+ C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+ 2OH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NaCl + 2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 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Электроли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+ Cl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+ 2NaO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ello_html_m132edf15.gif"/>
          <p:cNvPicPr/>
          <p:nvPr/>
        </p:nvPicPr>
        <p:blipFill>
          <a:blip r:embed="rId1"/>
          <a:stretch/>
        </p:blipFill>
        <p:spPr>
          <a:xfrm>
            <a:off x="3683160" y="4122720"/>
            <a:ext cx="73332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8288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лиз раствора сульфата меди (II) на нерастворимом аноде: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 S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(-)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ẽ = 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+)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Н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4ẽ = 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+ 4 H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 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ое ионное уравн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 Cu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= 2 Cu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 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+ 4 Н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ое молекулярное уравн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uS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 2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 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Электроли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2 Cu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 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 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ello_html_m132edf15.gif"/>
          <p:cNvPicPr/>
          <p:nvPr/>
        </p:nvPicPr>
        <p:blipFill>
          <a:blip r:embed="rId1"/>
          <a:stretch/>
        </p:blipFill>
        <p:spPr>
          <a:xfrm>
            <a:off x="3890880" y="4683240"/>
            <a:ext cx="73368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46200" y="1287000"/>
            <a:ext cx="82756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ли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окислительно-восстановительные реакции, протекающие на электродах при пропускании через раствор или расплав электролита постоянного электрического т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лектро - » означает электрический ток, а « - лиз» - разложение. Значит, «электролиз» означает – разложение электрическим то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водник, обычно провод или стержень, по которому электрический ток поступает в какую-либо среду или уходит из не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, какие бывают электр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31440" y="960120"/>
            <a:ext cx="8147160" cy="56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отрицательно заряженный электр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ложительно заряженный электр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лектролизе электрическая энергия переходит в химическу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тоде протекает процесс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процесс присоединения электро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аноде протекает процесс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процесс отдачи электро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катод заряжен отрицательно, к нему стремятся положительно заряженные ионы, называемы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иона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положительно заряженному аноду стремятся отрицательно заряженные ионы, называемы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она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тод является восстановителем, т.е. он отдает электроны катионам. Анод является окислителем, т.е он принимает электроны от анион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.е., достигнув электродов, ионы разряжаются, превращаясь в атомы или группы атом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видность ан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рт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анод, материал которого может окисляться в ходе электролиза, в результате чего анод растворяется и в виде катионов переходит в раств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ртны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анод, материал которого не претерпевает окисления в ходе электролиза. Инертные аноды делают из графита, угля, плат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ивный анод                     Инертный ан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467320" y="1392120"/>
            <a:ext cx="2676600" cy="3559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346040" y="1346040"/>
            <a:ext cx="274320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электроли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5840" y="1287360"/>
            <a:ext cx="80931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два вида электролиз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лиз расплавов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лиз раств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литическая диссоциа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процесс распада электролита на ионы при растворении его в воде или расплавлен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ли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вещество, которое проводит электрический ток вследствие диссоциации на ионы, что происходит в растворах и расплавах, или движения ионов в кристаллических решётках твёрдых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ли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 чтобы произошла диссоциация, необходимо, чтобы вещество было электролитом (должны быть заряженные частицы, так как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кий ток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направленное движение заряженных частиц). Электролит надо расплавить или растворить, чтобы заряженные частицы свободно передвигали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ля того, чтобы прошел электролиз, необходим постоянный электрический 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электролиз расплава соли хлорида натрия NaC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99520" y="1287360"/>
            <a:ext cx="88441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де всего, составляем уравнение электролитической диссоци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лиз расплава хлорида нат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 → 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 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 (-)        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ẽ →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2    восстано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(+)       2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2ẽ → 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        1     окис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 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 2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 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тоде разряжаются катионы натрия, на аноде – анионы хлора, суммарное уравнение электролиза имеет ви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NaCl → 2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 C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электролиз для раствор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45840" y="1287360"/>
            <a:ext cx="78692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пределения результат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лиза водных раствор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ществуют следующие прави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на катоде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зависит от материала катода, а зависит от положения металла в электрохимическом ряду напряж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сли катион электролита находится в начале ряда напряжений (п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ительно), то на катоде идёт процесс восстановления воды (выделяется 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Катионы металла не восстанавливаются, остаются в раство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сли катион электролита находится в ряду напряжений между алюминием и водородом, то на катоде восстанавливаются одновременно и ионы металла, и молекулы в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катион электролита находится в ряду напряжений после водорода, то на катоде идёт только процесс восстановления ионов метал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Если в растворе находится смесь катионов разных металлов, то первым восстанавливается катион того металла, который имеет наибольшее алгебраическое значение электродного потенциа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8T14:12:19Z</dcterms:created>
  <dc:creator>Markasian, Pavel (KIEVH)</dc:creator>
  <dc:description/>
  <dc:language>en-US</dc:language>
  <cp:lastModifiedBy>user</cp:lastModifiedBy>
  <dcterms:modified xsi:type="dcterms:W3CDTF">2018-11-16T19:58:26Z</dcterms:modified>
  <cp:revision>209</cp:revision>
  <dc:subject/>
  <dc:title>Name of presentation</dc:title>
</cp:coreProperties>
</file>