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FF8-F85A-47DF-9203-CA539824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6AC-1E8B-40F8-85D6-44E2B3B4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D9E-8990-4C1D-AC67-19BC312E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0E8-2F0E-47C6-87B4-E9E99EA0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1274-6837-4A8D-99CB-CA9911D6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B1D0-8AB2-4A85-A88A-979121A4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65A0-446A-486E-AE6B-24E49AFE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770C-F118-4FDD-9F1E-B20357C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D32-27BC-4FF2-B55D-E87E3AD7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A94F-F579-40B9-A462-C3F34769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220D-37E8-48C5-A826-D93AB74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CC5-4A60-4CE1-AA8C-0DD7867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BEA-38B0-43D3-9F4A-EB13573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86C6-34C8-403B-A6B4-751B090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E08C-CAA9-4856-92C5-4A0B796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6047-C6EF-470E-9FE5-0788E5A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DE50-CA42-41AA-BBE7-3F9DE44C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FB8-BB6D-4CF0-B936-85AA5A21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A4C-8C80-458F-A603-F7F90544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31A-1DF6-431F-A600-98930BB7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298-405D-47F8-B83A-C2ED0E64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BCE-2B28-4E0B-A9C2-0F561BC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4E1-F49A-478F-8072-B000ABB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3C2-8B17-4BFA-B18B-863BD999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30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E2B5-3626-4B6D-A50B-00EF6306D7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73A5-90F1-430D-874E-775EEB2B0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v.foto.radikal.ru/0703/41/acd76c604d2e.png"/>
          <p:cNvPicPr/>
          <p:nvPr/>
        </p:nvPicPr>
        <p:blipFill>
          <a:blip r:embed="rId3"/>
          <a:stretch/>
        </p:blipFill>
        <p:spPr>
          <a:xfrm>
            <a:off x="0" y="4726080"/>
            <a:ext cx="20574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781-7695-4C9D-AD94-8EFFE94E1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9B9-1DFE-4055-B8C4-2B6D584FA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6091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южетно-ролевых игр дошкольни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108840" y="51055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к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южетно—ролевой иг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980720" y="1066320"/>
            <a:ext cx="6705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сть сюжетно-ролевой игры зависит от организационной деятельности педаго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педагогу необходимы условия для развития  игрового сюжета (предметно-развивающая среда). Атрибуты для сюжетно-ролевых игр должны быть красочными и эстетическими, так как именно с ними будет взаимодействовать ребё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сюжетно–ролевая игра будет успешной только в том случае, если педагог будет организовывать и осуществлять игровую деятельность детей последовательно и систематически, а не от случая, к случа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организуя сюжетно-ролевую игру с детьми, педагог должен активно использовать методы и приёмы, направленные на формирование  игровых интересов детей, на обогащение  содержания игры и на воспитание у них умения жить в коллекти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2819520" y="76201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тоды педагогического руководства сюжетно-ролевой иг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057040" y="19807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 диало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ние проблемных ситу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ямые и косвенные воздействия на игру и играющи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ОЛОГИЧЕСКАЯ КА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2952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технологической документации, в которой записан весь процесс обработки изделия, указаны операции и их составные части, материалы, производственное оборудование и т. 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о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olesya-emelyanova.ru/rubriki/kosmos_04.jpg"/>
          <p:cNvPicPr/>
          <p:nvPr/>
        </p:nvPicPr>
        <p:blipFill>
          <a:blip r:embed="rId1"/>
          <a:stretch/>
        </p:blipFill>
        <p:spPr>
          <a:xfrm>
            <a:off x="152280" y="685800"/>
            <a:ext cx="4537080" cy="594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coollib.com/i/44/4944/_05.jpg_0"/>
          <p:cNvPicPr/>
          <p:nvPr/>
        </p:nvPicPr>
        <p:blipFill>
          <a:blip r:embed="rId2"/>
          <a:stretch/>
        </p:blipFill>
        <p:spPr>
          <a:xfrm>
            <a:off x="6172200" y="3809880"/>
            <a:ext cx="2743200" cy="289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www.grekomania.ru/images/events/exhibitions/702_volshebnoe-puteshestvie.jpg"/>
          <p:cNvPicPr/>
          <p:nvPr/>
        </p:nvPicPr>
        <p:blipFill>
          <a:blip r:embed="rId3"/>
          <a:stretch/>
        </p:blipFill>
        <p:spPr>
          <a:xfrm>
            <a:off x="5181480" y="160020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отнесите картинку с действием</a:t>
            </a:r>
            <a:r>
              <a:rPr b="1" lang="ru-RU" sz="4400" spc="-1" strike="noStrike" u="sng">
                <a:solidFill>
                  <a:srgbClr val="00b050"/>
                </a:solidFill>
                <a:uFillTx/>
                <a:latin typeface="Calibri"/>
              </a:rPr>
              <a:t>.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981080" y="838080"/>
            <a:ext cx="7467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Рисунок 6" descr="http://ped-kopilka.ru/upload/blogs/14252_a9847e7f51296830d9d755d260be07ac.jpg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– это, прежде всего, взаимоотношения, которые формируются поэтапн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(А. П. Ус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14600" y="1980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иная от уровня неорганизованного поведения, проход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дии одиночных иг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 ряд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ней кратковременного, а затем и долговременного общения, достигая наивысшего уровн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ня постоянного взаимодействия на основе общих интересов, симпат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2120" y="609480"/>
          <a:ext cx="7467480" cy="5106960"/>
        </p:xfrm>
        <a:graphic>
          <a:graphicData uri="http://schemas.openxmlformats.org/drawingml/2006/table">
            <a:tbl>
              <a:tblPr/>
              <a:tblGrid>
                <a:gridCol w="3733560"/>
                <a:gridCol w="3733920"/>
              </a:tblGrid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-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яется суть игры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сем многообразии сюжетов за ними скрывается принципиально одно и то же содержание — деятельность людей, их поступки и отно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игр уходит воспроизведение трудовой действи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images.jpg"/>
          <p:cNvPicPr/>
          <p:nvPr/>
        </p:nvPicPr>
        <p:blipFill>
          <a:blip r:embed="rId1"/>
          <a:stretch/>
        </p:blipFill>
        <p:spPr>
          <a:xfrm>
            <a:off x="2590920" y="1828800"/>
            <a:ext cx="34430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ие основы организации и руководства сюжетно-ролевыми  игр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61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й возраст – самое начало жизни ребенка, когда он только-только начинает осознавать себя личностью с собственными желаниями и возможностями и открывает для себя окружающий мир. Этот период считается классическим возрастом игры. И в частности одной из самых развитых её форм, который в психологии и педагогике получил название сюжетно -ролевой (или творческо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paidagogos.com/wp-content/uploads/2015/02/2_Devochka-nalivaet-chay-plyushevomu-mishke.png"/>
          <p:cNvPicPr/>
          <p:nvPr/>
        </p:nvPicPr>
        <p:blipFill>
          <a:blip r:embed="rId1"/>
          <a:stretch/>
        </p:blipFill>
        <p:spPr>
          <a:xfrm>
            <a:off x="228600" y="1143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сюжетно- ролевой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62520" y="236232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южетно-ролевая игра это деятельность, в которой дети берут на себя трудовые или социальные функции взрослых, в специально создаваемых игровых(воображаемых) условиях, воспроизводят жизнь взрослых и отношения между ни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 - это  отражение ребенком окружающей реа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импровизац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самостоятельная деятельность ребе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- это школа воспитания чувств  дошкольни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средство интеллектуального развития ребе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действенное средство коррекции нарушений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способ  развития детского воображения и творческих способностей,   радость творчества, радость созида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подготовка ребенка к взрослой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работа ребенка над самим соб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4.bp.blogspot.com/-WxRvncPIXyE/U6BPmD2Gq2I/AAAAAAAAAd0/LPASUeL3JNU/s1600/107.jpg"/>
          <p:cNvPicPr/>
          <p:nvPr/>
        </p:nvPicPr>
        <p:blipFill>
          <a:blip r:embed="rId1"/>
          <a:stretch/>
        </p:blipFill>
        <p:spPr>
          <a:xfrm>
            <a:off x="0" y="3619440"/>
            <a:ext cx="320040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игру осуществляется социализация ребенка в обществе свер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90560" y="137160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южетно-ролевые игры способствуют формированию у дошкольников таких качеств как инициативность, самостоятельность, способность выбирать себе род занятий, участников совместной деятельности. Именно на это ориентирует педагогов федеральный государственный образовательный стандарт дошкольного образования. 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.allday.ru/uploads/posts/2010-02/1266952283_d853401b7f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f6228"/>
                </a:solidFill>
                <a:latin typeface="Calibri"/>
              </a:rPr>
              <a:t>Структурные компоненты сюжетно – ролевой иг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120" y="205740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юж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держ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южеты игр условно  делят на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товые (игры в семью, детский сад)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изводственные, отражающие профессиональный труд людей (игры в больницу, магазин и т. д.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ественные (игры  в библиотеку, школу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forchel.ru/uploads/posts/2011-03/1301340556_1284230323_kids005.jpg"/>
          <p:cNvPicPr/>
          <p:nvPr/>
        </p:nvPicPr>
        <p:blipFill>
          <a:blip r:embed="rId1"/>
          <a:stretch/>
        </p:blipFill>
        <p:spPr>
          <a:xfrm>
            <a:off x="7238880" y="1143000"/>
            <a:ext cx="163836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fotohomka.ru/images/Nov/14/09369e6b0bbca9134f924021c20459e9/micro_1.jpg"/>
          <p:cNvPicPr/>
          <p:nvPr/>
        </p:nvPicPr>
        <p:blipFill>
          <a:blip r:embed="rId2"/>
          <a:stretch/>
        </p:blipFill>
        <p:spPr>
          <a:xfrm>
            <a:off x="5943600" y="4267080"/>
            <a:ext cx="272556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skyclipart.ru/uploads/posts/2011-09/1314863441_2011-08-31_220926.jpg"/>
          <p:cNvPicPr/>
          <p:nvPr/>
        </p:nvPicPr>
        <p:blipFill>
          <a:blip r:embed="rId3"/>
          <a:stretch/>
        </p:blipFill>
        <p:spPr>
          <a:xfrm>
            <a:off x="3124080" y="3962520"/>
            <a:ext cx="2095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162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.Б.Эльконин, определил содержание так: «То, что воспроизводится ребенком в качестве центрального и характерного момента деятельности и отношений между взрослыми, в их бытовой, трудовой, общественной деятель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средство реализации сюжета. А для ребенка роль - это его игровая позиция: он отождествляет себя с каким-либо персонажем сюжета и действует в соответствии с представлениями о данном персонаже. Всякая роль содержит свои правила поведения, взятые ребенком из окружающей жизни, заимствованные из отношений в мире взрослых. Подчинение ребенка правилам ролевого поведения является важнейшим элементом сюжетно-ролевой игры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пользователь</cp:lastModifiedBy>
  <dcterms:modified xsi:type="dcterms:W3CDTF">2018-11-16T04:10:46Z</dcterms:modified>
  <cp:revision>86</cp:revision>
  <dc:subject/>
  <dc:title>Слайд 1</dc:title>
</cp:coreProperties>
</file>