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D56E-0DAA-4594-8952-20DBEC84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9304-3102-4213-A9ED-15A477A1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44B4-887B-42E0-9380-0239547BA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EC87-E34A-4DEF-A83E-5050EBA4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8C1A-3407-4CD9-B576-AE1A1C6C8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37AB-5BBD-4A74-9D64-7839F22C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7509-C31C-47A2-8341-BA468666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B103-022F-4694-9919-AD572C07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AF55-4418-405C-801E-C121D8CB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34DC-B25E-4BAD-93A8-EB813B20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BEDA-F375-44DC-A6A0-02E5D58A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E7A9-A58C-4DAF-B8CD-2E27B904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81CA-5BAF-4CE0-AD30-5E3F532B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10F0-09EC-492B-ABC0-B5BEFF00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E1C8-7574-4B78-9E2F-AE10A9C1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4700-A8A3-4953-A682-6B6BA4F2B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F61F-5AE4-4A5C-8285-902CE4E1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748E-EB88-4DAE-975B-E5C7E1E4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293D-E954-41A4-851E-0CCAC78F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BA0D-2970-4B9E-8234-75278A48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E834-C4C2-4603-8737-F8D41793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E9F5-C9B4-4211-A0F2-7430EE68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8073-1713-4A7F-B502-ABD55271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4433-D6E9-47D6-BF89-FDB53C01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ttp://fotoramky.narod.ru/images_big/ramka230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0AB1-B34A-4673-B1A9-A61A556494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.А. МКОУ СОШ  №256 г.Фоки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6E3D-0A20-4DE3-88E7-73E273D7DE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v.foto.radikal.ru/0703/41/acd76c604d2e.png"/>
          <p:cNvPicPr/>
          <p:nvPr/>
        </p:nvPicPr>
        <p:blipFill>
          <a:blip r:embed="rId3"/>
          <a:stretch/>
        </p:blipFill>
        <p:spPr>
          <a:xfrm>
            <a:off x="0" y="4726080"/>
            <a:ext cx="2057400" cy="2131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DBC7-8A83-45AA-BAB0-082A12A3B5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.А. МКОУ СОШ  №256 г.Фоки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F4F7-4D26-42A1-8668-868944DB1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440" y="609120"/>
            <a:ext cx="7543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сюжетно-ролевых игр дошкольник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6108840" y="5105520"/>
            <a:ext cx="28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кина Е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сюжетно—ролевой игр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980720" y="1066320"/>
            <a:ext cx="6705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шность сюжетно-ролевой игры зависит от организационной деятельности педагог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первых, педагогу необходимы условия для развития  игрового сюжета (предметно-развивающая среда). Атрибуты для сюжетно-ролевых игр должны быть красочными и эстетическими, так как именно с ними будет взаимодействовать ребён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вторых, сюжетно–ролевая игра будет успешной только в том случае, если педагог будет организовывать и осуществлять игровую деятельность детей последовательно и систематически, а не от случая, к случаю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третьих, организуя сюжетно-ролевую игру с детьми, педагог должен активно использовать методы и приёмы, направленные на формирование  игровых интересов детей, на обогащение  содержания игры и на воспитание у них умения жить в коллектив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ижний колонтитул 3"/>
          <p:cNvSpPr/>
          <p:nvPr/>
        </p:nvSpPr>
        <p:spPr>
          <a:xfrm>
            <a:off x="2819520" y="76201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методы педагогического руководства сюжетно-ролевой игр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057040" y="19807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од диалог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здание проблемных ситуаци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ямые и косвенные воздействия на игру и играющих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ХНОЛОГИЧЕСКАЯ КАР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12952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технологической документации, в которой записан весь процесс обработки изделия, указаны операции и их составные части, материалы, производственное оборудование и т. д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.А. МКОУ СОШ  №256 г.Фоки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тешестви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смос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http://www.olesya-emelyanova.ru/rubriki/kosmos_04.jpg"/>
          <p:cNvPicPr/>
          <p:nvPr/>
        </p:nvPicPr>
        <p:blipFill>
          <a:blip r:embed="rId1"/>
          <a:stretch/>
        </p:blipFill>
        <p:spPr>
          <a:xfrm>
            <a:off x="152280" y="685800"/>
            <a:ext cx="4537080" cy="5943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http://coollib.com/i/44/4944/_05.jpg_0"/>
          <p:cNvPicPr/>
          <p:nvPr/>
        </p:nvPicPr>
        <p:blipFill>
          <a:blip r:embed="rId2"/>
          <a:stretch/>
        </p:blipFill>
        <p:spPr>
          <a:xfrm>
            <a:off x="6172200" y="3809880"/>
            <a:ext cx="2743200" cy="2895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http://www.grekomania.ru/images/events/exhibitions/702_volshebnoe-puteshestvie.jpg"/>
          <p:cNvPicPr/>
          <p:nvPr/>
        </p:nvPicPr>
        <p:blipFill>
          <a:blip r:embed="rId3"/>
          <a:stretch/>
        </p:blipFill>
        <p:spPr>
          <a:xfrm>
            <a:off x="5181480" y="1600200"/>
            <a:ext cx="31435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отнесите картинку с действием</a:t>
            </a:r>
            <a:r>
              <a:rPr b="1" lang="ru-RU" sz="4400" spc="-1" strike="noStrike" u="sng">
                <a:solidFill>
                  <a:srgbClr val="00b050"/>
                </a:solidFill>
                <a:uFillTx/>
                <a:latin typeface="Calibri"/>
              </a:rPr>
              <a:t>.</a:t>
            </a: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981080" y="838080"/>
            <a:ext cx="74678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3" name="Рисунок 6" descr="http://ped-kopilka.ru/upload/blogs/14252_a9847e7f51296830d9d755d260be07ac.jpg.jpg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– это, прежде всего, взаимоотношения, которые формируются поэтапно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(А. П. Усов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514600" y="1980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чиная от уровня неорганизованного поведения, проход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дии одиночных игр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 рядом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вней кратковременного, а затем и долговременного общения, достигая наивысшего уровня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вня постоянного взаимодействия на основе общих интересов, симпат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762120" y="609480"/>
          <a:ext cx="7467480" cy="5106960"/>
        </p:xfrm>
        <a:graphic>
          <a:graphicData uri="http://schemas.openxmlformats.org/drawingml/2006/table">
            <a:tbl>
              <a:tblPr/>
              <a:tblGrid>
                <a:gridCol w="3733560"/>
                <a:gridCol w="3733920"/>
              </a:tblGrid>
              <a:tr h="1036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+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-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5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еняется суть игры: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всем многообразии сюжетов за ними скрывается принципиально одно и то же содержание — деятельность людей, их поступки и отнош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игр уходит воспроизведение трудовой действи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Рисунок 3" descr="images.jpg"/>
          <p:cNvPicPr/>
          <p:nvPr/>
        </p:nvPicPr>
        <p:blipFill>
          <a:blip r:embed="rId1"/>
          <a:stretch/>
        </p:blipFill>
        <p:spPr>
          <a:xfrm>
            <a:off x="2590920" y="1828800"/>
            <a:ext cx="344304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оретические основы организации и руководства сюжетно-ролевыми  игр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6197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ый возраст – самое начало жизни ребенка, когда он только-только начинает осознавать себя личностью с собственными желаниями и возможностями и открывает для себя окружающий мир. Этот период считается классическим возрастом игры. И в частности одной из самых развитых её форм, который в психологии и педагогике получил название сюжетно -ролевой (или творческой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http://paidagogos.com/wp-content/uploads/2015/02/2_Devochka-nalivaet-chay-plyushevomu-mishke.png"/>
          <p:cNvPicPr/>
          <p:nvPr/>
        </p:nvPicPr>
        <p:blipFill>
          <a:blip r:embed="rId1"/>
          <a:stretch/>
        </p:blipFill>
        <p:spPr>
          <a:xfrm>
            <a:off x="228600" y="114300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характеристика сюжетно- ролевой иг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962520" y="2362320"/>
            <a:ext cx="4952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южетно-ролевая игра это деятельность, в которой дети берут на себя трудовые или социальные функции взрослых, в специально создаваемых игровых(воображаемых) условиях, воспроизводят жизнь взрослых и отношения между ни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  - это  отражение ребенком окружающей реальност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 – это импровизац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 – это самостоятельная деятельность ребенк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 - это школа воспитания чувств  дошкольнико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 – это средство интеллектуального развития ребенк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 – действенное средство коррекции нарушений 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 – это способ  развития детского воображения и творческих способностей,   радость творчества, радость созидан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 – это подготовка ребенка к взрослой жизн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 – это работа ребенка над самим собо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4.bp.blogspot.com/-WxRvncPIXyE/U6BPmD2Gq2I/AAAAAAAAAd0/LPASUeL3JNU/s1600/107.jpg"/>
          <p:cNvPicPr/>
          <p:nvPr/>
        </p:nvPicPr>
        <p:blipFill>
          <a:blip r:embed="rId1"/>
          <a:stretch/>
        </p:blipFill>
        <p:spPr>
          <a:xfrm>
            <a:off x="0" y="3619440"/>
            <a:ext cx="3200400" cy="32385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игру осуществляется социализация ребенка в обществе сверст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590560" y="1371600"/>
            <a:ext cx="6553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южетно-ролевые игры способствуют формированию у дошкольников таких качеств как инициативность, самостоятельность, способность выбирать себе род занятий, участников совместной деятельности. Именно на это ориентирует педагогов федеральный государственный образовательный стандарт дошкольного образования.  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i.allday.ru/uploads/posts/2010-02/1266952283_d853401b7f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f6228"/>
                </a:solidFill>
                <a:latin typeface="Calibri"/>
              </a:rPr>
              <a:t>Структурные компоненты сюжетно – ролевой игр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52120" y="2057400"/>
            <a:ext cx="3048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Сюже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Содерж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южеты игр условно  делят на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7391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ытовые (игры в семью, детский сад)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изводственные, отражающие профессиональный труд людей (игры в больницу, магазин и т. д.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щественные (игры  в библиотеку, школу и т.д.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forchel.ru/uploads/posts/2011-03/1301340556_1284230323_kids005.jpg"/>
          <p:cNvPicPr/>
          <p:nvPr/>
        </p:nvPicPr>
        <p:blipFill>
          <a:blip r:embed="rId1"/>
          <a:stretch/>
        </p:blipFill>
        <p:spPr>
          <a:xfrm>
            <a:off x="7238880" y="1143000"/>
            <a:ext cx="1638360" cy="2666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http://fotohomka.ru/images/Nov/14/09369e6b0bbca9134f924021c20459e9/micro_1.jpg"/>
          <p:cNvPicPr/>
          <p:nvPr/>
        </p:nvPicPr>
        <p:blipFill>
          <a:blip r:embed="rId2"/>
          <a:stretch/>
        </p:blipFill>
        <p:spPr>
          <a:xfrm>
            <a:off x="5943600" y="4267080"/>
            <a:ext cx="2725560" cy="2133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http://skyclipart.ru/uploads/posts/2011-09/1314863441_2011-08-31_220926.jpg"/>
          <p:cNvPicPr/>
          <p:nvPr/>
        </p:nvPicPr>
        <p:blipFill>
          <a:blip r:embed="rId3"/>
          <a:stretch/>
        </p:blipFill>
        <p:spPr>
          <a:xfrm>
            <a:off x="3124080" y="3962520"/>
            <a:ext cx="20955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иг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162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.Б.Эльконин, определил содержание так: «То, что воспроизводится ребенком в качестве центрального и характерного момента деятельности и отношений между взрослыми, в их бытовой, трудовой, общественной деятельност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47920" y="1371240"/>
            <a:ext cx="7315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0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то средство реализации сюжета. А для ребенка роль - это его игровая позиция: он отождествляет себя с каким-либо персонажем сюжета и действует в соответствии с представлениями о данном персонаже. Всякая роль содержит свои правила поведения, взятые ребенком из окружающей жизни, заимствованные из отношений в мире взрослых. Подчинение ребенка правилам ролевого поведения является важнейшим элементом сюжетно-ролевой игры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06:58:29Z</dcterms:created>
  <dc:creator>User</dc:creator>
  <dc:description/>
  <dc:language>en-US</dc:language>
  <cp:lastModifiedBy>пользователь</cp:lastModifiedBy>
  <dcterms:modified xsi:type="dcterms:W3CDTF">2018-11-16T04:10:46Z</dcterms:modified>
  <cp:revision>86</cp:revision>
  <dc:subject/>
  <dc:title>Слайд 1</dc:title>
</cp:coreProperties>
</file>