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FCA53-2E06-4D3C-8CD9-CAB27486F7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CA6EC-1CD3-4BCE-B53F-24A6CC0C56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9E991-927B-4F7A-91B0-06B6216C00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59C7B-6CF2-4F14-B800-6C3F51E909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E1DDD-A3BF-4E35-A202-4BF78DBA76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BA4D4-7F6B-47A1-8D54-CCAF293363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3F360-BBFC-45A0-A5E5-A44166D87F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C3502-83ED-430D-B86B-851C2C5B7A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F120B-BF4D-4A56-97D6-7402FC2885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EA63F-7FC4-47BF-829F-B99F0A9546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2FEF9-8E81-4D75-A0C2-6B55D1FC72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86859-6BB2-4089-ADCD-F3752F6520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353280"/>
            <a:ext cx="21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25096D-DE84-45B8-BB04-C64F79DB1164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22960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Lucida Sans Unicode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  <a:ea typeface="Lucida Sans Unicode"/>
              </a:rPr>
              <a:t>ВИДЫ ЯЗЫКОВЫХ И КОММУНИКАТИВНЫХ ИГР ДЛЯ ОБУЧЕНИЯ ИНОСТРАННОМУ ЯЗЫК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Lucida Sans Unicode"/>
                <a:ea typeface="Lucida Sans Unicode"/>
              </a:rPr>
              <a:t>в начальной школе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22440" y="2492280"/>
            <a:ext cx="7832520" cy="37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95280" y="115920"/>
            <a:ext cx="82281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ГАММАТИЧЕСКИЕ ИГ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1600200"/>
            <a:ext cx="439236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УСВОЕНИЕ  ПРИТЯЖАТЕЛЬНЫХ МЕСТОИМ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ласс делится на две команд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доске в разных частях написаны  личные местоимения. Нужно написать притяжательные местоимения. Все  члены команды выходят  и заполняют таблицу. Побеждает команда, которая первой заполнит таблиц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6520" y="1600200"/>
            <a:ext cx="403884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УСВОЕНИЕ СТРУКТУР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AVE GOT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ЛИ </a:t>
            </a: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O YOU LI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еник достает из мешка  игрушку и прячет ее  под столом учителя. Остальные ученики должны отгадать  какая игрушка есть у ребенка, или какая игрушка ему нравитс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ЛЕКСИЧЕСКИЕ ИГ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403704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А «ЦЕПОЧК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еники становятся в круг, бросают друг другу мяч и называют слово по теме урока. Если ученик забыл слово, он выбывает из игры. Побеждает ученик, назвавший последнее слов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46520" y="1600200"/>
            <a:ext cx="403884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А «СНЕЖНЫЙ КОМ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еник, например, говорит, что он любит есть. Второй ученик повторяет первое предложение и  говорит свое. Побеждает ученик, сказавший последнее предложение о том, что он любит е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КОММУНИКАТИВНЫЕ ИГ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1628640"/>
            <a:ext cx="403704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ЛЕВЫЕ ИГ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читайте сказку «Гастон» и разыграйте ее по ролям, добавив необходимые персонаж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ыграйте диалог между Золушкой и Фе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356000" y="1101600"/>
            <a:ext cx="4559400" cy="2881440"/>
            <a:chOff x="4356000" y="1101600"/>
            <a:chExt cx="4559400" cy="2881440"/>
          </a:xfrm>
        </p:grpSpPr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4356000" y="1101600"/>
              <a:ext cx="4559400" cy="28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4356000" y="1101600"/>
              <a:ext cx="4559400" cy="28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356000" y="4006800"/>
            <a:ext cx="4572000" cy="27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КОММУНИКАТИВНЫЕ ИГ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600200"/>
            <a:ext cx="403704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АЛИТИЧЕСКИЕ ИГ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бота в группах. Посмотрите на расписание занятий  английского  школьника и сравните  его со своим расписанием. Что общего? В чем разница? Побеждает группа, представившая лучшее сообщ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6520" y="1600200"/>
            <a:ext cx="403884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Ы ИНТЕРВЬ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ставьте, что к вам приехала девочка из Лондона. Расспросите ее о школе, городе, семье, увлечения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11280" y="115920"/>
            <a:ext cx="8227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ОСОБЕННОСТИ МЛАДШЕГО ШКОЛЬНОГО ВОЗРА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600200"/>
            <a:ext cx="425916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a80000"/>
                </a:solidFill>
                <a:latin typeface="Times New Roman"/>
                <a:ea typeface="Times New Roman"/>
              </a:rPr>
              <a:t>дети младшего школьного возраст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a80000"/>
                </a:solidFill>
                <a:latin typeface="Times New Roman"/>
                <a:ea typeface="Times New Roman"/>
              </a:rPr>
              <a:t>обладают большими способностями к пониманию поступающей информации, чувствительностью к восприятию звуков и способностью их имитировать, чем ученики средней школ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a80000"/>
                </a:solidFill>
                <a:latin typeface="Times New Roman"/>
                <a:ea typeface="Times New Roman"/>
              </a:rPr>
              <a:t>обладают природной  расположенностью к изучению языков и эмоциональной готовностью к овладению и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46520" y="1557360"/>
            <a:ext cx="4038840" cy="45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a80000"/>
                </a:solidFill>
                <a:latin typeface="Times New Roman"/>
                <a:ea typeface="Times New Roman"/>
              </a:rPr>
              <a:t>игровая деятельность, через которую ребенок познавал мир в дошкольном возрасте остается значимой, </a:t>
            </a:r>
            <a:r>
              <a:rPr b="0" i="1" lang="ru-RU" sz="1800" spc="-1" strike="noStrike">
                <a:solidFill>
                  <a:srgbClr val="a80000"/>
                </a:solidFill>
                <a:latin typeface="Times New Roman"/>
                <a:ea typeface="Times New Roman"/>
              </a:rPr>
              <a:t>однако, ведущей является учеб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a80000"/>
                </a:solidFill>
                <a:latin typeface="Times New Roman"/>
                <a:ea typeface="Times New Roman"/>
              </a:rPr>
              <a:t>правильно выбранные для данного возраста методики преподавания и учебные материалы позволяют развить способность и поднять мотивацию к изучению иностранных язык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059280" y="5300640"/>
            <a:ext cx="2857320" cy="10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РЕЗУЛЬТАТЫ ИСПОЛЬЗОВАНИЯ ИГРОВЫХ ТЕХНОЛОГ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600200"/>
            <a:ext cx="403704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овые технологии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особствуют  воспитанию познавательных интересов, активизируют деятельност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ы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тренируют память, стимулируют умственную  деятельность, развивают внима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а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вводит  учащихся в реальный контекст  сложных человеческих  отношений, способствуют   освоению общ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а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- сфера реализации себя как лич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6520" y="1600200"/>
            <a:ext cx="403884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716360" y="1628640"/>
            <a:ext cx="2608200" cy="2430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508720" y="4059360"/>
            <a:ext cx="2950920" cy="184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АНАЛИЗ АПРОБАЦИИ ИГР </a:t>
            </a:r>
            <a:br>
              <a:rPr sz="3200"/>
            </a:br>
            <a:r>
              <a:rPr b="1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В 3А И 4В  КЛАСС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600200"/>
            <a:ext cx="424332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a80000"/>
                </a:solidFill>
                <a:latin typeface="Calibri"/>
                <a:ea typeface="Lucida Sans Unicode"/>
              </a:rPr>
              <a:t>Анализ показал, что  игры положительно повлияли на  общую успеваемость и на результаты срезов ЗУН  по аудированию, чтению, говорению, грамматик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a80000"/>
                </a:solidFill>
                <a:latin typeface="Calibri"/>
                <a:ea typeface="Lucida Sans Unicode"/>
              </a:rPr>
              <a:t>Игры воспитывают самостоятельность, коммуникативность, развивают умение сопоставлять, делать выводы, сравнива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a80000"/>
                </a:solidFill>
                <a:latin typeface="Calibri"/>
                <a:ea typeface="Lucida Sans Unicode"/>
              </a:rPr>
              <a:t>С помощью игр хорошо  отрабатываются  навыки произношения, активизируется лексический и грамматический материал, повышается мотивация изучения английского язы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a80000"/>
                </a:solidFill>
                <a:latin typeface="Calibri"/>
                <a:ea typeface="Lucida Sans Unicode"/>
              </a:rPr>
              <a:t>Учение превращается в увлекательную игр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a80000"/>
                </a:solidFill>
                <a:latin typeface="Calibri"/>
                <a:ea typeface="Lucida Sans Unicode"/>
              </a:rPr>
              <a:t>У детей появляется желание заниматься проектной  деятельность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595760" y="1549440"/>
            <a:ext cx="4138560" cy="4624200"/>
            <a:chOff x="4595760" y="1549440"/>
            <a:chExt cx="4138560" cy="4624200"/>
          </a:xfrm>
        </p:grpSpPr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4595760" y="1549440"/>
              <a:ext cx="4138560" cy="46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595760" y="1549440"/>
              <a:ext cx="4138560" cy="462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  <a:ea typeface="Lucida Sans Unicode"/>
              </a:rPr>
              <a:t>СПИСОК ЛИТЕРАТУР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600200"/>
            <a:ext cx="8228160" cy="45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ексеев Н.Г., Золотник Б.А. Организационно-деятельностная игра: возможности в области применения// Вестник высшей школы. 1987 №7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альскова Н.Д., Никитенко З.Н. Организация учебного процесса по иностранному языку в начальной школе//Иностранные языки в школе. – 1994. - №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епанова, Е. Л. Игра как средство развития интереса к изучаемому языку / Е. Л. Степанова // ИЯШ. - 2004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расова, Н. А. Игра как способ освоения иностранного языка дошкольниками [Текст] // Иностранные языки в школе. – 2007. №6. – С. 42-46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ернет – ресурсы </a:t>
            </a:r>
            <a:r>
              <a:rPr b="0" lang="en-US" sz="1600" spc="-1" strike="noStrike">
                <a:solidFill>
                  <a:srgbClr val="0404bc"/>
                </a:solidFill>
                <a:latin typeface="Times New Roman"/>
                <a:ea typeface="Times New Roman"/>
              </a:rPr>
              <a:t>www.englishteachers.r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ернет – ресурсы </a:t>
            </a:r>
            <a:r>
              <a:rPr b="0" lang="en-US" sz="1600" spc="-1" strike="noStrike">
                <a:solidFill>
                  <a:srgbClr val="0404bc"/>
                </a:solidFill>
                <a:latin typeface="Times New Roman"/>
                <a:ea typeface="Times New Roman"/>
              </a:rPr>
              <a:t>www.1september.r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ернет – ресурсы </a:t>
            </a:r>
            <a:r>
              <a:rPr b="0" lang="en-US" sz="1600" spc="-1" strike="noStrike">
                <a:solidFill>
                  <a:srgbClr val="0404bc"/>
                </a:solidFill>
                <a:latin typeface="Times New Roman"/>
                <a:ea typeface="Times New Roman"/>
              </a:rPr>
              <a:t>www.openclass.r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ернет – ресурсы </a:t>
            </a:r>
            <a:r>
              <a:rPr b="0" lang="en-US" sz="1600" spc="-1" strike="noStrike">
                <a:solidFill>
                  <a:srgbClr val="0404bc"/>
                </a:solidFill>
                <a:latin typeface="Times New Roman"/>
                <a:ea typeface="Times New Roman"/>
              </a:rPr>
              <a:t>www. images.yandex.r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65200" y="476280"/>
            <a:ext cx="8229600" cy="59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398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Lucida Sans Unicode"/>
              </a:rPr>
              <a:t>Игра на занятиях по иностранному языку –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  <a:ea typeface="Lucida Sans Unicode"/>
              </a:rPr>
              <a:t>это не просто коллективное развлечение, 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Calibri"/>
                <a:ea typeface="Lucida Sans Unicode"/>
              </a:rPr>
              <a:t>а основной способ достижения определенных задач обучения на раннем этапе обучения.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Lucida Sans Unicode"/>
              </a:rPr>
              <a:t> Игровые технологии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  <a:ea typeface="Lucida Sans Unicode"/>
              </a:rPr>
              <a:t>обеспечивают коммуникативно-психологическую адаптацию младших школьников к новому языковому миру для преодоления в дальнейшем психологического барьера и использования иностранного языка как средства общения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  <a:ea typeface="Lucida Sans Unicode"/>
              </a:rPr>
              <a:t>.</a:t>
            </a:r>
            <a:br>
              <a:rPr sz="32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55640" y="4172040"/>
            <a:ext cx="1133640" cy="2260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8360" y="304920"/>
            <a:ext cx="822960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925640" y="4906800"/>
            <a:ext cx="909720" cy="15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ТРЕБОВАНИЯ К ИГРАМ </a:t>
            </a:r>
            <a:br>
              <a:rPr sz="3200"/>
            </a:br>
            <a:r>
              <a:rPr b="1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НА УРОКЕ АНГЛИЙСКОГО ЯЗЫ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413000"/>
            <a:ext cx="4037040" cy="51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a80000"/>
                </a:solidFill>
                <a:latin typeface="Times New Roman"/>
                <a:ea typeface="Times New Roman"/>
              </a:rPr>
              <a:t>Быть экономными  во времени и направленными на решение определенных учебных задач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a80000"/>
                </a:solidFill>
                <a:latin typeface="Times New Roman"/>
                <a:ea typeface="Times New Roman"/>
              </a:rPr>
              <a:t>Быть «управляемыми», не сбивать заданный ритм работы на уроке и не допускать ситуации, когда игра выходит из под контроля и срывает все занят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a80000"/>
                </a:solidFill>
                <a:latin typeface="Times New Roman"/>
                <a:ea typeface="Times New Roman"/>
              </a:rPr>
              <a:t>Снимать напряжение урока и стимулировать активность учащихс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a80000"/>
                </a:solidFill>
                <a:latin typeface="Times New Roman"/>
                <a:ea typeface="Times New Roman"/>
              </a:rPr>
              <a:t>Затрагивать личность ребенка  в целом и вовлекать в учебный процесс все его чувства, эмоции и ощуще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a80000"/>
                </a:solidFill>
                <a:latin typeface="Times New Roman"/>
                <a:ea typeface="Times New Roman"/>
              </a:rPr>
              <a:t>Не оставлять ни одного ученика  пассивным и равнодушным, повышать мотивацию к изучению английского язы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676920" y="1628640"/>
            <a:ext cx="1798920" cy="3111480"/>
            <a:chOff x="6676920" y="1628640"/>
            <a:chExt cx="1798920" cy="3111480"/>
          </a:xfrm>
        </p:grpSpPr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6676920" y="1628640"/>
              <a:ext cx="1798920" cy="31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676920" y="1628640"/>
              <a:ext cx="1798920" cy="31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003640" y="2852640"/>
            <a:ext cx="1656000" cy="325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ЦЕЛЬ ИСПОЛЬЗОВАНИЯ ИГРОВОЙ  ТЕХНОЛОГ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00200"/>
            <a:ext cx="4037040" cy="45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a80000"/>
                </a:solidFill>
                <a:latin typeface="Times New Roman"/>
                <a:ea typeface="Times New Roman"/>
              </a:rPr>
              <a:t>Активизировать познавательную активность учащихс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a80000"/>
                </a:solidFill>
                <a:latin typeface="Times New Roman"/>
                <a:ea typeface="Times New Roman"/>
              </a:rPr>
              <a:t>Расширять кругозор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a80000"/>
                </a:solidFill>
                <a:latin typeface="Times New Roman"/>
                <a:ea typeface="Times New Roman"/>
              </a:rPr>
              <a:t>Формировать УУД и навыки применения их в практической  деятельн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a80000"/>
                </a:solidFill>
                <a:latin typeface="Times New Roman"/>
                <a:ea typeface="Times New Roman"/>
              </a:rPr>
              <a:t>Воспитывать самостоятельность, коммуникативност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a80000"/>
                </a:solidFill>
                <a:latin typeface="Times New Roman"/>
                <a:ea typeface="Times New Roman"/>
              </a:rPr>
              <a:t>Развивать  внимание, память, речь, мышление, фантазию, творческие способности, рефлекси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859280" y="1557360"/>
            <a:ext cx="2376720" cy="3238560"/>
            <a:chOff x="4859280" y="1557360"/>
            <a:chExt cx="2376720" cy="323856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4859280" y="1557360"/>
              <a:ext cx="2376720" cy="323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4859280" y="1557360"/>
              <a:ext cx="2376720" cy="32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236000" y="3716280"/>
            <a:ext cx="1439640" cy="186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ЯЗЫКОВЫЕ ИГ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68280"/>
            <a:ext cx="4037040" cy="48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388800"/>
                <a:tab algn="l" pos="838080"/>
                <a:tab algn="l" pos="1287360"/>
                <a:tab algn="l" pos="1736640"/>
                <a:tab algn="l" pos="2185920"/>
                <a:tab algn="l" pos="2635200"/>
                <a:tab algn="l" pos="3084480"/>
                <a:tab algn="l" pos="3533760"/>
                <a:tab algn="l" pos="3983040"/>
                <a:tab algn="l" pos="4432320"/>
                <a:tab algn="l" pos="488160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6560"/>
                <a:tab algn="l" pos="8475840"/>
                <a:tab algn="l" pos="8924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a80000"/>
                </a:solidFill>
                <a:latin typeface="Times New Roman"/>
                <a:ea typeface="Times New Roman"/>
              </a:rPr>
              <a:t>Языковые игры </a:t>
            </a:r>
            <a:r>
              <a:rPr b="0" lang="ru-RU" sz="1600" spc="-1" strike="noStrike">
                <a:solidFill>
                  <a:srgbClr val="a80000"/>
                </a:solidFill>
                <a:latin typeface="Times New Roman"/>
                <a:ea typeface="Times New Roman"/>
              </a:rPr>
              <a:t>, помогая усвоить  различные аспекты языка (фонетику, лексику, грамматику, синтаксис, стилистику), делятся соответственно на: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388800"/>
                <a:tab algn="l" pos="838080"/>
                <a:tab algn="l" pos="1287360"/>
                <a:tab algn="l" pos="1736640"/>
                <a:tab algn="l" pos="2185920"/>
                <a:tab algn="l" pos="2635200"/>
                <a:tab algn="l" pos="3084480"/>
                <a:tab algn="l" pos="3533760"/>
                <a:tab algn="l" pos="3983040"/>
                <a:tab algn="l" pos="4432320"/>
                <a:tab algn="l" pos="488160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6560"/>
                <a:tab algn="l" pos="8475840"/>
                <a:tab algn="l" pos="8924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a80000"/>
                </a:solidFill>
                <a:latin typeface="Times New Roman"/>
                <a:ea typeface="Times New Roman"/>
              </a:rPr>
              <a:t>фонетические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388800"/>
                <a:tab algn="l" pos="838080"/>
                <a:tab algn="l" pos="1287360"/>
                <a:tab algn="l" pos="1736640"/>
                <a:tab algn="l" pos="2185920"/>
                <a:tab algn="l" pos="2635200"/>
                <a:tab algn="l" pos="3084480"/>
                <a:tab algn="l" pos="3533760"/>
                <a:tab algn="l" pos="3983040"/>
                <a:tab algn="l" pos="4432320"/>
                <a:tab algn="l" pos="488160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6560"/>
                <a:tab algn="l" pos="8475840"/>
                <a:tab algn="l" pos="8924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a80000"/>
                </a:solidFill>
                <a:latin typeface="Times New Roman"/>
                <a:ea typeface="Times New Roman"/>
              </a:rPr>
              <a:t>лексические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388800"/>
                <a:tab algn="l" pos="838080"/>
                <a:tab algn="l" pos="1287360"/>
                <a:tab algn="l" pos="1736640"/>
                <a:tab algn="l" pos="2185920"/>
                <a:tab algn="l" pos="2635200"/>
                <a:tab algn="l" pos="3084480"/>
                <a:tab algn="l" pos="3533760"/>
                <a:tab algn="l" pos="3983040"/>
                <a:tab algn="l" pos="4432320"/>
                <a:tab algn="l" pos="488160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6560"/>
                <a:tab algn="l" pos="8475840"/>
                <a:tab algn="l" pos="8924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a80000"/>
                </a:solidFill>
                <a:latin typeface="Times New Roman"/>
                <a:ea typeface="Times New Roman"/>
              </a:rPr>
              <a:t>грамматические и т.д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388800"/>
                <a:tab algn="l" pos="838080"/>
                <a:tab algn="l" pos="1287360"/>
                <a:tab algn="l" pos="1736640"/>
                <a:tab algn="l" pos="2185920"/>
                <a:tab algn="l" pos="2635200"/>
                <a:tab algn="l" pos="3084480"/>
                <a:tab algn="l" pos="3533760"/>
                <a:tab algn="l" pos="3983040"/>
                <a:tab algn="l" pos="4432320"/>
                <a:tab algn="l" pos="488160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6560"/>
                <a:tab algn="l" pos="8475840"/>
                <a:tab algn="l" pos="8924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a80000"/>
                </a:solidFill>
                <a:latin typeface="Times New Roman"/>
                <a:ea typeface="Times New Roman"/>
              </a:rPr>
              <a:t>Языковые игры </a:t>
            </a:r>
            <a:r>
              <a:rPr b="0" lang="ru-RU" sz="1600" spc="-1" strike="noStrike">
                <a:solidFill>
                  <a:srgbClr val="a80000"/>
                </a:solidFill>
                <a:latin typeface="Times New Roman"/>
                <a:ea typeface="Times New Roman"/>
              </a:rPr>
              <a:t>предназначаются   для формирования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388800"/>
                <a:tab algn="l" pos="838080"/>
                <a:tab algn="l" pos="1287360"/>
                <a:tab algn="l" pos="1736640"/>
                <a:tab algn="l" pos="2185920"/>
                <a:tab algn="l" pos="2635200"/>
                <a:tab algn="l" pos="3084480"/>
                <a:tab algn="l" pos="3533760"/>
                <a:tab algn="l" pos="3983040"/>
                <a:tab algn="l" pos="4432320"/>
                <a:tab algn="l" pos="488160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6560"/>
                <a:tab algn="l" pos="8475840"/>
                <a:tab algn="l" pos="8924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a80000"/>
                </a:solidFill>
                <a:latin typeface="Times New Roman"/>
                <a:ea typeface="Times New Roman"/>
              </a:rPr>
              <a:t>произносительных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388800"/>
                <a:tab algn="l" pos="838080"/>
                <a:tab algn="l" pos="1287360"/>
                <a:tab algn="l" pos="1736640"/>
                <a:tab algn="l" pos="2185920"/>
                <a:tab algn="l" pos="2635200"/>
                <a:tab algn="l" pos="3084480"/>
                <a:tab algn="l" pos="3533760"/>
                <a:tab algn="l" pos="3983040"/>
                <a:tab algn="l" pos="4432320"/>
                <a:tab algn="l" pos="488160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6560"/>
                <a:tab algn="l" pos="8475840"/>
                <a:tab algn="l" pos="8924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a80000"/>
                </a:solidFill>
                <a:latin typeface="Times New Roman"/>
                <a:ea typeface="Times New Roman"/>
              </a:rPr>
              <a:t>лексических 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388800"/>
                <a:tab algn="l" pos="838080"/>
                <a:tab algn="l" pos="1287360"/>
                <a:tab algn="l" pos="1736640"/>
                <a:tab algn="l" pos="2185920"/>
                <a:tab algn="l" pos="2635200"/>
                <a:tab algn="l" pos="3084480"/>
                <a:tab algn="l" pos="3533760"/>
                <a:tab algn="l" pos="3983040"/>
                <a:tab algn="l" pos="4432320"/>
                <a:tab algn="l" pos="488160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6560"/>
                <a:tab algn="l" pos="8475840"/>
                <a:tab algn="l" pos="8924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a80000"/>
                </a:solidFill>
                <a:latin typeface="Times New Roman"/>
                <a:ea typeface="Times New Roman"/>
              </a:rPr>
              <a:t>грамматических навыков 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388800"/>
                <a:tab algn="l" pos="838080"/>
                <a:tab algn="l" pos="1287360"/>
                <a:tab algn="l" pos="1736640"/>
                <a:tab algn="l" pos="2185920"/>
                <a:tab algn="l" pos="2635200"/>
                <a:tab algn="l" pos="3084480"/>
                <a:tab algn="l" pos="3533760"/>
                <a:tab algn="l" pos="3983040"/>
                <a:tab algn="l" pos="4432320"/>
                <a:tab algn="l" pos="488160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6560"/>
                <a:tab algn="l" pos="8475840"/>
                <a:tab algn="l" pos="8924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a80000"/>
                </a:solidFill>
                <a:latin typeface="Times New Roman"/>
                <a:ea typeface="Times New Roman"/>
              </a:rPr>
              <a:t>тренировки употребления языковых явлений на подготовительном этапе освоения иностранного язы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932360" y="1268280"/>
            <a:ext cx="3252960" cy="2303640"/>
            <a:chOff x="4932360" y="1268280"/>
            <a:chExt cx="3252960" cy="2303640"/>
          </a:xfrm>
        </p:grpSpPr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4932360" y="1268280"/>
              <a:ext cx="3252960" cy="23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4932360" y="1268280"/>
              <a:ext cx="3252960" cy="23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788000" y="4221000"/>
            <a:ext cx="2286000" cy="18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КОММУНИКАТИВНЫЕ ИГ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197000"/>
            <a:ext cx="403704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ганизация неподготовленной коммуник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бота в  группах или парах. Выполнение определенных зада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щение на основе игрового сюж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лучение социального и речевого опы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ая цель коммуникативных игр не в решении лексических задач, а в организации неподготовленной коммуник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ммуникативная игра должна использоваться на раннем этапе на заранее отработанном и доведенном до автоматизма языковом материал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194440" y="1413000"/>
            <a:ext cx="3449520" cy="2585880"/>
            <a:chOff x="5194440" y="1413000"/>
            <a:chExt cx="3449520" cy="2585880"/>
          </a:xfrm>
        </p:grpSpPr>
        <p:pic>
          <p:nvPicPr>
            <p:cNvPr id="68" name="" descr=""/>
            <p:cNvPicPr/>
            <p:nvPr/>
          </p:nvPicPr>
          <p:blipFill>
            <a:blip r:embed="rId2"/>
            <a:stretch/>
          </p:blipFill>
          <p:spPr>
            <a:xfrm>
              <a:off x="5194440" y="1413000"/>
              <a:ext cx="3449520" cy="25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5194440" y="1413000"/>
              <a:ext cx="3449520" cy="25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643280" y="4005360"/>
            <a:ext cx="2448000" cy="21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КОММУНИКАТИВНЫЕ ИГ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1628640"/>
            <a:ext cx="403704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основе коммуникативных игр лежат коммуникативные технологии, такие как  заполнение пропусков, догадка, поиск, подбор одинаковой пары, обмен, накопление или  сбор информации, проблемы и загадки, ролевые иг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4859280" y="1413000"/>
            <a:ext cx="2975040" cy="2230200"/>
            <a:chOff x="4859280" y="1413000"/>
            <a:chExt cx="2975040" cy="2230200"/>
          </a:xfrm>
        </p:grpSpPr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4859280" y="1413000"/>
              <a:ext cx="2975040" cy="22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4859280" y="1413000"/>
              <a:ext cx="2975040" cy="22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994280" y="3645000"/>
            <a:ext cx="2664000" cy="192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a80000"/>
                </a:solidFill>
                <a:latin typeface="Times New Roman"/>
                <a:ea typeface="Times New Roman"/>
              </a:rPr>
              <a:t>РОЛЬ УЧИТЕЛЯ В ИГР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a80000"/>
                </a:solidFill>
                <a:latin typeface="Times New Roman"/>
                <a:ea typeface="Times New Roman"/>
              </a:rPr>
              <a:t>Мониторин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a80000"/>
                </a:solidFill>
                <a:latin typeface="Times New Roman"/>
                <a:ea typeface="Times New Roman"/>
              </a:rPr>
              <a:t>Ресурсный цент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a80000"/>
                </a:solidFill>
                <a:latin typeface="Times New Roman"/>
                <a:ea typeface="Times New Roman"/>
              </a:rPr>
              <a:t>Перемещение от группы к группе с целью оказания языковой помощи и снабжения необходимой информаци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a80000"/>
                </a:solidFill>
                <a:latin typeface="Times New Roman"/>
                <a:ea typeface="Times New Roman"/>
              </a:rPr>
              <a:t>Не перебивать говорящих  и не исправлять ошибки, делать пометки на бумаг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ОБРАЗЦЫ ЯЗЫКОВЫХ ИГ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1600200"/>
            <a:ext cx="403704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Lucida Sans Unicode"/>
              </a:rPr>
              <a:t>ФОНЕТ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  <a:ea typeface="Lucida Sans Unicode"/>
              </a:rPr>
              <a:t>На различие звуков []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Lucida Sans Unicode"/>
              </a:rPr>
              <a:t>I:][I][ᴐ:][ᴐ][ᴜ:][ᴜ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  <a:ea typeface="Lucida Sans Unicode"/>
              </a:rPr>
              <a:t>Класс делится на две команды, учитель называет слова. Если ученики слышат долгий звук, они поднимают руку. Если ученики слышат краткий звук, руку поднимать нельзя. Побеждает команда, допустившая меньше ошибок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6520" y="1600200"/>
            <a:ext cx="403884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Lucida Sans Unicode"/>
              </a:rPr>
              <a:t>ОРФОГРАФ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  <a:ea typeface="Lucida Sans Unicode"/>
              </a:rPr>
              <a:t>На доске написан алфавит. Если буква не похожа на русскую, дети хлопают в ладош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  <a:ea typeface="Lucida Sans Unicode"/>
              </a:rPr>
              <a:t>Класс делится на две команды. Каждой команде даются в пакетах буквы для одного слова. Побеждает команда, которая первая составит слова из бук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2T13:23:21Z</dcterms:created>
  <dc:creator>Администратор</dc:creator>
  <dc:description/>
  <dc:language>en-US</dc:language>
  <cp:lastModifiedBy>Кабинет 205</cp:lastModifiedBy>
  <dcterms:modified xsi:type="dcterms:W3CDTF">2018-11-16T12:23:10Z</dcterms:modified>
  <cp:revision>30</cp:revision>
  <dc:subject/>
  <dc:title>Слайд 1</dc:title>
</cp:coreProperties>
</file>