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150E-9E79-4755-A88F-29E4F1A0D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FCB8-7DB1-410E-A626-292CC636D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CBD7-95C2-43E8-941D-A48AC7CEF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A295-AE7D-4DD2-BAD5-AD68A4FEF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8004-576B-4A4D-961C-5C1D3B1EF0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C8CB-9E23-4AC7-AF7A-6D88ED8BA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73C1-0C9B-437C-8C60-AE992BD93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3020-E678-4339-8557-B8BC08567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252A-7BB6-47D4-92DF-8FCAF5C5A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EF92-FB0F-4EC0-B2D7-23ECAF614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BCDE-264D-4A24-9DC1-F48C7E8FF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B113-D838-4350-97EC-88C65598A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01C5B-2606-46DB-A9DB-1EEB9313298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Lucida Sans Unicode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Lucida Sans Unicode"/>
              </a:rPr>
              <a:t>ВИДЫ ЯЗЫКОВЫХ И КОММУНИКАТИВНЫХ ИГР ДЛЯ ОБУЧЕНИЯ ИНОСТРАННОМУ ЯЗЫК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Lucida Sans Unicode"/>
                <a:ea typeface="Lucida Sans Unicode"/>
              </a:rPr>
              <a:t>в начальной школ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440" y="2492280"/>
            <a:ext cx="78325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1159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ГАММАТИЧЕСКИ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600200"/>
            <a:ext cx="4392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СВОЕНИЕ  ПРИТЯЖАТЕЛЬНЫХ МЕСТОИМ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 делится на две коман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доске в разных частях написаны  личные местоимения. Нужно написать притяжательные местоимения. Все  члены команды выходят  и заполняют таблицу. Побеждает команда, которая первой заполнит табли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СВОЕНИЕ СТРУКТУ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VE GOT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O YOU 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 достает из мешка  игрушку и прячет ее  под столом учителя. Остальные ученики должны отгадать  какая игрушка есть у ребенка, или какая игрушка ему нравитс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ЛЕКСИЧЕСКИ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ЦЕПОЧ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и становятся в круг, бросают друг другу мяч и называют слово по теме урока. Если ученик забыл слово, он выбывает из игры. Побеждает ученик, назвавший последнее сло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СНЕЖНЫЙ К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, например, говорит, что он любит есть. Второй ученик повторяет первое предложение и  говорит свое. Побеждает ученик, сказавший последнее предложение о том, что он любит е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ЕВЫ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читайте сказку «Гастон» и разыграйте ее по ролям, добавив необходимые персона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ыграйте диалог между Золушкой и Фе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56000" y="1101600"/>
            <a:ext cx="4559400" cy="2881440"/>
            <a:chOff x="4356000" y="1101600"/>
            <a:chExt cx="4559400" cy="288144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4356000" y="1101600"/>
              <a:ext cx="45594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356000" y="1101600"/>
              <a:ext cx="45594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356000" y="4006800"/>
            <a:ext cx="457200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ЕСКИЕ ИГ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группах. Посмотрите на расписание занятий  английского  школьника и сравните  его со своим расписанием. Что общего? В чем разница? Побеждает группа, представившая лучшее сообщ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ИНТЕРВ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ставьте, что к вам приехала девочка из Лондона. Расспросите ее о школе, городе, семье, увлеч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115920"/>
            <a:ext cx="8227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ОБЕННОСТИ МЛАДШЕГО ШКОЛЬНОГО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4259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дети младшего школьного возрас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обладают большими способностями к пониманию поступающей информации, чувствительностью к восприятию звуков и способностью их имитировать, чем ученики средней шко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обладают природной  расположенностью к изучению языков и эмоциональной готовностью к овладению и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6520" y="1557360"/>
            <a:ext cx="403884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игровая деятельность, через которую ребенок познавал мир в дошкольном возрасте остается значимой, </a:t>
            </a:r>
            <a:r>
              <a:rPr b="0" i="1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однако, ведущей является уч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правильно выбранные для данного возраста методики преподавания и учебные материалы позволяют развить способность и поднять мотивацию к изучению иностранных язы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59280" y="5300640"/>
            <a:ext cx="28573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ЕЗУЛЬТАТЫ ИСПОЛЬЗОВАНИЯ ИГРОВЫХ ТЕХНОЛО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ые технологии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ствуют  воспитанию познавательных интересов, активизируют деятель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тренируют память, стимулируют умственную  деятельность, развивают вним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водит  учащихся в реальный контекст  сложных человеческих  отношений, способствуют   освоению общ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сфера реализации себя как л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2608200" cy="243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08720" y="4059360"/>
            <a:ext cx="29509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НАЛИЗ АПРОБАЦИИ ИГР 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 3А И 4В  КЛАСС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600200"/>
            <a:ext cx="42433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Анализ показал, что  игры положительно повлияли на  общую успеваемость и на результаты срезов ЗУН  по аудированию, чтению, говорению, граммати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Игры воспитывают самостоятельность, коммуникативность, развивают умение сопоставлять, делать выводы, сравни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С помощью игр хорошо  отрабатываются  навыки произношения, активизируется лексический и грамматический материал, повышается мотивация изучения английск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Учение превращается в увлекательную иг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У детей появляется желание заниматься проектной  деятель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95760" y="1549440"/>
            <a:ext cx="4138560" cy="4624200"/>
            <a:chOff x="4595760" y="1549440"/>
            <a:chExt cx="4138560" cy="46242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595760" y="1549440"/>
              <a:ext cx="4138560" cy="46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95760" y="1549440"/>
              <a:ext cx="4138560" cy="46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  <a:ea typeface="Lucida Sans Unicode"/>
              </a:rPr>
              <a:t>СПИСОК ЛИТЕРАТ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81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еев Н.Г., Золотник Б.А. Организационно-деятельностная игра: возможности в области применения// Вестник высшей школы. 1987 №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скова Н.Д., Никитенко З.Н. Организация учебного процесса по иностранному языку в начальной школе//Иностранные языки в школе. – 1994. - №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епанова, Е. Л. Игра как средство развития интереса к изучаемому языку / Е. Л. Степанова // ИЯШ. - 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расова, Н. А. Игра как способ освоения иностранного языка дошкольниками [Текст] // Иностранные языки в школе. – 2007. №6. – С. 42-4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 </a:t>
            </a:r>
            <a:r>
              <a:rPr b="0" lang="en-US" sz="1600" spc="-1" strike="noStrike">
                <a:solidFill>
                  <a:srgbClr val="0404bc"/>
                </a:solidFill>
                <a:latin typeface="Times New Roman"/>
                <a:ea typeface="Times New Roman"/>
              </a:rPr>
              <a:t>www.englishteachers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 </a:t>
            </a:r>
            <a:r>
              <a:rPr b="0" lang="en-US" sz="1600" spc="-1" strike="noStrike">
                <a:solidFill>
                  <a:srgbClr val="0404bc"/>
                </a:solidFill>
                <a:latin typeface="Times New Roman"/>
                <a:ea typeface="Times New Roman"/>
              </a:rPr>
              <a:t>www.1september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 </a:t>
            </a:r>
            <a:r>
              <a:rPr b="0" lang="en-US" sz="1600" spc="-1" strike="noStrike">
                <a:solidFill>
                  <a:srgbClr val="0404bc"/>
                </a:solidFill>
                <a:latin typeface="Times New Roman"/>
                <a:ea typeface="Times New Roman"/>
              </a:rPr>
              <a:t>www.openclass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 </a:t>
            </a:r>
            <a:r>
              <a:rPr b="0" lang="en-US" sz="1600" spc="-1" strike="noStrike">
                <a:solidFill>
                  <a:srgbClr val="0404bc"/>
                </a:solidFill>
                <a:latin typeface="Times New Roman"/>
                <a:ea typeface="Times New Roman"/>
              </a:rPr>
              <a:t>www. images.yandex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65200" y="476280"/>
            <a:ext cx="8229600" cy="59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Игра на занятиях по иностранному языку –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это не просто коллективное развлечение,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а основной способ достижения определенных задач обучения на раннем этапе обучения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 Игровые технологии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обеспечивают коммуникативно-психологическую адаптацию младших школьников к новому языковому миру для преодоления в дальнейшем психологического барьера и использования иностранного языка как средства общения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4172040"/>
            <a:ext cx="1133640" cy="226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304920"/>
            <a:ext cx="82296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925640" y="4906800"/>
            <a:ext cx="9097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РЕБОВАНИЯ К ИГРАМ 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 УРОКЕ АНГЛИЙ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13000"/>
            <a:ext cx="403704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Быть экономными  во времени и направленными на решение определенных учебных задач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Быть «управляемыми», не сбивать заданный ритм работы на уроке и не допускать ситуации, когда игра выходит из под контроля и срывает все занят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Снимать напряжение урока и стимулировать активность учащих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Затрагивать личность ребенка  в целом и вовлекать в учебный процесс все его чувства, эмоции и ощу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Не оставлять ни одного ученика  пассивным и равнодушным, повышать мотивацию к изучению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76920" y="1628640"/>
            <a:ext cx="1798920" cy="3111480"/>
            <a:chOff x="6676920" y="1628640"/>
            <a:chExt cx="1798920" cy="31114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676920" y="1628640"/>
              <a:ext cx="179892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76920" y="1628640"/>
              <a:ext cx="179892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165600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ЦЕЛЬ ИСПОЛЬЗОВАНИЯ ИГРОВОЙ 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40370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Активизировать познавательную активность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Расширять кругозо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Формировать УУД и навыки применения их в практической 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Воспитывать самостоятельность, коммуникатив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Развивать  внимание, память, речь, мышление, фантазию, творческие способности, рефлекс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859280" y="1557360"/>
            <a:ext cx="2376720" cy="3238560"/>
            <a:chOff x="4859280" y="1557360"/>
            <a:chExt cx="2376720" cy="32385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4859280" y="1557360"/>
              <a:ext cx="237672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859280" y="1557360"/>
              <a:ext cx="2376720" cy="32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3716280"/>
            <a:ext cx="143964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ЗЫКОВЫ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68280"/>
            <a:ext cx="403704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Языковые игры </a:t>
            </a: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, помогая усвоить  различные аспекты языка (фонетику, лексику, грамматику, синтаксис, стилистику), делятся соответственно на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фонетически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лексически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грамматические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Языковые игры </a:t>
            </a: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предназначаются   для формирования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произносительных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лексических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грамматических навыков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тренировки употребления языковых явлений на подготовительном этапе освоения иностранн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932360" y="1268280"/>
            <a:ext cx="3252960" cy="2303640"/>
            <a:chOff x="4932360" y="1268280"/>
            <a:chExt cx="3252960" cy="230364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932360" y="1268280"/>
              <a:ext cx="325296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932360" y="1268280"/>
              <a:ext cx="325296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197000"/>
            <a:ext cx="403704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неподготовленной коммун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 группах или парах. Выполнение определенных за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ние на основе игрового сю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ение социального и речевого оп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цель коммуникативных игр не в решении лексических задач, а в организации неподготовленной коммун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муникативная игра должна использоваться на раннем этапе на заранее отработанном и доведенном до автоматизма языковом матери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194440" y="1413000"/>
            <a:ext cx="3449520" cy="2585880"/>
            <a:chOff x="5194440" y="1413000"/>
            <a:chExt cx="3449520" cy="258588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5194440" y="1413000"/>
              <a:ext cx="3449520" cy="25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194440" y="1413000"/>
              <a:ext cx="3449520" cy="25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2448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62864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снове коммуникативных игр лежат коммуникативные технологии, такие как  заполнение пропусков, догадка, поиск, подбор одинаковой пары, обмен, накопление или  сбор информации, проблемы и загадки, ролевые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859280" y="1413000"/>
            <a:ext cx="2975040" cy="2230200"/>
            <a:chOff x="4859280" y="1413000"/>
            <a:chExt cx="2975040" cy="22302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4859280" y="1413000"/>
              <a:ext cx="297504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859280" y="1413000"/>
              <a:ext cx="297504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94280" y="3645000"/>
            <a:ext cx="266400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РОЛЬ УЧИТЕЛЯ В ИГ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Монитор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Ресурсны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Перемещение от группы к группе с целью оказания языковой помощи и снабжения необходимо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Не перебивать говорящих  и не исправлять ошибки, делать пометки на бума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РАЗЦЫ ЯЗЫКОВЫХ ИГ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ФОНЕ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На различие звуков []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I:][I][ᴐ:][ᴐ][ᴜ:][ᴜ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Класс делится на две команды, учитель называет слова. Если ученики слышат долгий звук, они поднимают руку. Если ученики слышат краткий звук, руку поднимать нельзя. Побеждает команда, допустившая меньше ошиб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ОРФОГРАФ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На доске написан алфавит. Если буква не похожа на русскую, дети хлопают в ладош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Класс делится на две команды. Каждой команде даются в пакетах буквы для одного слова. Побеждает команда, которая первая составит слова из бук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3:23:21Z</dcterms:created>
  <dc:creator>Администратор</dc:creator>
  <dc:description/>
  <dc:language>en-US</dc:language>
  <cp:lastModifiedBy>Кабинет 205</cp:lastModifiedBy>
  <dcterms:modified xsi:type="dcterms:W3CDTF">2018-11-16T12:23:10Z</dcterms:modified>
  <cp:revision>30</cp:revision>
  <dc:subject/>
  <dc:title>Слайд 1</dc:title>
</cp:coreProperties>
</file>