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6.gif" ContentType="image/gif"/>
  <Override PartName="/ppt/media/image24.jpeg" ContentType="image/jpeg"/>
  <Override PartName="/ppt/media/image23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B5D-2F31-4116-B621-265F4A99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687-7601-4623-B571-7B3EEEC3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6EC-CE6C-4BEA-B19C-C46A60C2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7167-BDB6-4E77-A635-30B931D4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3652-C699-4A04-8CBC-06517F52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6E5B-B7C9-444D-B8CD-218B2289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0348-914A-4775-8EA2-C36BA725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B9A8-4541-490B-AB95-93E44516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8D2F-6448-4805-B664-ED023B45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36D6-6BC7-4CCF-A169-491626EE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0712-72C3-466D-AF34-1E86AB2D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3FD-A75F-4535-9D37-65A616C2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4912-E4DE-4DD9-B8F2-92EA68C0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A65D-178E-4DDD-8679-482C21E6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C610-A746-46B5-A9D0-EA5DCEF2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BEE0-B660-418D-8576-9A95BE51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9F1E-B4ED-4B1D-B129-48E7ECF1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A4F-88FF-4F91-9925-AF1A5040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365-64DC-44B6-8970-D7952922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D27-E152-44F9-9675-F39C5147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699-2F02-4913-8BF7-3902F810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B24-B28B-412D-8E60-DF8FFD55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C73-D7E5-47CD-BDA7-643F6DB7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6D7-6FEE-463E-A739-53702EF0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d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F480-52CE-4C33-BDF4-7E39A44933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d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52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FEC4-2B73-4098-969B-BA97676C3E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image" Target="../media/image24.jpeg"/><Relationship Id="rId19" Type="http://schemas.openxmlformats.org/officeDocument/2006/relationships/image" Target="../media/image25.jpe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9960" y="90792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2f2f2"/>
                </a:solidFill>
                <a:latin typeface="Times New Roman"/>
              </a:rPr>
              <a:t>УДИВИТЕЛЬНЫЙ  КВАДРАТ</a:t>
            </a:r>
            <a:endParaRPr b="0" lang="en-US" sz="7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27120" y="3789360"/>
            <a:ext cx="38102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для внеклассной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ла:преподаватель Наумёнок Р.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971640" y="3036960"/>
            <a:ext cx="6408720" cy="75240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9" descr="Закат.jpg"/>
          <p:cNvPicPr/>
          <p:nvPr/>
        </p:nvPicPr>
        <p:blipFill>
          <a:blip r:embed="rId2"/>
          <a:stretch/>
        </p:blipFill>
        <p:spPr>
          <a:xfrm>
            <a:off x="2335320" y="5327640"/>
            <a:ext cx="31874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ОПРЕДЕЛЕНИЯ КВАДРАТА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44197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квадрата все стороны равны, как и у ромба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лько еще все углы прямые. Значит, квадрат-это ромб с прямыми угл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квадрата, как и у прямоугольника, все углы прямые. Только еще все стороны равны. Значит, квадрат -это прямоугольник, у которого все стороны рав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квадрата, как и у параллелограмма, стороны попарно параллельны. Только еще все они равны и все углы прямые. Значит, квадрат-это параллелограмм с прямыми углами, все стороны которого равн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7848720" y="1447920"/>
            <a:ext cx="1218960" cy="1600200"/>
          </a:xfrm>
          <a:prstGeom prst="diamond">
            <a:avLst/>
          </a:prstGeom>
          <a:blipFill rotWithShape="0">
            <a:blip r:embed="rId1"/>
            <a:srcRect/>
            <a:stretch/>
          </a:blipFill>
          <a:ln cap="sq"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мб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6362640" y="1447920"/>
            <a:ext cx="838440" cy="761760"/>
          </a:xfrm>
          <a:prstGeom prst="rect">
            <a:avLst/>
          </a:prstGeom>
          <a:blipFill rotWithShape="0">
            <a:blip r:embed="rId2"/>
            <a:srcRect/>
            <a:stretch/>
          </a:blipFill>
          <a:ln cap="sq"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900000" y="1179360"/>
            <a:ext cx="7024680" cy="594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5346720" y="3133800"/>
            <a:ext cx="1994040" cy="936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764718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6343560" y="5078520"/>
            <a:ext cx="2400480" cy="877680"/>
          </a:xfrm>
          <a:prstGeom prst="parallelogram">
            <a:avLst>
              <a:gd name="adj" fmla="val 49737"/>
            </a:avLst>
          </a:prstGeom>
          <a:gradFill rotWithShape="0">
            <a:gsLst>
              <a:gs pos="0">
                <a:srgbClr val="464600"/>
              </a:gs>
              <a:gs pos="100000">
                <a:srgbClr val="ffff00"/>
              </a:gs>
            </a:gsLst>
            <a:lin ang="18900000"/>
          </a:gradFill>
          <a:ln cap="sq"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3.334999084472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7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7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7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7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8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ЗАМЕЧАТЕЛЬНЫЕ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СВОЙСТВА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КВАДРАТА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09" name="Picture 10" descr="list mebiysa2"/>
          <p:cNvPicPr/>
          <p:nvPr/>
        </p:nvPicPr>
        <p:blipFill>
          <a:blip r:embed="rId1"/>
          <a:stretch/>
        </p:blipFill>
        <p:spPr>
          <a:xfrm>
            <a:off x="636480" y="2610000"/>
            <a:ext cx="314352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linia"/>
          <p:cNvPicPr/>
          <p:nvPr/>
        </p:nvPicPr>
        <p:blipFill>
          <a:blip r:embed="rId2"/>
          <a:stretch/>
        </p:blipFill>
        <p:spPr>
          <a:xfrm>
            <a:off x="900000" y="1268280"/>
            <a:ext cx="7201080" cy="733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4284720" y="2349360"/>
            <a:ext cx="45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квадрата есть ряд интересных свойств. Так, например, если необходимо забором данной длины огородить        четырехугольный участок наибольшей площади, то следует выбрать этот участок в виде квадрат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70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Преимущество квадратной комнаты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13" name="Picture 2" descr="C:\Users\User\Documents\Electronic Arts\The Sims 3\Screenshots\квадратная\1.jpg"/>
          <p:cNvPicPr/>
          <p:nvPr/>
        </p:nvPicPr>
        <p:blipFill>
          <a:blip r:embed="rId1"/>
          <a:stretch/>
        </p:blipFill>
        <p:spPr>
          <a:xfrm>
            <a:off x="5292720" y="1773360"/>
            <a:ext cx="3638520" cy="3678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User\Documents\Electronic Arts\The Sims 3\Screenshots\прямоугольник\вариант2\1.jpg"/>
          <p:cNvPicPr/>
          <p:nvPr/>
        </p:nvPicPr>
        <p:blipFill>
          <a:blip r:embed="rId2"/>
          <a:stretch/>
        </p:blipFill>
        <p:spPr>
          <a:xfrm>
            <a:off x="255600" y="2224080"/>
            <a:ext cx="4603680" cy="2600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User\Documents\Electronic Arts\The Sims 3\Screenshots\квадратная\2.jpg"/>
          <p:cNvPicPr/>
          <p:nvPr/>
        </p:nvPicPr>
        <p:blipFill>
          <a:blip r:embed="rId3"/>
          <a:stretch/>
        </p:blipFill>
        <p:spPr>
          <a:xfrm>
            <a:off x="5292720" y="1765440"/>
            <a:ext cx="3638520" cy="3686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C:\Users\User\Documents\Electronic Arts\The Sims 3\Screenshots\прямоугольник\вариант2\5.jpg"/>
          <p:cNvPicPr/>
          <p:nvPr/>
        </p:nvPicPr>
        <p:blipFill>
          <a:blip r:embed="rId4"/>
          <a:stretch/>
        </p:blipFill>
        <p:spPr>
          <a:xfrm>
            <a:off x="255600" y="2224080"/>
            <a:ext cx="4603680" cy="2616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C:\Users\User\Documents\Electronic Arts\The Sims 3\Screenshots\квадратная\3.jpg"/>
          <p:cNvPicPr/>
          <p:nvPr/>
        </p:nvPicPr>
        <p:blipFill>
          <a:blip r:embed="rId5"/>
          <a:stretch/>
        </p:blipFill>
        <p:spPr>
          <a:xfrm>
            <a:off x="5292720" y="1765440"/>
            <a:ext cx="3638520" cy="3673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C:\Users\User\Documents\Electronic Arts\The Sims 3\Screenshots\прямоугольник\вариант2\6.jpg"/>
          <p:cNvPicPr/>
          <p:nvPr/>
        </p:nvPicPr>
        <p:blipFill>
          <a:blip r:embed="rId6"/>
          <a:stretch/>
        </p:blipFill>
        <p:spPr>
          <a:xfrm>
            <a:off x="255600" y="2220840"/>
            <a:ext cx="4603680" cy="2603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C:\Users\User\Documents\Electronic Arts\The Sims 3\Screenshots\квадратная\7..jpg"/>
          <p:cNvPicPr/>
          <p:nvPr/>
        </p:nvPicPr>
        <p:blipFill>
          <a:blip r:embed="rId7"/>
          <a:stretch/>
        </p:blipFill>
        <p:spPr>
          <a:xfrm>
            <a:off x="5292720" y="1765440"/>
            <a:ext cx="3638520" cy="365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C:\Users\User\Documents\Electronic Arts\The Sims 3\Screenshots\прямоугольник\вариант2\7.jpg"/>
          <p:cNvPicPr/>
          <p:nvPr/>
        </p:nvPicPr>
        <p:blipFill>
          <a:blip r:embed="rId8"/>
          <a:stretch/>
        </p:blipFill>
        <p:spPr>
          <a:xfrm>
            <a:off x="255600" y="2212920"/>
            <a:ext cx="4603680" cy="2613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:\Users\User\Documents\Electronic Arts\The Sims 3\Screenshots\квадратная\8.jpg"/>
          <p:cNvPicPr/>
          <p:nvPr/>
        </p:nvPicPr>
        <p:blipFill>
          <a:blip r:embed="rId9"/>
          <a:stretch/>
        </p:blipFill>
        <p:spPr>
          <a:xfrm>
            <a:off x="5286240" y="1758960"/>
            <a:ext cx="3638520" cy="3659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C:\Users\User\Documents\Electronic Arts\The Sims 3\Screenshots\квадратная\9.jpg"/>
          <p:cNvPicPr/>
          <p:nvPr/>
        </p:nvPicPr>
        <p:blipFill>
          <a:blip r:embed="rId10"/>
          <a:stretch/>
        </p:blipFill>
        <p:spPr>
          <a:xfrm>
            <a:off x="5286240" y="1765440"/>
            <a:ext cx="3638520" cy="365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C:\Users\User\Documents\Electronic Arts\The Sims 3\Screenshots\прямоугольник\вариант2\9.jpg"/>
          <p:cNvPicPr/>
          <p:nvPr/>
        </p:nvPicPr>
        <p:blipFill>
          <a:blip r:embed="rId11"/>
          <a:stretch/>
        </p:blipFill>
        <p:spPr>
          <a:xfrm>
            <a:off x="255600" y="2212920"/>
            <a:ext cx="4603680" cy="2605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C:\Users\User\Documents\Electronic Arts\The Sims 3\Screenshots\квадратная\10.jpg"/>
          <p:cNvPicPr/>
          <p:nvPr/>
        </p:nvPicPr>
        <p:blipFill>
          <a:blip r:embed="rId12"/>
          <a:stretch/>
        </p:blipFill>
        <p:spPr>
          <a:xfrm>
            <a:off x="5286240" y="1773360"/>
            <a:ext cx="3638520" cy="367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C:\Users\User\Documents\Electronic Arts\The Sims 3\Screenshots\прямоугольник\вариант2\10.jpg"/>
          <p:cNvPicPr/>
          <p:nvPr/>
        </p:nvPicPr>
        <p:blipFill>
          <a:blip r:embed="rId13"/>
          <a:stretch/>
        </p:blipFill>
        <p:spPr>
          <a:xfrm>
            <a:off x="255600" y="2209680"/>
            <a:ext cx="4603680" cy="2608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C:\Users\User\Documents\Electronic Arts\The Sims 3\Screenshots\квадратная\12.jpg"/>
          <p:cNvPicPr/>
          <p:nvPr/>
        </p:nvPicPr>
        <p:blipFill>
          <a:blip r:embed="rId14"/>
          <a:stretch/>
        </p:blipFill>
        <p:spPr>
          <a:xfrm>
            <a:off x="5292720" y="1758960"/>
            <a:ext cx="3638520" cy="3659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C:\Users\User\Documents\Electronic Arts\The Sims 3\Screenshots\прямоугольник\вариант2\12.jpg"/>
          <p:cNvPicPr/>
          <p:nvPr/>
        </p:nvPicPr>
        <p:blipFill>
          <a:blip r:embed="rId15"/>
          <a:stretch/>
        </p:blipFill>
        <p:spPr>
          <a:xfrm>
            <a:off x="264960" y="2212920"/>
            <a:ext cx="4605480" cy="2613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C:\Users\User\Documents\Electronic Arts\The Sims 3\Screenshots\квадратная\13.jpg"/>
          <p:cNvPicPr/>
          <p:nvPr/>
        </p:nvPicPr>
        <p:blipFill>
          <a:blip r:embed="rId16"/>
          <a:stretch/>
        </p:blipFill>
        <p:spPr>
          <a:xfrm>
            <a:off x="5292720" y="1758960"/>
            <a:ext cx="3638520" cy="367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C:\Users\User\Documents\Electronic Arts\The Sims 3\Screenshots\прямоугольник\вариант2\13.jpg"/>
          <p:cNvPicPr/>
          <p:nvPr/>
        </p:nvPicPr>
        <p:blipFill>
          <a:blip r:embed="rId17"/>
          <a:stretch/>
        </p:blipFill>
        <p:spPr>
          <a:xfrm>
            <a:off x="264960" y="2212920"/>
            <a:ext cx="4605480" cy="2614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C:\Users\User\Documents\Electronic Arts\The Sims 3\Screenshots\квадратная\14.jpg"/>
          <p:cNvPicPr/>
          <p:nvPr/>
        </p:nvPicPr>
        <p:blipFill>
          <a:blip r:embed="rId18"/>
          <a:stretch/>
        </p:blipFill>
        <p:spPr>
          <a:xfrm>
            <a:off x="5300640" y="1758960"/>
            <a:ext cx="3640320" cy="367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C:\Users\User\Documents\Electronic Arts\The Sims 3\Screenshots\прямоугольник\вариант2\14.jpg"/>
          <p:cNvPicPr/>
          <p:nvPr/>
        </p:nvPicPr>
        <p:blipFill>
          <a:blip r:embed="rId19"/>
          <a:stretch/>
        </p:blipFill>
        <p:spPr>
          <a:xfrm>
            <a:off x="264960" y="2230560"/>
            <a:ext cx="4605480" cy="26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40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20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7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700"/>
                            </p:stCondLst>
                            <p:childTnLst>
                              <p:par>
                                <p:cTn id="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1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71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69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400"/>
                            </p:stCondLst>
                            <p:childTnLst>
                              <p:par>
                                <p:cTn id="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200"/>
                            </p:stCondLst>
                            <p:childTnLst>
                              <p:par>
                                <p:cTn id="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800"/>
                            </p:stCondLst>
                            <p:childTnLst>
                              <p:par>
                                <p:cTn id="1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600"/>
                            </p:stCondLst>
                            <p:childTnLst>
                              <p:par>
                                <p:cTn id="1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400"/>
                            </p:stCondLst>
                            <p:childTnLst>
                              <p:par>
                                <p:cTn id="1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7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100"/>
                            </p:stCondLst>
                            <p:childTnLst>
                              <p:par>
                                <p:cTn id="1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7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1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810"/>
                            </p:stCondLst>
                            <p:childTnLst>
                              <p:par>
                                <p:cTn id="1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1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7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СОВЕРШЕННОЕ КВАДРИРОВАНИЕ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440" y="1641240"/>
            <a:ext cx="51102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ение квадрата на конечное число не налагающихся друг на друга квадратов, никакие два из которых не равны, называется совершенное квадрирование квадрата, а квадрат, составленный из неповторяющихся квадратов, - совершенным квадрат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651640" y="1916280"/>
            <a:ext cx="317808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971640" y="909720"/>
            <a:ext cx="719928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ЗАДАЧИ НА РАЗРЕЗАНИЕ КВАДРАТА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37" name="Picture 1025" descr="linia"/>
          <p:cNvPicPr/>
          <p:nvPr/>
        </p:nvPicPr>
        <p:blipFill>
          <a:blip r:embed="rId1"/>
          <a:stretch/>
        </p:blipFill>
        <p:spPr>
          <a:xfrm>
            <a:off x="1187280" y="1447920"/>
            <a:ext cx="6840720" cy="828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27"/>
          <p:cNvSpPr/>
          <p:nvPr/>
        </p:nvSpPr>
        <p:spPr>
          <a:xfrm>
            <a:off x="826920" y="2708280"/>
            <a:ext cx="50706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драт очень похож на механизм с хорошо прилаженными частями, который можно разобрать и из тех же частей собрать новый механизм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из готовых частей квадрата составить его снова или составить несколько иных, заранее указанных фигур, не нужны какие-либо расчёты и построения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28"/>
          <p:cNvSpPr/>
          <p:nvPr/>
        </p:nvSpPr>
        <p:spPr>
          <a:xfrm>
            <a:off x="6294600" y="3259080"/>
            <a:ext cx="1800000" cy="1800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036"/>
          <p:cNvGrpSpPr/>
          <p:nvPr/>
        </p:nvGrpSpPr>
        <p:grpSpPr>
          <a:xfrm>
            <a:off x="6294600" y="3259080"/>
            <a:ext cx="1800000" cy="1800360"/>
            <a:chOff x="6294600" y="3259080"/>
            <a:chExt cx="1800000" cy="1800360"/>
          </a:xfrm>
        </p:grpSpPr>
        <p:sp>
          <p:nvSpPr>
            <p:cNvPr id="141" name="Rectangle 1030"/>
            <p:cNvSpPr/>
            <p:nvPr/>
          </p:nvSpPr>
          <p:spPr>
            <a:xfrm>
              <a:off x="6294600" y="3259080"/>
              <a:ext cx="1800000" cy="1800360"/>
            </a:xfrm>
            <a:prstGeom prst="rect">
              <a:avLst/>
            </a:prstGeom>
            <a:solidFill>
              <a:srgbClr val="ffff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32"/>
            <p:cNvSpPr/>
            <p:nvPr/>
          </p:nvSpPr>
          <p:spPr>
            <a:xfrm>
              <a:off x="6294600" y="3259080"/>
              <a:ext cx="1368000" cy="35892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033"/>
            <p:cNvSpPr/>
            <p:nvPr/>
          </p:nvSpPr>
          <p:spPr>
            <a:xfrm>
              <a:off x="7662600" y="3259080"/>
              <a:ext cx="431640" cy="1440000"/>
            </a:xfrm>
            <a:prstGeom prst="rect">
              <a:avLst/>
            </a:prstGeom>
            <a:solidFill>
              <a:srgbClr val="cc99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034"/>
            <p:cNvSpPr/>
            <p:nvPr/>
          </p:nvSpPr>
          <p:spPr>
            <a:xfrm>
              <a:off x="6726240" y="4699080"/>
              <a:ext cx="1368000" cy="3603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35"/>
            <p:cNvSpPr/>
            <p:nvPr/>
          </p:nvSpPr>
          <p:spPr>
            <a:xfrm>
              <a:off x="6294600" y="3618000"/>
              <a:ext cx="431640" cy="144144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037"/>
          <p:cNvSpPr/>
          <p:nvPr/>
        </p:nvSpPr>
        <p:spPr>
          <a:xfrm>
            <a:off x="4070520" y="4292640"/>
            <a:ext cx="4678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8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8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Квадрат Абул Вефа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8" name="Прямоугольник 3"/>
          <p:cNvSpPr/>
          <p:nvPr/>
        </p:nvSpPr>
        <p:spPr>
          <a:xfrm>
            <a:off x="2425680" y="2189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бул Вефа составил квадрат из трёх равных квадратов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825480" y="1255680"/>
            <a:ext cx="7772400" cy="93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Users\User\Desktop\кар.png"/>
          <p:cNvPicPr/>
          <p:nvPr/>
        </p:nvPicPr>
        <p:blipFill>
          <a:blip r:embed="rId2"/>
          <a:stretch/>
        </p:blipFill>
        <p:spPr>
          <a:xfrm>
            <a:off x="1195560" y="3041640"/>
            <a:ext cx="68371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ПОСТРОЕНИЯ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ПРИ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ПОМОЩИ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ПЕРЕГИБАНИЯ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КВАДРАТНОГО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2f2f2"/>
                </a:solidFill>
                <a:latin typeface="Times New Roman"/>
              </a:rPr>
              <a:t>ЛИСТА БУМАГИ</a:t>
            </a:r>
            <a:r>
              <a:rPr b="0" lang="ru-RU" sz="4000" spc="-1" strike="noStrike">
                <a:solidFill>
                  <a:srgbClr val="f2f2f2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52" name="Picture 1025" descr="linia"/>
          <p:cNvPicPr/>
          <p:nvPr/>
        </p:nvPicPr>
        <p:blipFill>
          <a:blip r:embed="rId1"/>
          <a:stretch/>
        </p:blipFill>
        <p:spPr>
          <a:xfrm>
            <a:off x="685800" y="1844640"/>
            <a:ext cx="7772400" cy="936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27"/>
          <p:cNvSpPr/>
          <p:nvPr/>
        </p:nvSpPr>
        <p:spPr>
          <a:xfrm>
            <a:off x="649440" y="2832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и множества возможных действий с бумагой особое место занимает операция ее перегибания. Одним из достоинств этой операции является то, что ее можно производить, не имея под рукой никаких дополнительных инструментов - ни линейки, ни циркуля, ни даже карандаша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28"/>
          <p:cNvSpPr/>
          <p:nvPr/>
        </p:nvSpPr>
        <p:spPr>
          <a:xfrm>
            <a:off x="3311640" y="5048280"/>
            <a:ext cx="1224000" cy="115236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30"/>
          <p:cNvSpPr/>
          <p:nvPr/>
        </p:nvSpPr>
        <p:spPr>
          <a:xfrm rot="10800000">
            <a:off x="2808360" y="5192640"/>
            <a:ext cx="503280" cy="1008000"/>
          </a:xfrm>
          <a:prstGeom prst="rtTriangle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039"/>
          <p:cNvGrpSpPr/>
          <p:nvPr/>
        </p:nvGrpSpPr>
        <p:grpSpPr>
          <a:xfrm>
            <a:off x="6227640" y="5010120"/>
            <a:ext cx="1873080" cy="1688040"/>
            <a:chOff x="6227640" y="5010120"/>
            <a:chExt cx="1873080" cy="1688040"/>
          </a:xfrm>
        </p:grpSpPr>
        <p:sp>
          <p:nvSpPr>
            <p:cNvPr id="157" name="Rectangle 1034"/>
            <p:cNvSpPr/>
            <p:nvPr/>
          </p:nvSpPr>
          <p:spPr>
            <a:xfrm>
              <a:off x="6227640" y="5010120"/>
              <a:ext cx="431640" cy="43200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035"/>
            <p:cNvSpPr/>
            <p:nvPr/>
          </p:nvSpPr>
          <p:spPr>
            <a:xfrm>
              <a:off x="6227640" y="5730840"/>
              <a:ext cx="720720" cy="432000"/>
            </a:xfrm>
            <a:prstGeom prst="parallelogram">
              <a:avLst>
                <a:gd name="adj" fmla="val 41708"/>
              </a:avLst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037"/>
            <p:cNvSpPr/>
            <p:nvPr/>
          </p:nvSpPr>
          <p:spPr>
            <a:xfrm>
              <a:off x="6948360" y="5154840"/>
              <a:ext cx="1152360" cy="28728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38"/>
            <p:cNvSpPr/>
            <p:nvPr/>
          </p:nvSpPr>
          <p:spPr>
            <a:xfrm rot="18135600">
              <a:off x="7041960" y="5913000"/>
              <a:ext cx="788760" cy="588960"/>
            </a:xfrm>
            <a:prstGeom prst="parallelogram">
              <a:avLst>
                <a:gd name="adj" fmla="val 33481"/>
              </a:avLst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040"/>
          <p:cNvSpPr/>
          <p:nvPr/>
        </p:nvSpPr>
        <p:spPr>
          <a:xfrm>
            <a:off x="6361200" y="4770360"/>
            <a:ext cx="237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12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620"/>
                            </p:stCondLst>
                            <p:childTnLst>
                              <p:par>
                                <p:cTn id="184" nodeType="afterEffect" fill="hold" presetClass="entr" presetID="4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</a:rPr>
              <a:t>ТАНГРАМ И ДРУГИЕ ГОЛОВОЛОМКИ , СВЯЗАННЫЕ С КВАДРАТОМ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63" name="Picture 0" descr="лошадь"/>
          <p:cNvPicPr/>
          <p:nvPr/>
        </p:nvPicPr>
        <p:blipFill>
          <a:blip r:embed="rId1"/>
          <a:stretch/>
        </p:blipFill>
        <p:spPr>
          <a:xfrm>
            <a:off x="6372360" y="162864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i"/>
          <p:cNvPicPr/>
          <p:nvPr/>
        </p:nvPicPr>
        <p:blipFill>
          <a:blip r:embed="rId2"/>
          <a:stretch/>
        </p:blipFill>
        <p:spPr>
          <a:xfrm>
            <a:off x="1403280" y="2119320"/>
            <a:ext cx="1270080" cy="1193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i2"/>
          <p:cNvPicPr/>
          <p:nvPr/>
        </p:nvPicPr>
        <p:blipFill>
          <a:blip r:embed="rId3"/>
          <a:stretch/>
        </p:blipFill>
        <p:spPr>
          <a:xfrm>
            <a:off x="6804000" y="4365720"/>
            <a:ext cx="1143000" cy="1130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nashorn"/>
          <p:cNvPicPr/>
          <p:nvPr/>
        </p:nvPicPr>
        <p:blipFill>
          <a:blip r:embed="rId4"/>
          <a:stretch/>
        </p:blipFill>
        <p:spPr>
          <a:xfrm>
            <a:off x="985680" y="3805200"/>
            <a:ext cx="2722680" cy="20559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0"/>
          <p:cNvSpPr/>
          <p:nvPr/>
        </p:nvSpPr>
        <p:spPr>
          <a:xfrm>
            <a:off x="3708360" y="1700280"/>
            <a:ext cx="287964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НГРАМ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НТАМИНО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ТРАМИНО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МИНО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МАХИОН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ИГАМ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linia"/>
          <p:cNvPicPr/>
          <p:nvPr/>
        </p:nvPicPr>
        <p:blipFill>
          <a:blip r:embed="rId11"/>
          <a:stretch/>
        </p:blipFill>
        <p:spPr>
          <a:xfrm>
            <a:off x="1657440" y="1414440"/>
            <a:ext cx="5829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6:20:10Z</dcterms:created>
  <dc:creator>User</dc:creator>
  <dc:description/>
  <dc:language>en-US</dc:language>
  <cp:lastModifiedBy>1</cp:lastModifiedBy>
  <dcterms:modified xsi:type="dcterms:W3CDTF">2018-11-17T07:18:00Z</dcterms:modified>
  <cp:revision>138</cp:revision>
  <dc:subject/>
  <dc:title>УДИВИТЕЛЬНЫЙ  КВАДРАТ</dc:title>
</cp:coreProperties>
</file>