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24.jpeg" ContentType="image/jpeg"/>
  <Override PartName="/ppt/media/image23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56F-8D02-4340-BAEA-9DF9A3A5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235-D898-4E37-B44F-4FB7F5EE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C28-F999-4A47-8BEE-86A0E331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CD8-840A-4ED2-AB82-CDE7C0E5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9FD9-FFBC-4F5B-B38E-924024B1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2C3E-E567-43A5-9BEB-17651080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6566-CED8-4F74-A475-4D7A4B11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B606-5DC4-4459-B1A1-2726FA5A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E0A7-B2BF-4493-B0C3-BF04496B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3F81-2368-47CD-A917-B8DC8204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C4BD-C5CD-438C-9D92-87D44844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A5C-0173-472B-B842-43022FB0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6317-F258-4E47-B440-86AB5EA9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CF32-BD67-4C72-883D-0FD3617F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E089-63A3-44A9-8635-BB438FEF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BE00-527D-43B2-B681-978911D0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B8BB-2E4D-4DFA-88CC-6F7985AC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4C3-4FA0-4C2B-B6A9-FAC8DEF7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4FC-3FDD-48EB-B0A8-32E1DD4F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494-3CE3-4740-BE47-5A8F205C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280-61CD-4630-AAFE-13E2724F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716-86E6-4D9F-B1E2-999539EC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D17-AE31-49ED-99EF-BE527A9C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EC4-E282-4470-AA7E-2CA5D251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E073-B6BC-4B05-B98B-F1F487DA8E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52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1CD1-3BC5-46FE-8F10-10EF7F43C3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960" y="90792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2f2f2"/>
                </a:solidFill>
                <a:latin typeface="Times New Roman"/>
              </a:rPr>
              <a:t>УДИВИТЕЛЬНЫЙ  КВАДРАТ</a:t>
            </a:r>
            <a:endParaRPr b="0" lang="en-US" sz="7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27120" y="3789360"/>
            <a:ext cx="38102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для внеклассной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ла:преподаватель Наумёнок Р.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971640" y="3036960"/>
            <a:ext cx="6408720" cy="75240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9" descr="Закат.jpg"/>
          <p:cNvPicPr/>
          <p:nvPr/>
        </p:nvPicPr>
        <p:blipFill>
          <a:blip r:embed="rId2"/>
          <a:stretch/>
        </p:blipFill>
        <p:spPr>
          <a:xfrm>
            <a:off x="2335320" y="5327640"/>
            <a:ext cx="31874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ОПРЕДЕЛЕНИЯ КВАДРАТА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44197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квадрата все стороны равны, как и у ромба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лько еще все углы прямые. Значит, квадрат-это ромб с прямыми угл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квадрата, как и у прямоугольника, все углы прямые. Только еще все стороны равны. Значит, квадрат -это прямоугольник, у которого все стороны рав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квадрата, как и у параллелограмма, стороны попарно параллельны. Только еще все они равны и все углы прямые. Значит, квадрат-это параллелограмм с прямыми углами, все стороны которого равн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7848720" y="1447920"/>
            <a:ext cx="1218960" cy="1600200"/>
          </a:xfrm>
          <a:prstGeom prst="diamond">
            <a:avLst/>
          </a:prstGeom>
          <a:blipFill rotWithShape="0">
            <a:blip r:embed="rId1"/>
            <a:srcRect/>
            <a:stretch/>
          </a:blipFill>
          <a:ln cap="sq"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6362640" y="1447920"/>
            <a:ext cx="838440" cy="76176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900000" y="1179360"/>
            <a:ext cx="7024680" cy="594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5346720" y="3133800"/>
            <a:ext cx="1994040" cy="936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764718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6343560" y="5078520"/>
            <a:ext cx="2400480" cy="877680"/>
          </a:xfrm>
          <a:prstGeom prst="parallelogram">
            <a:avLst>
              <a:gd name="adj" fmla="val 49737"/>
            </a:avLst>
          </a:prstGeom>
          <a:gradFill rotWithShape="0">
            <a:gsLst>
              <a:gs pos="0">
                <a:srgbClr val="464600"/>
              </a:gs>
              <a:gs pos="100000">
                <a:srgbClr val="ffff00"/>
              </a:gs>
            </a:gsLst>
            <a:lin ang="18900000"/>
          </a:gradFill>
          <a:ln cap="sq"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3.334999084472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7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7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7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7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8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ЗАМЕЧАТЕЛЬНЫЕ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СВОЙСТВА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КВАДРАТА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09" name="Picture 10" descr="list mebiysa2"/>
          <p:cNvPicPr/>
          <p:nvPr/>
        </p:nvPicPr>
        <p:blipFill>
          <a:blip r:embed="rId1"/>
          <a:stretch/>
        </p:blipFill>
        <p:spPr>
          <a:xfrm>
            <a:off x="636480" y="2610000"/>
            <a:ext cx="314352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linia"/>
          <p:cNvPicPr/>
          <p:nvPr/>
        </p:nvPicPr>
        <p:blipFill>
          <a:blip r:embed="rId2"/>
          <a:stretch/>
        </p:blipFill>
        <p:spPr>
          <a:xfrm>
            <a:off x="900000" y="1268280"/>
            <a:ext cx="7201080" cy="733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4284720" y="2349360"/>
            <a:ext cx="45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квадрата есть ряд интересных свойств. Так, например, если необходимо забором данной длины огородить        четырехугольный участок наибольшей площади, то следует выбрать этот участок в виде квадрат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70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Преимущество квадратной комнаты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13" name="Picture 2" descr="C:\Users\User\Documents\Electronic Arts\The Sims 3\Screenshots\квадратная\1.jpg"/>
          <p:cNvPicPr/>
          <p:nvPr/>
        </p:nvPicPr>
        <p:blipFill>
          <a:blip r:embed="rId1"/>
          <a:stretch/>
        </p:blipFill>
        <p:spPr>
          <a:xfrm>
            <a:off x="5292720" y="1773360"/>
            <a:ext cx="3638520" cy="3678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User\Documents\Electronic Arts\The Sims 3\Screenshots\прямоугольник\вариант2\1.jpg"/>
          <p:cNvPicPr/>
          <p:nvPr/>
        </p:nvPicPr>
        <p:blipFill>
          <a:blip r:embed="rId2"/>
          <a:stretch/>
        </p:blipFill>
        <p:spPr>
          <a:xfrm>
            <a:off x="255600" y="2224080"/>
            <a:ext cx="4603680" cy="260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User\Documents\Electronic Arts\The Sims 3\Screenshots\квадратная\2.jpg"/>
          <p:cNvPicPr/>
          <p:nvPr/>
        </p:nvPicPr>
        <p:blipFill>
          <a:blip r:embed="rId3"/>
          <a:stretch/>
        </p:blipFill>
        <p:spPr>
          <a:xfrm>
            <a:off x="5292720" y="1765440"/>
            <a:ext cx="3638520" cy="368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:\Users\User\Documents\Electronic Arts\The Sims 3\Screenshots\прямоугольник\вариант2\5.jpg"/>
          <p:cNvPicPr/>
          <p:nvPr/>
        </p:nvPicPr>
        <p:blipFill>
          <a:blip r:embed="rId4"/>
          <a:stretch/>
        </p:blipFill>
        <p:spPr>
          <a:xfrm>
            <a:off x="255600" y="2224080"/>
            <a:ext cx="4603680" cy="2616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:\Users\User\Documents\Electronic Arts\The Sims 3\Screenshots\квадратная\3.jpg"/>
          <p:cNvPicPr/>
          <p:nvPr/>
        </p:nvPicPr>
        <p:blipFill>
          <a:blip r:embed="rId5"/>
          <a:stretch/>
        </p:blipFill>
        <p:spPr>
          <a:xfrm>
            <a:off x="5292720" y="1765440"/>
            <a:ext cx="3638520" cy="3673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C:\Users\User\Documents\Electronic Arts\The Sims 3\Screenshots\прямоугольник\вариант2\6.jpg"/>
          <p:cNvPicPr/>
          <p:nvPr/>
        </p:nvPicPr>
        <p:blipFill>
          <a:blip r:embed="rId6"/>
          <a:stretch/>
        </p:blipFill>
        <p:spPr>
          <a:xfrm>
            <a:off x="255600" y="2220840"/>
            <a:ext cx="4603680" cy="2603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C:\Users\User\Documents\Electronic Arts\The Sims 3\Screenshots\квадратная\7..jpg"/>
          <p:cNvPicPr/>
          <p:nvPr/>
        </p:nvPicPr>
        <p:blipFill>
          <a:blip r:embed="rId7"/>
          <a:stretch/>
        </p:blipFill>
        <p:spPr>
          <a:xfrm>
            <a:off x="5292720" y="1765440"/>
            <a:ext cx="3638520" cy="365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C:\Users\User\Documents\Electronic Arts\The Sims 3\Screenshots\прямоугольник\вариант2\7.jpg"/>
          <p:cNvPicPr/>
          <p:nvPr/>
        </p:nvPicPr>
        <p:blipFill>
          <a:blip r:embed="rId8"/>
          <a:stretch/>
        </p:blipFill>
        <p:spPr>
          <a:xfrm>
            <a:off x="255600" y="2212920"/>
            <a:ext cx="4603680" cy="2613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:\Users\User\Documents\Electronic Arts\The Sims 3\Screenshots\квадратная\8.jpg"/>
          <p:cNvPicPr/>
          <p:nvPr/>
        </p:nvPicPr>
        <p:blipFill>
          <a:blip r:embed="rId9"/>
          <a:stretch/>
        </p:blipFill>
        <p:spPr>
          <a:xfrm>
            <a:off x="5286240" y="1758960"/>
            <a:ext cx="3638520" cy="3659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C:\Users\User\Documents\Electronic Arts\The Sims 3\Screenshots\квадратная\9.jpg"/>
          <p:cNvPicPr/>
          <p:nvPr/>
        </p:nvPicPr>
        <p:blipFill>
          <a:blip r:embed="rId10"/>
          <a:stretch/>
        </p:blipFill>
        <p:spPr>
          <a:xfrm>
            <a:off x="5286240" y="1765440"/>
            <a:ext cx="3638520" cy="365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C:\Users\User\Documents\Electronic Arts\The Sims 3\Screenshots\прямоугольник\вариант2\9.jpg"/>
          <p:cNvPicPr/>
          <p:nvPr/>
        </p:nvPicPr>
        <p:blipFill>
          <a:blip r:embed="rId11"/>
          <a:stretch/>
        </p:blipFill>
        <p:spPr>
          <a:xfrm>
            <a:off x="255600" y="2212920"/>
            <a:ext cx="4603680" cy="2605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C:\Users\User\Documents\Electronic Arts\The Sims 3\Screenshots\квадратная\10.jpg"/>
          <p:cNvPicPr/>
          <p:nvPr/>
        </p:nvPicPr>
        <p:blipFill>
          <a:blip r:embed="rId12"/>
          <a:stretch/>
        </p:blipFill>
        <p:spPr>
          <a:xfrm>
            <a:off x="5286240" y="1773360"/>
            <a:ext cx="3638520" cy="36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C:\Users\User\Documents\Electronic Arts\The Sims 3\Screenshots\прямоугольник\вариант2\10.jpg"/>
          <p:cNvPicPr/>
          <p:nvPr/>
        </p:nvPicPr>
        <p:blipFill>
          <a:blip r:embed="rId13"/>
          <a:stretch/>
        </p:blipFill>
        <p:spPr>
          <a:xfrm>
            <a:off x="255600" y="2209680"/>
            <a:ext cx="4603680" cy="2608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C:\Users\User\Documents\Electronic Arts\The Sims 3\Screenshots\квадратная\12.jpg"/>
          <p:cNvPicPr/>
          <p:nvPr/>
        </p:nvPicPr>
        <p:blipFill>
          <a:blip r:embed="rId14"/>
          <a:stretch/>
        </p:blipFill>
        <p:spPr>
          <a:xfrm>
            <a:off x="5292720" y="1758960"/>
            <a:ext cx="3638520" cy="3659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C:\Users\User\Documents\Electronic Arts\The Sims 3\Screenshots\прямоугольник\вариант2\12.jpg"/>
          <p:cNvPicPr/>
          <p:nvPr/>
        </p:nvPicPr>
        <p:blipFill>
          <a:blip r:embed="rId15"/>
          <a:stretch/>
        </p:blipFill>
        <p:spPr>
          <a:xfrm>
            <a:off x="264960" y="2212920"/>
            <a:ext cx="4605480" cy="2613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C:\Users\User\Documents\Electronic Arts\The Sims 3\Screenshots\квадратная\13.jpg"/>
          <p:cNvPicPr/>
          <p:nvPr/>
        </p:nvPicPr>
        <p:blipFill>
          <a:blip r:embed="rId16"/>
          <a:stretch/>
        </p:blipFill>
        <p:spPr>
          <a:xfrm>
            <a:off x="5292720" y="1758960"/>
            <a:ext cx="3638520" cy="367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C:\Users\User\Documents\Electronic Arts\The Sims 3\Screenshots\прямоугольник\вариант2\13.jpg"/>
          <p:cNvPicPr/>
          <p:nvPr/>
        </p:nvPicPr>
        <p:blipFill>
          <a:blip r:embed="rId17"/>
          <a:stretch/>
        </p:blipFill>
        <p:spPr>
          <a:xfrm>
            <a:off x="264960" y="2212920"/>
            <a:ext cx="4605480" cy="2614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C:\Users\User\Documents\Electronic Arts\The Sims 3\Screenshots\квадратная\14.jpg"/>
          <p:cNvPicPr/>
          <p:nvPr/>
        </p:nvPicPr>
        <p:blipFill>
          <a:blip r:embed="rId18"/>
          <a:stretch/>
        </p:blipFill>
        <p:spPr>
          <a:xfrm>
            <a:off x="5300640" y="1758960"/>
            <a:ext cx="3640320" cy="367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C:\Users\User\Documents\Electronic Arts\The Sims 3\Screenshots\прямоугольник\вариант2\14.jpg"/>
          <p:cNvPicPr/>
          <p:nvPr/>
        </p:nvPicPr>
        <p:blipFill>
          <a:blip r:embed="rId19"/>
          <a:stretch/>
        </p:blipFill>
        <p:spPr>
          <a:xfrm>
            <a:off x="264960" y="2230560"/>
            <a:ext cx="4605480" cy="26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40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2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7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7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1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71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69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40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20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8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600"/>
                            </p:stCondLst>
                            <p:childTnLst>
                              <p:par>
                                <p:cTn id="1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400"/>
                            </p:stCondLst>
                            <p:childTnLst>
                              <p:par>
                                <p:cTn id="1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7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100"/>
                            </p:stCondLst>
                            <p:childTnLst>
                              <p:par>
                                <p:cTn id="1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7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1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10"/>
                            </p:stCondLst>
                            <p:childTnLst>
                              <p:par>
                                <p:cTn id="1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1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7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СОВЕРШЕННОЕ КВАДРИРОВА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440" y="1641240"/>
            <a:ext cx="51102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ение квадрата на конечное число не налагающихся друг на друга квадратов, никакие два из которых не равны, называется совершенное квадрирование квадрата, а квадрат, составленный из неповторяющихся квадратов, - совершенным квадрат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317808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971640" y="909720"/>
            <a:ext cx="719928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ЗАДАЧИ НА РАЗРЕЗАНИЕ КВАДРАТА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37" name="Picture 1025" descr="linia"/>
          <p:cNvPicPr/>
          <p:nvPr/>
        </p:nvPicPr>
        <p:blipFill>
          <a:blip r:embed="rId1"/>
          <a:stretch/>
        </p:blipFill>
        <p:spPr>
          <a:xfrm>
            <a:off x="1187280" y="1447920"/>
            <a:ext cx="6840720" cy="828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27"/>
          <p:cNvSpPr/>
          <p:nvPr/>
        </p:nvSpPr>
        <p:spPr>
          <a:xfrm>
            <a:off x="826920" y="2708280"/>
            <a:ext cx="50706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драт очень похож на механизм с хорошо прилаженными частями, который можно разобрать и из тех же частей собрать новый механиз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из готовых частей квадрата составить его снова или составить несколько иных, заранее указанных фигур, не нужны какие-либо расчёты и построения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28"/>
          <p:cNvSpPr/>
          <p:nvPr/>
        </p:nvSpPr>
        <p:spPr>
          <a:xfrm>
            <a:off x="6294600" y="3259080"/>
            <a:ext cx="1800000" cy="1800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036"/>
          <p:cNvGrpSpPr/>
          <p:nvPr/>
        </p:nvGrpSpPr>
        <p:grpSpPr>
          <a:xfrm>
            <a:off x="6294600" y="3259080"/>
            <a:ext cx="1800000" cy="1800360"/>
            <a:chOff x="6294600" y="3259080"/>
            <a:chExt cx="1800000" cy="1800360"/>
          </a:xfrm>
        </p:grpSpPr>
        <p:sp>
          <p:nvSpPr>
            <p:cNvPr id="141" name="Rectangle 1030"/>
            <p:cNvSpPr/>
            <p:nvPr/>
          </p:nvSpPr>
          <p:spPr>
            <a:xfrm>
              <a:off x="6294600" y="3259080"/>
              <a:ext cx="1800000" cy="1800360"/>
            </a:xfrm>
            <a:prstGeom prst="rect">
              <a:avLst/>
            </a:prstGeom>
            <a:solidFill>
              <a:srgbClr val="ffff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32"/>
            <p:cNvSpPr/>
            <p:nvPr/>
          </p:nvSpPr>
          <p:spPr>
            <a:xfrm>
              <a:off x="6294600" y="3259080"/>
              <a:ext cx="1368000" cy="35892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33"/>
            <p:cNvSpPr/>
            <p:nvPr/>
          </p:nvSpPr>
          <p:spPr>
            <a:xfrm>
              <a:off x="7662600" y="3259080"/>
              <a:ext cx="431640" cy="1440000"/>
            </a:xfrm>
            <a:prstGeom prst="rect">
              <a:avLst/>
            </a:prstGeom>
            <a:solidFill>
              <a:srgbClr val="cc99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034"/>
            <p:cNvSpPr/>
            <p:nvPr/>
          </p:nvSpPr>
          <p:spPr>
            <a:xfrm>
              <a:off x="6726240" y="4699080"/>
              <a:ext cx="1368000" cy="3603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35"/>
            <p:cNvSpPr/>
            <p:nvPr/>
          </p:nvSpPr>
          <p:spPr>
            <a:xfrm>
              <a:off x="6294600" y="3618000"/>
              <a:ext cx="431640" cy="144144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037"/>
          <p:cNvSpPr/>
          <p:nvPr/>
        </p:nvSpPr>
        <p:spPr>
          <a:xfrm>
            <a:off x="4070520" y="4292640"/>
            <a:ext cx="4678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8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8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Квадрат Абул Вефа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2425680" y="2189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бул Вефа составил квадрат из трёх равных квадратов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825480" y="1255680"/>
            <a:ext cx="7772400" cy="93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Users\User\Desktop\кар.png"/>
          <p:cNvPicPr/>
          <p:nvPr/>
        </p:nvPicPr>
        <p:blipFill>
          <a:blip r:embed="rId2"/>
          <a:stretch/>
        </p:blipFill>
        <p:spPr>
          <a:xfrm>
            <a:off x="1195560" y="3041640"/>
            <a:ext cx="6837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ПОСТРОЕНИЯ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ПРИ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ПОМОЩИ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ПЕРЕГИБАНИЯ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КВАДРАТНОГО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ЛИСТА БУМАГИ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52" name="Picture 1025" descr="linia"/>
          <p:cNvPicPr/>
          <p:nvPr/>
        </p:nvPicPr>
        <p:blipFill>
          <a:blip r:embed="rId1"/>
          <a:stretch/>
        </p:blipFill>
        <p:spPr>
          <a:xfrm>
            <a:off x="685800" y="1844640"/>
            <a:ext cx="7772400" cy="936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27"/>
          <p:cNvSpPr/>
          <p:nvPr/>
        </p:nvSpPr>
        <p:spPr>
          <a:xfrm>
            <a:off x="649440" y="2832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множества возможных действий с бумагой особое место занимает операция ее перегибания. Одним из достоинств этой операции является то, что ее можно производить, не имея под рукой никаких дополнительных инструментов - ни линейки, ни циркуля, ни даже карандаша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28"/>
          <p:cNvSpPr/>
          <p:nvPr/>
        </p:nvSpPr>
        <p:spPr>
          <a:xfrm>
            <a:off x="3311640" y="5048280"/>
            <a:ext cx="1224000" cy="115236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30"/>
          <p:cNvSpPr/>
          <p:nvPr/>
        </p:nvSpPr>
        <p:spPr>
          <a:xfrm rot="10800000">
            <a:off x="2808360" y="5192640"/>
            <a:ext cx="503280" cy="1008000"/>
          </a:xfrm>
          <a:prstGeom prst="rtTriangle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039"/>
          <p:cNvGrpSpPr/>
          <p:nvPr/>
        </p:nvGrpSpPr>
        <p:grpSpPr>
          <a:xfrm>
            <a:off x="6227640" y="5010120"/>
            <a:ext cx="1873080" cy="1688040"/>
            <a:chOff x="6227640" y="5010120"/>
            <a:chExt cx="1873080" cy="1688040"/>
          </a:xfrm>
        </p:grpSpPr>
        <p:sp>
          <p:nvSpPr>
            <p:cNvPr id="157" name="Rectangle 1034"/>
            <p:cNvSpPr/>
            <p:nvPr/>
          </p:nvSpPr>
          <p:spPr>
            <a:xfrm>
              <a:off x="6227640" y="5010120"/>
              <a:ext cx="431640" cy="43200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35"/>
            <p:cNvSpPr/>
            <p:nvPr/>
          </p:nvSpPr>
          <p:spPr>
            <a:xfrm>
              <a:off x="6227640" y="5730840"/>
              <a:ext cx="720720" cy="432000"/>
            </a:xfrm>
            <a:prstGeom prst="parallelogram">
              <a:avLst>
                <a:gd name="adj" fmla="val 41708"/>
              </a:avLst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037"/>
            <p:cNvSpPr/>
            <p:nvPr/>
          </p:nvSpPr>
          <p:spPr>
            <a:xfrm>
              <a:off x="6948360" y="5154840"/>
              <a:ext cx="1152360" cy="28728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38"/>
            <p:cNvSpPr/>
            <p:nvPr/>
          </p:nvSpPr>
          <p:spPr>
            <a:xfrm rot="18135600">
              <a:off x="7041960" y="5913000"/>
              <a:ext cx="788760" cy="588960"/>
            </a:xfrm>
            <a:prstGeom prst="parallelogram">
              <a:avLst>
                <a:gd name="adj" fmla="val 33481"/>
              </a:avLst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040"/>
          <p:cNvSpPr/>
          <p:nvPr/>
        </p:nvSpPr>
        <p:spPr>
          <a:xfrm>
            <a:off x="6361200" y="4770360"/>
            <a:ext cx="237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12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20"/>
                            </p:stCondLst>
                            <p:childTnLst>
                              <p:par>
                                <p:cTn id="184" nodeType="afterEffect" fill="hold" presetClass="entr" presetID="4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</a:rPr>
              <a:t>ТАНГРАМ И ДРУГИЕ ГОЛОВОЛОМКИ , СВЯЗАННЫЕ С КВАДРАТОМ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63" name="Picture 0" descr="лошадь"/>
          <p:cNvPicPr/>
          <p:nvPr/>
        </p:nvPicPr>
        <p:blipFill>
          <a:blip r:embed="rId1"/>
          <a:stretch/>
        </p:blipFill>
        <p:spPr>
          <a:xfrm>
            <a:off x="6372360" y="162864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i"/>
          <p:cNvPicPr/>
          <p:nvPr/>
        </p:nvPicPr>
        <p:blipFill>
          <a:blip r:embed="rId2"/>
          <a:stretch/>
        </p:blipFill>
        <p:spPr>
          <a:xfrm>
            <a:off x="1403280" y="2119320"/>
            <a:ext cx="1270080" cy="1193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i2"/>
          <p:cNvPicPr/>
          <p:nvPr/>
        </p:nvPicPr>
        <p:blipFill>
          <a:blip r:embed="rId3"/>
          <a:stretch/>
        </p:blipFill>
        <p:spPr>
          <a:xfrm>
            <a:off x="6804000" y="4365720"/>
            <a:ext cx="1143000" cy="1130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nashorn"/>
          <p:cNvPicPr/>
          <p:nvPr/>
        </p:nvPicPr>
        <p:blipFill>
          <a:blip r:embed="rId4"/>
          <a:stretch/>
        </p:blipFill>
        <p:spPr>
          <a:xfrm>
            <a:off x="985680" y="3805200"/>
            <a:ext cx="2722680" cy="20559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0"/>
          <p:cNvSpPr/>
          <p:nvPr/>
        </p:nvSpPr>
        <p:spPr>
          <a:xfrm>
            <a:off x="3708360" y="1700280"/>
            <a:ext cx="287964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НГРА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НТАМИН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ТРАМИН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МИН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МАХИОН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ИГАМ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linia"/>
          <p:cNvPicPr/>
          <p:nvPr/>
        </p:nvPicPr>
        <p:blipFill>
          <a:blip r:embed="rId11"/>
          <a:stretch/>
        </p:blipFill>
        <p:spPr>
          <a:xfrm>
            <a:off x="1657440" y="1414440"/>
            <a:ext cx="5829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6:20:10Z</dcterms:created>
  <dc:creator>User</dc:creator>
  <dc:description/>
  <dc:language>en-US</dc:language>
  <cp:lastModifiedBy>1</cp:lastModifiedBy>
  <dcterms:modified xsi:type="dcterms:W3CDTF">2018-11-17T07:18:00Z</dcterms:modified>
  <cp:revision>138</cp:revision>
  <dc:subject/>
  <dc:title>УДИВИТЕЛЬНЫЙ  КВАДРАТ</dc:title>
</cp:coreProperties>
</file>