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4EC-72D5-4A69-AA25-24588A04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881-93CD-423C-AABF-7A6E9CF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137-5C6D-4CD8-9358-E2569997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50B-FEB1-4314-AD82-60406AE6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D0A3-F934-4471-96C2-48D93F31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E930-38FB-461B-B6CB-DC857A07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86D4-CB0A-4078-95F2-B75E0598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7F1C-1DC9-471A-BE5A-8B29E9B3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EFAB-53FF-4051-9DCD-A8CE4F32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F2D0-4815-4D68-A84F-8DC48D34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76DF-6F77-4058-A939-A2465887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36D-9556-4752-A17E-1A9DBCC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8710-8336-476F-B795-74F7C076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ED0-7050-45C4-9D47-EB48E920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7F63-329E-49BF-AB3A-332E7099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8D51-D59E-40F3-BA20-AF701290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1406-C603-49E3-A445-F6864001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BCD-93AE-4FA2-9E70-BF3C24B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08D-6802-4569-94DF-D1121306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DD8-CDEC-499A-9452-69138E1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B36-A094-4BBB-888F-6377DFB4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158-908A-4391-9528-366B9F4C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7FF-6089-4EEB-948F-78D53558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B55-B0EE-4AA8-BF36-CA9B74E4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9AA8-ADF8-4EF3-B44D-35E2D69F48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2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4D67-05D7-4B3A-9DB5-AEBF1E8101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 rot="5400000">
            <a:off x="5719680" y="2206440"/>
            <a:ext cx="1439640" cy="1440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 rot="8083200">
            <a:off x="6161040" y="4054320"/>
            <a:ext cx="2019240" cy="2044800"/>
          </a:xfrm>
          <a:prstGeom prst="rtTriangl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 rot="2692800">
            <a:off x="7586280" y="2643120"/>
            <a:ext cx="2019240" cy="200808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 rot="18901200">
            <a:off x="5935320" y="3142800"/>
            <a:ext cx="1015920" cy="1011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 rot="13489200">
            <a:off x="5214600" y="3862080"/>
            <a:ext cx="1009800" cy="100800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 rot="18877800">
            <a:off x="6654240" y="2422800"/>
            <a:ext cx="1009800" cy="1008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438960" y="2206800"/>
            <a:ext cx="2160360" cy="720720"/>
          </a:xfrm>
          <a:prstGeom prst="parallelogram">
            <a:avLst>
              <a:gd name="adj" fmla="val 10043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76360" y="2030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ТАНГРАМ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11280" y="64620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linia"/>
          <p:cNvPicPr/>
          <p:nvPr/>
        </p:nvPicPr>
        <p:blipFill>
          <a:blip r:embed="rId1"/>
          <a:stretch/>
        </p:blipFill>
        <p:spPr>
          <a:xfrm>
            <a:off x="1406520" y="950760"/>
            <a:ext cx="5829480" cy="571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324000" y="191628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разрезать квадрат, как показано на рисунке, то получится популярная китайская головоломка ТАНГРАМ, которую в Китае называют «чи чао ту», т. е. умственная головоломка из семи частей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ПЕНТАМИНО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09" name="Picture 4" descr="pentamino"/>
          <p:cNvPicPr/>
          <p:nvPr/>
        </p:nvPicPr>
        <p:blipFill>
          <a:blip r:embed="rId1"/>
          <a:stretch/>
        </p:blipFill>
        <p:spPr>
          <a:xfrm>
            <a:off x="250920" y="164160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entamino1"/>
          <p:cNvPicPr/>
          <p:nvPr/>
        </p:nvPicPr>
        <p:blipFill>
          <a:blip r:embed="rId2"/>
          <a:stretch/>
        </p:blipFill>
        <p:spPr>
          <a:xfrm>
            <a:off x="4973760" y="4129200"/>
            <a:ext cx="3159000" cy="215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25" descr="linia"/>
          <p:cNvPicPr/>
          <p:nvPr/>
        </p:nvPicPr>
        <p:blipFill>
          <a:blip r:embed="rId3"/>
          <a:stretch/>
        </p:blipFill>
        <p:spPr>
          <a:xfrm>
            <a:off x="2124000" y="765000"/>
            <a:ext cx="4969080" cy="682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24"/>
          <p:cNvSpPr/>
          <p:nvPr/>
        </p:nvSpPr>
        <p:spPr>
          <a:xfrm>
            <a:off x="3924360" y="1671480"/>
            <a:ext cx="49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игра была придумана в 50-х годах ХХ в. американским математиком       С. Голомбом, она заключается в складывании различных фигур из заданного набора пентамино. Набор содержит 12 фигурок, каждая из которых составлена из 5 одинаковых квадрато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7"/>
          <p:cNvSpPr/>
          <p:nvPr/>
        </p:nvSpPr>
        <p:spPr>
          <a:xfrm>
            <a:off x="685800" y="4724280"/>
            <a:ext cx="410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я набор пентамино сложите данные фигуры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2.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6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2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9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548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ТЕТРАМИНО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15" name="Picture 4" descr="tetramino"/>
          <p:cNvPicPr/>
          <p:nvPr/>
        </p:nvPicPr>
        <p:blipFill>
          <a:blip r:embed="rId1"/>
          <a:stretch/>
        </p:blipFill>
        <p:spPr>
          <a:xfrm>
            <a:off x="555480" y="1666800"/>
            <a:ext cx="2705400" cy="1552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tetramino1"/>
          <p:cNvPicPr/>
          <p:nvPr/>
        </p:nvPicPr>
        <p:blipFill>
          <a:blip r:embed="rId2"/>
          <a:stretch/>
        </p:blipFill>
        <p:spPr>
          <a:xfrm>
            <a:off x="4519440" y="3357720"/>
            <a:ext cx="3810240" cy="1003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tetramino2"/>
          <p:cNvPicPr/>
          <p:nvPr/>
        </p:nvPicPr>
        <p:blipFill>
          <a:blip r:embed="rId3"/>
          <a:stretch/>
        </p:blipFill>
        <p:spPr>
          <a:xfrm>
            <a:off x="760320" y="3718080"/>
            <a:ext cx="3029040" cy="1581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26" descr="linia"/>
          <p:cNvPicPr/>
          <p:nvPr/>
        </p:nvPicPr>
        <p:blipFill>
          <a:blip r:embed="rId4"/>
          <a:stretch/>
        </p:blipFill>
        <p:spPr>
          <a:xfrm>
            <a:off x="1908000" y="1036800"/>
            <a:ext cx="5040360" cy="623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24"/>
          <p:cNvSpPr/>
          <p:nvPr/>
        </p:nvSpPr>
        <p:spPr>
          <a:xfrm>
            <a:off x="4648320" y="1447920"/>
            <a:ext cx="4244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4089240" y="1814400"/>
            <a:ext cx="435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ая задача- определение количества фигур, которые получаются из четырех квадратов. Получаем 5 фигур тетрамин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6.46799999475479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6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44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7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7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СТОМАХИОН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22" name="Picture 6" descr="arhimed1"/>
          <p:cNvPicPr/>
          <p:nvPr/>
        </p:nvPicPr>
        <p:blipFill>
          <a:blip r:embed="rId1"/>
          <a:stretch/>
        </p:blipFill>
        <p:spPr>
          <a:xfrm>
            <a:off x="5538960" y="1641600"/>
            <a:ext cx="2028600" cy="215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26" descr="linia"/>
          <p:cNvPicPr/>
          <p:nvPr/>
        </p:nvPicPr>
        <p:blipFill>
          <a:blip r:embed="rId2"/>
          <a:stretch/>
        </p:blipFill>
        <p:spPr>
          <a:xfrm>
            <a:off x="1979640" y="836640"/>
            <a:ext cx="5329080" cy="593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25"/>
          <p:cNvSpPr/>
          <p:nvPr/>
        </p:nvSpPr>
        <p:spPr>
          <a:xfrm>
            <a:off x="685800" y="3357720"/>
            <a:ext cx="410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стомахион была известна еще до нашей эры. Создателем игры является Архимед. Сделать игру несложно, необходимо взять прямоугольник, одна сторона которого в два раза больше друго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826920" y="1405080"/>
            <a:ext cx="3329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3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ПОЛИМИНО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27" name="Picture 1025" descr="linia"/>
          <p:cNvPicPr/>
          <p:nvPr/>
        </p:nvPicPr>
        <p:blipFill>
          <a:blip r:embed="rId1"/>
          <a:stretch/>
        </p:blipFill>
        <p:spPr>
          <a:xfrm>
            <a:off x="2124000" y="1260360"/>
            <a:ext cx="4714920" cy="373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28" descr="pic1"/>
          <p:cNvPicPr/>
          <p:nvPr/>
        </p:nvPicPr>
        <p:blipFill>
          <a:blip r:embed="rId2"/>
          <a:stretch/>
        </p:blipFill>
        <p:spPr>
          <a:xfrm>
            <a:off x="1258920" y="4672080"/>
            <a:ext cx="1646280" cy="163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27"/>
          <p:cNvSpPr/>
          <p:nvPr/>
        </p:nvSpPr>
        <p:spPr>
          <a:xfrm>
            <a:off x="1042920" y="2033640"/>
            <a:ext cx="727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рмин "полиомино" ввёл в употребление известный математик Соломон В. Голомб. В своей статье "Шахматные доски и полиомино" Голомб определил полиомино как односвязную фигуру, составленную из квадратов. Шахматист сказал бы, добавляет Голомб, что фигуры составлены "ходом ладьи", потому что ладья могла бы обойти их за конечное число ходо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6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6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Times New Roman"/>
              </a:rPr>
              <a:t>ОРИГАМИ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31" name="Picture 8" descr="flower1"/>
          <p:cNvPicPr/>
          <p:nvPr/>
        </p:nvPicPr>
        <p:blipFill>
          <a:blip r:embed="rId1"/>
          <a:stretch/>
        </p:blipFill>
        <p:spPr>
          <a:xfrm>
            <a:off x="7021440" y="2997360"/>
            <a:ext cx="1428840" cy="1266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flower2"/>
          <p:cNvPicPr/>
          <p:nvPr/>
        </p:nvPicPr>
        <p:blipFill>
          <a:blip r:embed="rId2"/>
          <a:stretch/>
        </p:blipFill>
        <p:spPr>
          <a:xfrm>
            <a:off x="971640" y="4264200"/>
            <a:ext cx="1428840" cy="1409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flower3"/>
          <p:cNvPicPr/>
          <p:nvPr/>
        </p:nvPicPr>
        <p:blipFill>
          <a:blip r:embed="rId3"/>
          <a:stretch/>
        </p:blipFill>
        <p:spPr>
          <a:xfrm>
            <a:off x="971640" y="1438200"/>
            <a:ext cx="1428840" cy="1438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0" descr="linia"/>
          <p:cNvPicPr/>
          <p:nvPr/>
        </p:nvPicPr>
        <p:blipFill>
          <a:blip r:embed="rId4"/>
          <a:stretch/>
        </p:blipFill>
        <p:spPr>
          <a:xfrm>
            <a:off x="2743200" y="701640"/>
            <a:ext cx="3809880" cy="3729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24"/>
          <p:cNvSpPr/>
          <p:nvPr/>
        </p:nvSpPr>
        <p:spPr>
          <a:xfrm>
            <a:off x="2843280" y="1447920"/>
            <a:ext cx="56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гами- это чудо. Оригами- складывание фигурок из бумаги. Создание разнообразных фигурок – настоящее искусство. Оригами распространилось по всему свету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25"/>
          <p:cNvSpPr/>
          <p:nvPr/>
        </p:nvSpPr>
        <p:spPr>
          <a:xfrm>
            <a:off x="971640" y="299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е искусство пришло из Китая, откуда Япония черпала духовные богатства. «Великий квадрат не имеет предела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26"/>
          <p:cNvSpPr/>
          <p:nvPr/>
        </p:nvSpPr>
        <p:spPr>
          <a:xfrm>
            <a:off x="3203640" y="4622760"/>
            <a:ext cx="525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драт выступает как оригинальный конструктор; его трансформируют бесконечно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83.334999084473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6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1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4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6:20:10Z</dcterms:created>
  <dc:creator>User</dc:creator>
  <dc:description/>
  <dc:language>en-US</dc:language>
  <cp:lastModifiedBy>1</cp:lastModifiedBy>
  <dcterms:modified xsi:type="dcterms:W3CDTF">2018-11-17T07:20:44Z</dcterms:modified>
  <cp:revision>139</cp:revision>
  <dc:subject/>
  <dc:title>УДИВИТЕЛЬНЫЙ  КВАДРАТ</dc:title>
</cp:coreProperties>
</file>