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FFF-C5C6-458C-B1A5-6AFC934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EBB-C340-4794-A2D7-13DCCBA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9CF-4C1F-4D34-AD8B-DC025615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279-D508-4413-BB23-3FFE47AC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C24-0449-4B54-985B-CF9AF246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BF30-E548-4114-95B0-1A1E4532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B51-56A4-4380-B7E3-D39C337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2502-E155-488E-AC0F-8E2E202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AECD-AB0F-4C56-83BB-60F2A0CE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750A-F97D-4470-9668-FC8093BF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EF18-37AE-4ACE-A2F8-F220737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5AC-BED5-4046-A79F-266C74CA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095F-1581-418F-B92F-C43E651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FF4F-3CC4-4BE7-B753-B01157E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97D0-0F5A-4207-963F-0591011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A1EC-E08E-43A4-8C6D-4C820127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F5F-D35C-43A1-A8AD-2F9D083A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D76-D858-4C1A-B9E3-EB374D7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001-9FA1-40BB-993C-79CB91E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769-80D0-4BAF-A02F-0D104A6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549-D4B2-49A3-A17C-6B9DA1A8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6D5-1492-456A-B694-DFAE864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982-91C8-489E-AC85-C84F439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D72-E6B8-4A96-802A-BDBE9C1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65BE-D4D4-4D68-9E28-326A73D932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6B3-DA22-43EC-8090-D9A9D5B0F4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 rot="5400000">
            <a:off x="5719680" y="2206440"/>
            <a:ext cx="1439640" cy="1440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 rot="8083200">
            <a:off x="6161040" y="4054320"/>
            <a:ext cx="2019240" cy="2044800"/>
          </a:xfrm>
          <a:prstGeom prst="rtTriangl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 rot="2692800">
            <a:off x="7586280" y="2643120"/>
            <a:ext cx="2019240" cy="200808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 rot="18901200">
            <a:off x="5935320" y="3142800"/>
            <a:ext cx="1015920" cy="1011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rot="13489200">
            <a:off x="5214600" y="3862080"/>
            <a:ext cx="1009800" cy="100800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 rot="18877800">
            <a:off x="6654240" y="2422800"/>
            <a:ext cx="1009800" cy="1008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438960" y="2206800"/>
            <a:ext cx="2160360" cy="720720"/>
          </a:xfrm>
          <a:prstGeom prst="parallelogram">
            <a:avLst>
              <a:gd name="adj" fmla="val 10043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76360" y="2030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ТАНГРАМ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11280" y="64620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linia"/>
          <p:cNvPicPr/>
          <p:nvPr/>
        </p:nvPicPr>
        <p:blipFill>
          <a:blip r:embed="rId1"/>
          <a:stretch/>
        </p:blipFill>
        <p:spPr>
          <a:xfrm>
            <a:off x="1406520" y="950760"/>
            <a:ext cx="5829480" cy="571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324000" y="191628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разрезать квадрат, как показано на рисунке, то получится популярная китайская головоломка ТАНГРАМ, которую в Китае называют «чи чао ту», т. е. умственная головоломка из семи частей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ПЕНТАМИНО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9" name="Picture 4" descr="pentamino"/>
          <p:cNvPicPr/>
          <p:nvPr/>
        </p:nvPicPr>
        <p:blipFill>
          <a:blip r:embed="rId1"/>
          <a:stretch/>
        </p:blipFill>
        <p:spPr>
          <a:xfrm>
            <a:off x="250920" y="16416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entamino1"/>
          <p:cNvPicPr/>
          <p:nvPr/>
        </p:nvPicPr>
        <p:blipFill>
          <a:blip r:embed="rId2"/>
          <a:stretch/>
        </p:blipFill>
        <p:spPr>
          <a:xfrm>
            <a:off x="4973760" y="4129200"/>
            <a:ext cx="3159000" cy="215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5" descr="linia"/>
          <p:cNvPicPr/>
          <p:nvPr/>
        </p:nvPicPr>
        <p:blipFill>
          <a:blip r:embed="rId3"/>
          <a:stretch/>
        </p:blipFill>
        <p:spPr>
          <a:xfrm>
            <a:off x="2124000" y="765000"/>
            <a:ext cx="4969080" cy="682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24"/>
          <p:cNvSpPr/>
          <p:nvPr/>
        </p:nvSpPr>
        <p:spPr>
          <a:xfrm>
            <a:off x="3924360" y="1671480"/>
            <a:ext cx="49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игра была придумана в 50-х годах ХХ в. американским математиком       С. Голомбом, она заключается в складывании различных фигур из заданного набора пентамино. Набор содержит 12 фигурок, каждая из которых составлена из 5 одинаковых квадрат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685800" y="4724280"/>
            <a:ext cx="410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набор пентамино сложите данные фигур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2.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2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9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54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ТЕТРАМИНО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15" name="Picture 4" descr="tetramino"/>
          <p:cNvPicPr/>
          <p:nvPr/>
        </p:nvPicPr>
        <p:blipFill>
          <a:blip r:embed="rId1"/>
          <a:stretch/>
        </p:blipFill>
        <p:spPr>
          <a:xfrm>
            <a:off x="555480" y="1666800"/>
            <a:ext cx="2705400" cy="155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tetramino1"/>
          <p:cNvPicPr/>
          <p:nvPr/>
        </p:nvPicPr>
        <p:blipFill>
          <a:blip r:embed="rId2"/>
          <a:stretch/>
        </p:blipFill>
        <p:spPr>
          <a:xfrm>
            <a:off x="4519440" y="3357720"/>
            <a:ext cx="3810240" cy="10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tetramino2"/>
          <p:cNvPicPr/>
          <p:nvPr/>
        </p:nvPicPr>
        <p:blipFill>
          <a:blip r:embed="rId3"/>
          <a:stretch/>
        </p:blipFill>
        <p:spPr>
          <a:xfrm>
            <a:off x="760320" y="3718080"/>
            <a:ext cx="3029040" cy="1581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6" descr="linia"/>
          <p:cNvPicPr/>
          <p:nvPr/>
        </p:nvPicPr>
        <p:blipFill>
          <a:blip r:embed="rId4"/>
          <a:stretch/>
        </p:blipFill>
        <p:spPr>
          <a:xfrm>
            <a:off x="1908000" y="1036800"/>
            <a:ext cx="5040360" cy="623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24"/>
          <p:cNvSpPr/>
          <p:nvPr/>
        </p:nvSpPr>
        <p:spPr>
          <a:xfrm>
            <a:off x="4648320" y="1447920"/>
            <a:ext cx="424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4089240" y="1814400"/>
            <a:ext cx="435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ая задача- определение количества фигур, которые получаются из четырех квадратов. Получаем 5 фигур тетрамин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6.46799999475479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6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44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7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7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СТОМАХИОН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22" name="Picture 6" descr="arhimed1"/>
          <p:cNvPicPr/>
          <p:nvPr/>
        </p:nvPicPr>
        <p:blipFill>
          <a:blip r:embed="rId1"/>
          <a:stretch/>
        </p:blipFill>
        <p:spPr>
          <a:xfrm>
            <a:off x="5538960" y="1641600"/>
            <a:ext cx="2028600" cy="215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26" descr="linia"/>
          <p:cNvPicPr/>
          <p:nvPr/>
        </p:nvPicPr>
        <p:blipFill>
          <a:blip r:embed="rId2"/>
          <a:stretch/>
        </p:blipFill>
        <p:spPr>
          <a:xfrm>
            <a:off x="1979640" y="836640"/>
            <a:ext cx="5329080" cy="593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25"/>
          <p:cNvSpPr/>
          <p:nvPr/>
        </p:nvSpPr>
        <p:spPr>
          <a:xfrm>
            <a:off x="685800" y="3357720"/>
            <a:ext cx="410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стомахион была известна еще до нашей эры. Создателем игры является Архимед. Сделать игру несложно, необходимо взять прямоугольник, одна сторона которого в два раза больше друго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826920" y="1405080"/>
            <a:ext cx="3329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3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ПОЛИМИНО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27" name="Picture 1025" descr="linia"/>
          <p:cNvPicPr/>
          <p:nvPr/>
        </p:nvPicPr>
        <p:blipFill>
          <a:blip r:embed="rId1"/>
          <a:stretch/>
        </p:blipFill>
        <p:spPr>
          <a:xfrm>
            <a:off x="2124000" y="1260360"/>
            <a:ext cx="4714920" cy="373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8" descr="pic1"/>
          <p:cNvPicPr/>
          <p:nvPr/>
        </p:nvPicPr>
        <p:blipFill>
          <a:blip r:embed="rId2"/>
          <a:stretch/>
        </p:blipFill>
        <p:spPr>
          <a:xfrm>
            <a:off x="1258920" y="4672080"/>
            <a:ext cx="1646280" cy="163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27"/>
          <p:cNvSpPr/>
          <p:nvPr/>
        </p:nvSpPr>
        <p:spPr>
          <a:xfrm>
            <a:off x="1042920" y="2033640"/>
            <a:ext cx="727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рмин "полиомино" ввёл в употребление известный математик Соломон В. Голомб. В своей статье "Шахматные доски и полиомино" Голомб определил полиомино как односвязную фигуру, составленную из квадратов. Шахматист сказал бы, добавляет Голомб, что фигуры составлены "ходом ладьи", потому что ладья могла бы обойти их за конечное число ход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6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6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ОРИГАМИ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31" name="Picture 8" descr="flower1"/>
          <p:cNvPicPr/>
          <p:nvPr/>
        </p:nvPicPr>
        <p:blipFill>
          <a:blip r:embed="rId1"/>
          <a:stretch/>
        </p:blipFill>
        <p:spPr>
          <a:xfrm>
            <a:off x="7021440" y="2997360"/>
            <a:ext cx="1428840" cy="126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flower2"/>
          <p:cNvPicPr/>
          <p:nvPr/>
        </p:nvPicPr>
        <p:blipFill>
          <a:blip r:embed="rId2"/>
          <a:stretch/>
        </p:blipFill>
        <p:spPr>
          <a:xfrm>
            <a:off x="971640" y="4264200"/>
            <a:ext cx="1428840" cy="140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flower3"/>
          <p:cNvPicPr/>
          <p:nvPr/>
        </p:nvPicPr>
        <p:blipFill>
          <a:blip r:embed="rId3"/>
          <a:stretch/>
        </p:blipFill>
        <p:spPr>
          <a:xfrm>
            <a:off x="971640" y="1438200"/>
            <a:ext cx="1428840" cy="1438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0" descr="linia"/>
          <p:cNvPicPr/>
          <p:nvPr/>
        </p:nvPicPr>
        <p:blipFill>
          <a:blip r:embed="rId4"/>
          <a:stretch/>
        </p:blipFill>
        <p:spPr>
          <a:xfrm>
            <a:off x="2743200" y="701640"/>
            <a:ext cx="3809880" cy="372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24"/>
          <p:cNvSpPr/>
          <p:nvPr/>
        </p:nvSpPr>
        <p:spPr>
          <a:xfrm>
            <a:off x="2843280" y="1447920"/>
            <a:ext cx="56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гами- это чудо. Оригами- складывание фигурок из бумаги. Создание разнообразных фигурок – настоящее искусство. Оригами распространилось по всему свету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25"/>
          <p:cNvSpPr/>
          <p:nvPr/>
        </p:nvSpPr>
        <p:spPr>
          <a:xfrm>
            <a:off x="971640" y="299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е искусство пришло из Китая, откуда Япония черпала духовные богатства. «Великий квадрат не имеет предела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6"/>
          <p:cNvSpPr/>
          <p:nvPr/>
        </p:nvSpPr>
        <p:spPr>
          <a:xfrm>
            <a:off x="3203640" y="4622760"/>
            <a:ext cx="525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 выступает как оригинальный конструктор; его трансформируют бесконечн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83.334999084473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6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1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20:44Z</dcterms:modified>
  <cp:revision>139</cp:revision>
  <dc:subject/>
  <dc:title>УДИВИТЕЛЬНЫЙ  КВАДРАТ</dc:title>
</cp:coreProperties>
</file>