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92F-73D2-4AE7-ABCF-6D4B33B1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B67-4617-4E86-86B9-4747CED9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18E-38B9-41B9-B26B-5370120D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953-C1A2-406D-8DEF-66254B72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8CFF-91F3-49B6-A4DB-FB24F7D1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3559-F397-4AB1-A36D-74EABCA7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EF8F-B93E-4039-ACAA-E2AB0D72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ABC4-EDC1-4E07-A269-03CFEDAE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EBEE-9223-4DB2-B842-032A0721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FB34-D276-4C6D-B0CE-A03D3B71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2F0A-79B1-4956-B3DB-62DF566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9DC-B125-464E-BF30-BC3AE0C4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3EAD-EA43-499F-8AE7-3D492F19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7DB8-994C-4D91-82FB-019F05EE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ACCF-75B8-4737-9C01-9A851E7C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422C-FA3C-4E46-92BE-84BBEE68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BF19-DAA1-43CB-9CBA-38635866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7D5-23C7-4E48-BA37-19F81E70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CA1-D3A4-4516-B9D6-FB73FA61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533-A75B-42D2-AAC2-E276F1F9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917-1F6A-47C3-8386-E8A9FE87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CFB-3748-4B2A-BDCD-313385E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EAE-7694-46A5-BF66-1DD50F82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7AE-89FD-4A5B-B11F-8BEE9D42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D2E5-E9F2-433B-9D8F-FA31022CB2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2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0956-08B8-4B66-8849-98D3198D9D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6:20:10Z</dcterms:created>
  <dc:creator>User</dc:creator>
  <dc:description/>
  <dc:language>en-US</dc:language>
  <cp:lastModifiedBy>1</cp:lastModifiedBy>
  <dcterms:modified xsi:type="dcterms:W3CDTF">2018-11-17T07:24:28Z</dcterms:modified>
  <cp:revision>140</cp:revision>
  <dc:subject/>
  <dc:title>УДИВИТЕЛЬНЫЙ  КВАДРАТ</dc:title>
</cp:coreProperties>
</file>