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278-EFF2-480A-B8A9-4EFDEDF7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3F1-2B58-4B4C-95F6-7BD61D12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21C-171F-4370-B7D3-5B3845D1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EED-3E1C-425E-BC45-24F7AC9D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CCAA-9BF8-4183-A670-7F7A4C79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6F91-43BC-440C-B4DA-2031A61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BE9-B359-4936-8656-A110A944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60D-9788-44DF-A296-970D93AA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4A9-2B26-4C74-A2D2-8479E56E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93B3-DC38-403D-9641-1D39459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B0B-9DA3-4ED5-B30F-D8DDE522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547-F310-47A2-BDB8-49292048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CEC3-E841-4B4E-B508-7C6B89D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D85-6826-4325-9A94-C9D3E36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F73E-063F-4277-849B-5FCFA84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635-C499-4A47-B2AF-57033DF6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659-410C-42A7-A337-88A6A64C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E47-8DC7-47B6-A48C-01422BF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D06-F4BC-48EB-AE99-0F45968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F83-59A1-4C64-8685-5702A64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604-9A3A-4436-9C7C-E00FD7B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EE8-EF48-4BAA-87C2-4FE6CA87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E15-FEBB-4AEF-B731-9AA5899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19B-A90A-4DFB-9115-247D744F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98EF-BA3A-40D7-8472-7C9B30BC28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B15-0EA9-4820-831E-36585CE5FC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4:28Z</dcterms:modified>
  <cp:revision>140</cp:revision>
  <dc:subject/>
  <dc:title>УДИВИТЕЛЬНЫЙ  КВАДРАТ</dc:title>
</cp:coreProperties>
</file>