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405-CC9D-472D-985E-69B15A4D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D2D-3658-473B-8B3F-B5173784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86E-AEC6-48E0-A728-3DC0F014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886-3CEB-403F-9C82-4B41B24A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F874-331E-46D6-92DF-1201A1CA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D40F-349F-4E38-9016-3739C9EE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5EDE-D6F2-45F2-8B9D-6B547604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C965-059B-4064-B415-298FF4D3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E918-90AC-4BBF-8565-CCE660A9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2FD2-CC1F-4C2A-B76A-A2B59293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A77F-9C8F-4B01-888B-7C08942C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756-46C6-4481-90BF-75F00734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7BFB-718D-4D7D-A029-BF2A7429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81D9-9346-4989-89FB-5CFFE195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83B8-7D2A-4BF1-9910-DE16F51D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CA45-1350-438C-98B3-FF7D292D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019F-8E8C-4A47-9A90-B9B0B7F0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51F5-EF8D-4A5D-96D2-C994D99D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0DE-93B7-4F75-A5CD-439B4B24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F70-52B8-4962-B06C-8EB4E730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65A-80A8-4EEA-93FA-19B3181B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BAA-1784-4473-88EE-756FF86F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EF7-4694-449A-BA2A-FB319C1F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E22-CFCD-4591-B582-F08FA18D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d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5415-8F63-4C28-9305-5FC52A465A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d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52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A2BB-C9FC-4FDA-999D-E2D5F60D73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вадрат - это неисчерпаемая фигура, применяемая во многих сферах и имеющая свойства, интересные для каждого, кто стремится расширить рамки своих геометрических представлений.</a:t>
            </a:r>
            <a:br>
              <a:rPr sz="4000"/>
            </a:b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6:20:10Z</dcterms:created>
  <dc:creator>User</dc:creator>
  <dc:description/>
  <dc:language>en-US</dc:language>
  <cp:lastModifiedBy>1</cp:lastModifiedBy>
  <dcterms:modified xsi:type="dcterms:W3CDTF">2018-11-17T07:26:31Z</dcterms:modified>
  <cp:revision>141</cp:revision>
  <dc:subject/>
  <dc:title>УДИВИТЕЛЬНЫЙ  КВАДРАТ</dc:title>
</cp:coreProperties>
</file>