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20FD-C5EC-4036-B93A-0F0CFCD1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2047-85F3-4221-A2F8-B0D9A09A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00C-2186-4900-A3FA-52AA4947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287-195F-4F8E-8624-33511B5A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32DA-C092-41F5-8598-DB7C3106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3CA2-2991-412B-BA88-5710470C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6105-A963-4DAB-A81A-E6826438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9829-D292-413E-8419-0100D3C1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9F4F-F5C6-44AF-8B69-8BB8813B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88BC-1DC2-434B-B75C-13D533C0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6346-A0CB-4357-928F-09EC665C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4609-8B1D-4B5D-BBAC-B6D30EBF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9EBA-C4D5-48F2-B30D-BA2DD3B9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A473-13E8-4D29-B310-C57FC51C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A2F3-005A-49AA-9F14-55B658F4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E1C7-CF77-46E3-8892-483D0199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DA04-B9D1-45AC-ABE2-D5E60E56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1771-E21D-425C-8792-59A22562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A64-169F-478E-9989-C2765DB9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4DC1-D4C1-4273-B0A0-8FF38D5E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0BCF-117F-493F-A676-AFA3043E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C27-B19B-40EE-8538-5C236287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BAFF-1379-4F94-A85E-E2EB9042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D6F-9892-4348-B91D-9033A476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d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7323-612B-4D98-ADBA-F152ABF636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d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52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96B2-EA89-4229-B307-2B9E37CF4B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вадрат - это неисчерпаемая фигура, применяемая во многих сферах и имеющая свойства, интересные для каждого, кто стремится расширить рамки своих геометрических представлений.</a:t>
            </a:r>
            <a:br>
              <a:rPr sz="4000"/>
            </a:b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6:20:10Z</dcterms:created>
  <dc:creator>User</dc:creator>
  <dc:description/>
  <dc:language>en-US</dc:language>
  <cp:lastModifiedBy>1</cp:lastModifiedBy>
  <dcterms:modified xsi:type="dcterms:W3CDTF">2018-11-17T07:26:31Z</dcterms:modified>
  <cp:revision>141</cp:revision>
  <dc:subject/>
  <dc:title>УДИВИТЕЛЬНЫЙ  КВАДРАТ</dc:title>
</cp:coreProperties>
</file>