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5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7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7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7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7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8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8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8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8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5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8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9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6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6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6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6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6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7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A10B-1072-4A46-87E4-309928241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580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59640"/>
            <a:ext cx="77580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CDBD-D2CA-4CBE-B05E-41BD28FC9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5964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9880" y="395964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1AFA-ACE1-49CB-8759-F8A828A48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7360" y="160020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0320" y="160020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5964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7360" y="395964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0320" y="395964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3B44-2876-4BC2-8CD6-B7F51CB48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21556-C085-48F9-87DB-A9C3E72D90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580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BB399-9DCC-49F7-AE83-9545AFF34B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58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FC953-7958-4645-B5C7-3EC93A7298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857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857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13FA1-1246-4EED-86DB-546B6D7814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EE1D-3D3E-4D80-9598-76130763CD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580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839A1-5FE7-493D-B423-D2CD5AD5FA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857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5964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09743-073C-40A2-ACB9-FDF79BEED5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580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62B0-6931-4380-AE41-89378F89F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857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89880" y="395964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08FE0-308C-42FF-85FF-78D5FF482A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59640"/>
            <a:ext cx="77580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9A0DA-68A4-47B4-AB9F-6DB9616AF6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580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59640"/>
            <a:ext cx="77580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F1EDB-8220-414E-AB1E-6B7D45CF95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5964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89880" y="395964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418FE-5AF4-48E5-A64B-3512CD1CAF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37360" y="160020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0320" y="160020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5964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37360" y="395964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0320" y="395964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7DF88-81B3-4FD5-B8DA-E13A1C6505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58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BDBB-00BD-4EE4-91CC-D40128C7B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857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857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35F1-3C94-45FE-AF95-35CBFE3C3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7FC8-EC43-4B1B-A547-43E773318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580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E104-0F17-406D-A532-076DA5A59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857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5964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3B8C-AE4B-4214-9736-80DC8A687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857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89880" y="395964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2A61-7E84-4CEB-A2AB-4D42FDB2E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59640"/>
            <a:ext cx="77580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48547-EB4F-4627-A39F-F4F2F68F7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72400" cy="4862520"/>
            <a:chOff x="0" y="0"/>
            <a:chExt cx="8672400" cy="48625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5440" cy="48625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291520" cy="168120"/>
              <a:chOff x="380880" y="1417680"/>
              <a:chExt cx="8291520" cy="1681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14400" cy="1681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291520" cy="0"/>
              </a:xfrm>
              <a:prstGeom prst="line">
                <a:avLst/>
              </a:prstGeom>
              <a:ln cap="sq"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58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6251400"/>
            <a:ext cx="1973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24852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680" y="6248520"/>
            <a:ext cx="18907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ECDD0-3A93-4D24-9D51-655EAAB4DA4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cap="sq"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48720" cy="5929200"/>
            <a:chOff x="0" y="0"/>
            <a:chExt cx="8748720" cy="59292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38440" cy="48625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48720" cy="2423880"/>
              <a:chOff x="0" y="3505320"/>
              <a:chExt cx="8748720" cy="24238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58000" cy="24238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34160" cy="21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76320" cy="0"/>
              </a:xfrm>
              <a:prstGeom prst="line">
                <a:avLst/>
              </a:prstGeom>
              <a:ln cap="sq"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62920" cy="290520"/>
              <a:chOff x="635040" y="533520"/>
              <a:chExt cx="8062920" cy="2905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24240" cy="290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62920" cy="0"/>
              </a:xfrm>
              <a:prstGeom prst="line">
                <a:avLst/>
              </a:prstGeom>
              <a:ln cap="sq"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2640"/>
            <a:ext cx="66150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3962520"/>
            <a:ext cx="68500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Для добавления текста щёлкните мыш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2960" y="6251400"/>
            <a:ext cx="189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6248520"/>
            <a:ext cx="2887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ldNum" idx="2"/>
          </p:nvPr>
        </p:nvSpPr>
        <p:spPr>
          <a:xfrm>
            <a:off x="6781680" y="6248520"/>
            <a:ext cx="18907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6F146-1BA3-49B8-81AB-93EC9700F789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4360" y="1636560"/>
            <a:ext cx="77724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й друг живет со мной в квартир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разъезжает по стран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все, что делается в мир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раньше всех расскажет м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нимет утром на зарядк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ом мне песенки спое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загадает мне загадку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от меня ответа жд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3333"/>
                </a:solidFill>
                <a:latin typeface="Times New Roman"/>
              </a:rPr>
              <a:t>                 </a:t>
            </a:r>
            <a:r>
              <a:rPr b="0" lang="ru-RU" sz="4200" spc="-1" strike="noStrike">
                <a:solidFill>
                  <a:srgbClr val="ff3333"/>
                </a:solidFill>
                <a:latin typeface="Times New Roman"/>
              </a:rPr>
              <a:t>ЗАГАД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1440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8304d"/>
                </a:solidFill>
                <a:latin typeface="Times New Roman"/>
              </a:rPr>
              <a:t>Принципы радиосвяз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36720" y="1600200"/>
            <a:ext cx="7559640" cy="3152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7320"/>
            <a:ext cx="7763040" cy="13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4967280"/>
            <a:ext cx="7763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диотелефонная связь — передача звуковой информации с помощью электромагнитных вол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611680" y="3432240"/>
            <a:ext cx="35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71600" y="1504800"/>
            <a:ext cx="6813720" cy="5110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93880" y="-20520"/>
            <a:ext cx="777060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8304d"/>
                </a:solidFill>
                <a:latin typeface="Times New Roman"/>
              </a:rPr>
              <a:t>Модуляция -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оцесс изменения амплитуды колебаний высокой (несущей) частоты колебаниями низкой (звуковой )частоты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8304d"/>
                </a:solidFill>
                <a:latin typeface="Times New Roman"/>
              </a:rPr>
              <a:t>Детектирование</a:t>
            </a:r>
            <a:r>
              <a:rPr b="1" lang="ru-RU" sz="2800" spc="-1" strike="noStrike">
                <a:solidFill>
                  <a:srgbClr val="f8304d"/>
                </a:solidFill>
                <a:latin typeface="Times New Roman"/>
              </a:rPr>
              <a:t> -</a:t>
            </a:r>
            <a:r>
              <a:rPr b="1" lang="ru-RU" sz="4400" spc="-1" strike="noStrike">
                <a:solidFill>
                  <a:srgbClr val="f8304d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цесс выделения из модулированных колебаний высокой частоты звукового сигнала, т.е. колебаний низкой частоты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4760" y="17985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0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8304d"/>
                </a:solidFill>
                <a:latin typeface="Times New Roman"/>
              </a:rPr>
              <a:t>Радиоизлучение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600200"/>
            <a:ext cx="8002440" cy="51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елится на несколько участк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28680">
              <a:lnSpc>
                <a:spcPct val="8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амые короткие радиоволны используют для </a:t>
            </a: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Интернета, сотовой и спутниковой телефо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28680">
              <a:lnSpc>
                <a:spcPct val="8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Дм,м,УКВ занимают </a:t>
            </a: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местные теле и радиостан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28680">
              <a:lnSpc>
                <a:spcPct val="8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КВ служат </a:t>
            </a: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для глобальной радиосвяз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28680">
              <a:lnSpc>
                <a:spcPct val="8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СВ и ДВ волны используют </a:t>
            </a: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для регио-нального радиовещ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28680">
              <a:lnSpc>
                <a:spcPct val="8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Сверхдлинные волны от 1км до 1000км используют </a:t>
            </a: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для связи с подводными лодками, для поиска полезных ископаем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8304d"/>
                </a:solidFill>
                <a:latin typeface="Times New Roman"/>
              </a:rPr>
              <a:t>Тест по материалам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Что такое радиотелефонная связ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колебание распространяющееся в простран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передача звуковой информации с помощью электромагнитных вол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распространяющееся в пространстве магнитные по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распространяющееся в пространстве электрические по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0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277920"/>
            <a:ext cx="776772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8304d"/>
                </a:solidFill>
                <a:latin typeface="Times New Roman"/>
              </a:rPr>
              <a:t>Тест по материалам уро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79640" y="1800360"/>
            <a:ext cx="6912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Кто изобрел ради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Майкл Фара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Альберт Энштей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А.С.Поп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Никола Тес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8304d"/>
                </a:solidFill>
                <a:latin typeface="Times New Roman"/>
              </a:rPr>
              <a:t>Тест по материалам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98640" y="151452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одуляция – э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сложения низкочастотных и высокочастотных колеб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процесс изменения амплитуды колебаний высокой (несущей) частоты колебаниями низкой (звуковой )часто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устройство в котором происходит наложение низкочастотных волн на высокочастотные вол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устройство в котором происходит изменение частоты высокочастотных колеба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0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8304d"/>
                </a:solidFill>
                <a:latin typeface="Times New Roman"/>
              </a:rPr>
              <a:t>Тест по материалам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92000" y="19494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4. Детектирование – эт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) устройство, распознающее ложь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) устройство, выделяющее низкочастотную волну  из модулированной высокочастотной волны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) устройство, складывающее высокочастотную волну и низкочастотную волн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) Процесс выделения из модулированных колебаний высокой частоты звукового сигнала, т.е. колебаний низкой частоты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0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8304d"/>
                </a:solidFill>
                <a:latin typeface="Times New Roman"/>
              </a:rPr>
              <a:t>Тест по материалам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8640" y="151452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 Когда отмечают «День радио»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7 м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7 мар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14 м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14 мар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0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8304d"/>
                </a:solidFill>
                <a:latin typeface="Times New Roman"/>
              </a:rPr>
              <a:t>Правильные ответы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8640" y="151452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Б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 В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) Б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) Г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) 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13320" y="1608120"/>
            <a:ext cx="3276720" cy="29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0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00280" y="1820880"/>
            <a:ext cx="4554360" cy="3411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48320" y="2149560"/>
            <a:ext cx="3240000" cy="2700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3333"/>
                </a:solidFill>
                <a:latin typeface="Times New Roman"/>
              </a:rPr>
              <a:t>        </a:t>
            </a:r>
            <a:r>
              <a:rPr b="0" lang="ru-RU" sz="4200" spc="-1" strike="noStrike">
                <a:solidFill>
                  <a:srgbClr val="ff3333"/>
                </a:solidFill>
                <a:latin typeface="Times New Roman"/>
              </a:rPr>
              <a:t>РАДИОПРИЕМНИ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8304d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1600200"/>
            <a:ext cx="77691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06280" indent="-20628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0628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На уроке я ра</a:t>
            </a:r>
            <a:r>
              <a:rPr b="0" lang="ru-RU" sz="2800" spc="-1" strike="noStrike">
                <a:solidFill>
                  <a:srgbClr val="000000"/>
                </a:solidFill>
                <a:latin typeface="Arial;Verdana"/>
                <a:ea typeface="Times New Roman"/>
              </a:rPr>
              <a:t>бот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6280" indent="-2062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;Verdana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;Verdana"/>
                <a:ea typeface="Times New Roman"/>
              </a:rPr>
              <a:t>Своей работой на уро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6280" indent="-2062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;Verdana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;Verdana"/>
                <a:ea typeface="Times New Roman"/>
              </a:rPr>
              <a:t>Урок для меня показал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6280" indent="-2062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;Verdana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;Verdana"/>
                <a:ea typeface="Times New Roman"/>
              </a:rPr>
              <a:t>За урок 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6280" indent="-2062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;Verdana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;Verdana"/>
                <a:ea typeface="Times New Roman"/>
              </a:rPr>
              <a:t>Мое настроение ста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6280" indent="-2062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;Verdana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;Verdana"/>
                <a:ea typeface="Times New Roman"/>
              </a:rPr>
              <a:t>Материал урока мне бы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111640" y="4208400"/>
            <a:ext cx="3791160" cy="2343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0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4285">
                                          <p:val>
                                            <p:strVal val="#ppt_h/2"/>
                                          </p:val>
                                        </p:tav>
                                        <p:tav tm="28571">
                                          <p:val>
                                            <p:strVal val="#ppt_h"/>
                                          </p:val>
                                        </p:tav>
                                        <p:tav tm="42857">
                                          <p:val>
                                            <p:strVal val="#ppt_h/2"/>
                                          </p:val>
                                        </p:tav>
                                        <p:tav tm="57142">
                                          <p:val>
                                            <p:strVal val="#ppt_h"/>
                                          </p:val>
                                        </p:tav>
                                        <p:tav tm="71428">
                                          <p:val>
                                            <p:strVal val="#ppt_h/2"/>
                                          </p:val>
                                        </p:tav>
                                        <p:tav tm="85714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2500">
                                          <p:val>
                                            <p:strVal val="#ppt_y-.2"/>
                                          </p:val>
                                        </p:tav>
                                        <p:tav tm="25000">
                                          <p:val>
                                            <p:strVal val="#ppt_y"/>
                                          </p:val>
                                        </p:tav>
                                        <p:tav tm="375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2500">
                                          <p:val>
                                            <p:strVal val="#ppt_y-.1"/>
                                          </p:val>
                                        </p:tav>
                                        <p:tav tm="75000">
                                          <p:val>
                                            <p:strVal val="#ppt_y"/>
                                          </p:val>
                                        </p:tav>
                                        <p:tav tm="875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8304d"/>
                </a:solidFill>
                <a:latin typeface="Times New Roman"/>
              </a:rPr>
              <a:t>Спасибо за урок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81374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3333"/>
                </a:solidFill>
                <a:latin typeface="Times New Roman"/>
              </a:rPr>
              <a:t>А ЗНАЕТЕ ЛИ ВЫ ЧТО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  Почти 75% людей слушают радио в автомобиле, половина — на кухне, а четверть — даже в ва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  Кто такие хакеры? Как связаны хакеры и ради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3333"/>
                </a:solidFill>
                <a:latin typeface="Arial"/>
              </a:rPr>
              <a:t>***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8304d"/>
                </a:solidFill>
                <a:latin typeface="Arial"/>
              </a:rPr>
              <a:t>Тема: «Изобретение радио А.С. Поповым. Принципы радиосвязи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94000" y="4037040"/>
            <a:ext cx="133848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189000"/>
            <a:ext cx="792468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Times New Roman"/>
              </a:rPr>
              <a:t>Цитата к уроку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1844640"/>
            <a:ext cx="8280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8304d"/>
                </a:solidFill>
                <a:latin typeface="Arial"/>
              </a:rPr>
              <a:t>Наука и техника не имеют границ и национальности. Они принадлежат всему человечеству. Но создают их живые люди – учёные и изобретатели.          </a:t>
            </a:r>
            <a:r>
              <a:rPr b="1" lang="ru-RU" sz="3600" spc="-1" strike="noStrike">
                <a:solidFill>
                  <a:srgbClr val="ff3333"/>
                </a:solidFill>
                <a:latin typeface="Arial"/>
              </a:rPr>
              <a:t>***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В.И.Лёвин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3311640" cy="178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14400" y="162000"/>
            <a:ext cx="777240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8304d"/>
                </a:solidFill>
                <a:latin typeface="Times New Roman"/>
              </a:rPr>
              <a:t>ХОЧУ УЗНА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1. Историю создания радио.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радиотелефонная  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зь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3.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Устройство и принцип действия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радиотелефонной связи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4. Где используются радиоволны.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14400" y="162000"/>
            <a:ext cx="777240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f8304d"/>
                </a:solidFill>
                <a:uFillTx/>
                <a:latin typeface="Times New Roman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Ознакомиться с историей создания радио.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Изучить устройство, физический принцип действия и использование радиотелефонной связи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277920"/>
            <a:ext cx="7769160" cy="52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192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e181e"/>
                </a:solidFill>
                <a:latin typeface="Arial"/>
              </a:rPr>
              <a:t>Презентац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e181e"/>
                </a:solidFill>
                <a:latin typeface="Arial"/>
              </a:rPr>
              <a:t>«История создания радио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1440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8304d"/>
                </a:solidFill>
                <a:latin typeface="Times New Roman"/>
              </a:rPr>
              <a:t>Принципы радиосвяз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600200"/>
            <a:ext cx="77709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048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еть  фрагмент видеофильма и ответить на вопрос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Что такое радиотелефонная связ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ак осуществляется процесс передачи информации?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(1 групп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Как осуществляется процесс приема переданной информации?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(2 групп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0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3:54:22Z</dcterms:created>
  <dc:creator>Т </dc:creator>
  <dc:description/>
  <dc:language>en-US</dc:language>
  <cp:lastModifiedBy/>
  <dcterms:modified xsi:type="dcterms:W3CDTF">2018-11-07T07:44:21Z</dcterms:modified>
  <cp:revision>27</cp:revision>
  <dc:subject/>
  <dc:title>Тема: «Изобретение радио А.С. Поповым. Принципы радиосвязи.»</dc:title>
</cp:coreProperties>
</file>