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405B-F850-4EA9-98E3-02728403A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95BC-84F2-41C7-934F-933C1B995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5F84-2BF0-49D0-8339-1CDD976E3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736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032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736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032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9436-4D39-4648-ADC0-9E15149C3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B376-E8E1-4150-AC60-1D60700820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A686-8645-42CA-8125-DDDD3F1ADD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83C8-C043-4245-8338-D745356E2D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BFF9-3411-4257-B463-754D5DB10D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871F-F50C-42A3-8B4A-CEAB748028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580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D3B8-FECD-45F3-817D-CBC04DE67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75EE-ED4D-4DFA-8759-A073EB7F0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EED3-BAC1-4F04-BBD1-A75A860DC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43FC-562B-4320-9AD1-AD0FC4621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0DF7-3C63-4F07-971A-B6E916A2E4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EFEC-F907-49EB-B577-1814E717D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90A9-144A-49DA-B0D9-A6A6B1605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736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0320" y="160020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736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0320" y="3959640"/>
            <a:ext cx="2497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E858-D078-438C-9D86-BDA300C17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7089-7A13-4F4A-8B46-E024A5993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D780-C9F2-4945-8767-D5D151121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004C-7CF3-499F-B4F3-BCFCCB0F8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580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76D6-B4ED-4914-BF3C-8A2654E3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0052-F263-40ED-BE71-EA2BF42FB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9880" y="395964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BF02-B783-46E4-8B87-E8805B1B6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600200"/>
            <a:ext cx="3785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5964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FC5C-7CA0-45A8-96DC-9F25AE258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72400" cy="4862520"/>
            <a:chOff x="0" y="0"/>
            <a:chExt cx="8672400" cy="48625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5440" cy="48625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291520" cy="168120"/>
              <a:chOff x="380880" y="1417680"/>
              <a:chExt cx="8291520" cy="1681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14400" cy="1681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291520" cy="0"/>
              </a:xfrm>
              <a:prstGeom prst="line">
                <a:avLst/>
              </a:prstGeom>
              <a:ln cap="sq"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58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58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73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62FBE-49FF-4994-8C3C-83145CDDCA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48720" cy="5929200"/>
            <a:chOff x="0" y="0"/>
            <a:chExt cx="8748720" cy="59292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38440" cy="48625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48720" cy="2423880"/>
              <a:chOff x="0" y="3505320"/>
              <a:chExt cx="8748720" cy="24238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58000" cy="24238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34160" cy="21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76320" cy="0"/>
              </a:xfrm>
              <a:prstGeom prst="line">
                <a:avLst/>
              </a:prstGeom>
              <a:ln cap="sq"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62920" cy="290520"/>
              <a:chOff x="635040" y="533520"/>
              <a:chExt cx="8062920" cy="2905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24240" cy="290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62920" cy="0"/>
              </a:xfrm>
              <a:prstGeom prst="line">
                <a:avLst/>
              </a:prstGeom>
              <a:ln cap="sq"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150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962520"/>
            <a:ext cx="68500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ля добавления текста щё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89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E9D5A-3621-4784-BD53-7289503927F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163656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друг живет со мной в квартир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разъезжает по стра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все, что делается в мир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раньше всех расскажет м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нимет утром на заряд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 мне песенки спо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загадает мне загадку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т меня ответа жд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                 </a:t>
            </a: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ЗАГАД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Принципы радиосвяз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36720" y="1600200"/>
            <a:ext cx="7559640" cy="315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7320"/>
            <a:ext cx="7763040" cy="13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4967280"/>
            <a:ext cx="7763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диотелефонная связь — передача звуковой информации с помощью электромагнитных вол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611680" y="3432240"/>
            <a:ext cx="355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504800"/>
            <a:ext cx="6813720" cy="511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93880" y="-20520"/>
            <a:ext cx="77706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8304d"/>
                </a:solidFill>
                <a:latin typeface="Times New Roman"/>
              </a:rPr>
              <a:t>Модуляция -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цесс изменения амплитуды колебаний высокой (несущей) частоты колебаниями низкой (звуковой )частоты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8304d"/>
                </a:solidFill>
                <a:latin typeface="Times New Roman"/>
              </a:rPr>
              <a:t>Детектирование</a:t>
            </a:r>
            <a:r>
              <a:rPr b="1" lang="ru-RU" sz="2800" spc="-1" strike="noStrike">
                <a:solidFill>
                  <a:srgbClr val="f8304d"/>
                </a:solidFill>
                <a:latin typeface="Times New Roman"/>
              </a:rPr>
              <a:t> -</a:t>
            </a: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оцесс выделения из модулированных колебаний высокой частоты звукового сигнала, т.е. колебаний низкой частот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4760" y="17985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8304d"/>
                </a:solidFill>
                <a:latin typeface="Times New Roman"/>
              </a:rPr>
              <a:t>Радиоизлучение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600200"/>
            <a:ext cx="800244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елится на несколько участк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амые короткие радиоволны используют для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Интернета, сотовой и спутниковой телефо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Дм,м,УКВ занимаю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местные теле и радиостан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В служа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для глобальной радиосвяз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СВ и ДВ волны использую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для регио-нального радиовещ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28680">
              <a:lnSpc>
                <a:spcPct val="8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верхдлинные волны от 1км до 1000км используют </a:t>
            </a:r>
            <a:r>
              <a:rPr b="1" lang="ru-RU" sz="2800" spc="-1" strike="noStrike">
                <a:solidFill>
                  <a:srgbClr val="891411"/>
                </a:solidFill>
                <a:latin typeface="Arial"/>
              </a:rPr>
              <a:t>для связи с подводными лодками, для поиска полезных ископае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Что такое радиотелефонная связ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лебание распространяющееся в простран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ередача звуковой информации с помощью электромагнитных вол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спространяющееся в пространстве магнитные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пространяющееся в пространстве электрические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0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77920"/>
            <a:ext cx="77677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79640" y="1800360"/>
            <a:ext cx="6912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Кто изобрел ради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Майкл Фар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Альберт Энштей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А.С.По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Никола Те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8640" y="1514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дуляция –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сложения низкочастотных и высокочастотных колеб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роцесс изменения амплитуды колебаний высокой (несущей) частоты колебаниями низкой (звуковой )част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устройство в котором происходит наложение низкочастотных волн на высокочастотные вол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устройство в котором происходит изменение частоты высокочастотных колеб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0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000" y="19494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Детектирование – э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устройство, распознающее лож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устройство, выделяющее низкочастотную волну  из модулированной высокочастотной вол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устройство, складывающее высокочастотную волну и низкочастотную волн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) Процесс выделения из модулированных колебаний высокой частоты звукового сигнала, т.е. колебаний низкой частоты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0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Тест по материалам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8640" y="1514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Когда отмечают «День радио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7 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7 ма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14 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14 мар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0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8304d"/>
                </a:solidFill>
                <a:latin typeface="Times New Roman"/>
              </a:rPr>
              <a:t>Правильные ответы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8640" y="15145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Б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В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 Б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 Г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2868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13320" y="1608120"/>
            <a:ext cx="327672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00280" y="1820880"/>
            <a:ext cx="4554360" cy="341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48320" y="2149560"/>
            <a:ext cx="3240000" cy="270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РАДИОПРИЕМН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600200"/>
            <a:ext cx="77691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6280" indent="-20628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На уроке я ра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бо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Своей работой на уро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Урок для меня показа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За урок 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Мое настроение ст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0628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;Verdana"/>
                <a:ea typeface="Times New Roman"/>
              </a:rPr>
              <a:t>Материал урока мне бы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11640" y="4208400"/>
            <a:ext cx="3791160" cy="2343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8304d"/>
                </a:solidFill>
                <a:latin typeface="Times New Roman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137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3333"/>
                </a:solidFill>
                <a:latin typeface="Times New Roman"/>
              </a:rPr>
              <a:t>А ЗНАЕТЕ ЛИ ВЫ ЧТО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  Почти 75% людей слушают радио в автомобиле, половина — на кухне, а четверть — даже в ва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Кто такие хакеры? Как связаны хакеры и ради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3333"/>
                </a:solidFill>
                <a:latin typeface="Arial"/>
              </a:rPr>
              <a:t>**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8304d"/>
                </a:solidFill>
                <a:latin typeface="Arial"/>
              </a:rPr>
              <a:t>Тема: «Изобретение радио А.С. Поповым. Принципы радиосвязи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94000" y="4037040"/>
            <a:ext cx="133848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189000"/>
            <a:ext cx="79246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</a:rPr>
              <a:t>Цитата к уроку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84464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8304d"/>
                </a:solidFill>
                <a:latin typeface="Arial"/>
              </a:rPr>
              <a:t>Наука и техника не имеют границ и национальности. Они принадлежат всему человечеству. Но создают их живые люди – учёные и изобретатели.          </a:t>
            </a:r>
            <a:r>
              <a:rPr b="1" lang="ru-RU" sz="3600" spc="-1" strike="noStrike">
                <a:solidFill>
                  <a:srgbClr val="ff3333"/>
                </a:solidFill>
                <a:latin typeface="Arial"/>
              </a:rPr>
              <a:t>***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В.И.Лёв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31164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8304d"/>
                </a:solidFill>
                <a:latin typeface="Times New Roman"/>
              </a:rPr>
              <a:t>ХОЧУ УЗН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1. Историю создания радио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радиотелефонная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ь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3.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Устройство и принцип действи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адиотелефонной связи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4. Где используются радиоволны.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8304d"/>
                </a:solidFill>
                <a:uFillTx/>
                <a:latin typeface="Times New Roman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знакомиться с историей создания радио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зучить устройство, физический принцип действия и использование радиотелефонной связ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77920"/>
            <a:ext cx="776916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192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181e"/>
                </a:solidFill>
                <a:latin typeface="Arial"/>
              </a:rPr>
              <a:t>Презентац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e181e"/>
                </a:solidFill>
                <a:latin typeface="Arial"/>
              </a:rPr>
              <a:t>«История создания радио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77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8304d"/>
                </a:solidFill>
                <a:latin typeface="Times New Roman"/>
              </a:rPr>
              <a:t>Принципы радиосвяз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600200"/>
            <a:ext cx="77709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 фрагмент видеофильма и ответить на во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такое радиотелефонная связ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 осуществляется процесс передачи информации?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1 груп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ак осуществляется процесс приема переданной информации?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2 груп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3:54:22Z</dcterms:created>
  <dc:creator>Т </dc:creator>
  <dc:description/>
  <dc:language>en-US</dc:language>
  <cp:lastModifiedBy/>
  <dcterms:modified xsi:type="dcterms:W3CDTF">2018-11-07T07:44:21Z</dcterms:modified>
  <cp:revision>27</cp:revision>
  <dc:subject/>
  <dc:title>Тема: «Изобретение радио А.С. Поповым. Принципы радиосвязи.»</dc:title>
</cp:coreProperties>
</file>