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2.png" ContentType="image/png"/>
  <Override PartName="/ppt/media/image20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F4D9-D807-48A5-812E-C4FFEBA4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937F-325C-440C-924B-2221EFAC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95ACA-3B23-40C7-8C4D-EFCB80CE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86B15-F257-4D51-9352-B469499B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8A33B-B6A8-47F7-AFF7-72CBB43B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CA7DD-D5D5-490F-9ECF-E0DC6E9C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BC1DD-D6AD-4AAD-9C99-F37B32E1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25DB3-753A-4BDC-BE88-33930BD9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0E79F-ED46-406A-9897-AE4DF923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570D0-A1BC-498F-930C-C2BE5342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36999-DCAC-4AFD-88A2-771229E1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6A410-4A48-404A-A45E-AEDFBB51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A8BD-5AEB-4974-A64F-C467EB66B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AD0503-C793-423D-B639-DF3A8FF8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D47F7-A25E-4B98-BF34-10F2C0AC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1306D-F3A1-4644-9310-890F6F53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DDFA6-2529-4F8F-B59A-F913050F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7C741-6F73-4755-9696-6DC7997C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4F74A-D75F-4699-9C13-502D8299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D4843-5EE1-4A60-93EE-D2AED985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2D435-43B2-4029-9F2B-4DC72429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AD463-E630-480E-9F96-F2556A61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C009E-63E9-4D28-B080-14EFB939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BAC2-F675-42BB-AC4A-F62FC8FD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49247-B166-4651-A668-E4486966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14C29-260C-4661-843D-D360B47E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D1B0E-E5A8-4E4C-8FF2-05F3DC16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A3B16-DB17-4B69-A80A-31AC314F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DF555-07F8-426E-9C10-F1FE5F42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3C6C7-B36C-48DD-8CCE-CE3B60C5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143C4-0C85-4DDA-A49E-F346FD9B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5286E-D761-4C32-8177-CA52EBD2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21DAE-E865-45DF-9B11-D51F74C1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325FB-3524-47A3-B8BB-53E79399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B4CB-AC16-4E36-9A50-DE7A6056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CBBF4-7BC1-41AF-80C1-44267B76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C2DD0-5960-4DA3-987D-F109E410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BD425-FBFD-4A23-BDB5-436D5C49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79798-F018-45B0-8718-BB93E958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FA1D2-3316-4D34-890E-D844395E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DA5F1-9DC7-4001-9A15-D2E67DB5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BEB87-DB8E-4996-8B5B-411C086E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A7098-4240-4737-8586-B56233E9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5E891-DED5-4234-8F31-1169DB8B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5165F-4EEB-4BB4-8E46-105CD62E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FBE2-B239-4E4E-8D7C-0B9B8AC4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852BD-FBA0-49FC-BECD-665CD791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49B86-7E10-47E5-965F-D6762D63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EE1F3-6C45-428E-AC12-673CFB5A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A3661-CB6B-41C4-B5FD-2D294433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CE476-7A97-4A96-9F73-B7CE2C2C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A5C7E2-57D4-4DD6-8B42-028F9692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D90AFA-86EE-4B45-8057-A803FC65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8AD62F-1FCF-40E4-8D93-68691CA9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434A35-12D4-422E-B445-FF696412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6E3328-5ECA-4164-843F-1202DFBE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CBA7-6F17-4D19-AB9D-35EFB294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C85BF9-227F-4CF5-AA59-3E850700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81DFC7-1399-4851-BF05-1BD8515C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B0EBA2-3C12-426B-AA02-F58FAABA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524179-9BB9-4A8C-B8CD-94410EDC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C16BF5-6BE8-4785-9497-CED8A9AA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F8C51-B6DF-4954-B1C3-0467E630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D1607A-D59A-4D36-BD9E-28624410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6C0C1A-74BF-4473-8C39-35F17D51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664CF1-1912-49CE-BC42-D39B9E23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70C7A1-FC9F-4D81-A29D-2DB16BDF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7A8E-F6C0-444E-ADFD-C3127DC5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502A14-B056-4647-B8DE-A7661DC8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2ED33F-E2A3-4803-BFAB-E284B461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B12F6F-492A-495F-9D93-A85E22D8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B3342B-CEE3-4AEC-B73D-2D99547C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81763D-CA5B-442D-9E96-0BA7CA72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C5B0F3-EF59-46D8-8E46-7F03A34D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5A5578-AD15-4A01-ABE7-299FF424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F73454-39D2-4EB9-9238-2411CC32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6608D7-01ED-4424-93B5-BB0FFDC9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44750C-D150-4F1A-BDF1-80253D78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111E-EDCF-4E99-9080-D517DE3C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A8A20F-7B56-4389-A69F-A0706C3C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9991B5-91AA-4473-9D33-A3041B55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81DDB9-7CF6-4BE9-BAF0-8D1454D4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BBF7A7-517F-40D8-A4D8-4A3AB7B3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12E7D0-849B-4F1B-8ADF-A7975A92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AB40D0-1623-4AAA-96B7-69190B62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CE2FD3-C59B-4D3A-8337-96560CC4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D7F4FF-236D-4993-8894-BCF9D0DB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E74AC8-35E3-44E7-A981-6337E82E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79F739-070B-4F78-8989-85D5C28D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3C15-E838-4D29-BA94-8D30873D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45C447-08F2-4306-AF14-6ED0C0E8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2BB1A1-E930-4309-9D12-01C9B98C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910E77-8862-48BE-AFF1-E62E1A4F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C86AE8-40E4-4DA1-9758-469235CE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EB46B9-3C12-4791-8699-EC3E2C77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7A7C65-46F2-462C-91AC-54906286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B74E59-C7C1-44B4-A95C-EB6FE91D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583619-0643-4F75-8DA2-09FC9514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60A538-33BD-4910-A280-2E2E6D8F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AFE873-8BB2-41CB-ACD7-6B7D5765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83A4-8D29-4807-ADA3-40213A85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A7E15F-E5DD-4803-9DE8-3584149F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3973A1-EDEF-4C45-A806-59130058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823B26-227F-4667-9FFC-732D357A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10431C-DA70-489C-9199-7D066F25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EA167D-73DD-4AE5-B16B-67625915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87C041-0280-4E59-BB29-61449C7B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377F3C-888B-449F-A859-78E37527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654E92-02E9-4C1B-AAED-988C91C5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A877FB-BD60-4797-83B9-99FAC6C1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80A0C7-5C47-4E95-B963-88DDCE1A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9A07-60DC-4518-86EA-E13B4A08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F877-B7F1-4E6A-9F20-49A89639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EA66E5-3BC6-450A-B322-78B9E524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8132BE-FBD9-4056-893B-D80B05B5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6DACF6-49CA-484E-A3C2-927CD427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E79868-03AB-46B9-AC59-DD7168139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F2A147-7EDF-48C0-8143-F05380F7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288EAF-F209-43CB-AF69-D781FE02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792848-9A3C-48A2-8177-0E8C9256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2B0F46-8690-401C-BB5D-720DB11E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36A788-BA45-4C2A-8691-58B1DDD3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963243-4AAF-4164-B32F-CED35F29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C991-D760-4B4D-A1A6-86AB6AD9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5D9219-AC38-444B-85F3-C93553CB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3C5E0F-4D06-4148-BC60-6CBAA719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1844F7-32A0-403C-8D34-BFDD1EEF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A28579-45E8-43A8-85F7-1BCAC968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D35E7E-8601-4EE7-9ECA-565B567E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0C5467-0F9B-4356-B82A-C3C97B5F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BD8101-1677-4E81-891F-17683CF5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A755-F53B-4737-8147-E3D6DBCF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C857-8D67-45B4-B8DD-F9258518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D95E-2328-43E0-B486-D0995212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3DD9F-5CA4-4922-976F-F3F718692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B7944-19B7-4BD0-829C-223B4C3B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8537C-771A-4DCF-818E-EAB35E1A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E29C4-6086-49D4-BC48-C6FDB1C8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1A81E-08F2-4EF1-807C-67456B65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F5E2-8C89-42D6-868E-C99E5579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3E2EE-11A0-4E65-AFC5-8D5F8B96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95CB9-431A-4FA8-A4A5-86EDC109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CE1D5-F70F-4EBF-8028-53D7D820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EA671-680C-4E7A-ACF1-3E03FD37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6A6A9-4CDD-4148-990D-636CCAB3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1BC00-32BE-4ADE-AFC3-8F21B14F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2E7D6-1ACA-4484-AB81-1F3D0841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C3C2E-39F7-468E-8B04-CF692038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8E188-26C6-4442-B08C-F399C876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BA560-8F15-4B9F-9EB9-8AD3A664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658E-23AC-4B9A-868C-DCB69CE1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DC014-B6D9-4101-A573-DEC636AF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5FEDB-B197-44C1-90A4-EC2E4008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B4CA1-8997-4394-A453-0DBE1EF4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C419B-8B2B-42A2-AEDE-2BDEAF38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7C168-A525-489E-B781-FED7C9CB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893F0-F0C3-4689-A486-B6F9D842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C75A0-4577-4FBA-8837-CD004912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D7DD6-2B8E-41B8-B976-2F601EBA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98E6E-CA0B-48F5-81EF-877BC1F2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D8F8F-CA1C-498D-BCD3-B823CD8A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64DA-6EA4-43FD-AC89-C114BEAD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B38B3-2BFB-49BB-87C6-E7265395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0162C-C318-42BA-92C3-B9AD7ACF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89873-3B90-435D-BAEF-27FD0165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4869F-0A6F-46C4-9718-3B06644B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72B5C-4283-4939-B5F3-F62AFBB0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4A8C0-0068-4438-B5E7-E65E98CB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55A81-E422-441B-9A84-0FBCE1A3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B733C-1AB9-4507-B5FA-F0BB56EB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BCC79-F2C2-43A0-8C40-5C73823B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F0474-BB13-4456-88E2-B2C88F55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DFC9-BF39-4316-AEEB-61D941FD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E0AD1-EE81-450B-822E-DB8893A7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E1750-9207-4D58-A259-C53E82FF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2FB15-0A37-4A3D-8DF7-27A1A243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126C9-E5A4-417D-A94D-2B4A2C60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07B24-BB87-48FA-9206-B658DCF6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AEDE8-639A-41C0-998B-2B6C7288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41538-A0E0-40B5-BF10-2319714D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0960F-1127-40ED-9387-5C4E16AA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17F48-13F8-4A77-A566-C25549FF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73959-5F3C-4AF4-A9F0-515F58E4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C995-81DB-4005-9E21-0A0E48CC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A3595-0C51-4754-A0AF-3ED7CBA8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286A9-2B51-4B3D-8399-C09EEAE3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5EADC-7ABC-4471-8E3C-664688B1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13ACD-98DB-4762-9E78-554555F3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620EA-1162-4836-9A6F-9A6C1A03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71E0B-A589-43C3-88C6-D975FF3E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3B5D1-4899-4B1B-9BE8-46D5DE8E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5595A-597B-4775-A72E-6127D8FB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16A11-82A6-42FC-982C-127B3C28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902B7-142C-4B38-9264-F28C3614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CCD9-C7B7-4590-B0F7-E2E1AF2D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AC53F-3EAA-459E-9045-33CEADB5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CE807-265A-47DD-9395-84B78131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2064F-49D1-4347-BE45-487049B5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9B8B8-9993-400D-9C21-21BF9E7F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58751-B674-4342-82C6-1129C073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0164D-7446-49F9-B1AE-C005FC83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823DF-1794-4865-9E19-003739A5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DED32-7BA2-48ED-B750-39B8B52C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3A2B3-6AEA-4AC0-B3FF-2804F9DF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8D148-4DA2-4CB8-A42E-9ACC0A11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26D3-A691-4D46-8C26-288D7C58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48320-6554-4B78-A0DC-B9496AC6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316FC-7429-4720-9C97-B2FFE3ED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6542D-AF1D-40D7-8479-60BF83D4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90EF4-C716-4C2F-A4EA-730F6AB7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F1D35-570E-4CDF-974F-4E2C366D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4D88E-C14C-4CB9-A668-7AE24189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E9892-0942-497F-8D4C-9D3EE9AF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BF991-8437-488F-BEC7-6BDD6943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4D535-0D44-4DAB-B07D-860169A4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56BC0-BE5D-42C5-A840-9A622384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2996-4551-414A-9245-D1AE82591C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4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F939-54A6-4480-A55E-B92EBFFF23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26D9-ED5A-4B1D-AF24-847D6AD17F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4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092D-9A47-4133-9B62-5BF6755B4F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F696-0A09-41AA-AD27-6927E11477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4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0759-04C4-45E8-9B59-74935F171F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4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4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4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CF54-24C1-41BB-BD38-E89541674B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74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4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4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4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0646-5607-4BA8-948D-44F62870BD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7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4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ftr" idx="5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sldNum" idx="5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AB5B-C3A4-45A8-8FC7-EDD393F627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4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5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5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5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77A4-4D02-4341-9B52-27C72E5E02C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AF02-0D5C-4CC8-81F0-D3497FF92D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9C14-1EA8-4E08-81B9-1EF0B213B2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4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6469-481E-43F2-8C0F-82B89A5D51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8031-B25E-46B3-8754-486B814467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4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6DDE-5DAF-48A1-B7B7-77D9A5D813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6AFF-D682-4610-93B1-E199E4BCA1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4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6A19-3AD7-4294-B315-59CCC3E559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DF86-24FA-4E0D-A56A-A035FA58E8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Тема урока: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Размножение и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              развитие  рыб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355640" y="3357720"/>
            <a:ext cx="7885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и урока: показать особенности размнож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ыб, раскрыть разнообразные фор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боты о потомстве как приспособление к выживанию ви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вать умение анализировать информаци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ширять кругозор учащихся и воспитывать бережное отношение к природе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2459160" cy="32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Яйцовая капсула китовой акулы. Состоит из кератина .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3" name="Picture 4" descr="китовая1"/>
          <p:cNvPicPr/>
          <p:nvPr/>
        </p:nvPicPr>
        <p:blipFill>
          <a:blip r:embed="rId1"/>
          <a:stretch/>
        </p:blipFill>
        <p:spPr>
          <a:xfrm>
            <a:off x="2484360" y="0"/>
            <a:ext cx="6659640" cy="68580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5" descr=""/>
          <p:cNvPicPr/>
          <p:nvPr/>
        </p:nvPicPr>
        <p:blipFill>
          <a:blip r:embed="rId2"/>
          <a:stretch/>
        </p:blipFill>
        <p:spPr>
          <a:xfrm>
            <a:off x="0" y="3789360"/>
            <a:ext cx="5029200" cy="27352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3538440" cy="599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Times New Roman"/>
              </a:rPr>
              <a:t>Сельдевая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Times New Roman"/>
              </a:rPr>
              <a:t>акула </a:t>
            </a: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живородящая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6" name="Picture 4" descr="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Рисунок 4" descr="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460836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Вышедшие из икринок личинки около 3-х лет живут в открытом океане и пассивно , увлекаемые Гольфстримом , дрейфуют к берегам Европы. Близ устьев рек, очевидно под влиянием  меньшей солености воды , личинки превращаются в маленьких угрят, и в таком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виде входят в реки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9" name=""/>
          <p:cNvGraphicFramePr/>
          <p:nvPr/>
        </p:nvGraphicFramePr>
        <p:xfrm>
          <a:off x="250920" y="260280"/>
          <a:ext cx="8713800" cy="6007320"/>
        </p:xfrm>
        <a:graphic>
          <a:graphicData uri="http://schemas.openxmlformats.org/drawingml/2006/table">
            <a:tbl>
              <a:tblPr/>
              <a:tblGrid>
                <a:gridCol w="2305080"/>
                <a:gridCol w="3024000"/>
                <a:gridCol w="33847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уна-рыб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 300 млн. икрин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кринки свободно плавают в толще или на поверхности в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9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еска, уго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етров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дак, саза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у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лстолоб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у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млн. икрино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 1,5 млн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 1 млн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 900 тыс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ыше 500 тыс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ыше 450 тыс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ыше 200тыс. и т.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пкая икра, которую приклеивают к растениям или на грун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е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рбуш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юш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мик ариев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-4 тыс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2 тыс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икрин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-3 икринок и т.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кра в ямках, засыпанных галь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аты, акул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диночные яйца в капсул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щательная защита потомств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4319640" cy="47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уна-рыба</a:t>
            </a:r>
            <a:br>
              <a:rPr sz="4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откладывает до 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300 млн. икринок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весит около 700 кг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1" name="Содержимое 3" descr=""/>
          <p:cNvPicPr/>
          <p:nvPr/>
        </p:nvPicPr>
        <p:blipFill>
          <a:blip r:embed="rId1"/>
          <a:stretch/>
        </p:blipFill>
        <p:spPr>
          <a:xfrm>
            <a:off x="385128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292720" y="244440"/>
            <a:ext cx="3549600" cy="563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люшка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рехиглая</a:t>
            </a:r>
            <a:br>
              <a:rPr sz="4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заботливый отец не только не оставляет гнездо с икрой, но и освежает воду в нем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3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иляпия 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вынашивает икринки во рту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5" name="Содержимое 3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Сомик ариевый 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обитает в Атлантическом океане. 30 см. Самец вынашивает икринки во рту. В этот перид он не питается. Вылупившиеся мальки в случае опасности прячутся во рту  у отца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7" name="Содержимое 3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2674800" cy="635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Сиамский</a:t>
            </a: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етушок</a:t>
            </a: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самец выдувает пузырьки воздуха и строит из них гнездо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9" name="Содержимое 3" descr=""/>
          <p:cNvPicPr/>
          <p:nvPr/>
        </p:nvPicPr>
        <p:blipFill>
          <a:blip r:embed="rId1"/>
          <a:stretch/>
        </p:blipFill>
        <p:spPr>
          <a:xfrm>
            <a:off x="2987640" y="0"/>
            <a:ext cx="615636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250920" y="244440"/>
            <a:ext cx="3744720" cy="635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Times New Roman"/>
              </a:rPr>
              <a:t>Морской конек</a:t>
            </a: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ffffb7"/>
                </a:solidFill>
                <a:latin typeface="Times New Roman"/>
              </a:rPr>
              <a:t>икринки развиваются в кожистой складке на брюшке самца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1" name="Содержимое 3" descr=""/>
          <p:cNvPicPr/>
          <p:nvPr/>
        </p:nvPicPr>
        <p:blipFill>
          <a:blip r:embed="rId1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250920" y="404280"/>
            <a:ext cx="489744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ыкновенный угор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пространен в ре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падной Европы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ассейнах  Балтийского мор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1" name="Рисунок 3" descr=""/>
          <p:cNvPicPr/>
          <p:nvPr/>
        </p:nvPicPr>
        <p:blipFill>
          <a:blip r:embed="rId1"/>
          <a:stretch/>
        </p:blipFill>
        <p:spPr>
          <a:xfrm>
            <a:off x="5076720" y="333360"/>
            <a:ext cx="4067280" cy="6524640"/>
          </a:xfrm>
          <a:prstGeom prst="rect">
            <a:avLst/>
          </a:prstGeom>
          <a:ln w="0">
            <a:noFill/>
          </a:ln>
        </p:spPr>
      </p:pic>
      <p:pic>
        <p:nvPicPr>
          <p:cNvPr id="902" name="Содержимое 3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4825800" cy="35002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2" name=""/>
          <p:cNvGraphicFramePr/>
          <p:nvPr/>
        </p:nvGraphicFramePr>
        <p:xfrm>
          <a:off x="468360" y="404640"/>
          <a:ext cx="5832360" cy="3503880"/>
        </p:xfrm>
        <a:graphic>
          <a:graphicData uri="http://schemas.openxmlformats.org/drawingml/2006/table">
            <a:tbl>
              <a:tblPr/>
              <a:tblGrid>
                <a:gridCol w="530280"/>
                <a:gridCol w="531720"/>
                <a:gridCol w="527040"/>
                <a:gridCol w="530280"/>
                <a:gridCol w="531720"/>
                <a:gridCol w="530280"/>
                <a:gridCol w="531720"/>
                <a:gridCol w="530280"/>
                <a:gridCol w="527040"/>
                <a:gridCol w="531720"/>
                <a:gridCol w="5302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3" name="Text Box 349"/>
          <p:cNvSpPr/>
          <p:nvPr/>
        </p:nvSpPr>
        <p:spPr>
          <a:xfrm>
            <a:off x="539640" y="2421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Text Box 350"/>
          <p:cNvSpPr/>
          <p:nvPr/>
        </p:nvSpPr>
        <p:spPr>
          <a:xfrm>
            <a:off x="1547640" y="404640"/>
            <a:ext cx="259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Text Box 354"/>
          <p:cNvSpPr/>
          <p:nvPr/>
        </p:nvSpPr>
        <p:spPr>
          <a:xfrm>
            <a:off x="1547640" y="40464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   У         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Text Box 355"/>
          <p:cNvSpPr/>
          <p:nvPr/>
        </p:nvSpPr>
        <p:spPr>
          <a:xfrm>
            <a:off x="197964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         Т    У   Ш  О   К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Text Box 360"/>
          <p:cNvSpPr/>
          <p:nvPr/>
        </p:nvSpPr>
        <p:spPr>
          <a:xfrm>
            <a:off x="1547640" y="148428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    О         Б    У  Ш   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Text Box 361"/>
          <p:cNvSpPr/>
          <p:nvPr/>
        </p:nvSpPr>
        <p:spPr>
          <a:xfrm>
            <a:off x="1042920" y="2133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  О   Н         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Text Box 362"/>
          <p:cNvSpPr/>
          <p:nvPr/>
        </p:nvSpPr>
        <p:spPr>
          <a:xfrm>
            <a:off x="3132000" y="2708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   М   И   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Text Box 366"/>
          <p:cNvSpPr/>
          <p:nvPr/>
        </p:nvSpPr>
        <p:spPr>
          <a:xfrm>
            <a:off x="3059280" y="3284640"/>
            <a:ext cx="44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  Л    Я   П   И   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2" descr="Untitled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075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Самка окуня выметывает склеенную в виде лент икру на водные расте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advTm="10000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1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1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Каждая из лент содержит огромное множество</a:t>
            </a:r>
            <a:br>
              <a:rPr sz="4800"/>
            </a:b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 икринок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06" name="Picture 3" descr="Untitled-2"/>
          <p:cNvPicPr/>
          <p:nvPr/>
        </p:nvPicPr>
        <p:blipFill>
          <a:blip r:embed="rId1"/>
          <a:stretch/>
        </p:blipFill>
        <p:spPr>
          <a:xfrm>
            <a:off x="2340000" y="2600280"/>
            <a:ext cx="4040280" cy="42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28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800"/>
                            </p:stCondLst>
                            <p:childTnLst>
                              <p:par>
                                <p:cTn id="1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2"/>
          <p:cNvGrpSpPr/>
          <p:nvPr/>
        </p:nvGrpSpPr>
        <p:grpSpPr>
          <a:xfrm>
            <a:off x="5724360" y="620640"/>
            <a:ext cx="3419640" cy="4290840"/>
            <a:chOff x="5724360" y="620640"/>
            <a:chExt cx="3419640" cy="4290840"/>
          </a:xfrm>
        </p:grpSpPr>
        <p:sp>
          <p:nvSpPr>
            <p:cNvPr id="908" name="Oval 3"/>
            <p:cNvSpPr/>
            <p:nvPr/>
          </p:nvSpPr>
          <p:spPr>
            <a:xfrm>
              <a:off x="5724360" y="620640"/>
              <a:ext cx="3419640" cy="31687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09" name="Group 4"/>
            <p:cNvGrpSpPr/>
            <p:nvPr/>
          </p:nvGrpSpPr>
          <p:grpSpPr>
            <a:xfrm>
              <a:off x="6659640" y="1844640"/>
              <a:ext cx="1758960" cy="3066840"/>
              <a:chOff x="6659640" y="1844640"/>
              <a:chExt cx="1758960" cy="3066840"/>
            </a:xfrm>
          </p:grpSpPr>
          <p:sp>
            <p:nvSpPr>
              <p:cNvPr id="910" name="Oval 5"/>
              <p:cNvSpPr/>
              <p:nvPr/>
            </p:nvSpPr>
            <p:spPr>
              <a:xfrm>
                <a:off x="7164360" y="1844640"/>
                <a:ext cx="503280" cy="504720"/>
              </a:xfrm>
              <a:prstGeom prst="ellipse">
                <a:avLst/>
              </a:prstGeom>
              <a:solidFill>
                <a:srgbClr val="9966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AutoShape 6"/>
              <p:cNvSpPr/>
              <p:nvPr/>
            </p:nvSpPr>
            <p:spPr>
              <a:xfrm>
                <a:off x="6659640" y="4653000"/>
                <a:ext cx="1758960" cy="25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22887" y="-94483"/>
                    </a:moveTo>
                    <a:lnTo>
                      <a:pt x="22536" y="9541"/>
                    </a:lnTo>
                  </a:path>
                  <a:path w="21600" h="21600">
                    <a:moveTo>
                      <a:pt x="22536" y="0"/>
                    </a:moveTo>
                    <a:lnTo>
                      <a:pt x="22536" y="2160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яйцеклетка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97800" cy="631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ff"/>
                </a:solidFill>
                <a:latin typeface="Bookman Old Style"/>
              </a:rPr>
              <a:t>Самцы в это время извергают молоки. Подвижные сперматозоиды подплывают к икринкам и проникают в них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913" name="Group 8"/>
          <p:cNvGrpSpPr/>
          <p:nvPr/>
        </p:nvGrpSpPr>
        <p:grpSpPr>
          <a:xfrm>
            <a:off x="395280" y="4763160"/>
            <a:ext cx="3889440" cy="2094840"/>
            <a:chOff x="395280" y="4763160"/>
            <a:chExt cx="3889440" cy="2094840"/>
          </a:xfrm>
        </p:grpSpPr>
        <p:sp>
          <p:nvSpPr>
            <p:cNvPr id="914" name="Oval 9"/>
            <p:cNvSpPr/>
            <p:nvPr/>
          </p:nvSpPr>
          <p:spPr>
            <a:xfrm rot="2515200">
              <a:off x="1258560" y="4840200"/>
              <a:ext cx="865080" cy="16560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Freeform 10"/>
            <p:cNvSpPr/>
            <p:nvPr/>
          </p:nvSpPr>
          <p:spPr>
            <a:xfrm>
              <a:off x="395280" y="6234120"/>
              <a:ext cx="719280" cy="62388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623880"/>
                <a:gd name="textAreaBottom" fmla="*/ 624240 h 623880"/>
              </a:gdLst>
              <a:ahLst/>
              <a:rect l="textAreaLeft" t="textAreaTop" r="textAreaRight" b="textAreaBottom"/>
              <a:pathLst>
                <a:path w="226" h="234">
                  <a:moveTo>
                    <a:pt x="226" y="30"/>
                  </a:moveTo>
                  <a:cubicBezTo>
                    <a:pt x="165" y="15"/>
                    <a:pt x="105" y="0"/>
                    <a:pt x="90" y="30"/>
                  </a:cubicBezTo>
                  <a:cubicBezTo>
                    <a:pt x="75" y="60"/>
                    <a:pt x="151" y="188"/>
                    <a:pt x="136" y="211"/>
                  </a:cubicBezTo>
                  <a:cubicBezTo>
                    <a:pt x="121" y="234"/>
                    <a:pt x="23" y="173"/>
                    <a:pt x="0" y="166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Oval 11"/>
            <p:cNvSpPr/>
            <p:nvPr/>
          </p:nvSpPr>
          <p:spPr>
            <a:xfrm>
              <a:off x="1474920" y="5345280"/>
              <a:ext cx="433080" cy="4316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AutoShape 12"/>
            <p:cNvSpPr/>
            <p:nvPr/>
          </p:nvSpPr>
          <p:spPr>
            <a:xfrm>
              <a:off x="2416320" y="6194520"/>
              <a:ext cx="1868400" cy="403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10864" y="2296"/>
                  </a:moveTo>
                  <a:lnTo>
                    <a:pt x="-881" y="6123"/>
                  </a:lnTo>
                </a:path>
                <a:path w="21600" h="21600">
                  <a:moveTo>
                    <a:pt x="-881" y="0"/>
                  </a:moveTo>
                  <a:lnTo>
                    <a:pt x="-881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перматозоид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3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500"/>
                            </p:stCondLst>
                            <p:childTnLst>
                              <p:par>
                                <p:cTn id="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700"/>
                            </p:stCondLst>
                            <p:childTnLst>
                              <p:par>
                                <p:cTn id="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0.1463 C 0.0092 -0.14884 0.01094 -0.15116 0.01181 -0.15417 C 0.01372 -0.16111 0.0158 -0.17547 0.0158 -0.17523 C 0.01719 -0.19607 0.02066 -0.21621 0.02188 -0.23681 C 0.02726 -0.325 0.01771 -0.30926 0.02986 -0.35417 C 0.03438 -0.37084 0.0592 -0.41551 0.06788 -0.42894 C 0.0849 -0.45533 0.09896 -0.47824 0.11788 -0.50347 C 0.12205 -0.50903 0.12882 -0.50972 0.13386 -0.51412 C 0.14219 -0.5213 0.14983 -0.53009 0.15782 -0.5382 C 0.16841 -0.54884 0.18837 -0.56875 0.19983 -0.57547 C 0.20538 -0.57871 0.21181 -0.57894 0.21788 -0.58079 C 0.22743 -0.58935 0.23663 -0.59167 0.24775 -0.59422 C 0.32118 -0.59329 0.39445 -0.59306 0.46788 -0.59144 C 0.47344 -0.59121 0.48351 -0.58033 0.48577 -0.57824 C 0.49913 -0.56644 0.54636 -0.56597 0.55973 -0.56482 C 0.56059 -0.56459 0.575 -0.56019 0.57587 -0.55949 C 0.57952 -0.55672 0.58282 -0.55278 0.58577 -0.54884 C 0.5882 -0.5456 0.58907 -0.54074 0.59184 -0.5382 C 0.60608 -0.5257 0.62848 -0.52755 0.64375 -0.52755 E">
                                      <p:cBhvr>
                                        <p:cTn id="41" dur="2000" fill="hold"/>
                                        <p:tgtEl>
                                          <p:spTgt spid="9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1700"/>
                            </p:stCondLst>
                            <p:childTnLst>
                              <p:par>
                                <p:cTn id="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evt="end">
                                        <p:tn val="43"/>
                                      </p:cond>
                                    </p:stCondLst>
                                  </p:cTn>
                                  <p:tgtEl>
                                    <p:spTgt spid="9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3700"/>
                            </p:stCondLst>
                            <p:childTnLst>
                              <p:par>
                                <p:cTn id="48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2000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Picture 2" descr="Untitled-3"/>
          <p:cNvPicPr/>
          <p:nvPr/>
        </p:nvPicPr>
        <p:blipFill>
          <a:blip r:embed="rId1"/>
          <a:stretch/>
        </p:blipFill>
        <p:spPr>
          <a:xfrm>
            <a:off x="3419640" y="3068640"/>
            <a:ext cx="2431800" cy="3351240"/>
          </a:xfrm>
          <a:prstGeom prst="rect">
            <a:avLst/>
          </a:prstGeom>
          <a:ln w="0">
            <a:noFill/>
          </a:ln>
        </p:spPr>
      </p:pic>
      <p:grpSp>
        <p:nvGrpSpPr>
          <p:cNvPr id="919" name="Group 3"/>
          <p:cNvGrpSpPr/>
          <p:nvPr/>
        </p:nvGrpSpPr>
        <p:grpSpPr>
          <a:xfrm>
            <a:off x="684360" y="2133720"/>
            <a:ext cx="8459640" cy="3384360"/>
            <a:chOff x="684360" y="2133720"/>
            <a:chExt cx="8459640" cy="3384360"/>
          </a:xfrm>
        </p:grpSpPr>
        <p:grpSp>
          <p:nvGrpSpPr>
            <p:cNvPr id="920" name="Group 4"/>
            <p:cNvGrpSpPr/>
            <p:nvPr/>
          </p:nvGrpSpPr>
          <p:grpSpPr>
            <a:xfrm>
              <a:off x="684360" y="2133720"/>
              <a:ext cx="7562880" cy="1440360"/>
              <a:chOff x="684360" y="2133720"/>
              <a:chExt cx="7562880" cy="1440360"/>
            </a:xfrm>
          </p:grpSpPr>
          <p:grpSp>
            <p:nvGrpSpPr>
              <p:cNvPr id="921" name="Group 5"/>
              <p:cNvGrpSpPr/>
              <p:nvPr/>
            </p:nvGrpSpPr>
            <p:grpSpPr>
              <a:xfrm>
                <a:off x="684360" y="2133720"/>
                <a:ext cx="1150920" cy="1294920"/>
                <a:chOff x="684360" y="2133720"/>
                <a:chExt cx="1150920" cy="1294920"/>
              </a:xfrm>
            </p:grpSpPr>
            <p:sp>
              <p:nvSpPr>
                <p:cNvPr id="922" name="Oval 6"/>
                <p:cNvSpPr/>
                <p:nvPr/>
              </p:nvSpPr>
              <p:spPr>
                <a:xfrm>
                  <a:off x="684360" y="2133720"/>
                  <a:ext cx="1150920" cy="129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Oval 7"/>
                <p:cNvSpPr/>
                <p:nvPr/>
              </p:nvSpPr>
              <p:spPr>
                <a:xfrm>
                  <a:off x="1187640" y="2636640"/>
                  <a:ext cx="216000" cy="28836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4" name="Line 8"/>
              <p:cNvSpPr/>
              <p:nvPr/>
            </p:nvSpPr>
            <p:spPr>
              <a:xfrm>
                <a:off x="1835280" y="2781000"/>
                <a:ext cx="86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25" name="Group 9"/>
              <p:cNvGrpSpPr/>
              <p:nvPr/>
            </p:nvGrpSpPr>
            <p:grpSpPr>
              <a:xfrm>
                <a:off x="2772000" y="2349360"/>
                <a:ext cx="1368360" cy="936000"/>
                <a:chOff x="2772000" y="2349360"/>
                <a:chExt cx="1368360" cy="936000"/>
              </a:xfrm>
            </p:grpSpPr>
            <p:grpSp>
              <p:nvGrpSpPr>
                <p:cNvPr id="926" name="Group 10"/>
                <p:cNvGrpSpPr/>
                <p:nvPr/>
              </p:nvGrpSpPr>
              <p:grpSpPr>
                <a:xfrm>
                  <a:off x="2772000" y="2349360"/>
                  <a:ext cx="1368360" cy="936000"/>
                  <a:chOff x="2772000" y="2349360"/>
                  <a:chExt cx="1368360" cy="936000"/>
                </a:xfrm>
              </p:grpSpPr>
              <p:sp>
                <p:nvSpPr>
                  <p:cNvPr id="927" name="Oval 11"/>
                  <p:cNvSpPr/>
                  <p:nvPr/>
                </p:nvSpPr>
                <p:spPr>
                  <a:xfrm>
                    <a:off x="2772000" y="2349360"/>
                    <a:ext cx="792000" cy="93600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Oval 12"/>
                  <p:cNvSpPr/>
                  <p:nvPr/>
                </p:nvSpPr>
                <p:spPr>
                  <a:xfrm>
                    <a:off x="3276720" y="2349360"/>
                    <a:ext cx="863640" cy="86328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9" name="Oval 13"/>
                <p:cNvSpPr/>
                <p:nvPr/>
              </p:nvSpPr>
              <p:spPr>
                <a:xfrm>
                  <a:off x="3635640" y="2709360"/>
                  <a:ext cx="215640" cy="2152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Oval 14"/>
                <p:cNvSpPr/>
                <p:nvPr/>
              </p:nvSpPr>
              <p:spPr>
                <a:xfrm>
                  <a:off x="2988000" y="2709360"/>
                  <a:ext cx="215640" cy="2152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1" name="Line 15"/>
              <p:cNvSpPr/>
              <p:nvPr/>
            </p:nvSpPr>
            <p:spPr>
              <a:xfrm>
                <a:off x="4212000" y="2852280"/>
                <a:ext cx="72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32" name="Group 16"/>
              <p:cNvGrpSpPr/>
              <p:nvPr/>
            </p:nvGrpSpPr>
            <p:grpSpPr>
              <a:xfrm>
                <a:off x="4932720" y="2276280"/>
                <a:ext cx="1152360" cy="864360"/>
                <a:chOff x="4932720" y="2276280"/>
                <a:chExt cx="1152360" cy="864360"/>
              </a:xfrm>
            </p:grpSpPr>
            <p:grpSp>
              <p:nvGrpSpPr>
                <p:cNvPr id="933" name="Group 17"/>
                <p:cNvGrpSpPr/>
                <p:nvPr/>
              </p:nvGrpSpPr>
              <p:grpSpPr>
                <a:xfrm>
                  <a:off x="5077080" y="2276280"/>
                  <a:ext cx="576360" cy="504360"/>
                  <a:chOff x="5077080" y="2276280"/>
                  <a:chExt cx="576360" cy="504360"/>
                </a:xfrm>
              </p:grpSpPr>
              <p:sp>
                <p:nvSpPr>
                  <p:cNvPr id="934" name="Oval 18"/>
                  <p:cNvSpPr/>
                  <p:nvPr/>
                </p:nvSpPr>
                <p:spPr>
                  <a:xfrm>
                    <a:off x="5077080" y="2276280"/>
                    <a:ext cx="576360" cy="50436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Oval 19"/>
                  <p:cNvSpPr/>
                  <p:nvPr/>
                </p:nvSpPr>
                <p:spPr>
                  <a:xfrm>
                    <a:off x="5221440" y="2493360"/>
                    <a:ext cx="144720" cy="14400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6" name="Group 20"/>
                <p:cNvGrpSpPr/>
                <p:nvPr/>
              </p:nvGrpSpPr>
              <p:grpSpPr>
                <a:xfrm>
                  <a:off x="4932720" y="2276280"/>
                  <a:ext cx="1152360" cy="864360"/>
                  <a:chOff x="4932720" y="2276280"/>
                  <a:chExt cx="1152360" cy="864360"/>
                </a:xfrm>
              </p:grpSpPr>
              <p:grpSp>
                <p:nvGrpSpPr>
                  <p:cNvPr id="937" name="Group 21"/>
                  <p:cNvGrpSpPr/>
                  <p:nvPr/>
                </p:nvGrpSpPr>
                <p:grpSpPr>
                  <a:xfrm>
                    <a:off x="4932720" y="2276280"/>
                    <a:ext cx="1152360" cy="864360"/>
                    <a:chOff x="4932720" y="2276280"/>
                    <a:chExt cx="1152360" cy="864360"/>
                  </a:xfrm>
                </p:grpSpPr>
                <p:grpSp>
                  <p:nvGrpSpPr>
                    <p:cNvPr id="938" name="Group 22"/>
                    <p:cNvGrpSpPr/>
                    <p:nvPr/>
                  </p:nvGrpSpPr>
                  <p:grpSpPr>
                    <a:xfrm>
                      <a:off x="5436000" y="2276280"/>
                      <a:ext cx="576000" cy="504360"/>
                      <a:chOff x="5436000" y="2276280"/>
                      <a:chExt cx="576000" cy="504360"/>
                    </a:xfrm>
                  </p:grpSpPr>
                  <p:sp>
                    <p:nvSpPr>
                      <p:cNvPr id="939" name="Oval 23"/>
                      <p:cNvSpPr/>
                      <p:nvPr/>
                    </p:nvSpPr>
                    <p:spPr>
                      <a:xfrm>
                        <a:off x="5436000" y="2276280"/>
                        <a:ext cx="576000" cy="50436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0" name="Oval 24"/>
                      <p:cNvSpPr/>
                      <p:nvPr/>
                    </p:nvSpPr>
                    <p:spPr>
                      <a:xfrm>
                        <a:off x="5580000" y="2493360"/>
                        <a:ext cx="144360" cy="14400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41" name="Group 25"/>
                    <p:cNvGrpSpPr/>
                    <p:nvPr/>
                  </p:nvGrpSpPr>
                  <p:grpSpPr>
                    <a:xfrm>
                      <a:off x="5508720" y="2349000"/>
                      <a:ext cx="576360" cy="504360"/>
                      <a:chOff x="5508720" y="2349000"/>
                      <a:chExt cx="576360" cy="504360"/>
                    </a:xfrm>
                  </p:grpSpPr>
                  <p:sp>
                    <p:nvSpPr>
                      <p:cNvPr id="942" name="Oval 26"/>
                      <p:cNvSpPr/>
                      <p:nvPr/>
                    </p:nvSpPr>
                    <p:spPr>
                      <a:xfrm>
                        <a:off x="5508720" y="2349000"/>
                        <a:ext cx="576360" cy="50436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3" name="Oval 27"/>
                      <p:cNvSpPr/>
                      <p:nvPr/>
                    </p:nvSpPr>
                    <p:spPr>
                      <a:xfrm>
                        <a:off x="5653080" y="2566080"/>
                        <a:ext cx="144720" cy="144000"/>
                      </a:xfrm>
                      <a:prstGeom prst="ellipse">
                        <a:avLst/>
                      </a:prstGeom>
                      <a:solidFill>
                        <a:srgbClr val="996633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44" name="Group 28"/>
                    <p:cNvGrpSpPr/>
                    <p:nvPr/>
                  </p:nvGrpSpPr>
                  <p:grpSpPr>
                    <a:xfrm>
                      <a:off x="4932720" y="2636280"/>
                      <a:ext cx="576000" cy="504360"/>
                      <a:chOff x="4932720" y="2636280"/>
                      <a:chExt cx="576000" cy="504360"/>
                    </a:xfrm>
                  </p:grpSpPr>
                  <p:sp>
                    <p:nvSpPr>
                      <p:cNvPr id="945" name="Oval 29"/>
                      <p:cNvSpPr/>
                      <p:nvPr/>
                    </p:nvSpPr>
                    <p:spPr>
                      <a:xfrm>
                        <a:off x="4932720" y="2636280"/>
                        <a:ext cx="576000" cy="50436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6" name="Oval 30"/>
                      <p:cNvSpPr/>
                      <p:nvPr/>
                    </p:nvSpPr>
                    <p:spPr>
                      <a:xfrm>
                        <a:off x="5076720" y="2853360"/>
                        <a:ext cx="144360" cy="14400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47" name="Group 31"/>
                    <p:cNvGrpSpPr/>
                    <p:nvPr/>
                  </p:nvGrpSpPr>
                  <p:grpSpPr>
                    <a:xfrm>
                      <a:off x="5077080" y="2420280"/>
                      <a:ext cx="576360" cy="504360"/>
                      <a:chOff x="5077080" y="2420280"/>
                      <a:chExt cx="576360" cy="504360"/>
                    </a:xfrm>
                  </p:grpSpPr>
                  <p:sp>
                    <p:nvSpPr>
                      <p:cNvPr id="948" name="Oval 32"/>
                      <p:cNvSpPr/>
                      <p:nvPr/>
                    </p:nvSpPr>
                    <p:spPr>
                      <a:xfrm>
                        <a:off x="5077080" y="2420280"/>
                        <a:ext cx="576360" cy="50436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9" name="Oval 33"/>
                      <p:cNvSpPr/>
                      <p:nvPr/>
                    </p:nvSpPr>
                    <p:spPr>
                      <a:xfrm>
                        <a:off x="5221440" y="2637360"/>
                        <a:ext cx="144720" cy="14400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50" name="Group 34"/>
                    <p:cNvGrpSpPr/>
                    <p:nvPr/>
                  </p:nvGrpSpPr>
                  <p:grpSpPr>
                    <a:xfrm>
                      <a:off x="5508720" y="2636280"/>
                      <a:ext cx="576360" cy="504360"/>
                      <a:chOff x="5508720" y="2636280"/>
                      <a:chExt cx="576360" cy="504360"/>
                    </a:xfrm>
                  </p:grpSpPr>
                  <p:sp>
                    <p:nvSpPr>
                      <p:cNvPr id="951" name="Oval 35"/>
                      <p:cNvSpPr/>
                      <p:nvPr/>
                    </p:nvSpPr>
                    <p:spPr>
                      <a:xfrm>
                        <a:off x="5508720" y="2636280"/>
                        <a:ext cx="576360" cy="50436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2" name="Oval 36"/>
                      <p:cNvSpPr/>
                      <p:nvPr/>
                    </p:nvSpPr>
                    <p:spPr>
                      <a:xfrm>
                        <a:off x="5653080" y="2853360"/>
                        <a:ext cx="144720" cy="144000"/>
                      </a:xfrm>
                      <a:prstGeom prst="ellipse">
                        <a:avLst/>
                      </a:prstGeom>
                      <a:solidFill>
                        <a:srgbClr val="996633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953" name="Group 37"/>
                  <p:cNvGrpSpPr/>
                  <p:nvPr/>
                </p:nvGrpSpPr>
                <p:grpSpPr>
                  <a:xfrm>
                    <a:off x="5077080" y="2636280"/>
                    <a:ext cx="576360" cy="504360"/>
                    <a:chOff x="5077080" y="2636280"/>
                    <a:chExt cx="576360" cy="504360"/>
                  </a:xfrm>
                </p:grpSpPr>
                <p:sp>
                  <p:nvSpPr>
                    <p:cNvPr id="954" name="Oval 38"/>
                    <p:cNvSpPr/>
                    <p:nvPr/>
                  </p:nvSpPr>
                  <p:spPr>
                    <a:xfrm>
                      <a:off x="5077080" y="2636280"/>
                      <a:ext cx="576360" cy="50436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5" name="Oval 39"/>
                    <p:cNvSpPr/>
                    <p:nvPr/>
                  </p:nvSpPr>
                  <p:spPr>
                    <a:xfrm>
                      <a:off x="5221440" y="2853360"/>
                      <a:ext cx="144720" cy="144000"/>
                    </a:xfrm>
                    <a:prstGeom prst="ellipse">
                      <a:avLst/>
                    </a:pr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56" name="Line 40"/>
              <p:cNvSpPr/>
              <p:nvPr/>
            </p:nvSpPr>
            <p:spPr>
              <a:xfrm>
                <a:off x="6228000" y="2852280"/>
                <a:ext cx="64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57" name="Group 41"/>
              <p:cNvGrpSpPr/>
              <p:nvPr/>
            </p:nvGrpSpPr>
            <p:grpSpPr>
              <a:xfrm>
                <a:off x="6948720" y="2204640"/>
                <a:ext cx="1298520" cy="1369440"/>
                <a:chOff x="6948720" y="2204640"/>
                <a:chExt cx="1298520" cy="1369440"/>
              </a:xfrm>
            </p:grpSpPr>
            <p:grpSp>
              <p:nvGrpSpPr>
                <p:cNvPr id="958" name="Group 42"/>
                <p:cNvGrpSpPr/>
                <p:nvPr/>
              </p:nvGrpSpPr>
              <p:grpSpPr>
                <a:xfrm>
                  <a:off x="7452000" y="2852280"/>
                  <a:ext cx="433440" cy="433440"/>
                  <a:chOff x="7452000" y="2852280"/>
                  <a:chExt cx="433440" cy="433440"/>
                </a:xfrm>
              </p:grpSpPr>
              <p:sp>
                <p:nvSpPr>
                  <p:cNvPr id="959" name="Oval 43"/>
                  <p:cNvSpPr/>
                  <p:nvPr/>
                </p:nvSpPr>
                <p:spPr>
                  <a:xfrm>
                    <a:off x="7452000" y="2852280"/>
                    <a:ext cx="433440" cy="43344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Oval 44"/>
                  <p:cNvSpPr/>
                  <p:nvPr/>
                </p:nvSpPr>
                <p:spPr>
                  <a:xfrm>
                    <a:off x="7560360" y="3038760"/>
                    <a:ext cx="108720" cy="12384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040" bIns="41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1" name="Group 45"/>
                <p:cNvGrpSpPr/>
                <p:nvPr/>
              </p:nvGrpSpPr>
              <p:grpSpPr>
                <a:xfrm>
                  <a:off x="6948720" y="2204640"/>
                  <a:ext cx="1298520" cy="1369440"/>
                  <a:chOff x="6948720" y="2204640"/>
                  <a:chExt cx="1298520" cy="1369440"/>
                </a:xfrm>
              </p:grpSpPr>
              <p:grpSp>
                <p:nvGrpSpPr>
                  <p:cNvPr id="962" name="Group 46"/>
                  <p:cNvGrpSpPr/>
                  <p:nvPr/>
                </p:nvGrpSpPr>
                <p:grpSpPr>
                  <a:xfrm>
                    <a:off x="7740720" y="2709360"/>
                    <a:ext cx="433440" cy="433440"/>
                    <a:chOff x="7740720" y="2709360"/>
                    <a:chExt cx="433440" cy="433440"/>
                  </a:xfrm>
                </p:grpSpPr>
                <p:sp>
                  <p:nvSpPr>
                    <p:cNvPr id="963" name="Oval 47"/>
                    <p:cNvSpPr/>
                    <p:nvPr/>
                  </p:nvSpPr>
                  <p:spPr>
                    <a:xfrm>
                      <a:off x="7740720" y="2709360"/>
                      <a:ext cx="433440" cy="43344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4" name="Oval 48"/>
                    <p:cNvSpPr/>
                    <p:nvPr/>
                  </p:nvSpPr>
                  <p:spPr>
                    <a:xfrm>
                      <a:off x="7849080" y="2895840"/>
                      <a:ext cx="108720" cy="12384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1040" bIns="41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65" name="Group 49"/>
                  <p:cNvGrpSpPr/>
                  <p:nvPr/>
                </p:nvGrpSpPr>
                <p:grpSpPr>
                  <a:xfrm>
                    <a:off x="6948720" y="2204640"/>
                    <a:ext cx="1298520" cy="1369440"/>
                    <a:chOff x="6948720" y="2204640"/>
                    <a:chExt cx="1298520" cy="1369440"/>
                  </a:xfrm>
                </p:grpSpPr>
                <p:grpSp>
                  <p:nvGrpSpPr>
                    <p:cNvPr id="966" name="Group 50"/>
                    <p:cNvGrpSpPr/>
                    <p:nvPr/>
                  </p:nvGrpSpPr>
                  <p:grpSpPr>
                    <a:xfrm>
                      <a:off x="7525080" y="2780640"/>
                      <a:ext cx="433080" cy="433440"/>
                      <a:chOff x="7525080" y="2780640"/>
                      <a:chExt cx="433080" cy="433440"/>
                    </a:xfrm>
                  </p:grpSpPr>
                  <p:sp>
                    <p:nvSpPr>
                      <p:cNvPr id="967" name="Oval 51"/>
                      <p:cNvSpPr/>
                      <p:nvPr/>
                    </p:nvSpPr>
                    <p:spPr>
                      <a:xfrm>
                        <a:off x="7525080" y="2780640"/>
                        <a:ext cx="433080" cy="43344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68" name="Oval 52"/>
                      <p:cNvSpPr/>
                      <p:nvPr/>
                    </p:nvSpPr>
                    <p:spPr>
                      <a:xfrm>
                        <a:off x="7633440" y="2967120"/>
                        <a:ext cx="108720" cy="12384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1040" bIns="4104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69" name="Group 53"/>
                    <p:cNvGrpSpPr/>
                    <p:nvPr/>
                  </p:nvGrpSpPr>
                  <p:grpSpPr>
                    <a:xfrm>
                      <a:off x="6948720" y="2204640"/>
                      <a:ext cx="1298520" cy="1369440"/>
                      <a:chOff x="6948720" y="2204640"/>
                      <a:chExt cx="1298520" cy="1369440"/>
                    </a:xfrm>
                  </p:grpSpPr>
                  <p:grpSp>
                    <p:nvGrpSpPr>
                      <p:cNvPr id="970" name="Group 54"/>
                      <p:cNvGrpSpPr/>
                      <p:nvPr/>
                    </p:nvGrpSpPr>
                    <p:grpSpPr>
                      <a:xfrm>
                        <a:off x="7164720" y="2709360"/>
                        <a:ext cx="433080" cy="433440"/>
                        <a:chOff x="7164720" y="2709360"/>
                        <a:chExt cx="433080" cy="433440"/>
                      </a:xfrm>
                    </p:grpSpPr>
                    <p:sp>
                      <p:nvSpPr>
                        <p:cNvPr id="971" name="Oval 55"/>
                        <p:cNvSpPr/>
                        <p:nvPr/>
                      </p:nvSpPr>
                      <p:spPr>
                        <a:xfrm>
                          <a:off x="7164720" y="2709360"/>
                          <a:ext cx="433080" cy="433440"/>
                        </a:xfrm>
                        <a:prstGeom prst="ellipse">
                          <a:avLst/>
                        </a:prstGeom>
                        <a:solidFill>
                          <a:srgbClr val="ffffcc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8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2" name="Oval 56"/>
                        <p:cNvSpPr/>
                        <p:nvPr/>
                      </p:nvSpPr>
                      <p:spPr>
                        <a:xfrm>
                          <a:off x="7273080" y="2895840"/>
                          <a:ext cx="108720" cy="123840"/>
                        </a:xfrm>
                        <a:prstGeom prst="ellipse">
                          <a:avLst/>
                        </a:prstGeom>
                        <a:solidFill>
                          <a:srgbClr val="ffffcc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1040" bIns="4104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8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73" name="Group 57"/>
                      <p:cNvGrpSpPr/>
                      <p:nvPr/>
                    </p:nvGrpSpPr>
                    <p:grpSpPr>
                      <a:xfrm>
                        <a:off x="6948720" y="2204640"/>
                        <a:ext cx="1298520" cy="1369440"/>
                        <a:chOff x="6948720" y="2204640"/>
                        <a:chExt cx="1298520" cy="1369440"/>
                      </a:xfrm>
                    </p:grpSpPr>
                    <p:grpSp>
                      <p:nvGrpSpPr>
                        <p:cNvPr id="974" name="Group 58"/>
                        <p:cNvGrpSpPr/>
                        <p:nvPr/>
                      </p:nvGrpSpPr>
                      <p:grpSpPr>
                        <a:xfrm>
                          <a:off x="7525080" y="2709360"/>
                          <a:ext cx="433080" cy="433440"/>
                          <a:chOff x="7525080" y="2709360"/>
                          <a:chExt cx="433080" cy="433440"/>
                        </a:xfrm>
                      </p:grpSpPr>
                      <p:sp>
                        <p:nvSpPr>
                          <p:cNvPr id="975" name="Oval 59"/>
                          <p:cNvSpPr/>
                          <p:nvPr/>
                        </p:nvSpPr>
                        <p:spPr>
                          <a:xfrm>
                            <a:off x="7525080" y="2709360"/>
                            <a:ext cx="433080" cy="433440"/>
                          </a:xfrm>
                          <a:prstGeom prst="ellipse">
                            <a:avLst/>
                          </a:prstGeom>
                          <a:solidFill>
                            <a:srgbClr val="ffffcc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8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6" name="Oval 60"/>
                          <p:cNvSpPr/>
                          <p:nvPr/>
                        </p:nvSpPr>
                        <p:spPr>
                          <a:xfrm>
                            <a:off x="7633440" y="2895840"/>
                            <a:ext cx="108720" cy="123840"/>
                          </a:xfrm>
                          <a:prstGeom prst="ellipse">
                            <a:avLst/>
                          </a:prstGeom>
                          <a:solidFill>
                            <a:srgbClr val="996633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1040" bIns="4104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8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77" name="Group 61"/>
                        <p:cNvGrpSpPr/>
                        <p:nvPr/>
                      </p:nvGrpSpPr>
                      <p:grpSpPr>
                        <a:xfrm>
                          <a:off x="6948720" y="2204640"/>
                          <a:ext cx="1298520" cy="1369440"/>
                          <a:chOff x="6948720" y="2204640"/>
                          <a:chExt cx="1298520" cy="1369440"/>
                        </a:xfrm>
                      </p:grpSpPr>
                      <p:grpSp>
                        <p:nvGrpSpPr>
                          <p:cNvPr id="978" name="Group 62"/>
                          <p:cNvGrpSpPr/>
                          <p:nvPr/>
                        </p:nvGrpSpPr>
                        <p:grpSpPr>
                          <a:xfrm>
                            <a:off x="7525080" y="2925000"/>
                            <a:ext cx="433080" cy="433080"/>
                            <a:chOff x="7525080" y="2925000"/>
                            <a:chExt cx="433080" cy="433080"/>
                          </a:xfrm>
                        </p:grpSpPr>
                        <p:sp>
                          <p:nvSpPr>
                            <p:cNvPr id="979" name="Oval 63"/>
                            <p:cNvSpPr/>
                            <p:nvPr/>
                          </p:nvSpPr>
                          <p:spPr>
                            <a:xfrm>
                              <a:off x="7525080" y="2925000"/>
                              <a:ext cx="433080" cy="433080"/>
                            </a:xfrm>
                            <a:prstGeom prst="ellipse">
                              <a:avLst/>
                            </a:prstGeom>
                            <a:solidFill>
                              <a:srgbClr val="ffffcc"/>
                            </a:solidFill>
                            <a:ln w="93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8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980" name="Oval 64"/>
                            <p:cNvSpPr/>
                            <p:nvPr/>
                          </p:nvSpPr>
                          <p:spPr>
                            <a:xfrm>
                              <a:off x="7633440" y="3111480"/>
                              <a:ext cx="108720" cy="123840"/>
                            </a:xfrm>
                            <a:prstGeom prst="ellipse">
                              <a:avLst/>
                            </a:prstGeom>
                            <a:solidFill>
                              <a:srgbClr val="996633"/>
                            </a:solidFill>
                            <a:ln w="93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8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981" name="Group 65"/>
                          <p:cNvGrpSpPr/>
                          <p:nvPr/>
                        </p:nvGrpSpPr>
                        <p:grpSpPr>
                          <a:xfrm>
                            <a:off x="6948720" y="2204640"/>
                            <a:ext cx="1298520" cy="1369440"/>
                            <a:chOff x="6948720" y="2204640"/>
                            <a:chExt cx="1298520" cy="1369440"/>
                          </a:xfrm>
                        </p:grpSpPr>
                        <p:grpSp>
                          <p:nvGrpSpPr>
                            <p:cNvPr id="982" name="Group 66"/>
                            <p:cNvGrpSpPr/>
                            <p:nvPr/>
                          </p:nvGrpSpPr>
                          <p:grpSpPr>
                            <a:xfrm>
                              <a:off x="7669440" y="2493360"/>
                              <a:ext cx="433440" cy="432720"/>
                              <a:chOff x="7669440" y="2493360"/>
                              <a:chExt cx="433440" cy="432720"/>
                            </a:xfrm>
                          </p:grpSpPr>
                          <p:sp>
                            <p:nvSpPr>
                              <p:cNvPr id="983" name="Oval 67"/>
                              <p:cNvSpPr/>
                              <p:nvPr/>
                            </p:nvSpPr>
                            <p:spPr>
                              <a:xfrm>
                                <a:off x="7669440" y="2493360"/>
                                <a:ext cx="433440" cy="4327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ffcc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84" name="Oval 68"/>
                              <p:cNvSpPr/>
                              <p:nvPr/>
                            </p:nvSpPr>
                            <p:spPr>
                              <a:xfrm>
                                <a:off x="7777800" y="2679480"/>
                                <a:ext cx="108720" cy="1234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996633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0680" bIns="4068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85" name="Group 69"/>
                            <p:cNvGrpSpPr/>
                            <p:nvPr/>
                          </p:nvGrpSpPr>
                          <p:grpSpPr>
                            <a:xfrm>
                              <a:off x="7164720" y="2277360"/>
                              <a:ext cx="433080" cy="433080"/>
                              <a:chOff x="7164720" y="2277360"/>
                              <a:chExt cx="433080" cy="433080"/>
                            </a:xfrm>
                          </p:grpSpPr>
                          <p:sp>
                            <p:nvSpPr>
                              <p:cNvPr id="986" name="Oval 70"/>
                              <p:cNvSpPr/>
                              <p:nvPr/>
                            </p:nvSpPr>
                            <p:spPr>
                              <a:xfrm>
                                <a:off x="7164720" y="2277360"/>
                                <a:ext cx="433080" cy="4330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ffcc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87" name="Oval 71"/>
                              <p:cNvSpPr/>
                              <p:nvPr/>
                            </p:nvSpPr>
                            <p:spPr>
                              <a:xfrm>
                                <a:off x="7273080" y="2463840"/>
                                <a:ext cx="108720" cy="1238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996633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1040" bIns="4104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88" name="Group 72"/>
                            <p:cNvGrpSpPr/>
                            <p:nvPr/>
                          </p:nvGrpSpPr>
                          <p:grpSpPr>
                            <a:xfrm>
                              <a:off x="7164720" y="2853720"/>
                              <a:ext cx="433080" cy="432720"/>
                              <a:chOff x="7164720" y="2853720"/>
                              <a:chExt cx="433080" cy="432720"/>
                            </a:xfrm>
                          </p:grpSpPr>
                          <p:sp>
                            <p:nvSpPr>
                              <p:cNvPr id="989" name="Oval 73"/>
                              <p:cNvSpPr/>
                              <p:nvPr/>
                            </p:nvSpPr>
                            <p:spPr>
                              <a:xfrm>
                                <a:off x="7164720" y="2853720"/>
                                <a:ext cx="433080" cy="4327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ffcc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90" name="Oval 74"/>
                              <p:cNvSpPr/>
                              <p:nvPr/>
                            </p:nvSpPr>
                            <p:spPr>
                              <a:xfrm>
                                <a:off x="7273080" y="3039840"/>
                                <a:ext cx="108720" cy="1234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996633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0680" bIns="4068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91" name="Group 75"/>
                            <p:cNvGrpSpPr/>
                            <p:nvPr/>
                          </p:nvGrpSpPr>
                          <p:grpSpPr>
                            <a:xfrm>
                              <a:off x="7380360" y="2493360"/>
                              <a:ext cx="433440" cy="432720"/>
                              <a:chOff x="7380360" y="2493360"/>
                              <a:chExt cx="433440" cy="432720"/>
                            </a:xfrm>
                          </p:grpSpPr>
                          <p:sp>
                            <p:nvSpPr>
                              <p:cNvPr id="992" name="Oval 76"/>
                              <p:cNvSpPr/>
                              <p:nvPr/>
                            </p:nvSpPr>
                            <p:spPr>
                              <a:xfrm>
                                <a:off x="7380360" y="2493360"/>
                                <a:ext cx="433440" cy="4327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ffcc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93" name="Oval 77"/>
                              <p:cNvSpPr/>
                              <p:nvPr/>
                            </p:nvSpPr>
                            <p:spPr>
                              <a:xfrm>
                                <a:off x="7488720" y="2679480"/>
                                <a:ext cx="108720" cy="1234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996633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0680" bIns="4068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94" name="Group 78"/>
                            <p:cNvGrpSpPr/>
                            <p:nvPr/>
                          </p:nvGrpSpPr>
                          <p:grpSpPr>
                            <a:xfrm>
                              <a:off x="7525080" y="2204640"/>
                              <a:ext cx="433080" cy="433080"/>
                              <a:chOff x="7525080" y="2204640"/>
                              <a:chExt cx="433080" cy="433080"/>
                            </a:xfrm>
                          </p:grpSpPr>
                          <p:sp>
                            <p:nvSpPr>
                              <p:cNvPr id="995" name="Oval 79"/>
                              <p:cNvSpPr/>
                              <p:nvPr/>
                            </p:nvSpPr>
                            <p:spPr>
                              <a:xfrm>
                                <a:off x="7525080" y="2204640"/>
                                <a:ext cx="433080" cy="4330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ffcc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96" name="Oval 80"/>
                              <p:cNvSpPr/>
                              <p:nvPr/>
                            </p:nvSpPr>
                            <p:spPr>
                              <a:xfrm>
                                <a:off x="7633440" y="2391120"/>
                                <a:ext cx="108720" cy="1238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996633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1040" bIns="4104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97" name="Group 81"/>
                            <p:cNvGrpSpPr/>
                            <p:nvPr/>
                          </p:nvGrpSpPr>
                          <p:grpSpPr>
                            <a:xfrm>
                              <a:off x="7596360" y="3141000"/>
                              <a:ext cx="433440" cy="433080"/>
                              <a:chOff x="7596360" y="3141000"/>
                              <a:chExt cx="433440" cy="433080"/>
                            </a:xfrm>
                          </p:grpSpPr>
                          <p:sp>
                            <p:nvSpPr>
                              <p:cNvPr id="998" name="Oval 82"/>
                              <p:cNvSpPr/>
                              <p:nvPr/>
                            </p:nvSpPr>
                            <p:spPr>
                              <a:xfrm>
                                <a:off x="7596360" y="3141000"/>
                                <a:ext cx="433440" cy="4330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ffcc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99" name="Oval 83"/>
                              <p:cNvSpPr/>
                              <p:nvPr/>
                            </p:nvSpPr>
                            <p:spPr>
                              <a:xfrm>
                                <a:off x="7704720" y="3327480"/>
                                <a:ext cx="108720" cy="1238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996633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1040" bIns="4104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000" name="Group 84"/>
                            <p:cNvGrpSpPr/>
                            <p:nvPr/>
                          </p:nvGrpSpPr>
                          <p:grpSpPr>
                            <a:xfrm>
                              <a:off x="7237440" y="3141000"/>
                              <a:ext cx="433440" cy="433080"/>
                              <a:chOff x="7237440" y="3141000"/>
                              <a:chExt cx="433440" cy="433080"/>
                            </a:xfrm>
                          </p:grpSpPr>
                          <p:sp>
                            <p:nvSpPr>
                              <p:cNvPr id="1001" name="Oval 85"/>
                              <p:cNvSpPr/>
                              <p:nvPr/>
                            </p:nvSpPr>
                            <p:spPr>
                              <a:xfrm>
                                <a:off x="7237440" y="3141000"/>
                                <a:ext cx="433440" cy="4330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ffcc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02" name="Oval 86"/>
                              <p:cNvSpPr/>
                              <p:nvPr/>
                            </p:nvSpPr>
                            <p:spPr>
                              <a:xfrm>
                                <a:off x="7345800" y="3327480"/>
                                <a:ext cx="108720" cy="1238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996633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1040" bIns="4104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003" name="Group 87"/>
                            <p:cNvGrpSpPr/>
                            <p:nvPr/>
                          </p:nvGrpSpPr>
                          <p:grpSpPr>
                            <a:xfrm>
                              <a:off x="6948720" y="2564640"/>
                              <a:ext cx="433440" cy="433080"/>
                              <a:chOff x="6948720" y="2564640"/>
                              <a:chExt cx="433440" cy="433080"/>
                            </a:xfrm>
                          </p:grpSpPr>
                          <p:sp>
                            <p:nvSpPr>
                              <p:cNvPr id="1004" name="Oval 88"/>
                              <p:cNvSpPr/>
                              <p:nvPr/>
                            </p:nvSpPr>
                            <p:spPr>
                              <a:xfrm>
                                <a:off x="6948720" y="2564640"/>
                                <a:ext cx="433440" cy="4330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ffcc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05" name="Oval 89"/>
                              <p:cNvSpPr/>
                              <p:nvPr/>
                            </p:nvSpPr>
                            <p:spPr>
                              <a:xfrm>
                                <a:off x="7057080" y="2751120"/>
                                <a:ext cx="108720" cy="1238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996633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1040" bIns="4104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006" name="Group 90"/>
                            <p:cNvGrpSpPr/>
                            <p:nvPr/>
                          </p:nvGrpSpPr>
                          <p:grpSpPr>
                            <a:xfrm>
                              <a:off x="7813800" y="2853720"/>
                              <a:ext cx="433440" cy="432720"/>
                              <a:chOff x="7813800" y="2853720"/>
                              <a:chExt cx="433440" cy="432720"/>
                            </a:xfrm>
                          </p:grpSpPr>
                          <p:sp>
                            <p:nvSpPr>
                              <p:cNvPr id="1007" name="Oval 91"/>
                              <p:cNvSpPr/>
                              <p:nvPr/>
                            </p:nvSpPr>
                            <p:spPr>
                              <a:xfrm>
                                <a:off x="7813800" y="2853720"/>
                                <a:ext cx="433440" cy="4327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ffcc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08" name="Oval 92"/>
                              <p:cNvSpPr/>
                              <p:nvPr/>
                            </p:nvSpPr>
                            <p:spPr>
                              <a:xfrm>
                                <a:off x="7922160" y="3039840"/>
                                <a:ext cx="108720" cy="1234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996633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0680" bIns="4068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</p:grpSp>
        </p:grpSp>
        <p:sp>
          <p:nvSpPr>
            <p:cNvPr id="1009" name="Line 93"/>
            <p:cNvSpPr/>
            <p:nvPr/>
          </p:nvSpPr>
          <p:spPr>
            <a:xfrm>
              <a:off x="8388360" y="285264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Line 94"/>
            <p:cNvSpPr/>
            <p:nvPr/>
          </p:nvSpPr>
          <p:spPr>
            <a:xfrm>
              <a:off x="1116000" y="551808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1844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7"/>
                </a:solidFill>
                <a:latin typeface="Bookman Old Style"/>
              </a:rPr>
              <a:t>Оплодотворенная икринка начинает делиться и образуется многоклеточный зародыш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44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44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Bookman Old Style"/>
              </a:rPr>
              <a:t>Зародыш растет и вскоре покидает оболочку икринки, превращаясь в личинку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3" name="Picture 3" descr="Untitled-3"/>
          <p:cNvPicPr/>
          <p:nvPr/>
        </p:nvPicPr>
        <p:blipFill>
          <a:blip r:embed="rId1"/>
          <a:stretch/>
        </p:blipFill>
        <p:spPr>
          <a:xfrm>
            <a:off x="0" y="3068640"/>
            <a:ext cx="9039240" cy="2438280"/>
          </a:xfrm>
          <a:prstGeom prst="rect">
            <a:avLst/>
          </a:prstGeom>
          <a:ln w="0">
            <a:noFill/>
          </a:ln>
        </p:spPr>
      </p:pic>
      <p:sp>
        <p:nvSpPr>
          <p:cNvPr id="1014" name="Rectangle 4"/>
          <p:cNvSpPr/>
          <p:nvPr/>
        </p:nvSpPr>
        <p:spPr>
          <a:xfrm>
            <a:off x="468360" y="260280"/>
            <a:ext cx="8136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Личинка питается и растет, и становится похожей на взрослую рыбу. Её называют мальком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5" name="Picture 5" descr="Untitled-5"/>
          <p:cNvPicPr/>
          <p:nvPr/>
        </p:nvPicPr>
        <p:blipFill>
          <a:blip r:embed="rId2"/>
          <a:stretch/>
        </p:blipFill>
        <p:spPr>
          <a:xfrm>
            <a:off x="395280" y="2781360"/>
            <a:ext cx="8353440" cy="2952720"/>
          </a:xfrm>
          <a:prstGeom prst="rect">
            <a:avLst/>
          </a:prstGeom>
          <a:ln w="0">
            <a:noFill/>
          </a:ln>
        </p:spPr>
      </p:pic>
      <p:sp>
        <p:nvSpPr>
          <p:cNvPr id="1016" name="Rectangle 6"/>
          <p:cNvSpPr/>
          <p:nvPr/>
        </p:nvSpPr>
        <p:spPr>
          <a:xfrm>
            <a:off x="250920" y="404640"/>
            <a:ext cx="864072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ff"/>
                </a:solidFill>
                <a:latin typeface="Bookman Old Style"/>
              </a:rPr>
              <a:t>Он растет сравнительно быстро: примерно через 2 месяца тело его бывает длиной 2 см,</a:t>
            </a:r>
            <a:br>
              <a:rPr sz="4800"/>
            </a:br>
            <a:r>
              <a:rPr b="0" lang="ru-RU" sz="4800" spc="-1" strike="noStrike">
                <a:solidFill>
                  <a:srgbClr val="6600ff"/>
                </a:solidFill>
                <a:latin typeface="Bookman Old Style"/>
              </a:rPr>
              <a:t>а через год молодой окунь вырастает до</a:t>
            </a:r>
            <a:br>
              <a:rPr sz="4800"/>
            </a:br>
            <a:r>
              <a:rPr b="0" lang="ru-RU" sz="4800" spc="-1" strike="noStrike">
                <a:solidFill>
                  <a:srgbClr val="6600ff"/>
                </a:solidFill>
                <a:latin typeface="Bookman Old Style"/>
              </a:rPr>
              <a:t> 10 см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7" name="Picture 7" descr="Рисунок 1"/>
          <p:cNvPicPr/>
          <p:nvPr/>
        </p:nvPicPr>
        <p:blipFill>
          <a:blip r:embed="rId3"/>
          <a:stretch/>
        </p:blipFill>
        <p:spPr>
          <a:xfrm>
            <a:off x="395280" y="1311120"/>
            <a:ext cx="8280360" cy="420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46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46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6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21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13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" presetSubtype="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200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6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36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32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71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2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6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6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2" nodeType="afterEffect" fill="hold" presetClass="exit" presetID="55">
                                  <p:stCondLst>
                                    <p:cond delay="2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4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4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4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3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орбуша серебрянка</a:t>
            </a:r>
            <a:br>
              <a:rPr sz="4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половой диморфизм (самка и самец)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9" name="Содержимое 3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98764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Судак обыкновенный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ffffb7"/>
                </a:solidFill>
                <a:latin typeface="Times New Roman"/>
              </a:rPr>
              <a:t>от любви окраска самца приобретает голубой оттенок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1" name="Содержимое 3" descr=""/>
          <p:cNvPicPr/>
          <p:nvPr/>
        </p:nvPicPr>
        <p:blipFill>
          <a:blip r:embed="rId1"/>
          <a:stretch/>
        </p:blipFill>
        <p:spPr>
          <a:xfrm>
            <a:off x="3000240" y="333360"/>
            <a:ext cx="6143760" cy="65246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5:28:32Z</dcterms:created>
  <dc:creator>АЛИБЕК</dc:creator>
  <dc:description/>
  <dc:language>en-US</dc:language>
  <cp:lastModifiedBy>39_Кабинет</cp:lastModifiedBy>
  <dcterms:modified xsi:type="dcterms:W3CDTF">2017-01-24T06:15:19Z</dcterms:modified>
  <cp:revision>41</cp:revision>
  <dc:subject/>
  <dc:title>Слайд 1</dc:title>
</cp:coreProperties>
</file>