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C80-D7C2-46B9-A3CC-BD733C80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BA7-53F6-40E8-BCB0-9B05933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F18A-C2B4-4C98-B444-9F178326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D799C-A450-4E3F-8BFE-1D9B61F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6B155-D2F5-4BFC-A052-2AC130DA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3E54-F9FB-4756-9D85-9474A5C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B7DB7-198B-4267-97D9-AA6B699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FC67-2695-46CF-8ED7-34742F3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9066-7AE7-4BA7-8662-32A847B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05E40-E70E-47A5-982E-3238CE76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8C93E-AE8C-480E-8543-321CE9DE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837C1-E7B3-4B76-80F3-6101CC23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2FA-80D9-422C-A6B0-6B4BCB8C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2C11F-2A28-4141-A3E4-380F17D7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A39A3-CA30-4300-BFAB-71B7915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7F839-E75C-4F52-BE15-B37AB377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27560-2CC5-4922-8A3D-9A6306B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C4777-C087-489D-8C03-B6BB7208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0345-2B3C-4A6D-ACAC-149F214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D980A-169D-4649-B021-CF61A73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41FC9-8969-4EF1-96CA-1E3079A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3B7AC-695F-4BB4-AF3D-228C81F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C402-27FA-43EF-944C-183F7695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A0A-CEAB-4C7F-9427-5B664570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63E3B-E63D-4ADA-A938-9C59726A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BB054-4999-40F8-9132-07CBB913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07281-86CB-454D-890D-3F4AE59D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C3244-48D6-4BBF-B0E2-0A688C1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83D81-E79D-4A09-955C-0357584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29D6C-34C3-48B2-98C5-6236459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5E79-3120-4CE3-9A5F-F1DB69B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1423-E7A7-444C-99A7-6281F66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94F7F-6F87-47BB-B187-B144C23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2980F-9B7D-4FEF-B751-BB210F5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79B5-D0E1-407E-9ECC-7BDAAF75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16790-2D7A-4A1A-8BBD-8D45AF7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F6D54-76BC-4E3C-A792-2927BA68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FA7D7-C734-4149-A198-11A6431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58979-9E65-448B-94EB-898490C6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5AA16-15A6-4800-9125-56F1FCE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3A196-E19C-479E-9376-59A8475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4A7FD-566C-4453-8CFF-EAC67CFD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BF7D1-2569-4693-9B57-8566CCE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48503-D2A1-4BFE-9AD2-3BC8A99F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A93EF-7CD6-45D9-8A85-C18C2C2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52C0-CB7E-40AD-A76E-8A2E944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A7C24-108B-49A7-8799-8B34B77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11DFA-9418-4022-AFDF-9B1051D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EBC7-DD21-4F2B-9279-12A55D6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BF377-EA2C-48BC-A7D4-28A3EE42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ED49A-76ED-48E3-A4D2-B51DB5B7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7CA85-A070-4C86-99A4-ADFB13C1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87997-653F-4367-AFB5-AC5C108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A6EF0-FE32-43D4-B717-86A4AB7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DDAC4-91E8-4255-B722-68C4E691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78860-53B8-42A4-BF9B-D1B5A25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2050-E650-4797-9656-B4554EF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24CEF-ED4E-43C8-9846-C957BDC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B5AFC-3128-48F9-8B7F-D83D5DC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1D76F-5974-445A-AC0A-825734D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1AAD0-F660-42BB-9EB1-213C422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78324-0FB8-4C8A-B498-800BDFD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47F2E-094A-4846-90A3-DC28989C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D29A5-10EA-48B7-8B15-1180770C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41C42-DEB3-476F-96E1-F6427F04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1B8D8-6A55-4093-BDFD-3201AE0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3A0A8-BF06-4D66-B40A-116EC7CE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10E1-C467-4BCD-8EC0-44EC2DF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41A87-10CD-495C-B368-CF43263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62606-18AA-4C26-A278-5AA4B22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8A2A7-D7A7-4F93-8782-3AA3E34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4A2DD-3E26-43D6-A96D-F979401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C5340-0B68-410F-AC63-1628EF7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7FF49-7D7E-4BC4-B6A8-055329A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6A541-579B-4908-BE4F-A7CB813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A2D7C-7900-46D6-8B07-E7DA177A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253C8-CD59-4EC6-B2D7-AC5C4C82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52B5A-32BA-4F2E-AB7C-24598A4E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A6A-6390-4337-B9BD-944144A0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5E42C-9B44-4190-B21D-20C2044B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C366B-5731-4E5E-8770-C421E57F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2F9E4-CFB0-46B0-9FEE-EA6F7FE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6C6DE-7771-4E7B-A58B-E7EC125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280E4-82D6-4619-AD3F-0805E917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B1DC3-A95E-43E2-B7BF-EEE9575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AFEDA-5251-45BF-8AC9-194920A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976B2-CF55-481F-A4F2-2D3FB26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750B8-1F9D-4D00-B3FC-AAFA7F81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A9047-1420-4C79-9491-F18999F5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1FA1-8C64-429A-AEE3-E72D44B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AC8B6-96C7-417A-842A-84BD1A20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A4812-D58E-49ED-BE48-10170514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AA105-ECC2-4E12-8B72-032E806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C3C14-243E-40C6-83CA-B7DEFF64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C91B9-BE28-4C91-B7DE-24066C3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8236C-2B32-464B-BF1C-0356EDB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2B2C3-6157-424D-8CE6-1379A3AF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6D4B1-54B3-4CAB-BFAB-72BCA79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F6490-4DB7-4CB5-A276-ADEA9E8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4EF04-F872-43AA-B0E9-439F87E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9898-21C1-4667-9EF8-0E6388B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83ABA-A030-49C7-BDE6-2C54D186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C15B9-A55C-4EB0-BB2F-344738CE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A751D-D554-4697-B435-01128639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58FDE-7123-4283-821A-FBAB1A4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FB0C9-80DD-4DEA-84DB-D644E71F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95125-FED6-4462-AB84-174BDDE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B6CD6-5728-458D-91EB-AFDC6E2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3E162-5046-4E3A-B836-0F37DD9F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E890F-667E-480A-85C4-95D3B522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4BB76-9FB2-4D75-BFE5-5494BB69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3DB-9C55-4BE5-B58B-84C8C836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EB6-3A8A-499E-922F-33ACA8F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77B29-C554-4DCC-BD7D-22CA78D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91B2D-EE31-4891-98E9-14BAB42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D80FD-684A-462F-9891-35A1A2BF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41DDE-B13F-4DA3-8F46-BCD5E825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327E2-D2A1-4FAC-93BE-33A7632E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860CB-0CB0-4BBC-B4FD-BBFEAEAD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0D9AE-B5AA-4B1F-BBCC-3096B87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53265-C363-49C6-8B8A-7FDC1A8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B4C73-DE94-4529-9D0B-8BFD2DF7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31E38-E7D4-416C-852F-A5AF6C4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378D-3914-4592-AF98-EFFDCED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8B1F0-86EB-4851-BBC6-10E7DCD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2FAAA-A948-4BF9-8BEA-9789193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BC4E6-193C-49D2-BE64-303EBC0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CF304-DF60-488B-8A02-A8E9E30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A9A88-7DEB-4104-B83C-7227B2F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B501D-839E-4F45-AB70-FC1ABC6E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ECA32-28A1-4AA3-BA9F-0C600FC0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ABCC-D3FC-4D6E-8F88-9DA1B1F6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B8F2-075A-4708-98C3-CA3621B3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4E80-BCDB-4424-B90B-52472A86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9A7A-F2D1-4D66-8070-58AA5251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6A07-490E-4444-8E8C-9FB70C3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E9C6-A66C-4B9B-A81D-B298992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89BC-4D42-4C81-944B-007C45C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B4D0-F01C-41BA-87B5-3BBA497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870-DAD3-450A-BCDE-D0D0B238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F614-4710-41C1-B277-E69372E7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130B-500B-4790-85D9-160FDE9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6B2B-792B-42A3-B342-439FBFB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A3CD-0030-4EE4-AB3A-EE2304F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71E1-CBF5-45D8-93BF-FF56F526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BA87-F2F2-4C88-A662-8941F6B3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5DF7-FF82-41C6-BA9D-6DB0CF8D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772C-EA1B-45EA-8D03-6BEE3834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8601-0B04-4E6D-BEA7-6A491AF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D340-9D4F-4565-A37F-0725596C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713-6C51-4C91-B19E-36A9626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8944-3650-4647-824F-10C4746C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BF4D-C8CC-4C90-85F5-77BAC544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1E59-0A48-46B1-9872-ED74920A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CDE0-31AC-476B-838E-BE15AE20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2648-6BFF-4D19-A502-DBFA29FB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263A-8936-44E2-B6F5-954A74A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4BF5-7456-4A92-ACFF-DDEEE931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F81D0-8E24-4ECA-B02E-127E3B7C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E830-5D12-412B-A279-7A04DA8B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53CD-01A7-40BF-ACE4-94D41271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7D4-C632-4013-BE22-2E6F924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0494-3A9A-4FBA-A090-EEFDBABC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92FA-3E38-4B1C-9A23-042C38B4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0530-A27F-431D-9B98-29C714B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6F53-5ED2-4BC3-9389-BD0CAEEB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8EE8-BCD5-4E0D-8255-D50D108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5A89-8232-473F-9E79-99B79A8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E4E1-ABBF-4A54-A1DA-38305FF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6E1D-7E6C-43A6-8B79-650A538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3FBB-CA0C-4FFE-A17D-288400A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7C52-7E99-4EE3-973A-F6D013D9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6E3-F786-46CF-B719-3B25E49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D123-F1E1-4DCD-A777-64233FE6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1C08E-EA68-4A67-817D-3EF8F3B1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A1FED-DA16-4669-B809-93B931B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7991-BA14-4F2B-A368-390939B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1C58-2807-427A-922D-C7CAD72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9330-2342-4C27-8A3D-5BCD727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F864-C3AC-465A-8FC6-C2B7107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1906D-DAF7-4DF5-8C7E-ACD653F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A97D7-E905-4B91-8C47-7D055CA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ECA6-4C09-44B8-88EF-C0CCF79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AAF-C03F-4389-8BB3-5D24A9A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E8AF-2DA4-4953-B834-EF17725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9CB5-09F8-4200-8E03-5B9C020C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64F6-7E9D-451B-AA8B-250B234B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3FC99-6FF5-4886-B06F-05FAEEF4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C3B7C-F6CF-4CE3-A312-977BB62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1CDA9-7389-4A56-BD32-B77588AC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6616-06E9-4EFE-BC79-AA01BD6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EFD81-7A10-42A6-A3CC-D1BF04C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2891-6646-4F26-8AEC-2299951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C005F-3320-4CEA-A598-764109DA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704-7239-4CB8-8769-0D906F7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F7DA-DEFA-4584-B2EB-E95AB0F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393E-1F61-4FBB-8BF7-0142A40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31D3-B0EA-4DE9-9C5E-CAAD048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2F85-F034-4EC4-A2A1-D47C37DC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6A42-7B25-4A0F-BE0C-5E4B58A5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0FA4-895C-4ED5-8228-895ED1A4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DE072-EB20-4550-8E08-C9DD674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2744E-7176-451A-8EB0-697A6796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D4D3-1584-45D6-AA69-EBCE2AF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A4F1-95F5-48C0-9ED2-D6BD0B8F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256-F0DE-42D7-B832-BF9B7483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BAAF-FED9-4749-9844-F5D759C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B3FF-70B9-4427-9196-B48FFC0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BF28C-1AF2-467C-8D48-737DA26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D602-8144-4963-888D-1E38683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A72F-4B57-47FD-9615-D2A19650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E029-B5FD-4FEA-A143-48037E5F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FFAB0-117A-4024-8D23-58540D1C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2BB6-B647-4E8C-8017-C9B4A313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41D93-4A7E-411C-94A2-8D6ABD74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E44BA-3663-4970-9368-F7391DD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8439-D3E5-4D70-817F-E1FF6D7E4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87E1-D623-42D1-A38B-EE3938A00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AC5C-8AC0-49FE-AF6B-DF7517BB1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5BB-5188-40FA-9EF3-59F0858B7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B8BB-35EC-4E93-B088-BABD87824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053-B38C-485E-9E71-24D280166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A69-0E65-4E23-9DF5-4CFB971E5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3E1-55BD-4CA6-9D3C-4431DDA52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7721-E8BF-4C2C-8CFE-F594DFEA5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AE1-AB7C-41AB-B562-FE984BF36D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CA45-27FA-438A-B611-0FFB9C7C2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B46-80B2-439B-9C73-173967A41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455E-9BA4-4A93-B604-200D9E7D8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3B5-A3A4-45A4-B954-67B6B6D11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188-C1BD-45E9-A03A-035626CAF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E16-9783-4D4A-93CC-03A8E86AF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4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A80F-28C0-4476-A747-704F91549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9DC-35E2-4CD6-9B4A-C13DC1D7A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Тема урока: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Размножение и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развитие  рыб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355640" y="3357720"/>
            <a:ext cx="788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урока: показать особенности размн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б, раскрыть разнообразные фор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боты о потомстве как приспособление к выживанию ви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умение анализировать информа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ширять кругозор учащихся и воспитывать бережное отношение к природе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2459160" cy="32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Яйцовая капсула китовой акулы. Состоит из кератина 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3" name="Picture 4" descr="китовая1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0" y="3789360"/>
            <a:ext cx="5029200" cy="2735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53844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Сельдевая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акула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живородяща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6" name="Picture 4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Рисунок 4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Вышедшие из икринок личинки около 3-х лет живут в открытом океане и пассивно , увлекаемые Гольфстримом , дрейфуют к берегам Европы. Близ устьев рек, очевидно под влиянием  меньшей солености воды , личинки превращаются в маленьких угрят, и в таком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виде входят в реки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9" name=""/>
          <p:cNvGraphicFramePr/>
          <p:nvPr/>
        </p:nvGraphicFramePr>
        <p:xfrm>
          <a:off x="250920" y="260280"/>
          <a:ext cx="8713800" cy="6007320"/>
        </p:xfrm>
        <a:graphic>
          <a:graphicData uri="http://schemas.openxmlformats.org/drawingml/2006/table">
            <a:tbl>
              <a:tblPr/>
              <a:tblGrid>
                <a:gridCol w="2305080"/>
                <a:gridCol w="3024000"/>
                <a:gridCol w="338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а-ры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300 млн. икри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ринки свободно плавают в толще или на поверхности 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ска, у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етров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дак, саз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олоб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у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млн. икрино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,5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 млн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900 ты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500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450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ыше 200тыс.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пкая икра, которую приклеивают к растениям или на гру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бу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ю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мик арие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2 ты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икри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3 икринок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кра в ямках, засыпанных галь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ты, аку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ночные яйца в капсу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щательная защита потом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43196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уна-рыба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откладывает до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300 млн. икринок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есит около 700 кг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1" name="Содержимое 3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292720" y="244440"/>
            <a:ext cx="3549600" cy="563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юш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хиглая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заботливый отец не только не оставляет гнездо с икрой, но и освежает воду в нем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ляпия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вынашивает икринки во рту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5" name="Содержимое 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омик ариевый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битает в Атлантическом океане. 30 см. Самец вынашивает икринки во рту. В этот перид он не питается. Вылупившиеся мальки в случае опасности прячутся во рту  у отц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7" name="Содержимое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26748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амский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етушок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самец выдувает пузырьки воздуха и строит из них гнездо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9" name="Содержимое 3" descr="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920" y="244440"/>
            <a:ext cx="374472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Морской конек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икринки развиваются в кожистой складке на брюшке самц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1" name="Содержимое 3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250920" y="404280"/>
            <a:ext cx="4897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ыкновенный уго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ен в ре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адной Европы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ссейнах  Балтийского 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Рисунок 3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4067280" cy="6524640"/>
          </a:xfrm>
          <a:prstGeom prst="rect">
            <a:avLst/>
          </a:prstGeom>
          <a:ln w="0">
            <a:noFill/>
          </a:ln>
        </p:spPr>
      </p:pic>
      <p:pic>
        <p:nvPicPr>
          <p:cNvPr id="902" name="Содержимое 3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825800" cy="3500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2" name=""/>
          <p:cNvGraphicFramePr/>
          <p:nvPr/>
        </p:nvGraphicFramePr>
        <p:xfrm>
          <a:off x="468360" y="404640"/>
          <a:ext cx="5832360" cy="3503880"/>
        </p:xfrm>
        <a:graphic>
          <a:graphicData uri="http://schemas.openxmlformats.org/drawingml/2006/table">
            <a:tbl>
              <a:tblPr/>
              <a:tblGrid>
                <a:gridCol w="530280"/>
                <a:gridCol w="531720"/>
                <a:gridCol w="527040"/>
                <a:gridCol w="530280"/>
                <a:gridCol w="531720"/>
                <a:gridCol w="530280"/>
                <a:gridCol w="531720"/>
                <a:gridCol w="530280"/>
                <a:gridCol w="527040"/>
                <a:gridCol w="531720"/>
                <a:gridCol w="5302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3" name="Text Box 349"/>
          <p:cNvSpPr/>
          <p:nvPr/>
        </p:nvSpPr>
        <p:spPr>
          <a:xfrm>
            <a:off x="539640" y="242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Text Box 350"/>
          <p:cNvSpPr/>
          <p:nvPr/>
        </p:nvSpPr>
        <p:spPr>
          <a:xfrm>
            <a:off x="1547640" y="404640"/>
            <a:ext cx="25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Text Box 354"/>
          <p:cNvSpPr/>
          <p:nvPr/>
        </p:nvSpPr>
        <p:spPr>
          <a:xfrm>
            <a:off x="1547640" y="40464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   У        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Text Box 355"/>
          <p:cNvSpPr/>
          <p:nvPr/>
        </p:nvSpPr>
        <p:spPr>
          <a:xfrm>
            <a:off x="197964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         Т    У   Ш  О   К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360"/>
          <p:cNvSpPr/>
          <p:nvPr/>
        </p:nvSpPr>
        <p:spPr>
          <a:xfrm>
            <a:off x="1547640" y="148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    О         Б    У  Ш  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Text Box 361"/>
          <p:cNvSpPr/>
          <p:nvPr/>
        </p:nvSpPr>
        <p:spPr>
          <a:xfrm>
            <a:off x="1042920" y="21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  О   Н        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Text Box 362"/>
          <p:cNvSpPr/>
          <p:nvPr/>
        </p:nvSpPr>
        <p:spPr>
          <a:xfrm>
            <a:off x="3132000" y="2708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  М   И   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Text Box 366"/>
          <p:cNvSpPr/>
          <p:nvPr/>
        </p:nvSpPr>
        <p:spPr>
          <a:xfrm>
            <a:off x="3059280" y="328464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  Л    Я   П   И   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Untitled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Самка окуня выметывает склеенную в виде лент икру на водные раст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1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Каждая из лент содержит огромное множество</a:t>
            </a:r>
            <a:br>
              <a:rPr sz="4800"/>
            </a:b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 икринок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06" name="Picture 3" descr="Untitled-2"/>
          <p:cNvPicPr/>
          <p:nvPr/>
        </p:nvPicPr>
        <p:blipFill>
          <a:blip r:embed="rId1"/>
          <a:stretch/>
        </p:blipFill>
        <p:spPr>
          <a:xfrm>
            <a:off x="2340000" y="2600280"/>
            <a:ext cx="404028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28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5724360" y="620640"/>
            <a:ext cx="3419640" cy="4290840"/>
            <a:chOff x="5724360" y="620640"/>
            <a:chExt cx="3419640" cy="4290840"/>
          </a:xfrm>
        </p:grpSpPr>
        <p:sp>
          <p:nvSpPr>
            <p:cNvPr id="908" name="Oval 3"/>
            <p:cNvSpPr/>
            <p:nvPr/>
          </p:nvSpPr>
          <p:spPr>
            <a:xfrm>
              <a:off x="5724360" y="620640"/>
              <a:ext cx="3419640" cy="3168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9" name="Group 4"/>
            <p:cNvGrpSpPr/>
            <p:nvPr/>
          </p:nvGrpSpPr>
          <p:grpSpPr>
            <a:xfrm>
              <a:off x="6659640" y="1844640"/>
              <a:ext cx="1758960" cy="3066840"/>
              <a:chOff x="6659640" y="1844640"/>
              <a:chExt cx="1758960" cy="3066840"/>
            </a:xfrm>
          </p:grpSpPr>
          <p:sp>
            <p:nvSpPr>
              <p:cNvPr id="910" name="Oval 5"/>
              <p:cNvSpPr/>
              <p:nvPr/>
            </p:nvSpPr>
            <p:spPr>
              <a:xfrm>
                <a:off x="7164360" y="1844640"/>
                <a:ext cx="503280" cy="504720"/>
              </a:xfrm>
              <a:prstGeom prst="ellipse">
                <a:avLst/>
              </a:prstGeom>
              <a:solidFill>
                <a:srgbClr val="9966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AutoShape 6"/>
              <p:cNvSpPr/>
              <p:nvPr/>
            </p:nvSpPr>
            <p:spPr>
              <a:xfrm>
                <a:off x="6659640" y="4653000"/>
                <a:ext cx="1758960" cy="25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2887" y="-94483"/>
                    </a:moveTo>
                    <a:lnTo>
                      <a:pt x="22536" y="9541"/>
                    </a:lnTo>
                  </a:path>
                  <a:path w="21600" h="21600">
                    <a:moveTo>
                      <a:pt x="22536" y="0"/>
                    </a:moveTo>
                    <a:lnTo>
                      <a:pt x="22536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яйцеклетка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780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Bookman Old Style"/>
              </a:rPr>
              <a:t>Самцы в это время извергают молоки. Подвижные сперматозоиды подплывают к икринкам и проникают в ни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913" name="Group 8"/>
          <p:cNvGrpSpPr/>
          <p:nvPr/>
        </p:nvGrpSpPr>
        <p:grpSpPr>
          <a:xfrm>
            <a:off x="395280" y="4763160"/>
            <a:ext cx="3889440" cy="2094840"/>
            <a:chOff x="395280" y="4763160"/>
            <a:chExt cx="3889440" cy="2094840"/>
          </a:xfrm>
        </p:grpSpPr>
        <p:sp>
          <p:nvSpPr>
            <p:cNvPr id="914" name="Oval 9"/>
            <p:cNvSpPr/>
            <p:nvPr/>
          </p:nvSpPr>
          <p:spPr>
            <a:xfrm rot="2515200">
              <a:off x="1258560" y="4840200"/>
              <a:ext cx="865080" cy="1656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Freeform 10"/>
            <p:cNvSpPr/>
            <p:nvPr/>
          </p:nvSpPr>
          <p:spPr>
            <a:xfrm>
              <a:off x="395280" y="6234120"/>
              <a:ext cx="719280" cy="6238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26" h="234">
                  <a:moveTo>
                    <a:pt x="226" y="30"/>
                  </a:moveTo>
                  <a:cubicBezTo>
                    <a:pt x="165" y="15"/>
                    <a:pt x="105" y="0"/>
                    <a:pt x="90" y="30"/>
                  </a:cubicBezTo>
                  <a:cubicBezTo>
                    <a:pt x="75" y="60"/>
                    <a:pt x="151" y="188"/>
                    <a:pt x="136" y="211"/>
                  </a:cubicBezTo>
                  <a:cubicBezTo>
                    <a:pt x="121" y="234"/>
                    <a:pt x="23" y="173"/>
                    <a:pt x="0" y="166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Oval 11"/>
            <p:cNvSpPr/>
            <p:nvPr/>
          </p:nvSpPr>
          <p:spPr>
            <a:xfrm>
              <a:off x="1474920" y="5345280"/>
              <a:ext cx="433080" cy="4316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AutoShape 12"/>
            <p:cNvSpPr/>
            <p:nvPr/>
          </p:nvSpPr>
          <p:spPr>
            <a:xfrm>
              <a:off x="2416320" y="6194520"/>
              <a:ext cx="1868400" cy="40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0864" y="2296"/>
                  </a:moveTo>
                  <a:lnTo>
                    <a:pt x="-881" y="6123"/>
                  </a:lnTo>
                </a:path>
                <a:path w="21600" h="21600">
                  <a:moveTo>
                    <a:pt x="-881" y="0"/>
                  </a:moveTo>
                  <a:lnTo>
                    <a:pt x="-881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перматозои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3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7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1463 C 0.0092 -0.14884 0.01094 -0.15116 0.01181 -0.15417 C 0.01372 -0.16111 0.0158 -0.17547 0.0158 -0.17523 C 0.01719 -0.19607 0.02066 -0.21621 0.02188 -0.23681 C 0.02726 -0.325 0.01771 -0.30926 0.02986 -0.35417 C 0.03438 -0.37084 0.0592 -0.41551 0.06788 -0.42894 C 0.0849 -0.45533 0.09896 -0.47824 0.11788 -0.50347 C 0.12205 -0.50903 0.12882 -0.50972 0.13386 -0.51412 C 0.14219 -0.5213 0.14983 -0.53009 0.15782 -0.5382 C 0.16841 -0.54884 0.18837 -0.56875 0.19983 -0.57547 C 0.20538 -0.57871 0.21181 -0.57894 0.21788 -0.58079 C 0.22743 -0.58935 0.23663 -0.59167 0.24775 -0.59422 C 0.32118 -0.59329 0.39445 -0.59306 0.46788 -0.59144 C 0.47344 -0.59121 0.48351 -0.58033 0.48577 -0.57824 C 0.49913 -0.56644 0.54636 -0.56597 0.55973 -0.56482 C 0.56059 -0.56459 0.575 -0.56019 0.57587 -0.55949 C 0.57952 -0.55672 0.58282 -0.55278 0.58577 -0.54884 C 0.5882 -0.5456 0.58907 -0.54074 0.59184 -0.5382 C 0.60608 -0.5257 0.62848 -0.52755 0.64375 -0.52755 E">
                                      <p:cBhvr>
                                        <p:cTn id="4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7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700"/>
                            </p:stCondLst>
                            <p:childTnLst>
                              <p:par>
                                <p:cTn id="4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Untitled-3"/>
          <p:cNvPicPr/>
          <p:nvPr/>
        </p:nvPicPr>
        <p:blipFill>
          <a:blip r:embed="rId1"/>
          <a:stretch/>
        </p:blipFill>
        <p:spPr>
          <a:xfrm>
            <a:off x="3419640" y="3068640"/>
            <a:ext cx="2431800" cy="335124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3"/>
          <p:cNvGrpSpPr/>
          <p:nvPr/>
        </p:nvGrpSpPr>
        <p:grpSpPr>
          <a:xfrm>
            <a:off x="684360" y="2133720"/>
            <a:ext cx="8459640" cy="3384360"/>
            <a:chOff x="684360" y="2133720"/>
            <a:chExt cx="8459640" cy="3384360"/>
          </a:xfrm>
        </p:grpSpPr>
        <p:grpSp>
          <p:nvGrpSpPr>
            <p:cNvPr id="920" name="Group 4"/>
            <p:cNvGrpSpPr/>
            <p:nvPr/>
          </p:nvGrpSpPr>
          <p:grpSpPr>
            <a:xfrm>
              <a:off x="684360" y="2133720"/>
              <a:ext cx="7562880" cy="1440360"/>
              <a:chOff x="684360" y="2133720"/>
              <a:chExt cx="7562880" cy="1440360"/>
            </a:xfrm>
          </p:grpSpPr>
          <p:grpSp>
            <p:nvGrpSpPr>
              <p:cNvPr id="921" name="Group 5"/>
              <p:cNvGrpSpPr/>
              <p:nvPr/>
            </p:nvGrpSpPr>
            <p:grpSpPr>
              <a:xfrm>
                <a:off x="684360" y="2133720"/>
                <a:ext cx="1150920" cy="1294920"/>
                <a:chOff x="684360" y="2133720"/>
                <a:chExt cx="1150920" cy="1294920"/>
              </a:xfrm>
            </p:grpSpPr>
            <p:sp>
              <p:nvSpPr>
                <p:cNvPr id="922" name="Oval 6"/>
                <p:cNvSpPr/>
                <p:nvPr/>
              </p:nvSpPr>
              <p:spPr>
                <a:xfrm>
                  <a:off x="684360" y="2133720"/>
                  <a:ext cx="1150920" cy="129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"/>
                <p:cNvSpPr/>
                <p:nvPr/>
              </p:nvSpPr>
              <p:spPr>
                <a:xfrm>
                  <a:off x="1187640" y="2636640"/>
                  <a:ext cx="216000" cy="28836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Line 8"/>
              <p:cNvSpPr/>
              <p:nvPr/>
            </p:nvSpPr>
            <p:spPr>
              <a:xfrm>
                <a:off x="1835280" y="2781000"/>
                <a:ext cx="86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5" name="Group 9"/>
              <p:cNvGrpSpPr/>
              <p:nvPr/>
            </p:nvGrpSpPr>
            <p:grpSpPr>
              <a:xfrm>
                <a:off x="2772000" y="2349360"/>
                <a:ext cx="1368360" cy="936000"/>
                <a:chOff x="2772000" y="2349360"/>
                <a:chExt cx="1368360" cy="936000"/>
              </a:xfrm>
            </p:grpSpPr>
            <p:grpSp>
              <p:nvGrpSpPr>
                <p:cNvPr id="926" name="Group 10"/>
                <p:cNvGrpSpPr/>
                <p:nvPr/>
              </p:nvGrpSpPr>
              <p:grpSpPr>
                <a:xfrm>
                  <a:off x="2772000" y="2349360"/>
                  <a:ext cx="1368360" cy="936000"/>
                  <a:chOff x="2772000" y="2349360"/>
                  <a:chExt cx="1368360" cy="936000"/>
                </a:xfrm>
              </p:grpSpPr>
              <p:sp>
                <p:nvSpPr>
                  <p:cNvPr id="927" name="Oval 11"/>
                  <p:cNvSpPr/>
                  <p:nvPr/>
                </p:nvSpPr>
                <p:spPr>
                  <a:xfrm>
                    <a:off x="2772000" y="2349360"/>
                    <a:ext cx="792000" cy="9360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Oval 12"/>
                  <p:cNvSpPr/>
                  <p:nvPr/>
                </p:nvSpPr>
                <p:spPr>
                  <a:xfrm>
                    <a:off x="3276720" y="2349360"/>
                    <a:ext cx="863640" cy="8632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9" name="Oval 13"/>
                <p:cNvSpPr/>
                <p:nvPr/>
              </p:nvSpPr>
              <p:spPr>
                <a:xfrm>
                  <a:off x="3635640" y="2709360"/>
                  <a:ext cx="215640" cy="2152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14"/>
                <p:cNvSpPr/>
                <p:nvPr/>
              </p:nvSpPr>
              <p:spPr>
                <a:xfrm>
                  <a:off x="2988000" y="2709360"/>
                  <a:ext cx="215640" cy="21528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1" name="Line 15"/>
              <p:cNvSpPr/>
              <p:nvPr/>
            </p:nvSpPr>
            <p:spPr>
              <a:xfrm>
                <a:off x="4212000" y="28522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2" name="Group 16"/>
              <p:cNvGrpSpPr/>
              <p:nvPr/>
            </p:nvGrpSpPr>
            <p:grpSpPr>
              <a:xfrm>
                <a:off x="4932720" y="2276280"/>
                <a:ext cx="1152360" cy="864360"/>
                <a:chOff x="4932720" y="2276280"/>
                <a:chExt cx="1152360" cy="864360"/>
              </a:xfrm>
            </p:grpSpPr>
            <p:grpSp>
              <p:nvGrpSpPr>
                <p:cNvPr id="933" name="Group 17"/>
                <p:cNvGrpSpPr/>
                <p:nvPr/>
              </p:nvGrpSpPr>
              <p:grpSpPr>
                <a:xfrm>
                  <a:off x="5077080" y="2276280"/>
                  <a:ext cx="576360" cy="504360"/>
                  <a:chOff x="5077080" y="2276280"/>
                  <a:chExt cx="576360" cy="504360"/>
                </a:xfrm>
              </p:grpSpPr>
              <p:sp>
                <p:nvSpPr>
                  <p:cNvPr id="934" name="Oval 18"/>
                  <p:cNvSpPr/>
                  <p:nvPr/>
                </p:nvSpPr>
                <p:spPr>
                  <a:xfrm>
                    <a:off x="5077080" y="2276280"/>
                    <a:ext cx="576360" cy="50436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Oval 19"/>
                  <p:cNvSpPr/>
                  <p:nvPr/>
                </p:nvSpPr>
                <p:spPr>
                  <a:xfrm>
                    <a:off x="5221440" y="2493360"/>
                    <a:ext cx="144720" cy="1440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" name="Group 20"/>
                <p:cNvGrpSpPr/>
                <p:nvPr/>
              </p:nvGrpSpPr>
              <p:grpSpPr>
                <a:xfrm>
                  <a:off x="4932720" y="2276280"/>
                  <a:ext cx="1152360" cy="864360"/>
                  <a:chOff x="4932720" y="2276280"/>
                  <a:chExt cx="1152360" cy="864360"/>
                </a:xfrm>
              </p:grpSpPr>
              <p:grpSp>
                <p:nvGrpSpPr>
                  <p:cNvPr id="937" name="Group 21"/>
                  <p:cNvGrpSpPr/>
                  <p:nvPr/>
                </p:nvGrpSpPr>
                <p:grpSpPr>
                  <a:xfrm>
                    <a:off x="4932720" y="2276280"/>
                    <a:ext cx="1152360" cy="864360"/>
                    <a:chOff x="4932720" y="2276280"/>
                    <a:chExt cx="1152360" cy="864360"/>
                  </a:xfrm>
                </p:grpSpPr>
                <p:grpSp>
                  <p:nvGrpSpPr>
                    <p:cNvPr id="938" name="Group 22"/>
                    <p:cNvGrpSpPr/>
                    <p:nvPr/>
                  </p:nvGrpSpPr>
                  <p:grpSpPr>
                    <a:xfrm>
                      <a:off x="5436000" y="2276280"/>
                      <a:ext cx="576000" cy="504360"/>
                      <a:chOff x="5436000" y="2276280"/>
                      <a:chExt cx="576000" cy="504360"/>
                    </a:xfrm>
                  </p:grpSpPr>
                  <p:sp>
                    <p:nvSpPr>
                      <p:cNvPr id="939" name="Oval 23"/>
                      <p:cNvSpPr/>
                      <p:nvPr/>
                    </p:nvSpPr>
                    <p:spPr>
                      <a:xfrm>
                        <a:off x="5436000" y="2276280"/>
                        <a:ext cx="57600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Oval 24"/>
                      <p:cNvSpPr/>
                      <p:nvPr/>
                    </p:nvSpPr>
                    <p:spPr>
                      <a:xfrm>
                        <a:off x="5580000" y="2493360"/>
                        <a:ext cx="14436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1" name="Group 25"/>
                    <p:cNvGrpSpPr/>
                    <p:nvPr/>
                  </p:nvGrpSpPr>
                  <p:grpSpPr>
                    <a:xfrm>
                      <a:off x="5508720" y="2349000"/>
                      <a:ext cx="576360" cy="504360"/>
                      <a:chOff x="5508720" y="2349000"/>
                      <a:chExt cx="576360" cy="504360"/>
                    </a:xfrm>
                  </p:grpSpPr>
                  <p:sp>
                    <p:nvSpPr>
                      <p:cNvPr id="942" name="Oval 26"/>
                      <p:cNvSpPr/>
                      <p:nvPr/>
                    </p:nvSpPr>
                    <p:spPr>
                      <a:xfrm>
                        <a:off x="5508720" y="234900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3" name="Oval 27"/>
                      <p:cNvSpPr/>
                      <p:nvPr/>
                    </p:nvSpPr>
                    <p:spPr>
                      <a:xfrm>
                        <a:off x="5653080" y="256608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99663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4" name="Group 28"/>
                    <p:cNvGrpSpPr/>
                    <p:nvPr/>
                  </p:nvGrpSpPr>
                  <p:grpSpPr>
                    <a:xfrm>
                      <a:off x="4932720" y="2636280"/>
                      <a:ext cx="576000" cy="504360"/>
                      <a:chOff x="4932720" y="2636280"/>
                      <a:chExt cx="576000" cy="504360"/>
                    </a:xfrm>
                  </p:grpSpPr>
                  <p:sp>
                    <p:nvSpPr>
                      <p:cNvPr id="945" name="Oval 29"/>
                      <p:cNvSpPr/>
                      <p:nvPr/>
                    </p:nvSpPr>
                    <p:spPr>
                      <a:xfrm>
                        <a:off x="4932720" y="2636280"/>
                        <a:ext cx="57600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6" name="Oval 30"/>
                      <p:cNvSpPr/>
                      <p:nvPr/>
                    </p:nvSpPr>
                    <p:spPr>
                      <a:xfrm>
                        <a:off x="5076720" y="2853360"/>
                        <a:ext cx="14436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7" name="Group 31"/>
                    <p:cNvGrpSpPr/>
                    <p:nvPr/>
                  </p:nvGrpSpPr>
                  <p:grpSpPr>
                    <a:xfrm>
                      <a:off x="5077080" y="2420280"/>
                      <a:ext cx="576360" cy="504360"/>
                      <a:chOff x="5077080" y="2420280"/>
                      <a:chExt cx="576360" cy="504360"/>
                    </a:xfrm>
                  </p:grpSpPr>
                  <p:sp>
                    <p:nvSpPr>
                      <p:cNvPr id="948" name="Oval 32"/>
                      <p:cNvSpPr/>
                      <p:nvPr/>
                    </p:nvSpPr>
                    <p:spPr>
                      <a:xfrm>
                        <a:off x="5077080" y="242028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Oval 33"/>
                      <p:cNvSpPr/>
                      <p:nvPr/>
                    </p:nvSpPr>
                    <p:spPr>
                      <a:xfrm>
                        <a:off x="5221440" y="263736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0" name="Group 34"/>
                    <p:cNvGrpSpPr/>
                    <p:nvPr/>
                  </p:nvGrpSpPr>
                  <p:grpSpPr>
                    <a:xfrm>
                      <a:off x="5508720" y="2636280"/>
                      <a:ext cx="576360" cy="504360"/>
                      <a:chOff x="5508720" y="2636280"/>
                      <a:chExt cx="576360" cy="504360"/>
                    </a:xfrm>
                  </p:grpSpPr>
                  <p:sp>
                    <p:nvSpPr>
                      <p:cNvPr id="951" name="Oval 35"/>
                      <p:cNvSpPr/>
                      <p:nvPr/>
                    </p:nvSpPr>
                    <p:spPr>
                      <a:xfrm>
                        <a:off x="5508720" y="2636280"/>
                        <a:ext cx="576360" cy="50436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Oval 36"/>
                      <p:cNvSpPr/>
                      <p:nvPr/>
                    </p:nvSpPr>
                    <p:spPr>
                      <a:xfrm>
                        <a:off x="5653080" y="2853360"/>
                        <a:ext cx="144720" cy="144000"/>
                      </a:xfrm>
                      <a:prstGeom prst="ellipse">
                        <a:avLst/>
                      </a:prstGeom>
                      <a:solidFill>
                        <a:srgbClr val="996633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53" name="Group 37"/>
                  <p:cNvGrpSpPr/>
                  <p:nvPr/>
                </p:nvGrpSpPr>
                <p:grpSpPr>
                  <a:xfrm>
                    <a:off x="5077080" y="2636280"/>
                    <a:ext cx="576360" cy="504360"/>
                    <a:chOff x="5077080" y="2636280"/>
                    <a:chExt cx="576360" cy="504360"/>
                  </a:xfrm>
                </p:grpSpPr>
                <p:sp>
                  <p:nvSpPr>
                    <p:cNvPr id="954" name="Oval 38"/>
                    <p:cNvSpPr/>
                    <p:nvPr/>
                  </p:nvSpPr>
                  <p:spPr>
                    <a:xfrm>
                      <a:off x="5077080" y="2636280"/>
                      <a:ext cx="576360" cy="5043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Oval 39"/>
                    <p:cNvSpPr/>
                    <p:nvPr/>
                  </p:nvSpPr>
                  <p:spPr>
                    <a:xfrm>
                      <a:off x="5221440" y="2853360"/>
                      <a:ext cx="144720" cy="14400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56" name="Line 40"/>
              <p:cNvSpPr/>
              <p:nvPr/>
            </p:nvSpPr>
            <p:spPr>
              <a:xfrm>
                <a:off x="6228000" y="2852280"/>
                <a:ext cx="64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7" name="Group 41"/>
              <p:cNvGrpSpPr/>
              <p:nvPr/>
            </p:nvGrpSpPr>
            <p:grpSpPr>
              <a:xfrm>
                <a:off x="6948720" y="2204640"/>
                <a:ext cx="1298520" cy="1369440"/>
                <a:chOff x="6948720" y="2204640"/>
                <a:chExt cx="1298520" cy="1369440"/>
              </a:xfrm>
            </p:grpSpPr>
            <p:grpSp>
              <p:nvGrpSpPr>
                <p:cNvPr id="958" name="Group 42"/>
                <p:cNvGrpSpPr/>
                <p:nvPr/>
              </p:nvGrpSpPr>
              <p:grpSpPr>
                <a:xfrm>
                  <a:off x="7452000" y="2852280"/>
                  <a:ext cx="433440" cy="433440"/>
                  <a:chOff x="7452000" y="2852280"/>
                  <a:chExt cx="433440" cy="433440"/>
                </a:xfrm>
              </p:grpSpPr>
              <p:sp>
                <p:nvSpPr>
                  <p:cNvPr id="959" name="Oval 43"/>
                  <p:cNvSpPr/>
                  <p:nvPr/>
                </p:nvSpPr>
                <p:spPr>
                  <a:xfrm>
                    <a:off x="7452000" y="2852280"/>
                    <a:ext cx="433440" cy="4334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Oval 44"/>
                  <p:cNvSpPr/>
                  <p:nvPr/>
                </p:nvSpPr>
                <p:spPr>
                  <a:xfrm>
                    <a:off x="7560360" y="3038760"/>
                    <a:ext cx="108720" cy="1238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040" bIns="41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Group 45"/>
                <p:cNvGrpSpPr/>
                <p:nvPr/>
              </p:nvGrpSpPr>
              <p:grpSpPr>
                <a:xfrm>
                  <a:off x="6948720" y="2204640"/>
                  <a:ext cx="1298520" cy="1369440"/>
                  <a:chOff x="6948720" y="2204640"/>
                  <a:chExt cx="1298520" cy="1369440"/>
                </a:xfrm>
              </p:grpSpPr>
              <p:grpSp>
                <p:nvGrpSpPr>
                  <p:cNvPr id="962" name="Group 46"/>
                  <p:cNvGrpSpPr/>
                  <p:nvPr/>
                </p:nvGrpSpPr>
                <p:grpSpPr>
                  <a:xfrm>
                    <a:off x="7740720" y="2709360"/>
                    <a:ext cx="433440" cy="433440"/>
                    <a:chOff x="7740720" y="2709360"/>
                    <a:chExt cx="433440" cy="433440"/>
                  </a:xfrm>
                </p:grpSpPr>
                <p:sp>
                  <p:nvSpPr>
                    <p:cNvPr id="963" name="Oval 47"/>
                    <p:cNvSpPr/>
                    <p:nvPr/>
                  </p:nvSpPr>
                  <p:spPr>
                    <a:xfrm>
                      <a:off x="7740720" y="2709360"/>
                      <a:ext cx="433440" cy="43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Oval 48"/>
                    <p:cNvSpPr/>
                    <p:nvPr/>
                  </p:nvSpPr>
                  <p:spPr>
                    <a:xfrm>
                      <a:off x="7849080" y="2895840"/>
                      <a:ext cx="108720" cy="1238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1040" bIns="41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5" name="Group 49"/>
                  <p:cNvGrpSpPr/>
                  <p:nvPr/>
                </p:nvGrpSpPr>
                <p:grpSpPr>
                  <a:xfrm>
                    <a:off x="6948720" y="2204640"/>
                    <a:ext cx="1298520" cy="1369440"/>
                    <a:chOff x="6948720" y="2204640"/>
                    <a:chExt cx="1298520" cy="1369440"/>
                  </a:xfrm>
                </p:grpSpPr>
                <p:grpSp>
                  <p:nvGrpSpPr>
                    <p:cNvPr id="966" name="Group 50"/>
                    <p:cNvGrpSpPr/>
                    <p:nvPr/>
                  </p:nvGrpSpPr>
                  <p:grpSpPr>
                    <a:xfrm>
                      <a:off x="7525080" y="2780640"/>
                      <a:ext cx="433080" cy="433440"/>
                      <a:chOff x="7525080" y="2780640"/>
                      <a:chExt cx="433080" cy="433440"/>
                    </a:xfrm>
                  </p:grpSpPr>
                  <p:sp>
                    <p:nvSpPr>
                      <p:cNvPr id="967" name="Oval 51"/>
                      <p:cNvSpPr/>
                      <p:nvPr/>
                    </p:nvSpPr>
                    <p:spPr>
                      <a:xfrm>
                        <a:off x="7525080" y="2780640"/>
                        <a:ext cx="433080" cy="4334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8" name="Oval 52"/>
                      <p:cNvSpPr/>
                      <p:nvPr/>
                    </p:nvSpPr>
                    <p:spPr>
                      <a:xfrm>
                        <a:off x="7633440" y="2967120"/>
                        <a:ext cx="108720" cy="1238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1040" bIns="410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9" name="Group 53"/>
                    <p:cNvGrpSpPr/>
                    <p:nvPr/>
                  </p:nvGrpSpPr>
                  <p:grpSpPr>
                    <a:xfrm>
                      <a:off x="6948720" y="2204640"/>
                      <a:ext cx="1298520" cy="1369440"/>
                      <a:chOff x="6948720" y="2204640"/>
                      <a:chExt cx="1298520" cy="1369440"/>
                    </a:xfrm>
                  </p:grpSpPr>
                  <p:grpSp>
                    <p:nvGrpSpPr>
                      <p:cNvPr id="970" name="Group 54"/>
                      <p:cNvGrpSpPr/>
                      <p:nvPr/>
                    </p:nvGrpSpPr>
                    <p:grpSpPr>
                      <a:xfrm>
                        <a:off x="7164720" y="2709360"/>
                        <a:ext cx="433080" cy="433440"/>
                        <a:chOff x="7164720" y="2709360"/>
                        <a:chExt cx="433080" cy="433440"/>
                      </a:xfrm>
                    </p:grpSpPr>
                    <p:sp>
                      <p:nvSpPr>
                        <p:cNvPr id="971" name="Oval 55"/>
                        <p:cNvSpPr/>
                        <p:nvPr/>
                      </p:nvSpPr>
                      <p:spPr>
                        <a:xfrm>
                          <a:off x="7164720" y="2709360"/>
                          <a:ext cx="433080" cy="4334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2" name="Oval 56"/>
                        <p:cNvSpPr/>
                        <p:nvPr/>
                      </p:nvSpPr>
                      <p:spPr>
                        <a:xfrm>
                          <a:off x="7273080" y="2895840"/>
                          <a:ext cx="108720" cy="1238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040" bIns="4104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3" name="Group 57"/>
                      <p:cNvGrpSpPr/>
                      <p:nvPr/>
                    </p:nvGrpSpPr>
                    <p:grpSpPr>
                      <a:xfrm>
                        <a:off x="6948720" y="2204640"/>
                        <a:ext cx="1298520" cy="1369440"/>
                        <a:chOff x="6948720" y="2204640"/>
                        <a:chExt cx="1298520" cy="1369440"/>
                      </a:xfrm>
                    </p:grpSpPr>
                    <p:grpSp>
                      <p:nvGrpSpPr>
                        <p:cNvPr id="974" name="Group 58"/>
                        <p:cNvGrpSpPr/>
                        <p:nvPr/>
                      </p:nvGrpSpPr>
                      <p:grpSpPr>
                        <a:xfrm>
                          <a:off x="7525080" y="2709360"/>
                          <a:ext cx="433080" cy="433440"/>
                          <a:chOff x="7525080" y="2709360"/>
                          <a:chExt cx="433080" cy="433440"/>
                        </a:xfrm>
                      </p:grpSpPr>
                      <p:sp>
                        <p:nvSpPr>
                          <p:cNvPr id="975" name="Oval 59"/>
                          <p:cNvSpPr/>
                          <p:nvPr/>
                        </p:nvSpPr>
                        <p:spPr>
                          <a:xfrm>
                            <a:off x="7525080" y="2709360"/>
                            <a:ext cx="433080" cy="433440"/>
                          </a:xfrm>
                          <a:prstGeom prst="ellipse">
                            <a:avLst/>
                          </a:prstGeom>
                          <a:solidFill>
                            <a:srgbClr val="ffff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6" name="Oval 60"/>
                          <p:cNvSpPr/>
                          <p:nvPr/>
                        </p:nvSpPr>
                        <p:spPr>
                          <a:xfrm>
                            <a:off x="7633440" y="2895840"/>
                            <a:ext cx="108720" cy="123840"/>
                          </a:xfrm>
                          <a:prstGeom prst="ellipse">
                            <a:avLst/>
                          </a:prstGeom>
                          <a:solidFill>
                            <a:srgbClr val="996633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1040" bIns="4104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7" name="Group 61"/>
                        <p:cNvGrpSpPr/>
                        <p:nvPr/>
                      </p:nvGrpSpPr>
                      <p:grpSpPr>
                        <a:xfrm>
                          <a:off x="6948720" y="2204640"/>
                          <a:ext cx="1298520" cy="1369440"/>
                          <a:chOff x="6948720" y="2204640"/>
                          <a:chExt cx="1298520" cy="1369440"/>
                        </a:xfrm>
                      </p:grpSpPr>
                      <p:grpSp>
                        <p:nvGrpSpPr>
                          <p:cNvPr id="978" name="Group 62"/>
                          <p:cNvGrpSpPr/>
                          <p:nvPr/>
                        </p:nvGrpSpPr>
                        <p:grpSpPr>
                          <a:xfrm>
                            <a:off x="7525080" y="2925000"/>
                            <a:ext cx="433080" cy="433080"/>
                            <a:chOff x="7525080" y="2925000"/>
                            <a:chExt cx="433080" cy="433080"/>
                          </a:xfrm>
                        </p:grpSpPr>
                        <p:sp>
                          <p:nvSpPr>
                            <p:cNvPr id="979" name="Oval 63"/>
                            <p:cNvSpPr/>
                            <p:nvPr/>
                          </p:nvSpPr>
                          <p:spPr>
                            <a:xfrm>
                              <a:off x="7525080" y="2925000"/>
                              <a:ext cx="433080" cy="433080"/>
                            </a:xfrm>
                            <a:prstGeom prst="ellipse">
                              <a:avLst/>
                            </a:prstGeom>
                            <a:solidFill>
                              <a:srgbClr val="ffffcc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8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80" name="Oval 64"/>
                            <p:cNvSpPr/>
                            <p:nvPr/>
                          </p:nvSpPr>
                          <p:spPr>
                            <a:xfrm>
                              <a:off x="7633440" y="3111480"/>
                              <a:ext cx="108720" cy="123840"/>
                            </a:xfrm>
                            <a:prstGeom prst="ellipse">
                              <a:avLst/>
                            </a:prstGeom>
                            <a:solidFill>
                              <a:srgbClr val="996633"/>
                            </a:solidFill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8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81" name="Group 65"/>
                          <p:cNvGrpSpPr/>
                          <p:nvPr/>
                        </p:nvGrpSpPr>
                        <p:grpSpPr>
                          <a:xfrm>
                            <a:off x="6948720" y="2204640"/>
                            <a:ext cx="1298520" cy="1369440"/>
                            <a:chOff x="6948720" y="2204640"/>
                            <a:chExt cx="1298520" cy="1369440"/>
                          </a:xfrm>
                        </p:grpSpPr>
                        <p:grpSp>
                          <p:nvGrpSpPr>
                            <p:cNvPr id="982" name="Group 66"/>
                            <p:cNvGrpSpPr/>
                            <p:nvPr/>
                          </p:nvGrpSpPr>
                          <p:grpSpPr>
                            <a:xfrm>
                              <a:off x="7669440" y="2493360"/>
                              <a:ext cx="433440" cy="432720"/>
                              <a:chOff x="7669440" y="2493360"/>
                              <a:chExt cx="433440" cy="432720"/>
                            </a:xfrm>
                          </p:grpSpPr>
                          <p:sp>
                            <p:nvSpPr>
                              <p:cNvPr id="983" name="Oval 67"/>
                              <p:cNvSpPr/>
                              <p:nvPr/>
                            </p:nvSpPr>
                            <p:spPr>
                              <a:xfrm>
                                <a:off x="7669440" y="249336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4" name="Oval 68"/>
                              <p:cNvSpPr/>
                              <p:nvPr/>
                            </p:nvSpPr>
                            <p:spPr>
                              <a:xfrm>
                                <a:off x="7777800" y="267948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85" name="Group 69"/>
                            <p:cNvGrpSpPr/>
                            <p:nvPr/>
                          </p:nvGrpSpPr>
                          <p:grpSpPr>
                            <a:xfrm>
                              <a:off x="7164720" y="2277360"/>
                              <a:ext cx="433080" cy="433080"/>
                              <a:chOff x="7164720" y="2277360"/>
                              <a:chExt cx="433080" cy="433080"/>
                            </a:xfrm>
                          </p:grpSpPr>
                          <p:sp>
                            <p:nvSpPr>
                              <p:cNvPr id="986" name="Oval 70"/>
                              <p:cNvSpPr/>
                              <p:nvPr/>
                            </p:nvSpPr>
                            <p:spPr>
                              <a:xfrm>
                                <a:off x="7164720" y="2277360"/>
                                <a:ext cx="43308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7" name="Oval 71"/>
                              <p:cNvSpPr/>
                              <p:nvPr/>
                            </p:nvSpPr>
                            <p:spPr>
                              <a:xfrm>
                                <a:off x="7273080" y="246384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88" name="Group 72"/>
                            <p:cNvGrpSpPr/>
                            <p:nvPr/>
                          </p:nvGrpSpPr>
                          <p:grpSpPr>
                            <a:xfrm>
                              <a:off x="7164720" y="2853720"/>
                              <a:ext cx="433080" cy="432720"/>
                              <a:chOff x="7164720" y="2853720"/>
                              <a:chExt cx="433080" cy="432720"/>
                            </a:xfrm>
                          </p:grpSpPr>
                          <p:sp>
                            <p:nvSpPr>
                              <p:cNvPr id="989" name="Oval 73"/>
                              <p:cNvSpPr/>
                              <p:nvPr/>
                            </p:nvSpPr>
                            <p:spPr>
                              <a:xfrm>
                                <a:off x="7164720" y="2853720"/>
                                <a:ext cx="43308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0" name="Oval 74"/>
                              <p:cNvSpPr/>
                              <p:nvPr/>
                            </p:nvSpPr>
                            <p:spPr>
                              <a:xfrm>
                                <a:off x="7273080" y="303984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1" name="Group 75"/>
                            <p:cNvGrpSpPr/>
                            <p:nvPr/>
                          </p:nvGrpSpPr>
                          <p:grpSpPr>
                            <a:xfrm>
                              <a:off x="7380360" y="2493360"/>
                              <a:ext cx="433440" cy="432720"/>
                              <a:chOff x="7380360" y="2493360"/>
                              <a:chExt cx="433440" cy="432720"/>
                            </a:xfrm>
                          </p:grpSpPr>
                          <p:sp>
                            <p:nvSpPr>
                              <p:cNvPr id="992" name="Oval 76"/>
                              <p:cNvSpPr/>
                              <p:nvPr/>
                            </p:nvSpPr>
                            <p:spPr>
                              <a:xfrm>
                                <a:off x="7380360" y="249336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3" name="Oval 77"/>
                              <p:cNvSpPr/>
                              <p:nvPr/>
                            </p:nvSpPr>
                            <p:spPr>
                              <a:xfrm>
                                <a:off x="7488720" y="267948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4" name="Group 78"/>
                            <p:cNvGrpSpPr/>
                            <p:nvPr/>
                          </p:nvGrpSpPr>
                          <p:grpSpPr>
                            <a:xfrm>
                              <a:off x="7525080" y="2204640"/>
                              <a:ext cx="433080" cy="433080"/>
                              <a:chOff x="7525080" y="2204640"/>
                              <a:chExt cx="433080" cy="433080"/>
                            </a:xfrm>
                          </p:grpSpPr>
                          <p:sp>
                            <p:nvSpPr>
                              <p:cNvPr id="995" name="Oval 79"/>
                              <p:cNvSpPr/>
                              <p:nvPr/>
                            </p:nvSpPr>
                            <p:spPr>
                              <a:xfrm>
                                <a:off x="7525080" y="2204640"/>
                                <a:ext cx="43308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6" name="Oval 80"/>
                              <p:cNvSpPr/>
                              <p:nvPr/>
                            </p:nvSpPr>
                            <p:spPr>
                              <a:xfrm>
                                <a:off x="7633440" y="239112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7" name="Group 81"/>
                            <p:cNvGrpSpPr/>
                            <p:nvPr/>
                          </p:nvGrpSpPr>
                          <p:grpSpPr>
                            <a:xfrm>
                              <a:off x="7596360" y="3141000"/>
                              <a:ext cx="433440" cy="433080"/>
                              <a:chOff x="7596360" y="3141000"/>
                              <a:chExt cx="433440" cy="433080"/>
                            </a:xfrm>
                          </p:grpSpPr>
                          <p:sp>
                            <p:nvSpPr>
                              <p:cNvPr id="998" name="Oval 82"/>
                              <p:cNvSpPr/>
                              <p:nvPr/>
                            </p:nvSpPr>
                            <p:spPr>
                              <a:xfrm>
                                <a:off x="7596360" y="314100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9" name="Oval 83"/>
                              <p:cNvSpPr/>
                              <p:nvPr/>
                            </p:nvSpPr>
                            <p:spPr>
                              <a:xfrm>
                                <a:off x="7704720" y="332748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0" name="Group 84"/>
                            <p:cNvGrpSpPr/>
                            <p:nvPr/>
                          </p:nvGrpSpPr>
                          <p:grpSpPr>
                            <a:xfrm>
                              <a:off x="7237440" y="3141000"/>
                              <a:ext cx="433440" cy="433080"/>
                              <a:chOff x="7237440" y="3141000"/>
                              <a:chExt cx="433440" cy="433080"/>
                            </a:xfrm>
                          </p:grpSpPr>
                          <p:sp>
                            <p:nvSpPr>
                              <p:cNvPr id="1001" name="Oval 85"/>
                              <p:cNvSpPr/>
                              <p:nvPr/>
                            </p:nvSpPr>
                            <p:spPr>
                              <a:xfrm>
                                <a:off x="7237440" y="314100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2" name="Oval 86"/>
                              <p:cNvSpPr/>
                              <p:nvPr/>
                            </p:nvSpPr>
                            <p:spPr>
                              <a:xfrm>
                                <a:off x="7345800" y="332748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3" name="Group 87"/>
                            <p:cNvGrpSpPr/>
                            <p:nvPr/>
                          </p:nvGrpSpPr>
                          <p:grpSpPr>
                            <a:xfrm>
                              <a:off x="6948720" y="2564640"/>
                              <a:ext cx="433440" cy="433080"/>
                              <a:chOff x="6948720" y="2564640"/>
                              <a:chExt cx="433440" cy="433080"/>
                            </a:xfrm>
                          </p:grpSpPr>
                          <p:sp>
                            <p:nvSpPr>
                              <p:cNvPr id="1004" name="Oval 88"/>
                              <p:cNvSpPr/>
                              <p:nvPr/>
                            </p:nvSpPr>
                            <p:spPr>
                              <a:xfrm>
                                <a:off x="6948720" y="2564640"/>
                                <a:ext cx="433440" cy="4330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5" name="Oval 89"/>
                              <p:cNvSpPr/>
                              <p:nvPr/>
                            </p:nvSpPr>
                            <p:spPr>
                              <a:xfrm>
                                <a:off x="7057080" y="2751120"/>
                                <a:ext cx="108720" cy="123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1040" bIns="4104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6" name="Group 90"/>
                            <p:cNvGrpSpPr/>
                            <p:nvPr/>
                          </p:nvGrpSpPr>
                          <p:grpSpPr>
                            <a:xfrm>
                              <a:off x="7813800" y="2853720"/>
                              <a:ext cx="433440" cy="432720"/>
                              <a:chOff x="7813800" y="2853720"/>
                              <a:chExt cx="433440" cy="432720"/>
                            </a:xfrm>
                          </p:grpSpPr>
                          <p:sp>
                            <p:nvSpPr>
                              <p:cNvPr id="1007" name="Oval 91"/>
                              <p:cNvSpPr/>
                              <p:nvPr/>
                            </p:nvSpPr>
                            <p:spPr>
                              <a:xfrm>
                                <a:off x="7813800" y="2853720"/>
                                <a:ext cx="433440" cy="4327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cc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8" name="Oval 92"/>
                              <p:cNvSpPr/>
                              <p:nvPr/>
                            </p:nvSpPr>
                            <p:spPr>
                              <a:xfrm>
                                <a:off x="7922160" y="3039840"/>
                                <a:ext cx="108720" cy="123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996633"/>
                              </a:solidFill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0680" bIns="40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8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1009" name="Line 93"/>
            <p:cNvSpPr/>
            <p:nvPr/>
          </p:nvSpPr>
          <p:spPr>
            <a:xfrm>
              <a:off x="8388360" y="2852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Line 94"/>
            <p:cNvSpPr/>
            <p:nvPr/>
          </p:nvSpPr>
          <p:spPr>
            <a:xfrm>
              <a:off x="1116000" y="55180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Bookman Old Style"/>
              </a:rPr>
              <a:t>Оплодотворенная икринка начинает делиться и образуется многоклеточный зародыш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44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44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Bookman Old Style"/>
              </a:rPr>
              <a:t>Зародыш растет и вскоре покидает оболочку икринки, превращаясь в личинк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3" name="Picture 3" descr="Untitled-3"/>
          <p:cNvPicPr/>
          <p:nvPr/>
        </p:nvPicPr>
        <p:blipFill>
          <a:blip r:embed="rId1"/>
          <a:stretch/>
        </p:blipFill>
        <p:spPr>
          <a:xfrm>
            <a:off x="0" y="3068640"/>
            <a:ext cx="9039240" cy="243828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4"/>
          <p:cNvSpPr/>
          <p:nvPr/>
        </p:nvSpPr>
        <p:spPr>
          <a:xfrm>
            <a:off x="468360" y="260280"/>
            <a:ext cx="8136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Личинка питается и растет, и становится похожей на взрослую рыбу. Её называют малько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5" name="Picture 5" descr="Untitled-5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2952720"/>
          </a:xfrm>
          <a:prstGeom prst="rect">
            <a:avLst/>
          </a:prstGeom>
          <a:ln w="0">
            <a:noFill/>
          </a:ln>
        </p:spPr>
      </p:pic>
      <p:sp>
        <p:nvSpPr>
          <p:cNvPr id="1016" name="Rectangle 6"/>
          <p:cNvSpPr/>
          <p:nvPr/>
        </p:nvSpPr>
        <p:spPr>
          <a:xfrm>
            <a:off x="250920" y="404640"/>
            <a:ext cx="86407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Он растет сравнительно быстро: примерно через 2 месяца тело его бывает длиной 2 см,</a:t>
            </a:r>
            <a:br>
              <a:rPr sz="4800"/>
            </a:b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а через год молодой окунь вырастает до</a:t>
            </a:r>
            <a:br>
              <a:rPr sz="4800"/>
            </a:br>
            <a:r>
              <a:rPr b="0" lang="ru-RU" sz="4800" spc="-1" strike="noStrike">
                <a:solidFill>
                  <a:srgbClr val="6600ff"/>
                </a:solidFill>
                <a:latin typeface="Bookman Old Style"/>
              </a:rPr>
              <a:t> 10 см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7" name="Picture 7" descr="Рисунок 1"/>
          <p:cNvPicPr/>
          <p:nvPr/>
        </p:nvPicPr>
        <p:blipFill>
          <a:blip r:embed="rId3"/>
          <a:stretch/>
        </p:blipFill>
        <p:spPr>
          <a:xfrm>
            <a:off x="395280" y="1311120"/>
            <a:ext cx="8280360" cy="42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46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46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2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6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6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1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6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6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4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4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4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рбуша серебрянка</a:t>
            </a:r>
            <a:br>
              <a:rPr sz="4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половой диморфизм (самка и самец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9" name="Содержимое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876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Судак обыкновенный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от любви окраска самца приобретает голубой оттенок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1" name="Содержимое 3" descr=""/>
          <p:cNvPicPr/>
          <p:nvPr/>
        </p:nvPicPr>
        <p:blipFill>
          <a:blip r:embed="rId1"/>
          <a:stretch/>
        </p:blipFill>
        <p:spPr>
          <a:xfrm>
            <a:off x="3000240" y="333360"/>
            <a:ext cx="6143760" cy="6524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28:32Z</dcterms:created>
  <dc:creator>АЛИБЕК</dc:creator>
  <dc:description/>
  <dc:language>en-US</dc:language>
  <cp:lastModifiedBy>39_Кабинет</cp:lastModifiedBy>
  <dcterms:modified xsi:type="dcterms:W3CDTF">2017-01-24T06:15:19Z</dcterms:modified>
  <cp:revision>41</cp:revision>
  <dc:subject/>
  <dc:title>Слайд 1</dc:title>
</cp:coreProperties>
</file>