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428-C9DE-4A53-9010-69A65B94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FF3-1CB5-4D11-B867-D0CEC4B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DCD-E507-46D7-A287-148FD041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9A9-6396-4EF6-AA8F-DFC28095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2D5-6739-4071-ABE7-1CBF9FD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FB0-AA5E-43CD-B490-F2DC746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F40-0920-478E-AE44-0D6B162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BB2-5282-4327-BD5E-458A870F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12D-F9BD-4D34-83AE-1E5E25C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70E-5C1B-4873-9340-80E956C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094-5F95-4C3F-9EFE-7BC5C11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9DD-1A29-4E33-98BE-B6F257A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DEA0-0B17-43F4-BC1D-AC128165C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6c4fc715a14c2759b008988870c1bc49.png"/>
          <p:cNvPicPr/>
          <p:nvPr/>
        </p:nvPicPr>
        <p:blipFill>
          <a:blip r:embed="rId1"/>
          <a:stretch/>
        </p:blipFill>
        <p:spPr>
          <a:xfrm>
            <a:off x="826920" y="231840"/>
            <a:ext cx="7453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5" descr="Teeth.jpg"/>
          <p:cNvPicPr/>
          <p:nvPr/>
        </p:nvPicPr>
        <p:blipFill>
          <a:blip r:embed="rId2"/>
          <a:stretch/>
        </p:blipFill>
        <p:spPr>
          <a:xfrm>
            <a:off x="127080" y="291960"/>
            <a:ext cx="88898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фобия у детей. Надо ли бояться?!</a:t>
            </a:r>
            <a:br>
              <a:rPr sz="1600"/>
            </a:br>
            <a:br>
              <a:rPr sz="1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моего исследования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томатофобия у детей. Надо ли бояться?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моей р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знать, что такое стоматофобия и надо ли боя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тветить на этот вопрос необходимо решить следующие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стоматофоб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причины стра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авила гигиены нужно соблюдать, чтобы было не страшно на приеме у стоматолога.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положим, что правильный уход за зубами – это первый шаг не бояться похода к стоматологу. Здоровые зубы играют важную роль в сохранении здоровья всего организ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slide_4.jpg"/>
          <p:cNvPicPr/>
          <p:nvPr/>
        </p:nvPicPr>
        <p:blipFill>
          <a:blip r:embed="rId2"/>
          <a:stretch/>
        </p:blipFill>
        <p:spPr>
          <a:xfrm>
            <a:off x="347760" y="260280"/>
            <a:ext cx="840096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фоб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ах перед стоматологом и любым осмотром или лечением зуб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оявляется этот страх?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друг будет боль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 боитесь, что врач сделает вам больно, но если не пойти, зуб начнет болеть ОЧЕНЬ сильно и будет еще страшне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говорите с доктором, задайте все вопросы, узнайте, как будут лечить зуб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говор с родителями. Они всегда могут пойти с тобой в кабинет и поддержать теб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жно посмотреть мультфильмы, прочитать книгу, просмотреть сайты в интернет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до ухаживать за своими зуб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убы необходимо правильно чистит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одить щёткой по зубам недостаточ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kak-pravilno-chistit-zub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вывод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уход за зубами – это первый шаг не бояться похода к стоматологу. Если правильно ухаживать за зубами, правильно питаться и вовремя ходить с родителями к стоматологу, возникнет привычка и не будет страшно.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гипотеза подтвердила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extralarge_dentaltechnik-web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ЗДОРОВЫ!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8T14:15:07Z</dcterms:created>
  <dc:creator>Дмитрий</dc:creator>
  <dc:description/>
  <dc:language>en-US</dc:language>
  <cp:lastModifiedBy>Дмитрий</cp:lastModifiedBy>
  <dcterms:modified xsi:type="dcterms:W3CDTF">2018-01-08T14:38:31Z</dcterms:modified>
  <cp:revision>3</cp:revision>
  <dc:subject/>
  <dc:title>Слайд 1</dc:title>
</cp:coreProperties>
</file>