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36E5-31C5-4514-9B00-EDFC2FFF2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2215-BAA9-47E4-9EDA-EE4ACF04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F8AC-B4CD-4A3F-A55B-CB7382090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40BC-1644-4E91-862B-91AB3FC38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6387-9608-474D-82F2-06775CC3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DB2F-D022-491B-A6BC-BF3A017C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46D6-DC4A-40BA-875A-E61E94CB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2846-B76C-4534-A146-76BF2161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EC14-E537-42D6-AFE6-811FCC5F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6F30-A0DF-4FF3-B994-12EF041B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68D9-7DB3-4C4A-8E70-2FA75AD9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5B19-5DF3-4A4D-815A-9061A1D8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B222-01B7-490B-8FA3-0B67AEEB30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6c4fc715a14c2759b008988870c1bc49.png"/>
          <p:cNvPicPr/>
          <p:nvPr/>
        </p:nvPicPr>
        <p:blipFill>
          <a:blip r:embed="rId1"/>
          <a:stretch/>
        </p:blipFill>
        <p:spPr>
          <a:xfrm>
            <a:off x="826920" y="231840"/>
            <a:ext cx="745344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одержимое 3" descr="extralarge_dentaltechnik-web.jpg"/>
          <p:cNvPicPr/>
          <p:nvPr/>
        </p:nvPicPr>
        <p:blipFill>
          <a:blip r:embed="rId1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5" descr="Teeth.jpg"/>
          <p:cNvPicPr/>
          <p:nvPr/>
        </p:nvPicPr>
        <p:blipFill>
          <a:blip r:embed="rId2"/>
          <a:stretch/>
        </p:blipFill>
        <p:spPr>
          <a:xfrm>
            <a:off x="127080" y="291960"/>
            <a:ext cx="8889840" cy="62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Содержимое 3" descr="extralarge_dentaltechnik-web.jpg"/>
          <p:cNvPicPr/>
          <p:nvPr/>
        </p:nvPicPr>
        <p:blipFill>
          <a:blip r:embed="rId1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матофобия у детей. Надо ли бояться?!</a:t>
            </a:r>
            <a:br>
              <a:rPr sz="1600"/>
            </a:br>
            <a:br>
              <a:rPr sz="1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моего исследования: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томатофобия у детей. Надо ли бояться?!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Содержимое 3" descr="extralarge_dentaltechnik-web.jpg"/>
          <p:cNvPicPr/>
          <p:nvPr/>
        </p:nvPicPr>
        <p:blipFill>
          <a:blip r:embed="rId1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 моей рабо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узнать, что такое стоматофобия и надо ли бояться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ответить на этот вопрос необходимо решить следующие 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ть, что такое стоматофоби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ить причины страх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правила гигиены нужно соблюдать, чтобы было не страшно на приеме у стоматолога.</a:t>
            </a:r>
            <a:br>
              <a:rPr sz="2400"/>
            </a:br>
            <a:br>
              <a:rPr sz="2400"/>
            </a:b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ипотеза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редположим, что правильный уход за зубами – это первый шаг не бояться похода к стоматологу. Здоровые зубы играют важную роль в сохранении здоровья всего организм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Содержимое 3" descr="extralarge_dentaltechnik-web.jpg"/>
          <p:cNvPicPr/>
          <p:nvPr/>
        </p:nvPicPr>
        <p:blipFill>
          <a:blip r:embed="rId1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5" descr="slide_4.jpg"/>
          <p:cNvPicPr/>
          <p:nvPr/>
        </p:nvPicPr>
        <p:blipFill>
          <a:blip r:embed="rId2"/>
          <a:stretch/>
        </p:blipFill>
        <p:spPr>
          <a:xfrm>
            <a:off x="347760" y="260280"/>
            <a:ext cx="8400960" cy="63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Содержимое 3" descr="extralarge_dentaltechnik-web.jpg"/>
          <p:cNvPicPr/>
          <p:nvPr/>
        </p:nvPicPr>
        <p:blipFill>
          <a:blip r:embed="rId1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матофоби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трах перед стоматологом и любым осмотром или лечением зубов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появляется этот страх?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друг будет больно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3" descr="extralarge_dentaltechnik-web.jpg"/>
          <p:cNvPicPr/>
          <p:nvPr/>
        </p:nvPicPr>
        <p:blipFill>
          <a:blip r:embed="rId1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елать? </a:t>
            </a:r>
            <a:br>
              <a:rPr sz="1800"/>
            </a:br>
            <a:br>
              <a:rPr sz="18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ы боитесь, что врач сделает вам больно, но если не пойти, зуб начнет болеть ОЧЕНЬ сильно и будет еще страшнее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говорите с доктором, задайте все вопросы, узнайте, как будут лечить зуб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азговор с родителями. Они всегда могут пойти с тобой в кабинет и поддержать тебя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Можно посмотреть мультфильмы, прочитать книгу, просмотреть сайты в интернете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Надо ухаживать за своими зубам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Зубы необходимо правильно чистить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Поводить щёткой по зубам недостаточно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одержимое 3" descr="extralarge_dentaltechnik-web.jpg"/>
          <p:cNvPicPr/>
          <p:nvPr/>
        </p:nvPicPr>
        <p:blipFill>
          <a:blip r:embed="rId1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4" descr="kak-pravilno-chistit-zuby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Содержимое 3" descr="extralarge_dentaltechnik-web.jpg"/>
          <p:cNvPicPr/>
          <p:nvPr/>
        </p:nvPicPr>
        <p:blipFill>
          <a:blip r:embed="rId1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ем вывод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уход за зубами – это первый шаг не бояться похода к стоматологу. Если правильно ухаживать за зубами, правильно питаться и вовремя ходить с родителями к стоматологу, возникнет привычка и не будет страшно.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а гипотеза подтвердилас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Содержимое 3" descr="extralarge_dentaltechnik-web.jpg"/>
          <p:cNvPicPr/>
          <p:nvPr/>
        </p:nvPicPr>
        <p:blipFill>
          <a:blip r:embed="rId1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ТЕ ЗДОРОВЫ!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08T14:15:07Z</dcterms:created>
  <dc:creator>Дмитрий</dc:creator>
  <dc:description/>
  <dc:language>en-US</dc:language>
  <cp:lastModifiedBy>Дмитрий</cp:lastModifiedBy>
  <dcterms:modified xsi:type="dcterms:W3CDTF">2018-01-08T14:38:31Z</dcterms:modified>
  <cp:revision>3</cp:revision>
  <dc:subject/>
  <dc:title>Слайд 1</dc:title>
</cp:coreProperties>
</file>