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wmf" ContentType="image/x-wmf"/>
  <Override PartName="/ppt/media/image10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795145-5607-4DC5-91C7-47F1D4E1B6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400DE1-FA09-42D3-A6A9-6D3EC2D8FD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A11E7D-57F5-42B4-B7BF-5E0198D8BF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5BF918-D060-42CB-AD18-BEFA3D3EAD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1ABE00-13E1-4846-9557-CAEF3717BC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48247D-753B-4CEE-BA51-7717D249BA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7672A-8F12-4F8F-ACE6-D2EF9B59B6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9AC9D-5C22-4E05-98AF-7656AB6B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EA1B1-FF43-4305-839D-2DE1D25B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219EA-E321-4D8A-B5B9-6B9DB6559D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B3471-0D71-4CFF-9DB7-20B84712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52C2D-2DEB-402B-90D8-E1CC0C20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EA145-E29E-4D08-9431-53C7DF38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8E29A-F08D-420F-9A08-369502AF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FC919-552E-4115-A867-83722452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A0A6-45E6-421E-8CDA-B47FEBFF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3E1B6-3998-4025-AEF6-0F99FB3F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DD83F-2537-43DF-BC1E-3BA4C85B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2D7DF6-3D8D-4BCF-B28F-CEA92F6E838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480" y="83664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58972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3520" y="824040"/>
            <a:ext cx="864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Этапы создания системы менеджмента качества (СМК) и положительные эффекты от ее внедрения в образовательной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3862440"/>
            <a:ext cx="78487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95640" y="5821200"/>
          <a:ext cx="5005080" cy="796680"/>
        </p:xfrm>
        <a:graphic>
          <a:graphicData uri="http://schemas.openxmlformats.org/drawingml/2006/table">
            <a:tbl>
              <a:tblPr/>
              <a:tblGrid>
                <a:gridCol w="2947320"/>
                <a:gridCol w="2057760"/>
              </a:tblGrid>
              <a:tr h="381240">
                <a:tc gridSpan="2"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 gridSpan="2"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gridSpan="2"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ля организации в це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946920" y="3024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лучшение имиджа ОО, рост доверия к ОО в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овышение доверия партнеров, в т.ч. иностр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ривлечение абитуриентов, в т.ч. иностранных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лучшение качества подгот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Более легкая подготовка и прохождение аккредитации, внешних прове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ля организации в це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946920" y="3024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14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Горизонтальное управление дает возможность быстрее и лучше приспосабливаться к изменяющимся внешним услов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Стабильные и прогнозируемые результаты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ривлечение дополнитель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птимизация процессов ОО в целом, а не деятельности конкретного подраз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ля руковод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946920" y="3024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овышение эффективности управления ОО в целом и структурными подраздел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Разграничение ответственности и делегирование полномоч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Знание потребителя и ориентация на него (важно в связи с ФГОС!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правление по качеству результатов деятельности, выявление слабых звеньев, лишних или  дублирующих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ля руковод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946920" y="3024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09480" y="2133720"/>
            <a:ext cx="822960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Фокус на результативности и эффективности позволяет уменьшать нецелевые и неэффективные расх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лучшение взаимодействия между структурными подраздел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меньшение сбоев в работе, раннее предупреждение ошибок. Качество с первого предъявления требо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ля руковод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46920" y="3024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480" y="2133720"/>
            <a:ext cx="822960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порядочение документации, ее хранения и распростра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аличие и понимание общих целей и стратегии развития образовательной орган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Сплочение коллект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ля персон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946920" y="3024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овышает прозрачность всей системы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лучшение горизонтальных свя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Лучшее понимание всех процессов в ОО (в т.ч. и поддерживающи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мение видеть «своего» потребителя и конечного потребителя, их требования и быть готовым реагировать на изме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иден вклад каждого в общее д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ля персон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946920" y="3024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Чувство команды, улучшение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Доступность и упорядочение докум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лучшение информированности, разъяснение целей и стратегии высшего руко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овышение культуры всех проверок в образовательной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Адекватная оценка деятельности, а не только кри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ля персон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46920" y="3024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оощрение инициативы, возможность повлиять на проц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чет мнения персон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Зафиксированные документально единые требования для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Более четкие критерии оплаты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овые механизмы для разрешения конфликтных ситуаций между структурными подраздел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ля обучаю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946920" y="30240"/>
            <a:ext cx="1897200" cy="1898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овышение доверия к образовательной организации, гарантия качества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овлеченность в управление, повышение субъек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озможность вставить сведения о сертификате качества в резю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Гордость за организации у студентов и выпуск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Этапы создания С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765440"/>
            <a:ext cx="8485200" cy="47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ровести аудит действующей системы каче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бучить сотрудн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ать или усовершенствовать действующую СМ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недрить СМ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сертифицировать СМК (необязательн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оддерживать эффективность функционирования СМ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7694" t="9396" r="6142" b="12316"/>
          <a:stretch/>
        </p:blipFill>
        <p:spPr>
          <a:xfrm>
            <a:off x="7236000" y="76320"/>
            <a:ext cx="185868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656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Что такое система менеджмента качест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«Кто определяет качество? Это делает потребитель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только он может решить, Что покупат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«Что такое система? Это последовательность функц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или видов деятельности (подпроцессов) внутри организации, которая работает совместно на цель организац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«Всеохватывающей целью менеджмента должны быть системы, в которых каждый может получить удовольствие от своей работ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Уильям Эдвард Деминг, гуру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6606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Создание СМК как про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7695" t="9382" r="6141" b="12320"/>
          <a:stretch/>
        </p:blipFill>
        <p:spPr>
          <a:xfrm>
            <a:off x="7502400" y="0"/>
            <a:ext cx="1641600" cy="149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22320" y="1123920"/>
          <a:ext cx="7480080" cy="56116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320" y="1123920"/>
                    <a:ext cx="7480080" cy="56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1765440"/>
            <a:ext cx="8485200" cy="47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1. Отношение высшего руководст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Приверженность к СМК, основанная на понимании, знаниях и вере в то, что СМК представляет значительные выгоды для организации. Руководство, проявляющее такую приверженность, подвигнет сотрудников и руководителей среднего звена содействовать применению СМ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67320" y="108000"/>
            <a:ext cx="2748240" cy="1717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Факторы успеха создания С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96120" y="65160"/>
            <a:ext cx="2747880" cy="1719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Факторы успеха создания С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627200"/>
            <a:ext cx="87706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2. Способность команды разработчиков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Команда может обеспечить рационализации принципов СМК, целей улучшения и инициатив по реализ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за счет привязки СМК к специфике деятельности организации, определением стратегии качества и разработкой целей, связанных с основными приоритетами ОО, с дальнейшим переводом стратегии в четкие показатели результативности для подразделений, которые регулярно пересматрив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96120" y="65160"/>
            <a:ext cx="2747880" cy="1719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Факторы успеха создания С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627200"/>
            <a:ext cx="87706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3. Инфраструктура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Связана с интеграцией СМК в организационную систему, включая системы планирования, оценки, мотивации персонала и  информационную сист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396120" y="65160"/>
            <a:ext cx="2747880" cy="1719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Факторы успеха создания С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627200"/>
            <a:ext cx="87706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4. Управление персоналом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Доступность обучения, корпоративное каскадное обучение, понимание и знания сотрудников в области СМК, взаимодействия и сотрудничества руководителей и сотрудников, особенно из разных функциональных подраздел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правление на основе ситуаций успеха, поощрений инициати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396120" y="65160"/>
            <a:ext cx="2747880" cy="1719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Факторы успеха создания С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627200"/>
            <a:ext cx="87706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4. Управление персоналом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Доступность обучения, корпоративное каскадное обучение, понимание и знания сотрудников в области СМК, взаимодействия и сотрудничества руководителей и сотрудников, особенно из разных функциональных подраздел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правление на основе ситуаций успеха, поощрений инициати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Что такое система менеджмента качест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«Образ» организации как живого организма, то есть саморегулирующегося механизма, приспособленного к жизни в конкретной экономической среде. Естественно, для жизни оно должно производить услуги не хуже определенного уровня качества, а для хорошей жизни —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хорошего качест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236000" y="115920"/>
            <a:ext cx="1650960" cy="16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57704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Что такое система менеджмента качест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205000"/>
            <a:ext cx="82296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действия, с помощью которых организация устанавливает свои цели и определяет процессы и ресурсы, требуемые для достижения желаемых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дробное описание всех бизнес-процессов организации с их последующей регулярной оптимизац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989760" y="274680"/>
            <a:ext cx="1671480" cy="13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274680"/>
            <a:ext cx="656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Цели С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достижение долгосрочного успеха путем максимального удовлетворения запросов потребителя, сотрудников, учредителей и обще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соответствие результатов процессов организации потребностям потребителя, организации и общества (как явным требованиям, так и подразумеваемы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236000" y="115920"/>
            <a:ext cx="1650960" cy="16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Основная задача С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171880"/>
            <a:ext cx="822960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стоянное улучшение качества посредством использования цикла PDCA (цикл Деминга) , состоящего из: планирования, действия, анализа, корректировки (устранение причин несоответствия, а не просто коррекция полученных результат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732720" y="0"/>
            <a:ext cx="227628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Ка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171880"/>
            <a:ext cx="822960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50000"/>
              </a:lnSpc>
              <a:spcBef>
                <a:spcPts val="2001"/>
              </a:spcBef>
              <a:buClr>
                <a:srgbClr val="00b05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  <a:ea typeface="Microsoft YaHei"/>
              </a:rPr>
              <a:t>СТЕП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2001"/>
              </a:spcBef>
              <a:buClr>
                <a:srgbClr val="00b05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  <a:ea typeface="Microsoft YaHei"/>
              </a:rPr>
              <a:t>	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  <a:ea typeface="Microsoft YaHei"/>
              </a:rPr>
              <a:t>УДОВЛЕТВОР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2001"/>
              </a:spcBef>
              <a:buClr>
                <a:srgbClr val="00b05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  <a:ea typeface="Microsoft YaHei"/>
              </a:rPr>
              <a:t>	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  <a:ea typeface="Microsoft YaHei"/>
              </a:rPr>
              <a:t>	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  <a:ea typeface="Microsoft YaHei"/>
              </a:rPr>
              <a:t>  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  <a:ea typeface="Microsoft YaHei"/>
              </a:rPr>
              <a:t>ТРЕБОВ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2001"/>
              </a:spcBef>
              <a:buClr>
                <a:srgbClr val="00b05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  <a:ea typeface="Microsoft YaHei"/>
              </a:rPr>
              <a:t>	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  <a:ea typeface="Microsoft YaHei"/>
              </a:rPr>
              <a:t>	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  <a:ea typeface="Microsoft YaHei"/>
              </a:rPr>
              <a:t>	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  <a:ea typeface="Microsoft YaHei"/>
              </a:rPr>
              <a:t>ЗАИНТЕРЕСОВАННЫХ СТО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588000" y="-14400"/>
            <a:ext cx="2370240" cy="24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274680"/>
            <a:ext cx="64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Что обеспечивает качественные результаты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588000" y="-14400"/>
            <a:ext cx="2370240" cy="241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998800" y="4599000"/>
            <a:ext cx="5749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8360"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69800"/>
                <a:tab algn="l" pos="1384200"/>
                <a:tab algn="l" pos="2298600"/>
                <a:tab algn="l" pos="3213000"/>
                <a:tab algn="l" pos="4127400"/>
                <a:tab algn="l" pos="5041800"/>
                <a:tab algn="l" pos="5956200"/>
                <a:tab algn="l" pos="6870600"/>
                <a:tab algn="l" pos="7785000"/>
                <a:tab algn="l" pos="8699400"/>
                <a:tab algn="l" pos="9613800"/>
                <a:tab algn="l" pos="10528200"/>
                <a:tab algn="l" pos="1078236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Verdana"/>
                <a:ea typeface="Arial"/>
              </a:rPr>
              <a:t>СТАБИЛЬНОСТЬ И УСТОЙЧИВОСТЬ – СЛЕДСТВИЕ  КАЧЕСТВЕННОЙ СИСТЕМЫ МЕНЕДЖ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520000">
            <a:off x="3606480" y="2687760"/>
            <a:ext cx="457200" cy="30456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1f497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73400" y="31910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ЧЕСТВО ПРОЦЕССА (раб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520000">
            <a:off x="4946400" y="39322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1f497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7760" y="1986120"/>
            <a:ext cx="4042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АЧЕСТВО  У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Эффекты от внедр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948360" y="274680"/>
            <a:ext cx="1897200" cy="1897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рямые 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тсроченные 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Синергетические 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Для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Для руководства (высшего, средне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Для персон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Для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0:23:08Z</dcterms:created>
  <dc:creator>Черноиванова Наталья</dc:creator>
  <dc:description/>
  <dc:language>en-US</dc:language>
  <cp:lastModifiedBy>Захарова Елена</cp:lastModifiedBy>
  <dcterms:modified xsi:type="dcterms:W3CDTF">2017-11-10T11:17:32Z</dcterms:modified>
  <cp:revision>503</cp:revision>
  <dc:subject/>
  <dc:title>Презентация PowerPoint</dc:title>
</cp:coreProperties>
</file>