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DA2F1B-BEDC-41BD-A30E-743C0C093D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AC50C1-9ACF-4C50-B5F3-C2D41C885A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341CCD-9BB7-4099-B34E-6E98F65E8C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D3A5FB-6480-4BD8-B0BE-AC3474C7DA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C467A0-BC54-4E01-B20F-A6C8192727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64A95D-B836-428A-BB0E-9D9656F658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04B0-0017-4C42-BEEC-61F1C52D54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DAF0-534C-4A16-8D55-DB3F04B3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4BE9A-9AD8-45F1-A3EA-97D3B5DB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7567-BC5E-44C2-AEEF-B41E7E298F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1519-DD62-4374-8E1C-BA1A9543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E901-3F87-4D95-B300-8172334B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72CB-B392-45B9-92C9-D0DE0CFB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367D-FF94-48E6-AE46-A84E9E96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608B-9E81-4FF9-8D09-35F0D9C2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0E7B-E60D-4542-B5A8-46BF290A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0C4F-D652-4FC3-AFC1-36FD05DF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7AB6-B7FF-4318-BC49-FD4B3E10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AFD8F7-E8F3-4571-8F90-85102871DD4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480" y="83664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58972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3520" y="824040"/>
            <a:ext cx="864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Этапы создания системы менеджмента качества (СМК) и положительные эффекты от ее внедрения в образовательной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3862440"/>
            <a:ext cx="7848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95640" y="5821200"/>
          <a:ext cx="5005080" cy="796680"/>
        </p:xfrm>
        <a:graphic>
          <a:graphicData uri="http://schemas.openxmlformats.org/drawingml/2006/table">
            <a:tbl>
              <a:tblPr/>
              <a:tblGrid>
                <a:gridCol w="2947320"/>
                <a:gridCol w="2057760"/>
              </a:tblGrid>
              <a:tr h="381240">
                <a:tc gridSpan="2"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 gridSpan="2"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gridSpan="2"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организации в це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лучшение имиджа ОО, рост доверия к ОО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доверия партнеров, в т.ч. иностр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ивлечение абитуриентов, в т.ч. иностранных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лучшение качества подгот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олее легкая подготовка и прохождение аккредитации, внешних прове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организации в це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14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Горизонтальное управление дает возможность быстрее и лучше приспосабливаться к изменяющимся внешним услов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табильные и прогнозируемые результаты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ивлечение дополнитель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птимизация процессов ОО в целом, а не деятельности конкретного подраз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руков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эффективности управления ОО в целом и структурными подраздел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Разграничение ответственности и делегирование полномо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нание потребителя и ориентация на него (важно в связи с ФГОС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правление по качеству результатов деятельности, выявление слабых звеньев, лишних или  дублирующ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руков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9480" y="2133720"/>
            <a:ext cx="8229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Фокус на результативности и эффективности позволяет уменьшать нецелевые и неэффективные расх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лучшение взаимодействия между структурными подраздел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меньшение сбоев в работе, раннее предупреждение ошибок. Качество с первого предъявления треб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руков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2133720"/>
            <a:ext cx="8229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порядочение документации, ее хранения и распростра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личие и понимание общих целей и стратегии развития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плочение коллект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персо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вышает прозрачность всей системы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лучшение горизонтальных свя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Лучшее понимание всех процессов в ОО (в т.ч. и поддерживающи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мение видеть «своего» потребителя и конечного потребителя, их требования и быть готовым реагировать на изме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иден вклад каждого в общее д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персо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Чувство команды, улучшение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оступность и упорядочение докум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лучшение информированности, разъяснение целей и стратегии высшего руко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культуры всех проверок в образовательной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Адекватная оценка деятельности, а не только кри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персо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ощрение инициативы, возможность повлиять на проц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чет мнения персон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фиксированные документально единые требования для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олее четкие критерии оплаты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овые механизмы для разрешения конфликтных ситуаций между структурными подраздел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обучаю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доверия к образовательной организации, гарантия качества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овлеченность в управление, повышение субъек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озможность вставить сведения о сертификате качества в резю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Гордость за организации у студентов и выпуск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Этапы создан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765440"/>
            <a:ext cx="84852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аудит действующей системы каче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бучить сотрудн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ать или усовершенствовать действующую СМ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недрить СМ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ертифицировать СМК (необязательн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ддерживать эффективность функционирования СМ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7694" t="9396" r="6142" b="12316"/>
          <a:stretch/>
        </p:blipFill>
        <p:spPr>
          <a:xfrm>
            <a:off x="7236000" y="76320"/>
            <a:ext cx="185868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656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Что такое система менеджмента каче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«Кто определяет качество? Это делает потребител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олько он может решить, Что покупа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«Что такое система? Это последовательность функ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или видов деятельности (подпроцессов) внутри организации, которая работает совместно на цель организа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«Всеохватывающей целью менеджмента должны быть системы, в которых каждый может получить удовольствие от своей работ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Уильям Эдвард Деминг, гуру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6606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Создание СМК как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7695" t="9382" r="6141" b="12320"/>
          <a:stretch/>
        </p:blipFill>
        <p:spPr>
          <a:xfrm>
            <a:off x="7502400" y="0"/>
            <a:ext cx="1641600" cy="149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2320" y="1123920"/>
          <a:ext cx="7480080" cy="56116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20" y="1123920"/>
                    <a:ext cx="7480080" cy="56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1765440"/>
            <a:ext cx="84852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1. Отношение высшего руковод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Приверженность к СМК, основанная на понимании, знаниях и вере в то, что СМК представляет значительные выгоды для организации. Руководство, проявляющее такую приверженность, подвигнет сотрудников и руководителей среднего звена содействовать применению СМ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67320" y="108000"/>
            <a:ext cx="2748240" cy="1717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Факторы успеха создан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96120" y="65160"/>
            <a:ext cx="2747880" cy="1719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Факторы успеха создан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627200"/>
            <a:ext cx="87706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2. Способность команды разработчико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Команда может обеспечить рационализации принципов СМК, целей улучшения и инициатив по реализ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 счет привязки СМК к специфике деятельности организации, определением стратегии качества и разработкой целей, связанных с основными приоритетами ОО, с дальнейшим переводом стратегии в четкие показатели результативности для подразделений, которые регулярно пересматрив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96120" y="65160"/>
            <a:ext cx="274788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Факторы успеха создан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627200"/>
            <a:ext cx="87706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3. Инфраструктура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Связана с интеграцией СМК в организационную систему, включая системы планирования, оценки, мотивации персонала и  информационную сист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96120" y="65160"/>
            <a:ext cx="2747880" cy="1719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Факторы успеха создан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627200"/>
            <a:ext cx="87706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4. Управление персонало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оступность обучения, корпоративное каскадное обучение, понимание и знания сотрудников в области СМК, взаимодействия и сотрудничества руководителей и сотрудников, особенно из разных функциональных подразде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правление на основе ситуаций успеха, поощрений инициати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96120" y="65160"/>
            <a:ext cx="2747880" cy="1719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Факторы успеха создан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627200"/>
            <a:ext cx="87706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4. Управление персонало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оступность обучения, корпоративное каскадное обучение, понимание и знания сотрудников в области СМК, взаимодействия и сотрудничества руководителей и сотрудников, особенно из разных функциональных подразде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правление на основе ситуаций успеха, поощрений инициати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Что такое система менеджмента каче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«Образ» организации как живого организма, то есть саморегулирующегося механизма, приспособленного к жизни в конкретной экономической среде. Естественно, для жизни оно должно производить услуги не хуже определенного уровня качества, а для хорошей жизни —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хорошего каче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36000" y="115920"/>
            <a:ext cx="165096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57704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Что такое система менеджмента каче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205000"/>
            <a:ext cx="82296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ействия, с помощью которых организация устанавливает свои цели и определяет процессы и ресурсы, требуемые для достижения желаемых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дробное описание всех бизнес-процессов организации с их последующей регулярной оптимиз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989760" y="274680"/>
            <a:ext cx="167148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74680"/>
            <a:ext cx="656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Цели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стижение долгосрочного успеха путем максимального удовлетворения запросов потребителя, сотрудников, учредителей и общ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соответствие результатов процессов организации потребностям потребителя, организации и общества (как явным требованиям, так и подразумеваемы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236000" y="115920"/>
            <a:ext cx="165096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Основная задача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171880"/>
            <a:ext cx="82296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тоянное улучшение качества посредством использования цикла PDCA (цикл Деминга) , состоящего из: планирования, действия, анализа, корректировки (устранение причин несоответствия, а не просто коррекция полученных результат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27628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Ка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171880"/>
            <a:ext cx="82296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50000"/>
              </a:lnSpc>
              <a:spcBef>
                <a:spcPts val="2001"/>
              </a:spcBef>
              <a:buClr>
                <a:srgbClr val="00b05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СТЕП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001"/>
              </a:spcBef>
              <a:buClr>
                <a:srgbClr val="00b05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УДОВЛЕТВОР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001"/>
              </a:spcBef>
              <a:buClr>
                <a:srgbClr val="00b05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  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ТРЕБОВ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001"/>
              </a:spcBef>
              <a:buClr>
                <a:srgbClr val="00b05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ЗАИНТЕРЕСОВАННЫХ СТ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588000" y="-14400"/>
            <a:ext cx="2370240" cy="24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64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Что обеспечивает качественные результаты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588000" y="-14400"/>
            <a:ext cx="2370240" cy="241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98800" y="4599000"/>
            <a:ext cx="5749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8360"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69800"/>
                <a:tab algn="l" pos="1384200"/>
                <a:tab algn="l" pos="2298600"/>
                <a:tab algn="l" pos="3213000"/>
                <a:tab algn="l" pos="4127400"/>
                <a:tab algn="l" pos="5041800"/>
                <a:tab algn="l" pos="5956200"/>
                <a:tab algn="l" pos="6870600"/>
                <a:tab algn="l" pos="7785000"/>
                <a:tab algn="l" pos="8699400"/>
                <a:tab algn="l" pos="9613800"/>
                <a:tab algn="l" pos="10528200"/>
                <a:tab algn="l" pos="1078236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Verdana"/>
                <a:ea typeface="Arial"/>
              </a:rPr>
              <a:t>СТАБИЛЬНОСТЬ И УСТОЙЧИВОСТЬ – СЛЕДСТВИЕ  КАЧЕСТВЕННОЙ СИСТЕМЫ МЕНЕДЖ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520000">
            <a:off x="3606480" y="268776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1f497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73400" y="31910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ЧЕСТВО ПРОЦЕССА (раб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520000">
            <a:off x="4946400" y="39322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1f497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7760" y="1986120"/>
            <a:ext cx="4042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АЧЕСТВО 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Эффекты от внед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948360" y="274680"/>
            <a:ext cx="1897200" cy="189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ямы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тсроченны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инергетическ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ля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ля руководства (высшего, средне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ля персон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л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0:23:08Z</dcterms:created>
  <dc:creator>Черноиванова Наталья</dc:creator>
  <dc:description/>
  <dc:language>en-US</dc:language>
  <cp:lastModifiedBy>Захарова Елена</cp:lastModifiedBy>
  <dcterms:modified xsi:type="dcterms:W3CDTF">2017-11-10T11:17:32Z</dcterms:modified>
  <cp:revision>503</cp:revision>
  <dc:subject/>
  <dc:title>Презентация PowerPoint</dc:title>
</cp:coreProperties>
</file>