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D26A-1598-41E4-94BF-C3BEC2A6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6828-30AB-42E5-9DF7-C603733D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7CA0E-D7F8-4B45-8D95-FC58F006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7945-9DF0-45D2-9DA8-1B8BD9D6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8889-4BE3-49BA-A487-2F4A8410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3D91-EFF4-4138-A671-3C18B08A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B731-6CA4-4A74-B7E6-962137A8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4AE2-F85F-4F5F-BBB9-903F6464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1599-A4B8-40E2-9306-4F3C6F28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B645-4C6B-4AB0-8196-46B0A80F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484F-1E42-4538-8554-A01DF123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44F4-7C3B-404E-8AA6-0092B03C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C380-438A-4A83-9735-003D60D2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264E-EB16-429D-AD6D-2057D357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4597-614F-41E9-9BDB-B7436E91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1CB5-0D06-4BF8-A509-4B42F7BF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413A-E3BF-4F22-B912-B048EF59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4328-0DF6-4D7E-91C4-FE250417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B7BC3-9FA3-4BDE-9A5B-8E00823A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1640-6890-44B4-AA5B-DEBF3839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DB780-171B-4AD0-A81E-F742FFE1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DC5B9-50DD-4831-B9A7-5D8B125D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EAE9-C799-44F0-A464-702DAAAA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076F-67DD-4826-AE5D-BE4C150D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2B29-4BD0-4386-9809-956E3D543A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4497-6C9A-4F43-B749-E391114184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7d"/>
                </a:solidFill>
                <a:latin typeface="Arial"/>
              </a:rPr>
              <a:t>Kalmyk farme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39920" y="4437000"/>
            <a:ext cx="4203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Санджиева Бая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127466_900"/>
          <p:cNvPicPr/>
          <p:nvPr/>
        </p:nvPicPr>
        <p:blipFill>
          <a:blip r:embed="rId1"/>
          <a:stretch/>
        </p:blipFill>
        <p:spPr>
          <a:xfrm>
            <a:off x="250920" y="1616040"/>
            <a:ext cx="46386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almyk herders used to be nomads a long time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3"/>
          <p:cNvPicPr/>
          <p:nvPr/>
        </p:nvPicPr>
        <p:blipFill>
          <a:blip r:embed="rId1"/>
          <a:stretch/>
        </p:blipFill>
        <p:spPr>
          <a:xfrm>
            <a:off x="5003640" y="3500280"/>
            <a:ext cx="3961080" cy="1940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216919133"/>
          <p:cNvPicPr/>
          <p:nvPr/>
        </p:nvPicPr>
        <p:blipFill>
          <a:blip r:embed="rId2"/>
          <a:stretch/>
        </p:blipFill>
        <p:spPr>
          <a:xfrm>
            <a:off x="250920" y="2852640"/>
            <a:ext cx="47592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adays they usually settle down in the steppe, building a small house for themselves and some bar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eeping sheep and cattl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arataev_800"/>
          <p:cNvPicPr/>
          <p:nvPr/>
        </p:nvPicPr>
        <p:blipFill>
          <a:blip r:embed="rId1"/>
          <a:stretch/>
        </p:blipFill>
        <p:spPr>
          <a:xfrm>
            <a:off x="4211640" y="3573360"/>
            <a:ext cx="4500720" cy="301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gallery_promo24102057"/>
          <p:cNvPicPr/>
          <p:nvPr/>
        </p:nvPicPr>
        <p:blipFill>
          <a:blip r:embed="rId2"/>
          <a:stretch/>
        </p:blipFill>
        <p:spPr>
          <a:xfrm>
            <a:off x="179280" y="1773360"/>
            <a:ext cx="475308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64388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mily can have up to 1000 sheep and 200 c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s look after them all the year 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job is not an easy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1356706997_3"/>
          <p:cNvPicPr/>
          <p:nvPr/>
        </p:nvPicPr>
        <p:blipFill>
          <a:blip r:embed="rId1"/>
          <a:stretch/>
        </p:blipFill>
        <p:spPr>
          <a:xfrm>
            <a:off x="4211640" y="3213000"/>
            <a:ext cx="4608360" cy="3056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KMO_143120_00158_1_t218_210111"/>
          <p:cNvPicPr/>
          <p:nvPr/>
        </p:nvPicPr>
        <p:blipFill>
          <a:blip r:embed="rId2"/>
          <a:stretch/>
        </p:blipFill>
        <p:spPr>
          <a:xfrm>
            <a:off x="324000" y="3429000"/>
            <a:ext cx="45370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daily routine includes milking, shearing, feeding, watering and preparing forage for the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_9b2e3_4036c6e9_XXL"/>
          <p:cNvPicPr/>
          <p:nvPr/>
        </p:nvPicPr>
        <p:blipFill>
          <a:blip r:embed="rId1"/>
          <a:stretch/>
        </p:blipFill>
        <p:spPr>
          <a:xfrm>
            <a:off x="179280" y="3141720"/>
            <a:ext cx="5292720" cy="288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9644_900"/>
          <p:cNvPicPr/>
          <p:nvPr/>
        </p:nvPicPr>
        <p:blipFill>
          <a:blip r:embed="rId2"/>
          <a:stretch/>
        </p:blipFill>
        <p:spPr>
          <a:xfrm>
            <a:off x="5580000" y="2565360"/>
            <a:ext cx="286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it is boiling hot or freezing cold, they have to spend the whole day in the open air watching their sheep and cows graz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wat2xCBP6K5v225TMgcZG6TxyL02a"/>
          <p:cNvPicPr/>
          <p:nvPr/>
        </p:nvPicPr>
        <p:blipFill>
          <a:blip r:embed="rId1"/>
          <a:stretch/>
        </p:blipFill>
        <p:spPr>
          <a:xfrm>
            <a:off x="179280" y="3213000"/>
            <a:ext cx="4032360" cy="269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7654466e7a94c28c10e1860a69ffef0e"/>
          <p:cNvPicPr/>
          <p:nvPr/>
        </p:nvPicPr>
        <p:blipFill>
          <a:blip r:embed="rId2"/>
          <a:stretch/>
        </p:blipFill>
        <p:spPr>
          <a:xfrm>
            <a:off x="4284720" y="278136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hallenging season for herders is lambing and calving campaign, when babies are bor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ovca-s-yagnenkom"/>
          <p:cNvPicPr/>
          <p:nvPr/>
        </p:nvPicPr>
        <p:blipFill>
          <a:blip r:embed="rId1"/>
          <a:stretch/>
        </p:blipFill>
        <p:spPr>
          <a:xfrm>
            <a:off x="179280" y="2781360"/>
            <a:ext cx="4608720" cy="309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uhod-za-telenkom"/>
          <p:cNvPicPr/>
          <p:nvPr/>
        </p:nvPicPr>
        <p:blipFill>
          <a:blip r:embed="rId2"/>
          <a:stretch/>
        </p:blipFill>
        <p:spPr>
          <a:xfrm>
            <a:off x="4788000" y="2565360"/>
            <a:ext cx="37209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all odds, the Kalmyk herders have time for taking part in all-Russian exhibition of breeding sheep and ca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1413225050_420"/>
          <p:cNvPicPr/>
          <p:nvPr/>
        </p:nvPicPr>
        <p:blipFill>
          <a:blip r:embed="rId1"/>
          <a:stretch/>
        </p:blipFill>
        <p:spPr>
          <a:xfrm>
            <a:off x="5076720" y="2133720"/>
            <a:ext cx="3795840" cy="42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3d3LnNkZWxhbm91bmFzLnJ1L3VwbG9hZHMvMi84LzI4MjE0NDMwMjIwMjNfb3JpZy5qcGVnP19faWQ9NjgxMTY="/>
          <p:cNvPicPr/>
          <p:nvPr/>
        </p:nvPicPr>
        <p:blipFill>
          <a:blip r:embed="rId2"/>
          <a:stretch/>
        </p:blipFill>
        <p:spPr>
          <a:xfrm>
            <a:off x="179280" y="2421000"/>
            <a:ext cx="48690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watc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08:15:23Z</dcterms:created>
  <dc:creator>c1m10</dc:creator>
  <dc:description/>
  <dc:language>en-US</dc:language>
  <cp:lastModifiedBy>PC</cp:lastModifiedBy>
  <dcterms:modified xsi:type="dcterms:W3CDTF">2018-10-24T17:56:57Z</dcterms:modified>
  <cp:revision>5</cp:revision>
  <dc:subject/>
  <dc:title>Kalmyk farmers</dc:title>
</cp:coreProperties>
</file>