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EE15-7835-4574-8A6D-98320917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DF9F-8991-4183-A0E0-C5B29DB2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1747-15D0-4C69-8F09-B4257B80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B1F1-3654-4F4D-9EA6-40DB0867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FDA1-85E4-4FDB-9611-1070D2C1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7557-4115-4A55-90A6-5F89357C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3E5C-987B-479D-A7C3-61B82F06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D418-AEA8-42C9-8BF6-22D00073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A68E-71CA-4894-A0F3-ECE0B7FE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E302-E53A-4962-8016-4B3EB5A2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2E59-B68D-4257-A299-6D7C44C2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A927-018F-4EF1-9A45-DEC8DA66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B170-1817-44FA-8781-97A3EEE6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EE64-991F-4904-A494-F5084FEE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3496-685F-4339-A7AB-83DF6733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B017-6AF0-4128-A1F5-CD85FC96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FF35-8465-4E1F-B0C0-C84435A4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C40E-DAE8-4917-BB1A-2CE7F44C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DE6F-1B67-4FB0-B7CE-3C83BF54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4882-39D9-46B5-88C3-73424BC9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8655-502B-4D25-8E9E-E53F624A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D0CB-210C-4BAB-8FB5-AFEF45A6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8BBE-F6A4-41A9-B148-7FCB549B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3B29-562E-4F99-A187-CC2EC49B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D281-3749-4C8D-946E-58E1CACA59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BB2C-758B-4D24-8336-2D8AD47600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Kalmyk farme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39920" y="4437000"/>
            <a:ext cx="4203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Санджиева Бая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127466_900"/>
          <p:cNvPicPr/>
          <p:nvPr/>
        </p:nvPicPr>
        <p:blipFill>
          <a:blip r:embed="rId1"/>
          <a:stretch/>
        </p:blipFill>
        <p:spPr>
          <a:xfrm>
            <a:off x="250920" y="1616040"/>
            <a:ext cx="46386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almyk herders used to be nomads a long time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3"/>
          <p:cNvPicPr/>
          <p:nvPr/>
        </p:nvPicPr>
        <p:blipFill>
          <a:blip r:embed="rId1"/>
          <a:stretch/>
        </p:blipFill>
        <p:spPr>
          <a:xfrm>
            <a:off x="5003640" y="3500280"/>
            <a:ext cx="3961080" cy="1940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216919133"/>
          <p:cNvPicPr/>
          <p:nvPr/>
        </p:nvPicPr>
        <p:blipFill>
          <a:blip r:embed="rId2"/>
          <a:stretch/>
        </p:blipFill>
        <p:spPr>
          <a:xfrm>
            <a:off x="250920" y="2852640"/>
            <a:ext cx="47592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adays they usually settle down in the steppe, building a small house for themselves and some bar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eeping sheep and cattl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arataev_800"/>
          <p:cNvPicPr/>
          <p:nvPr/>
        </p:nvPicPr>
        <p:blipFill>
          <a:blip r:embed="rId1"/>
          <a:stretch/>
        </p:blipFill>
        <p:spPr>
          <a:xfrm>
            <a:off x="4211640" y="3573360"/>
            <a:ext cx="4500720" cy="301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gallery_promo24102057"/>
          <p:cNvPicPr/>
          <p:nvPr/>
        </p:nvPicPr>
        <p:blipFill>
          <a:blip r:embed="rId2"/>
          <a:stretch/>
        </p:blipFill>
        <p:spPr>
          <a:xfrm>
            <a:off x="179280" y="1773360"/>
            <a:ext cx="475308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64388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mily can have up to 1000 sheep and 200 c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s look after them all the year 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job is not an easy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1356706997_3"/>
          <p:cNvPicPr/>
          <p:nvPr/>
        </p:nvPicPr>
        <p:blipFill>
          <a:blip r:embed="rId1"/>
          <a:stretch/>
        </p:blipFill>
        <p:spPr>
          <a:xfrm>
            <a:off x="4211640" y="3213000"/>
            <a:ext cx="4608360" cy="3056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KMO_143120_00158_1_t218_210111"/>
          <p:cNvPicPr/>
          <p:nvPr/>
        </p:nvPicPr>
        <p:blipFill>
          <a:blip r:embed="rId2"/>
          <a:stretch/>
        </p:blipFill>
        <p:spPr>
          <a:xfrm>
            <a:off x="324000" y="3429000"/>
            <a:ext cx="45370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daily routine includes milking, shearing, feeding, watering and preparing forage for the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_9b2e3_4036c6e9_XXL"/>
          <p:cNvPicPr/>
          <p:nvPr/>
        </p:nvPicPr>
        <p:blipFill>
          <a:blip r:embed="rId1"/>
          <a:stretch/>
        </p:blipFill>
        <p:spPr>
          <a:xfrm>
            <a:off x="179280" y="3141720"/>
            <a:ext cx="5292720" cy="288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9644_900"/>
          <p:cNvPicPr/>
          <p:nvPr/>
        </p:nvPicPr>
        <p:blipFill>
          <a:blip r:embed="rId2"/>
          <a:stretch/>
        </p:blipFill>
        <p:spPr>
          <a:xfrm>
            <a:off x="5580000" y="2565360"/>
            <a:ext cx="286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it is boiling hot or freezing cold, they have to spend the whole day in the open air watching their sheep and cows graz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wat2xCBP6K5v225TMgcZG6TxyL02a"/>
          <p:cNvPicPr/>
          <p:nvPr/>
        </p:nvPicPr>
        <p:blipFill>
          <a:blip r:embed="rId1"/>
          <a:stretch/>
        </p:blipFill>
        <p:spPr>
          <a:xfrm>
            <a:off x="179280" y="3213000"/>
            <a:ext cx="4032360" cy="269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7654466e7a94c28c10e1860a69ffef0e"/>
          <p:cNvPicPr/>
          <p:nvPr/>
        </p:nvPicPr>
        <p:blipFill>
          <a:blip r:embed="rId2"/>
          <a:stretch/>
        </p:blipFill>
        <p:spPr>
          <a:xfrm>
            <a:off x="4284720" y="278136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hallenging season for herders is lambing and calving campaign, when babies are bor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ovca-s-yagnenkom"/>
          <p:cNvPicPr/>
          <p:nvPr/>
        </p:nvPicPr>
        <p:blipFill>
          <a:blip r:embed="rId1"/>
          <a:stretch/>
        </p:blipFill>
        <p:spPr>
          <a:xfrm>
            <a:off x="179280" y="2781360"/>
            <a:ext cx="4608720" cy="309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uhod-za-telenkom"/>
          <p:cNvPicPr/>
          <p:nvPr/>
        </p:nvPicPr>
        <p:blipFill>
          <a:blip r:embed="rId2"/>
          <a:stretch/>
        </p:blipFill>
        <p:spPr>
          <a:xfrm>
            <a:off x="4788000" y="2565360"/>
            <a:ext cx="37209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all odds, the Kalmyk herders have time for taking part in all-Russian exhibition of breeding sheep and ca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1413225050_420"/>
          <p:cNvPicPr/>
          <p:nvPr/>
        </p:nvPicPr>
        <p:blipFill>
          <a:blip r:embed="rId1"/>
          <a:stretch/>
        </p:blipFill>
        <p:spPr>
          <a:xfrm>
            <a:off x="5076720" y="2133720"/>
            <a:ext cx="3795840" cy="42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3d3LnNkZWxhbm91bmFzLnJ1L3VwbG9hZHMvMi84LzI4MjE0NDMwMjIwMjNfb3JpZy5qcGVnP19faWQ9NjgxMTY="/>
          <p:cNvPicPr/>
          <p:nvPr/>
        </p:nvPicPr>
        <p:blipFill>
          <a:blip r:embed="rId2"/>
          <a:stretch/>
        </p:blipFill>
        <p:spPr>
          <a:xfrm>
            <a:off x="179280" y="2421000"/>
            <a:ext cx="48690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watc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08:15:23Z</dcterms:created>
  <dc:creator>c1m10</dc:creator>
  <dc:description/>
  <dc:language>en-US</dc:language>
  <cp:lastModifiedBy>PC</cp:lastModifiedBy>
  <dcterms:modified xsi:type="dcterms:W3CDTF">2018-10-24T17:56:57Z</dcterms:modified>
  <cp:revision>5</cp:revision>
  <dc:subject/>
  <dc:title>Kalmyk farmers</dc:title>
</cp:coreProperties>
</file>