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C46-2B7A-4409-920E-3A52EEC7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D7F-5BC0-42C0-AD70-F89FC0A4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22A-EADE-4A72-B41F-847A53E7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1FD-7100-46FA-97F5-809CFBCC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926F-5F06-4B1C-86ED-E3ADC6E2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56B-EE44-46BB-A39F-6AF82BB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0EF9-DC07-4B47-9F79-8AE1BFD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7C71-57E6-457E-8A5A-0952CF2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BFF-A031-45FA-96CC-149F88D6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5715-C521-4B30-9C69-82C3BDF4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22D-5F14-4300-A73A-EDD66EC1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2A0-30AE-4257-80B4-002510FB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89D-FBF0-4373-B3B3-C1356E3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7BCE-A73D-4DD9-9D43-448F010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F087-B2CC-42BC-AC12-0DF014D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DBCF-5E31-4A51-A930-71D3C033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6C0B-3583-445C-9C98-B5B7DE18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52A-50A9-4A01-AA11-9ADAF8C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C2F-462D-40B9-A3CE-6A109736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687-7E3E-4C77-A389-726CA1C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011-025D-4826-B62B-1998EEB6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E73-E34D-459C-9AE2-4213B405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559-A662-43F8-A2A2-BCA2754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C98-443E-46E4-87E6-1A469B67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C84D-BF27-4DE1-B4C7-A6B6DE5D6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972-AA0E-4C35-9827-D99CC2A8ED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Муниципальное  бюджет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дополнительного образования  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« Дом детского творчества»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 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к нити прядут и ткани тку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ры: Поступинская Дарья  10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харева Татьяна 9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ата Светлана, 11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щиеся т.о. «Золуш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оводитель: Лата Татьяна Николае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как нити прядут и ткани ткут?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оя работа заинтересовала и моих подруг, и они принялись мне помогать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520" y="178596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SDC11659"/>
          <p:cNvPicPr/>
          <p:nvPr/>
        </p:nvPicPr>
        <p:blipFill>
          <a:blip r:embed="rId1"/>
          <a:stretch/>
        </p:blipFill>
        <p:spPr>
          <a:xfrm>
            <a:off x="857160" y="1857240"/>
            <a:ext cx="75009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осло число вопросов и подруг, заинтересовавшихся этой работо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SDC11658"/>
          <p:cNvPicPr/>
          <p:nvPr/>
        </p:nvPicPr>
        <p:blipFill>
          <a:blip r:embed="rId1"/>
          <a:stretch/>
        </p:blipFill>
        <p:spPr>
          <a:xfrm>
            <a:off x="642960" y="1928880"/>
            <a:ext cx="8215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колько на свете разных изделий из нитей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1905120"/>
            <a:ext cx="83455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SDC11698"/>
          <p:cNvPicPr/>
          <p:nvPr/>
        </p:nvPicPr>
        <p:blipFill>
          <a:blip r:embed="rId1"/>
          <a:stretch/>
        </p:blipFill>
        <p:spPr>
          <a:xfrm>
            <a:off x="5076720" y="1857240"/>
            <a:ext cx="3710160" cy="39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DC11694"/>
          <p:cNvPicPr/>
          <p:nvPr/>
        </p:nvPicPr>
        <p:blipFill>
          <a:blip r:embed="rId2"/>
          <a:stretch/>
        </p:blipFill>
        <p:spPr>
          <a:xfrm>
            <a:off x="571680" y="1857240"/>
            <a:ext cx="41446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Самый первый ткацкий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станок появился в глубокой древности,  за 5 – тысяч лет до н. э.</a:t>
            </a:r>
            <a:r>
              <a:rPr b="0" lang="ru-RU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428840"/>
            <a:ext cx="78868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SDC11666"/>
          <p:cNvPicPr/>
          <p:nvPr/>
        </p:nvPicPr>
        <p:blipFill>
          <a:blip r:embed="rId1"/>
          <a:stretch/>
        </p:blipFill>
        <p:spPr>
          <a:xfrm>
            <a:off x="928800" y="1341360"/>
            <a:ext cx="78580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Times New Roman"/>
              </a:rPr>
              <a:t>В 1785 году английский изобретатель Э. Картрайт  создал механический ткацкий станок с ножным приводом. Он выглядел так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8480" y="1714320"/>
            <a:ext cx="47862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SDC11365"/>
          <p:cNvPicPr/>
          <p:nvPr/>
        </p:nvPicPr>
        <p:blipFill>
          <a:blip r:embed="rId1"/>
          <a:stretch/>
        </p:blipFill>
        <p:spPr>
          <a:xfrm>
            <a:off x="1500120" y="1785960"/>
            <a:ext cx="4714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вот как ткани ткут.  Продольные нити поднимаются и опускаются решетками. А в просветы между ними, летают челнок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SDC11670"/>
          <p:cNvPicPr/>
          <p:nvPr/>
        </p:nvPicPr>
        <p:blipFill>
          <a:blip r:embed="rId1"/>
          <a:stretch/>
        </p:blipFill>
        <p:spPr>
          <a:xfrm>
            <a:off x="785880" y="1916280"/>
            <a:ext cx="75009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Челнок  тянет за собой нить, намотанную на катушке внутри челнока , и , проходя между нитями, образует переплетение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SDC11674"/>
          <p:cNvPicPr/>
          <p:nvPr/>
        </p:nvPicPr>
        <p:blipFill>
          <a:blip r:embed="rId1"/>
          <a:stretch/>
        </p:blipFill>
        <p:spPr>
          <a:xfrm>
            <a:off x="1332000" y="1782720"/>
            <a:ext cx="64706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851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 откуда нити берутся?  Процесс, в результате которого из волокон получают нить, называют прядением.                                                     Так пряли в древности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66288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SDC11675"/>
          <p:cNvPicPr/>
          <p:nvPr/>
        </p:nvPicPr>
        <p:blipFill>
          <a:blip r:embed="rId1"/>
          <a:srcRect l="0" t="-3217" r="0" b="0"/>
          <a:stretch/>
        </p:blipFill>
        <p:spPr>
          <a:xfrm>
            <a:off x="642960" y="1785960"/>
            <a:ext cx="7215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 старину нить тоже скручивали и наматывали на веретено 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олокно крепилось на прялке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SDC11676"/>
          <p:cNvPicPr/>
          <p:nvPr/>
        </p:nvPicPr>
        <p:blipFill>
          <a:blip r:embed="rId1"/>
          <a:stretch/>
        </p:blipFill>
        <p:spPr>
          <a:xfrm>
            <a:off x="357120" y="1857240"/>
            <a:ext cx="4071960" cy="478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SDC11678"/>
          <p:cNvPicPr/>
          <p:nvPr/>
        </p:nvPicPr>
        <p:blipFill>
          <a:blip r:embed="rId2"/>
          <a:stretch/>
        </p:blipFill>
        <p:spPr>
          <a:xfrm>
            <a:off x="4857840" y="1844640"/>
            <a:ext cx="371484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это механическая  прялка с ножным приводом. Педаль приводила в движение колесо и катушку, на которую наматывалась готовая пряж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71840" y="1714320"/>
            <a:ext cx="40003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SDC11680"/>
          <p:cNvPicPr/>
          <p:nvPr/>
        </p:nvPicPr>
        <p:blipFill>
          <a:blip r:embed="rId1"/>
          <a:stretch/>
        </p:blipFill>
        <p:spPr>
          <a:xfrm>
            <a:off x="2556000" y="1785960"/>
            <a:ext cx="3952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1"/>
          <p:cNvSpPr/>
          <p:nvPr/>
        </p:nvSpPr>
        <p:spPr>
          <a:xfrm>
            <a:off x="1547640" y="82548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уальность исследования:  возрождение и приобщение детей к народным промыс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3" descr="SDC11665"/>
          <p:cNvPicPr/>
          <p:nvPr/>
        </p:nvPicPr>
        <p:blipFill>
          <a:blip r:embed="rId1"/>
          <a:stretch/>
        </p:blipFill>
        <p:spPr>
          <a:xfrm>
            <a:off x="2771640" y="2276640"/>
            <a:ext cx="329436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Перед тем, как прясть, необходимо волокно очистить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904760"/>
            <a:ext cx="64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SDC11682"/>
          <p:cNvPicPr/>
          <p:nvPr/>
        </p:nvPicPr>
        <p:blipFill>
          <a:blip r:embed="rId1"/>
          <a:stretch/>
        </p:blipFill>
        <p:spPr>
          <a:xfrm>
            <a:off x="1000080" y="1916280"/>
            <a:ext cx="6858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откуда берутся волокна?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Классификация волокон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4487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SDC11683"/>
          <p:cNvPicPr/>
          <p:nvPr/>
        </p:nvPicPr>
        <p:blipFill>
          <a:blip r:embed="rId1"/>
          <a:stretch/>
        </p:blipFill>
        <p:spPr>
          <a:xfrm>
            <a:off x="928800" y="1928880"/>
            <a:ext cx="7500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Хлопок – натуральное волокно раститель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77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SDC11684"/>
          <p:cNvPicPr/>
          <p:nvPr/>
        </p:nvPicPr>
        <p:blipFill>
          <a:blip r:embed="rId1"/>
          <a:stretch/>
        </p:blipFill>
        <p:spPr>
          <a:xfrm>
            <a:off x="857160" y="1857240"/>
            <a:ext cx="7786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Лен – натуральное волокно раститель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77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DC11686"/>
          <p:cNvPicPr/>
          <p:nvPr/>
        </p:nvPicPr>
        <p:blipFill>
          <a:blip r:embed="rId1"/>
          <a:stretch/>
        </p:blipFill>
        <p:spPr>
          <a:xfrm>
            <a:off x="928800" y="2000160"/>
            <a:ext cx="7715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Шерсть – натуральное волокно живот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28440" y="1857240"/>
            <a:ext cx="74293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SDC11688"/>
          <p:cNvPicPr/>
          <p:nvPr/>
        </p:nvPicPr>
        <p:blipFill>
          <a:blip r:embed="rId1"/>
          <a:stretch/>
        </p:blipFill>
        <p:spPr>
          <a:xfrm>
            <a:off x="714240" y="1500120"/>
            <a:ext cx="7786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Шелк – натуральное волокно живот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99760" y="1904760"/>
            <a:ext cx="59295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SDC11687"/>
          <p:cNvPicPr/>
          <p:nvPr/>
        </p:nvPicPr>
        <p:blipFill>
          <a:blip r:embed="rId1"/>
          <a:stretch/>
        </p:blipFill>
        <p:spPr>
          <a:xfrm>
            <a:off x="785880" y="1857240"/>
            <a:ext cx="75009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Так разрыхляют и треплют волокн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1071720"/>
            <a:ext cx="84294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SDC11711"/>
          <p:cNvPicPr/>
          <p:nvPr/>
        </p:nvPicPr>
        <p:blipFill>
          <a:blip r:embed="rId1"/>
          <a:stretch/>
        </p:blipFill>
        <p:spPr>
          <a:xfrm>
            <a:off x="324000" y="1106640"/>
            <a:ext cx="83883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тем ческами чешут волокн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058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SDC11700"/>
          <p:cNvPicPr/>
          <p:nvPr/>
        </p:nvPicPr>
        <p:blipFill>
          <a:blip r:embed="rId1"/>
          <a:stretch/>
        </p:blipFill>
        <p:spPr>
          <a:xfrm>
            <a:off x="826920" y="1882800"/>
            <a:ext cx="3732480" cy="476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SDC11701"/>
          <p:cNvPicPr/>
          <p:nvPr/>
        </p:nvPicPr>
        <p:blipFill>
          <a:blip r:embed="rId2"/>
          <a:stretch/>
        </p:blipFill>
        <p:spPr>
          <a:xfrm>
            <a:off x="4932360" y="1882800"/>
            <a:ext cx="3732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ядение на прялке –занятие не из легких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571760"/>
            <a:ext cx="77346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SDC11704"/>
          <p:cNvPicPr/>
          <p:nvPr/>
        </p:nvPicPr>
        <p:blipFill>
          <a:blip r:embed="rId1"/>
          <a:stretch/>
        </p:blipFill>
        <p:spPr>
          <a:xfrm>
            <a:off x="857160" y="1628640"/>
            <a:ext cx="3630600" cy="4975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DC11705"/>
          <p:cNvPicPr/>
          <p:nvPr/>
        </p:nvPicPr>
        <p:blipFill>
          <a:blip r:embed="rId2"/>
          <a:stretch/>
        </p:blipFill>
        <p:spPr>
          <a:xfrm>
            <a:off x="5286240" y="1628640"/>
            <a:ext cx="3305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ядение на веретен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Picture 5" descr="SDC11709"/>
          <p:cNvPicPr/>
          <p:nvPr/>
        </p:nvPicPr>
        <p:blipFill>
          <a:blip r:embed="rId1"/>
          <a:stretch/>
        </p:blipFill>
        <p:spPr>
          <a:xfrm>
            <a:off x="357120" y="1785960"/>
            <a:ext cx="5143680" cy="459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SDC11710"/>
          <p:cNvPicPr/>
          <p:nvPr/>
        </p:nvPicPr>
        <p:blipFill>
          <a:blip r:embed="rId2"/>
          <a:stretch/>
        </p:blipFill>
        <p:spPr>
          <a:xfrm>
            <a:off x="5857920" y="1857240"/>
            <a:ext cx="2928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редмет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и инструменты, применяемые при ткачестве и прядении ни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лектрическая прялк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071440" y="1499760"/>
            <a:ext cx="4143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SDC11738"/>
          <p:cNvPicPr/>
          <p:nvPr/>
        </p:nvPicPr>
        <p:blipFill>
          <a:blip r:embed="rId1"/>
          <a:stretch/>
        </p:blipFill>
        <p:spPr>
          <a:xfrm>
            <a:off x="2143080" y="1528920"/>
            <a:ext cx="40719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Ткачество – процесс увлекательный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357200"/>
            <a:ext cx="72151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SDC11742"/>
          <p:cNvPicPr/>
          <p:nvPr/>
        </p:nvPicPr>
        <p:blipFill>
          <a:blip r:embed="rId1"/>
          <a:stretch/>
        </p:blipFill>
        <p:spPr>
          <a:xfrm>
            <a:off x="971640" y="1428840"/>
            <a:ext cx="72007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дость от работы налиц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6840" y="1356840"/>
            <a:ext cx="6929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SDC11743"/>
          <p:cNvPicPr/>
          <p:nvPr/>
        </p:nvPicPr>
        <p:blipFill>
          <a:blip r:embed="rId1"/>
          <a:stretch/>
        </p:blipFill>
        <p:spPr>
          <a:xfrm>
            <a:off x="714240" y="1357200"/>
            <a:ext cx="7756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о чего же загадочен мир нитей и тканей!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56880" y="1904760"/>
            <a:ext cx="5072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SDC11735"/>
          <p:cNvPicPr/>
          <p:nvPr/>
        </p:nvPicPr>
        <p:blipFill>
          <a:blip r:embed="rId1"/>
          <a:stretch/>
        </p:blipFill>
        <p:spPr>
          <a:xfrm>
            <a:off x="785880" y="1500120"/>
            <a:ext cx="7643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 какие вопросы предстоит ответить?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чего прядут пряж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получения пряжи и ни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бывают прял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станки необходимы для изготовления тка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ификация волоко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ак всё начиналось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ение русских сказ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труктуры тк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ение краеведческого музе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Киселёв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 специальной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ресурсов Интерн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 …дочка у него славная рукодельница и может даже из плохого волокна  напрясть хорошей пряжи, а из плохой пряжи - наткать хорошего полотна.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0200" y="1785600"/>
            <a:ext cx="4143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DC11622"/>
          <p:cNvPicPr/>
          <p:nvPr/>
        </p:nvPicPr>
        <p:blipFill>
          <a:blip r:embed="rId1"/>
          <a:stretch/>
        </p:blipFill>
        <p:spPr>
          <a:xfrm>
            <a:off x="2571840" y="1857240"/>
            <a:ext cx="407196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«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ри девицы под окном пряли поздно вечерком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0080" y="164268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SDC11635"/>
          <p:cNvPicPr/>
          <p:nvPr/>
        </p:nvPicPr>
        <p:blipFill>
          <a:blip r:embed="rId1"/>
          <a:stretch/>
        </p:blipFill>
        <p:spPr>
          <a:xfrm>
            <a:off x="1071720" y="1700280"/>
            <a:ext cx="735804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SDC11628"/>
          <p:cNvPicPr/>
          <p:nvPr/>
        </p:nvPicPr>
        <p:blipFill>
          <a:blip r:embed="rId1"/>
          <a:stretch/>
        </p:blipFill>
        <p:spPr>
          <a:xfrm>
            <a:off x="2916360" y="2205000"/>
            <a:ext cx="3078000" cy="4103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195640" y="907920"/>
            <a:ext cx="496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84360" y="76500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м в тесной каморке сидела за прялкой какая- то старушка и напевая преспокойно пряла пряж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 Старик ловил неводом рыбу , старуха пряла свою пряжу…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SDC11643"/>
          <p:cNvPicPr/>
          <p:nvPr/>
        </p:nvPicPr>
        <p:blipFill>
          <a:blip r:embed="rId1"/>
          <a:stretch/>
        </p:blipFill>
        <p:spPr>
          <a:xfrm>
            <a:off x="857160" y="1857240"/>
            <a:ext cx="7858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4:04:44Z</dcterms:created>
  <dc:creator>ТАТЬЯНА</dc:creator>
  <dc:description/>
  <dc:language>en-US</dc:language>
  <cp:lastModifiedBy>User</cp:lastModifiedBy>
  <dcterms:modified xsi:type="dcterms:W3CDTF">2018-11-18T07:30:44Z</dcterms:modified>
  <cp:revision>32</cp:revision>
  <dc:subject/>
  <dc:title>Муниципальное образовательное учреждение дополнительного образования детей   « Дом детского творчества»</dc:title>
</cp:coreProperties>
</file>