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EC7-0F4C-47E6-A8DD-18540815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E34-D0B9-4B11-97BC-348A947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144-7C8A-41DC-B884-7FAEE778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CBB-3D78-4AF8-8ECD-2C943566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FB40-263B-45BF-BB10-68D018AF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9C0-F4B0-4AF5-BB20-D3DEDC5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E06-56FB-4172-AAD8-553DB884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0F8-378E-4404-95B6-B6441535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115-C855-40D6-A7DA-31F6FC4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99D-A4A8-4DA1-ACFE-BC8D889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772-74A0-4D06-A115-1A7195E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4DB-D581-47B9-9721-E539B36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0414-C104-4765-A10C-53A3EEA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B102-6845-4D9B-B075-766A78D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DE2-BE14-44E2-ABC0-69C892C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411D-E06C-44FD-B735-D592A553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5DD-6C0C-4287-B898-6A0C868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40E-7342-46DD-BF3D-7EC671E7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865-2710-4A59-B38B-7ED999D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961-E93B-4103-B948-39C22C9A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3B5-43CB-4E5B-99AC-1317ABE2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448-2B9C-4563-B5C0-8B17710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E32-2EF9-4156-83B2-7763A45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E3F-86E8-4C40-BA67-8048A98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AF3-7AD8-450E-933E-01DD4507A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AD5-8FD5-4CFC-B28F-A6F7B0B57C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Муниципальное  бюджет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дополнительного образования  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« Дом детского творчества»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 исследователь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к нити прядут и ткани ткут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ры: Поступинская Дарья  10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харева Татьяна 9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ата Светлана, 11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щиеся т.о. «Золуш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оводитель: Лата Татьяна Николае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как нити прядут и ткани ткут?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Моя работа заинтересовала и моих подруг, и они принялись мне помогать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520" y="1785960"/>
            <a:ext cx="764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SDC11659"/>
          <p:cNvPicPr/>
          <p:nvPr/>
        </p:nvPicPr>
        <p:blipFill>
          <a:blip r:embed="rId1"/>
          <a:stretch/>
        </p:blipFill>
        <p:spPr>
          <a:xfrm>
            <a:off x="857160" y="1857240"/>
            <a:ext cx="75009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осло число вопросов и подруг, заинтересовавшихся этой работо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SDC11658"/>
          <p:cNvPicPr/>
          <p:nvPr/>
        </p:nvPicPr>
        <p:blipFill>
          <a:blip r:embed="rId1"/>
          <a:stretch/>
        </p:blipFill>
        <p:spPr>
          <a:xfrm>
            <a:off x="642960" y="1928880"/>
            <a:ext cx="8215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колько на свете разных изделий из нитей!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1905120"/>
            <a:ext cx="83455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SDC11698"/>
          <p:cNvPicPr/>
          <p:nvPr/>
        </p:nvPicPr>
        <p:blipFill>
          <a:blip r:embed="rId1"/>
          <a:stretch/>
        </p:blipFill>
        <p:spPr>
          <a:xfrm>
            <a:off x="5076720" y="1857240"/>
            <a:ext cx="3710160" cy="39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DC11694"/>
          <p:cNvPicPr/>
          <p:nvPr/>
        </p:nvPicPr>
        <p:blipFill>
          <a:blip r:embed="rId2"/>
          <a:stretch/>
        </p:blipFill>
        <p:spPr>
          <a:xfrm>
            <a:off x="571680" y="1857240"/>
            <a:ext cx="41446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Самый первый ткацкий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станок появился в глубокой древности,  за 5 – тысяч лет до н. э.</a:t>
            </a:r>
            <a:r>
              <a:rPr b="0" lang="ru-RU" sz="2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428840"/>
            <a:ext cx="78868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SDC11666"/>
          <p:cNvPicPr/>
          <p:nvPr/>
        </p:nvPicPr>
        <p:blipFill>
          <a:blip r:embed="rId1"/>
          <a:stretch/>
        </p:blipFill>
        <p:spPr>
          <a:xfrm>
            <a:off x="928800" y="1341360"/>
            <a:ext cx="7858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Times New Roman"/>
              </a:rPr>
              <a:t>В 1785 году английский изобретатель Э. Картрайт  создал механический ткацкий станок с ножным приводом. Он выглядел так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8480" y="1714320"/>
            <a:ext cx="47862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SDC11365"/>
          <p:cNvPicPr/>
          <p:nvPr/>
        </p:nvPicPr>
        <p:blipFill>
          <a:blip r:embed="rId1"/>
          <a:stretch/>
        </p:blipFill>
        <p:spPr>
          <a:xfrm>
            <a:off x="1500120" y="1785960"/>
            <a:ext cx="4714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вот как ткани ткут.  Продольные нити поднимаются и опускаются решетками. А в просветы между ними, летают челнок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SDC11670"/>
          <p:cNvPicPr/>
          <p:nvPr/>
        </p:nvPicPr>
        <p:blipFill>
          <a:blip r:embed="rId1"/>
          <a:stretch/>
        </p:blipFill>
        <p:spPr>
          <a:xfrm>
            <a:off x="785880" y="1916280"/>
            <a:ext cx="7500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Челнок  тянет за собой нить, намотанную на катушке внутри челнока , и , проходя между нитями, образует переплетение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SDC11674"/>
          <p:cNvPicPr/>
          <p:nvPr/>
        </p:nvPicPr>
        <p:blipFill>
          <a:blip r:embed="rId1"/>
          <a:stretch/>
        </p:blipFill>
        <p:spPr>
          <a:xfrm>
            <a:off x="1332000" y="1782720"/>
            <a:ext cx="64706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 откуда нити берутся?  Процесс, в результате которого из волокон получают нить, называют прядением.                                                     Так пряли в древности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66288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SDC11675"/>
          <p:cNvPicPr/>
          <p:nvPr/>
        </p:nvPicPr>
        <p:blipFill>
          <a:blip r:embed="rId1"/>
          <a:srcRect l="0" t="-3217" r="0" b="0"/>
          <a:stretch/>
        </p:blipFill>
        <p:spPr>
          <a:xfrm>
            <a:off x="642960" y="1785960"/>
            <a:ext cx="7215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 старину нить тоже скручивали и наматывали на веретено 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олокно крепилось на прялк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SDC11676"/>
          <p:cNvPicPr/>
          <p:nvPr/>
        </p:nvPicPr>
        <p:blipFill>
          <a:blip r:embed="rId1"/>
          <a:stretch/>
        </p:blipFill>
        <p:spPr>
          <a:xfrm>
            <a:off x="357120" y="1857240"/>
            <a:ext cx="4071960" cy="478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SDC11678"/>
          <p:cNvPicPr/>
          <p:nvPr/>
        </p:nvPicPr>
        <p:blipFill>
          <a:blip r:embed="rId2"/>
          <a:stretch/>
        </p:blipFill>
        <p:spPr>
          <a:xfrm>
            <a:off x="4857840" y="1844640"/>
            <a:ext cx="3714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это механическая  прялка с ножным приводом. Педаль приводила в движение колесо и катушку, на которую наматывалась готовая пряж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71840" y="1714320"/>
            <a:ext cx="40003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SDC11680"/>
          <p:cNvPicPr/>
          <p:nvPr/>
        </p:nvPicPr>
        <p:blipFill>
          <a:blip r:embed="rId1"/>
          <a:stretch/>
        </p:blipFill>
        <p:spPr>
          <a:xfrm>
            <a:off x="2556000" y="1785960"/>
            <a:ext cx="3952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1"/>
          <p:cNvSpPr/>
          <p:nvPr/>
        </p:nvSpPr>
        <p:spPr>
          <a:xfrm>
            <a:off x="1547640" y="82548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уальность исследования:  возрождение и приобщение детей к народным промыс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3" descr="SDC11665"/>
          <p:cNvPicPr/>
          <p:nvPr/>
        </p:nvPicPr>
        <p:blipFill>
          <a:blip r:embed="rId1"/>
          <a:stretch/>
        </p:blipFill>
        <p:spPr>
          <a:xfrm>
            <a:off x="2771640" y="2276640"/>
            <a:ext cx="329436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Перед тем, как прясть, необходимо волокно очистить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904760"/>
            <a:ext cx="64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SDC11682"/>
          <p:cNvPicPr/>
          <p:nvPr/>
        </p:nvPicPr>
        <p:blipFill>
          <a:blip r:embed="rId1"/>
          <a:stretch/>
        </p:blipFill>
        <p:spPr>
          <a:xfrm>
            <a:off x="1000080" y="1916280"/>
            <a:ext cx="6858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 откуда берутся волокна?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Классификация волокон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4487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SDC11683"/>
          <p:cNvPicPr/>
          <p:nvPr/>
        </p:nvPicPr>
        <p:blipFill>
          <a:blip r:embed="rId1"/>
          <a:stretch/>
        </p:blipFill>
        <p:spPr>
          <a:xfrm>
            <a:off x="928800" y="1928880"/>
            <a:ext cx="7500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Хлопок – натуральное волокно раститель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77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SDC11684"/>
          <p:cNvPicPr/>
          <p:nvPr/>
        </p:nvPicPr>
        <p:blipFill>
          <a:blip r:embed="rId1"/>
          <a:stretch/>
        </p:blipFill>
        <p:spPr>
          <a:xfrm>
            <a:off x="857160" y="1857240"/>
            <a:ext cx="7786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Лен – натуральное волокно раститель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77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DC11686"/>
          <p:cNvPicPr/>
          <p:nvPr/>
        </p:nvPicPr>
        <p:blipFill>
          <a:blip r:embed="rId1"/>
          <a:stretch/>
        </p:blipFill>
        <p:spPr>
          <a:xfrm>
            <a:off x="928800" y="2000160"/>
            <a:ext cx="7715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Шерсть – натуральное волокно живот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28440" y="1857240"/>
            <a:ext cx="742932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SDC11688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Шелк – натуральное волокно животного происхожде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99760" y="1904760"/>
            <a:ext cx="59295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SDC11687"/>
          <p:cNvPicPr/>
          <p:nvPr/>
        </p:nvPicPr>
        <p:blipFill>
          <a:blip r:embed="rId1"/>
          <a:stretch/>
        </p:blipFill>
        <p:spPr>
          <a:xfrm>
            <a:off x="785880" y="1857240"/>
            <a:ext cx="7500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Так разрыхляют и треплют волокн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1071720"/>
            <a:ext cx="84294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SDC11711"/>
          <p:cNvPicPr/>
          <p:nvPr/>
        </p:nvPicPr>
        <p:blipFill>
          <a:blip r:embed="rId1"/>
          <a:stretch/>
        </p:blipFill>
        <p:spPr>
          <a:xfrm>
            <a:off x="324000" y="1106640"/>
            <a:ext cx="83883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тем ческами чешут волокн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058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SDC11700"/>
          <p:cNvPicPr/>
          <p:nvPr/>
        </p:nvPicPr>
        <p:blipFill>
          <a:blip r:embed="rId1"/>
          <a:stretch/>
        </p:blipFill>
        <p:spPr>
          <a:xfrm>
            <a:off x="826920" y="1882800"/>
            <a:ext cx="3732480" cy="476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SDC11701"/>
          <p:cNvPicPr/>
          <p:nvPr/>
        </p:nvPicPr>
        <p:blipFill>
          <a:blip r:embed="rId2"/>
          <a:stretch/>
        </p:blipFill>
        <p:spPr>
          <a:xfrm>
            <a:off x="4932360" y="1882800"/>
            <a:ext cx="3732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ядение на прялке –занятие не из легки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571760"/>
            <a:ext cx="77346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SDC11704"/>
          <p:cNvPicPr/>
          <p:nvPr/>
        </p:nvPicPr>
        <p:blipFill>
          <a:blip r:embed="rId1"/>
          <a:stretch/>
        </p:blipFill>
        <p:spPr>
          <a:xfrm>
            <a:off x="857160" y="1628640"/>
            <a:ext cx="3630600" cy="4975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DC11705"/>
          <p:cNvPicPr/>
          <p:nvPr/>
        </p:nvPicPr>
        <p:blipFill>
          <a:blip r:embed="rId2"/>
          <a:stretch/>
        </p:blipFill>
        <p:spPr>
          <a:xfrm>
            <a:off x="5286240" y="1628640"/>
            <a:ext cx="3305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ядение на веретен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Picture 5" descr="SDC11709"/>
          <p:cNvPicPr/>
          <p:nvPr/>
        </p:nvPicPr>
        <p:blipFill>
          <a:blip r:embed="rId1"/>
          <a:stretch/>
        </p:blipFill>
        <p:spPr>
          <a:xfrm>
            <a:off x="357120" y="1785960"/>
            <a:ext cx="5143680" cy="459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SDC11710"/>
          <p:cNvPicPr/>
          <p:nvPr/>
        </p:nvPicPr>
        <p:blipFill>
          <a:blip r:embed="rId2"/>
          <a:stretch/>
        </p:blipFill>
        <p:spPr>
          <a:xfrm>
            <a:off x="5857920" y="1857240"/>
            <a:ext cx="2928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едмет исследовани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и инструменты, применяемые при ткачестве и прядении ни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лектрическая прял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071440" y="1499760"/>
            <a:ext cx="4143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SDC11738"/>
          <p:cNvPicPr/>
          <p:nvPr/>
        </p:nvPicPr>
        <p:blipFill>
          <a:blip r:embed="rId1"/>
          <a:stretch/>
        </p:blipFill>
        <p:spPr>
          <a:xfrm>
            <a:off x="2143080" y="1528920"/>
            <a:ext cx="40719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Ткачество – процесс увлекательный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357200"/>
            <a:ext cx="72151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SDC11742"/>
          <p:cNvPicPr/>
          <p:nvPr/>
        </p:nvPicPr>
        <p:blipFill>
          <a:blip r:embed="rId1"/>
          <a:stretch/>
        </p:blipFill>
        <p:spPr>
          <a:xfrm>
            <a:off x="971640" y="1428840"/>
            <a:ext cx="72007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дость от работы налиц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6840" y="1356840"/>
            <a:ext cx="6929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SDC11743"/>
          <p:cNvPicPr/>
          <p:nvPr/>
        </p:nvPicPr>
        <p:blipFill>
          <a:blip r:embed="rId1"/>
          <a:stretch/>
        </p:blipFill>
        <p:spPr>
          <a:xfrm>
            <a:off x="714240" y="1357200"/>
            <a:ext cx="7756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о чего же загадочен мир нитей и тканей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856880" y="1904760"/>
            <a:ext cx="507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SDC11735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 какие вопросы предстоит ответить?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чего прядут пряж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получения пряжи и ни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бывают прял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станки необходимы для изготовления ткан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ификация волоко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ак всё начиналось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ение русских сказ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труктуры тк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ение краеведческого музе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Киселёв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 специальной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ресурсов Интерн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 …дочка у него славная рукодельница и может даже из плохого волокна  напрясть хорошей пряжи, а из плохой пряжи - наткать хорошего полотна.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0200" y="1785600"/>
            <a:ext cx="4143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DC11622"/>
          <p:cNvPicPr/>
          <p:nvPr/>
        </p:nvPicPr>
        <p:blipFill>
          <a:blip r:embed="rId1"/>
          <a:stretch/>
        </p:blipFill>
        <p:spPr>
          <a:xfrm>
            <a:off x="2571840" y="1857240"/>
            <a:ext cx="407196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«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ри девицы под окном пряли поздно вечерком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0080" y="164268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SDC11635"/>
          <p:cNvPicPr/>
          <p:nvPr/>
        </p:nvPicPr>
        <p:blipFill>
          <a:blip r:embed="rId1"/>
          <a:stretch/>
        </p:blipFill>
        <p:spPr>
          <a:xfrm>
            <a:off x="1071720" y="1700280"/>
            <a:ext cx="735804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DC11628"/>
          <p:cNvPicPr/>
          <p:nvPr/>
        </p:nvPicPr>
        <p:blipFill>
          <a:blip r:embed="rId1"/>
          <a:stretch/>
        </p:blipFill>
        <p:spPr>
          <a:xfrm>
            <a:off x="2916360" y="2205000"/>
            <a:ext cx="3078000" cy="4103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195640" y="907920"/>
            <a:ext cx="496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84360" y="76500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м в тесной каморке сидела за прялкой какая- то старушка и напевая преспокойно пряла пряж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 Старик ловил неводом рыбу , старуха пряла свою пряжу…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SDC11643"/>
          <p:cNvPicPr/>
          <p:nvPr/>
        </p:nvPicPr>
        <p:blipFill>
          <a:blip r:embed="rId1"/>
          <a:stretch/>
        </p:blipFill>
        <p:spPr>
          <a:xfrm>
            <a:off x="857160" y="1857240"/>
            <a:ext cx="7858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4:04:44Z</dcterms:created>
  <dc:creator>ТАТЬЯНА</dc:creator>
  <dc:description/>
  <dc:language>en-US</dc:language>
  <cp:lastModifiedBy>User</cp:lastModifiedBy>
  <dcterms:modified xsi:type="dcterms:W3CDTF">2018-11-18T07:30:44Z</dcterms:modified>
  <cp:revision>32</cp:revision>
  <dc:subject/>
  <dc:title>Муниципальное образовательное учреждение дополнительного образования детей   « Дом детского творчества»</dc:title>
</cp:coreProperties>
</file>