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0.png" ContentType="image/png"/>
  <Override PartName="/ppt/media/image2.jpeg" ContentType="image/jpeg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9.jpeg" ContentType="image/jpeg"/>
  <Override PartName="/ppt/media/image14.jpeg" ContentType="image/jpeg"/>
  <Override PartName="/ppt/media/image5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B02-7BBB-4F8A-9C6E-3750785C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76A-7677-4E3A-BEDE-5C6B95F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9DD-F6D2-4FA4-8884-EF112F79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675-DB71-4637-BA17-62D15D98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E2A-68D9-4AAD-A68E-7C54774C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264-4B85-4901-8A7F-9EB267FF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29F-21B8-4C78-BDA0-D1731DA0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70F-61F2-4005-930C-E3F12BDC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F4C-DC51-4A2B-86CF-9E46D83C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A13-1D42-4298-A239-55CDE493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7ED-4B00-4DB0-BE92-45DB407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6DD-42EF-478F-8C55-E1949561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8eb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48eb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48eb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210A-5823-4A2C-9546-E1294AAF740F}" type="slidenum">
              <a:rPr b="0" lang="ru-RU" sz="1200" spc="-1" strike="noStrike">
                <a:solidFill>
                  <a:srgbClr val="a48eb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11.pn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17375e"/>
                </a:solidFill>
                <a:latin typeface="Century"/>
              </a:rPr>
              <a:t>Решение задач </a:t>
            </a:r>
            <a:br>
              <a:rPr sz="5400"/>
            </a:br>
            <a:r>
              <a:rPr b="1" lang="ru-RU" sz="5400" spc="-1" strike="noStrike">
                <a:solidFill>
                  <a:srgbClr val="17375e"/>
                </a:solidFill>
                <a:latin typeface="Century"/>
              </a:rPr>
              <a:t>на разностное и </a:t>
            </a:r>
            <a:br>
              <a:rPr sz="5400"/>
            </a:br>
            <a:r>
              <a:rPr b="1" lang="ru-RU" sz="5400" spc="-1" strike="noStrike">
                <a:solidFill>
                  <a:srgbClr val="17375e"/>
                </a:solidFill>
                <a:latin typeface="Century"/>
              </a:rPr>
              <a:t>кратное сравнение</a:t>
            </a:r>
            <a:endParaRPr b="0" lang="en-US" sz="5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7020000" y="4927680"/>
            <a:ext cx="2124000" cy="193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Объект 10" descr=""/>
          <p:cNvPicPr/>
          <p:nvPr/>
        </p:nvPicPr>
        <p:blipFill>
          <a:blip r:embed="rId12"/>
          <a:srcRect l="0" t="0" r="-45" b="-784"/>
          <a:stretch/>
        </p:blipFill>
        <p:spPr>
          <a:xfrm>
            <a:off x="8520120" y="2060640"/>
            <a:ext cx="46080" cy="600120"/>
          </a:xfrm>
          <a:prstGeom prst="rect">
            <a:avLst/>
          </a:prstGeom>
          <a:ln w="0">
            <a:noFill/>
          </a:ln>
        </p:spPr>
      </p:pic>
      <p:pic>
        <p:nvPicPr>
          <p:cNvPr id="168" name="Объект 10" descr=""/>
          <p:cNvPicPr/>
          <p:nvPr/>
        </p:nvPicPr>
        <p:blipFill>
          <a:blip r:embed="rId13"/>
          <a:stretch/>
        </p:blipFill>
        <p:spPr>
          <a:xfrm>
            <a:off x="7643880" y="3168720"/>
            <a:ext cx="46080" cy="460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4"/>
          <p:cNvSpPr/>
          <p:nvPr/>
        </p:nvSpPr>
        <p:spPr>
          <a:xfrm>
            <a:off x="611280" y="1844640"/>
            <a:ext cx="81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" name="Овал 17"/>
          <p:cNvSpPr/>
          <p:nvPr/>
        </p:nvSpPr>
        <p:spPr>
          <a:xfrm>
            <a:off x="0" y="1844640"/>
            <a:ext cx="8748720" cy="3168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бушка посадила весной 8 кг картофеля, а осенью собрала 40 кг.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7020000" y="4927680"/>
            <a:ext cx="2124000" cy="1930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Объект 10" descr=""/>
          <p:cNvPicPr/>
          <p:nvPr/>
        </p:nvPicPr>
        <p:blipFill>
          <a:blip r:embed="rId12"/>
          <a:srcRect l="0" t="0" r="-45" b="-784"/>
          <a:stretch/>
        </p:blipFill>
        <p:spPr>
          <a:xfrm>
            <a:off x="8520120" y="2060640"/>
            <a:ext cx="46080" cy="600120"/>
          </a:xfrm>
          <a:prstGeom prst="rect">
            <a:avLst/>
          </a:prstGeom>
          <a:ln w="0">
            <a:noFill/>
          </a:ln>
        </p:spPr>
      </p:pic>
      <p:pic>
        <p:nvPicPr>
          <p:cNvPr id="183" name="Объект 10" descr=""/>
          <p:cNvPicPr/>
          <p:nvPr/>
        </p:nvPicPr>
        <p:blipFill>
          <a:blip r:embed="rId13"/>
          <a:stretch/>
        </p:blipFill>
        <p:spPr>
          <a:xfrm>
            <a:off x="7643880" y="3168720"/>
            <a:ext cx="46080" cy="46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4"/>
          <p:cNvSpPr/>
          <p:nvPr/>
        </p:nvSpPr>
        <p:spPr>
          <a:xfrm>
            <a:off x="611280" y="1844640"/>
            <a:ext cx="81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" name="Овал 17"/>
          <p:cNvSpPr/>
          <p:nvPr/>
        </p:nvSpPr>
        <p:spPr>
          <a:xfrm>
            <a:off x="0" y="1916280"/>
            <a:ext cx="8748720" cy="3168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. – 8 кг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 – 40 кг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2357280" y="214200"/>
            <a:ext cx="1357560" cy="876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7020000" y="4927680"/>
            <a:ext cx="2124000" cy="1930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Объект 10" descr=""/>
          <p:cNvPicPr/>
          <p:nvPr/>
        </p:nvPicPr>
        <p:blipFill>
          <a:blip r:embed="rId12"/>
          <a:srcRect l="0" t="0" r="-45" b="-784"/>
          <a:stretch/>
        </p:blipFill>
        <p:spPr>
          <a:xfrm>
            <a:off x="8520120" y="2060640"/>
            <a:ext cx="46080" cy="600120"/>
          </a:xfrm>
          <a:prstGeom prst="rect">
            <a:avLst/>
          </a:prstGeom>
          <a:ln w="0">
            <a:noFill/>
          </a:ln>
        </p:spPr>
      </p:pic>
      <p:pic>
        <p:nvPicPr>
          <p:cNvPr id="198" name="Объект 10" descr=""/>
          <p:cNvPicPr/>
          <p:nvPr/>
        </p:nvPicPr>
        <p:blipFill>
          <a:blip r:embed="rId13"/>
          <a:stretch/>
        </p:blipFill>
        <p:spPr>
          <a:xfrm>
            <a:off x="7643880" y="3168720"/>
            <a:ext cx="46080" cy="460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1 в.                             2 в.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557000"/>
            <a:ext cx="44956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1" name="Овал 22"/>
          <p:cNvSpPr/>
          <p:nvPr/>
        </p:nvSpPr>
        <p:spPr>
          <a:xfrm>
            <a:off x="0" y="1557360"/>
            <a:ext cx="4356000" cy="3166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 сколько раз  больше собрала бабушка картофеля, чем посадила?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Содержимое 19"/>
          <p:cNvSpPr/>
          <p:nvPr/>
        </p:nvSpPr>
        <p:spPr>
          <a:xfrm>
            <a:off x="4643280" y="1628640"/>
            <a:ext cx="40388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4" name="Овал 30"/>
          <p:cNvSpPr/>
          <p:nvPr/>
        </p:nvSpPr>
        <p:spPr>
          <a:xfrm>
            <a:off x="4356000" y="1557360"/>
            <a:ext cx="4537080" cy="3168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сколько кг  больше собрала бабушка картофеля, чем посадила?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05" name="Picture 4" descr="http://kopilkaurokov.ru/uploads/user_file_55ade182ec894/didaktichieskii-matierial-na-otrabotku-lieksiki-po-tiemie-food_5.jpeg"/>
          <p:cNvPicPr/>
          <p:nvPr/>
        </p:nvPicPr>
        <p:blipFill>
          <a:blip r:embed="rId14"/>
          <a:stretch/>
        </p:blipFill>
        <p:spPr>
          <a:xfrm>
            <a:off x="6797520" y="5013360"/>
            <a:ext cx="2346480" cy="1844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images.easyfreeclipart.com/1059/illustration-du-support-de-bande-dessin233e-chef-pomme-terre--1059774.jpg"/>
          <p:cNvPicPr/>
          <p:nvPr/>
        </p:nvPicPr>
        <p:blipFill>
          <a:blip r:embed="rId15"/>
          <a:stretch/>
        </p:blipFill>
        <p:spPr>
          <a:xfrm>
            <a:off x="0" y="4941720"/>
            <a:ext cx="2340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1476360" y="214200"/>
            <a:ext cx="6048360" cy="876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7020000" y="4927680"/>
            <a:ext cx="2124000" cy="1930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10" descr=""/>
          <p:cNvPicPr/>
          <p:nvPr/>
        </p:nvPicPr>
        <p:blipFill>
          <a:blip r:embed="rId12"/>
          <a:srcRect l="0" t="0" r="-45" b="-784"/>
          <a:stretch/>
        </p:blipFill>
        <p:spPr>
          <a:xfrm>
            <a:off x="8520120" y="2060640"/>
            <a:ext cx="46080" cy="600120"/>
          </a:xfrm>
          <a:prstGeom prst="rect">
            <a:avLst/>
          </a:prstGeom>
          <a:ln w="0">
            <a:noFill/>
          </a:ln>
        </p:spPr>
      </p:pic>
      <p:pic>
        <p:nvPicPr>
          <p:cNvPr id="219" name="Объект 10" descr=""/>
          <p:cNvPicPr/>
          <p:nvPr/>
        </p:nvPicPr>
        <p:blipFill>
          <a:blip r:embed="rId13"/>
          <a:stretch/>
        </p:blipFill>
        <p:spPr>
          <a:xfrm>
            <a:off x="7643880" y="31687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220" name="TextBox 14" descr=""/>
          <p:cNvPicPr/>
          <p:nvPr/>
        </p:nvPicPr>
        <p:blipFill>
          <a:blip r:embed="rId14"/>
          <a:stretch/>
        </p:blipFill>
        <p:spPr>
          <a:xfrm>
            <a:off x="176040" y="341280"/>
            <a:ext cx="5840640" cy="3078360"/>
          </a:xfrm>
          <a:prstGeom prst="rect">
            <a:avLst/>
          </a:prstGeom>
          <a:ln w="0">
            <a:noFill/>
          </a:ln>
        </p:spPr>
      </p:pic>
      <p:sp>
        <p:nvSpPr>
          <p:cNvPr id="221" name="Выгнутая вправо стрелка 15"/>
          <p:cNvSpPr/>
          <p:nvPr/>
        </p:nvSpPr>
        <p:spPr>
          <a:xfrm>
            <a:off x="2843280" y="2205000"/>
            <a:ext cx="731880" cy="1360440"/>
          </a:xfrm>
          <a:custGeom>
            <a:avLst/>
            <a:gdLst>
              <a:gd name="textAreaLeft" fmla="*/ 97920 w 731880"/>
              <a:gd name="textAreaRight" fmla="*/ 633960 w 731880"/>
              <a:gd name="textAreaTop" fmla="*/ 271440 h 1360440"/>
              <a:gd name="textAreaBottom" fmla="*/ 997560 h 13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22" stAng="-5400000" swAng="5400000"/>
                <a:lnTo>
                  <a:pt x="21600" y="11526"/>
                </a:lnTo>
                <a:arcTo wR="21600" hR="8622" stAng="0" swAng="3426113"/>
                <a:lnTo>
                  <a:pt x="5400" y="21326"/>
                </a:lnTo>
                <a:lnTo>
                  <a:pt x="0" y="18695"/>
                </a:lnTo>
                <a:lnTo>
                  <a:pt x="5400" y="15516"/>
                </a:lnTo>
                <a:lnTo>
                  <a:pt x="5400" y="16969"/>
                </a:lnTo>
                <a:arcTo wR="21600" hR="8622" stAng="3426113" swAng="-3192034"/>
                <a:lnTo>
                  <a:pt x="21291" y="10074"/>
                </a:lnTo>
                <a:arcTo wR="21600" hR="8622" stAng="-234079" swAng="-5165921"/>
                <a:close/>
              </a:path>
              <a:path fill="darkenLess" w="21600" h="21600">
                <a:moveTo>
                  <a:pt x="0" y="0"/>
                </a:moveTo>
                <a:arcTo wR="21600" hR="8622" stAng="-5400000" swAng="5400000"/>
                <a:lnTo>
                  <a:pt x="21600" y="11526"/>
                </a:lnTo>
                <a:arcTo wR="21600" hR="8622" stAng="0" swAng="-234079"/>
                <a:lnTo>
                  <a:pt x="21291" y="10074"/>
                </a:lnTo>
                <a:arcTo wR="21600" hR="8622" stAng="-234079" swAng="-516592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22" name="Picture 4" descr="http://kopilkaurokov.ru/uploads/user_file_55ade182ec894/didaktichieskii-matierial-na-otrabotku-lieksiki-po-tiemie-food_5.jpeg"/>
          <p:cNvPicPr/>
          <p:nvPr/>
        </p:nvPicPr>
        <p:blipFill>
          <a:blip r:embed="rId15"/>
          <a:stretch/>
        </p:blipFill>
        <p:spPr>
          <a:xfrm>
            <a:off x="6227640" y="1413000"/>
            <a:ext cx="2562480" cy="2736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http://images.easyfreeclipart.com/1059/illustration-du-support-de-bande-dessin233e-chef-pomme-terre--1059774.jpg"/>
          <p:cNvPicPr/>
          <p:nvPr/>
        </p:nvPicPr>
        <p:blipFill>
          <a:blip r:embed="rId16"/>
          <a:stretch/>
        </p:blipFill>
        <p:spPr>
          <a:xfrm>
            <a:off x="0" y="4221000"/>
            <a:ext cx="2627280" cy="22053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8"/>
          <p:cNvSpPr/>
          <p:nvPr/>
        </p:nvSpPr>
        <p:spPr>
          <a:xfrm>
            <a:off x="2556000" y="3860640"/>
            <a:ext cx="4680000" cy="1800360"/>
          </a:xfrm>
          <a:prstGeom prst="rect">
            <a:avLst/>
          </a:prstGeom>
          <a:solidFill>
            <a:srgbClr val="10fcf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0:8= 5 (раз)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в 5 раз больше.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1"/>
          <a:stretch/>
        </p:blipFill>
        <p:spPr>
          <a:xfrm>
            <a:off x="585792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2"/>
          <a:stretch/>
        </p:blipFill>
        <p:spPr>
          <a:xfrm>
            <a:off x="1000080" y="214200"/>
            <a:ext cx="1357200" cy="876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3"/>
          <a:stretch/>
        </p:blipFill>
        <p:spPr>
          <a:xfrm>
            <a:off x="3429000" y="14292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4"/>
          <a:stretch/>
        </p:blipFill>
        <p:spPr>
          <a:xfrm>
            <a:off x="592920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5"/>
          <a:stretch/>
        </p:blipFill>
        <p:spPr>
          <a:xfrm>
            <a:off x="1785960" y="5786280"/>
            <a:ext cx="1357200" cy="876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6"/>
          <a:stretch/>
        </p:blipFill>
        <p:spPr>
          <a:xfrm>
            <a:off x="3500280" y="5715000"/>
            <a:ext cx="1500480" cy="968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7"/>
          <a:stretch/>
        </p:blipFill>
        <p:spPr>
          <a:xfrm>
            <a:off x="700092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8"/>
          <a:stretch/>
        </p:blipFill>
        <p:spPr>
          <a:xfrm>
            <a:off x="1476360" y="214200"/>
            <a:ext cx="6048360" cy="876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:\Documents and Settings\Aida\Рабочий стол\НОвая ГРАФИКА сборник\КАРТИНКИ СБОРНИК_ школьные\hr5.gif"/>
          <p:cNvPicPr/>
          <p:nvPr/>
        </p:nvPicPr>
        <p:blipFill>
          <a:blip r:embed="rId9"/>
          <a:stretch/>
        </p:blipFill>
        <p:spPr>
          <a:xfrm>
            <a:off x="4572000" y="214200"/>
            <a:ext cx="1500120" cy="968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:\Documents and Settings\Aida\Рабочий стол\НОвая ГРАФИКА сборник\boy07.gif"/>
          <p:cNvPicPr/>
          <p:nvPr/>
        </p:nvPicPr>
        <p:blipFill>
          <a:blip r:embed="rId10"/>
          <a:stretch/>
        </p:blipFill>
        <p:spPr>
          <a:xfrm>
            <a:off x="7020000" y="4927680"/>
            <a:ext cx="2124000" cy="1930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H:\Documents and Settings\Aida\Рабочий стол\НОвая ГРАФИКА сборник\КАРТИНКИ СБОРНИК_ школьные\c31.gif"/>
          <p:cNvPicPr/>
          <p:nvPr/>
        </p:nvPicPr>
        <p:blipFill>
          <a:blip r:embed="rId11"/>
          <a:stretch/>
        </p:blipFill>
        <p:spPr>
          <a:xfrm rot="5152800">
            <a:off x="4743360" y="5205240"/>
            <a:ext cx="85716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10" descr=""/>
          <p:cNvPicPr/>
          <p:nvPr/>
        </p:nvPicPr>
        <p:blipFill>
          <a:blip r:embed="rId12"/>
          <a:srcRect l="0" t="0" r="-45" b="-784"/>
          <a:stretch/>
        </p:blipFill>
        <p:spPr>
          <a:xfrm>
            <a:off x="8520120" y="2060640"/>
            <a:ext cx="46080" cy="600120"/>
          </a:xfrm>
          <a:prstGeom prst="rect">
            <a:avLst/>
          </a:prstGeom>
          <a:ln w="0">
            <a:noFill/>
          </a:ln>
        </p:spPr>
      </p:pic>
      <p:pic>
        <p:nvPicPr>
          <p:cNvPr id="237" name="Объект 10" descr=""/>
          <p:cNvPicPr/>
          <p:nvPr/>
        </p:nvPicPr>
        <p:blipFill>
          <a:blip r:embed="rId13"/>
          <a:stretch/>
        </p:blipFill>
        <p:spPr>
          <a:xfrm>
            <a:off x="7643880" y="31687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14" descr=""/>
          <p:cNvPicPr/>
          <p:nvPr/>
        </p:nvPicPr>
        <p:blipFill>
          <a:blip r:embed="rId14"/>
          <a:stretch/>
        </p:blipFill>
        <p:spPr>
          <a:xfrm>
            <a:off x="176040" y="341280"/>
            <a:ext cx="5840640" cy="3078360"/>
          </a:xfrm>
          <a:prstGeom prst="rect">
            <a:avLst/>
          </a:prstGeom>
          <a:ln w="0">
            <a:noFill/>
          </a:ln>
        </p:spPr>
      </p:pic>
      <p:sp>
        <p:nvSpPr>
          <p:cNvPr id="239" name="Выгнутая вправо стрелка 15"/>
          <p:cNvSpPr/>
          <p:nvPr/>
        </p:nvSpPr>
        <p:spPr>
          <a:xfrm>
            <a:off x="2843280" y="2205000"/>
            <a:ext cx="731880" cy="1360440"/>
          </a:xfrm>
          <a:custGeom>
            <a:avLst/>
            <a:gdLst>
              <a:gd name="textAreaLeft" fmla="*/ 97920 w 731880"/>
              <a:gd name="textAreaRight" fmla="*/ 633960 w 731880"/>
              <a:gd name="textAreaTop" fmla="*/ 271440 h 1360440"/>
              <a:gd name="textAreaBottom" fmla="*/ 997560 h 13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22" stAng="-5400000" swAng="5400000"/>
                <a:lnTo>
                  <a:pt x="21600" y="11526"/>
                </a:lnTo>
                <a:arcTo wR="21600" hR="8622" stAng="0" swAng="3426113"/>
                <a:lnTo>
                  <a:pt x="5400" y="21326"/>
                </a:lnTo>
                <a:lnTo>
                  <a:pt x="0" y="18695"/>
                </a:lnTo>
                <a:lnTo>
                  <a:pt x="5400" y="15516"/>
                </a:lnTo>
                <a:lnTo>
                  <a:pt x="5400" y="16969"/>
                </a:lnTo>
                <a:arcTo wR="21600" hR="8622" stAng="3426113" swAng="-3192034"/>
                <a:lnTo>
                  <a:pt x="21291" y="10074"/>
                </a:lnTo>
                <a:arcTo wR="21600" hR="8622" stAng="-234079" swAng="-5165921"/>
                <a:close/>
              </a:path>
              <a:path fill="darkenLess" w="21600" h="21600">
                <a:moveTo>
                  <a:pt x="0" y="0"/>
                </a:moveTo>
                <a:arcTo wR="21600" hR="8622" stAng="-5400000" swAng="5400000"/>
                <a:lnTo>
                  <a:pt x="21600" y="11526"/>
                </a:lnTo>
                <a:arcTo wR="21600" hR="8622" stAng="0" swAng="-234079"/>
                <a:lnTo>
                  <a:pt x="21291" y="10074"/>
                </a:lnTo>
                <a:arcTo wR="21600" hR="8622" stAng="-234079" swAng="-516592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40" name="Picture 4" descr="http://kopilkaurokov.ru/uploads/user_file_55ade182ec894/didaktichieskii-matierial-na-otrabotku-lieksiki-po-tiemie-food_5.jpeg"/>
          <p:cNvPicPr/>
          <p:nvPr/>
        </p:nvPicPr>
        <p:blipFill>
          <a:blip r:embed="rId15"/>
          <a:stretch/>
        </p:blipFill>
        <p:spPr>
          <a:xfrm>
            <a:off x="6227640" y="1413000"/>
            <a:ext cx="2562480" cy="2736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http://images.easyfreeclipart.com/1059/illustration-du-support-de-bande-dessin233e-chef-pomme-terre--1059774.jpg"/>
          <p:cNvPicPr/>
          <p:nvPr/>
        </p:nvPicPr>
        <p:blipFill>
          <a:blip r:embed="rId16"/>
          <a:stretch/>
        </p:blipFill>
        <p:spPr>
          <a:xfrm>
            <a:off x="0" y="4221000"/>
            <a:ext cx="2627280" cy="22053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18"/>
          <p:cNvSpPr/>
          <p:nvPr/>
        </p:nvSpPr>
        <p:spPr>
          <a:xfrm>
            <a:off x="2556000" y="3933720"/>
            <a:ext cx="4968720" cy="1727280"/>
          </a:xfrm>
          <a:prstGeom prst="rect">
            <a:avLst/>
          </a:prstGeom>
          <a:solidFill>
            <a:srgbClr val="10fcf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0-8= 32(кг)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на 32 кг больше.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1"/>
          <a:stretch/>
        </p:blipFill>
        <p:spPr>
          <a:xfrm>
            <a:off x="853920" y="585720"/>
            <a:ext cx="7583760" cy="11336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108000" y="1700280"/>
            <a:ext cx="90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1e1c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с . 43 из № 3,4,5 выберите любое для себя задание и решите его.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  <a:p>
            <a:pPr marL="743040" indent="-743040">
              <a:buClr>
                <a:srgbClr val="1e1c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1e1c11"/>
                </a:solidFill>
                <a:latin typeface="Arial"/>
              </a:rPr>
              <a:t>Придумайте задачу на разностное сравнение для одноклассников.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45" name="Picture 4" descr="http://smiles24.ru/data/smiles/anime-deti-825.gif"/>
          <p:cNvPicPr/>
          <p:nvPr/>
        </p:nvPicPr>
        <p:blipFill>
          <a:blip r:embed="rId2"/>
          <a:stretch/>
        </p:blipFill>
        <p:spPr>
          <a:xfrm>
            <a:off x="2050920" y="4005360"/>
            <a:ext cx="3710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48ebe"/>
              </a:solidFill>
              <a:latin typeface="Calibri"/>
            </a:endParaRPr>
          </a:p>
        </p:txBody>
      </p:sp>
      <p:pic>
        <p:nvPicPr>
          <p:cNvPr id="248" name="Picture 2" descr="http://900igr.net/datas/russkij-jazyk/Opredelenie-prilagatelnogo/0023-023-Spasibo-za-rabot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6:21:29Z</dcterms:created>
  <dc:creator>Наталия</dc:creator>
  <dc:description/>
  <dc:language>en-US</dc:language>
  <cp:lastModifiedBy>DNS</cp:lastModifiedBy>
  <dcterms:modified xsi:type="dcterms:W3CDTF">2018-10-14T13:14:35Z</dcterms:modified>
  <cp:revision>144</cp:revision>
  <dc:subject/>
  <dc:title>Слайд 1</dc:title>
</cp:coreProperties>
</file>