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0.png" ContentType="image/png"/>
  <Override PartName="/ppt/media/image4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2F0-C479-41B1-8296-F360486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768-91DF-4A39-8999-F43947BD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446-901D-43AD-9EC4-13A0E0DF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AD8-9A37-48A8-9716-5F5C4211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B05-E2C8-4884-AF79-B1F8DCE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552-6C4C-4D91-860D-4BEC3D0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24F-B840-481D-A16A-37AFA79B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795-4680-40DE-8153-BD44EE8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766-BC22-46F1-83BB-C018254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9BA-CF12-42A9-9BF7-BE20CD5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4DA-146E-421F-B358-0B8CE17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D8E-05EB-496D-BE0D-6F6F1D8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7074-F025-48EB-9755-74C5464077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 rot="167400">
            <a:off x="2698920" y="-42840"/>
            <a:ext cx="842760" cy="6869160"/>
          </a:xfrm>
          <a:custGeom>
            <a:avLst/>
            <a:gdLst/>
            <a:ahLst/>
            <a:rect l="l" t="t" r="r" b="b"/>
            <a:pathLst>
              <a:path w="842113" h="6868632">
                <a:moveTo>
                  <a:pt x="765545" y="0"/>
                </a:moveTo>
                <a:cubicBezTo>
                  <a:pt x="441252" y="464289"/>
                  <a:pt x="-262269" y="714154"/>
                  <a:pt x="531628" y="3274828"/>
                </a:cubicBezTo>
                <a:cubicBezTo>
                  <a:pt x="1463748" y="6090683"/>
                  <a:pt x="0" y="6868632"/>
                  <a:pt x="0" y="6868632"/>
                </a:cubicBezTo>
                <a:lnTo>
                  <a:pt x="0" y="6868632"/>
                </a:lnTo>
              </a:path>
            </a:pathLst>
          </a:custGeom>
          <a:noFill/>
          <a:ln w="38160">
            <a:solidFill>
              <a:srgbClr val="568d11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Полилиния 7"/>
          <p:cNvGrpSpPr/>
          <p:nvPr/>
        </p:nvGrpSpPr>
        <p:grpSpPr>
          <a:xfrm>
            <a:off x="1788480" y="-139680"/>
            <a:ext cx="1991520" cy="7491240"/>
            <a:chOff x="1788480" y="-139680"/>
            <a:chExt cx="1991520" cy="7491240"/>
          </a:xfrm>
        </p:grpSpPr>
        <p:pic>
          <p:nvPicPr>
            <p:cNvPr id="43" name="Полилиния 7" descr=""/>
            <p:cNvPicPr/>
            <p:nvPr/>
          </p:nvPicPr>
          <p:blipFill>
            <a:blip r:embed="rId2"/>
            <a:stretch/>
          </p:blipFill>
          <p:spPr>
            <a:xfrm>
              <a:off x="1828800" y="-139680"/>
              <a:ext cx="1951200" cy="74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89600">
              <a:off x="1976040" y="63360"/>
              <a:ext cx="1471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Полилиния 8"/>
          <p:cNvGrpSpPr/>
          <p:nvPr/>
        </p:nvGrpSpPr>
        <p:grpSpPr>
          <a:xfrm>
            <a:off x="1139760" y="-244440"/>
            <a:ext cx="2432160" cy="7553160"/>
            <a:chOff x="1139760" y="-244440"/>
            <a:chExt cx="2432160" cy="7553160"/>
          </a:xfrm>
        </p:grpSpPr>
        <p:pic>
          <p:nvPicPr>
            <p:cNvPr id="46" name="Полилиния 8" descr=""/>
            <p:cNvPicPr/>
            <p:nvPr/>
          </p:nvPicPr>
          <p:blipFill>
            <a:blip r:embed="rId3"/>
            <a:stretch/>
          </p:blipFill>
          <p:spPr>
            <a:xfrm>
              <a:off x="1139760" y="-244440"/>
              <a:ext cx="2432160" cy="75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68360" y="-20520"/>
              <a:ext cx="1763640" cy="68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Полилиния 9"/>
          <p:cNvGrpSpPr/>
          <p:nvPr/>
        </p:nvGrpSpPr>
        <p:grpSpPr>
          <a:xfrm>
            <a:off x="1036800" y="-237960"/>
            <a:ext cx="2388960" cy="7699320"/>
            <a:chOff x="1036800" y="-237960"/>
            <a:chExt cx="2388960" cy="7699320"/>
          </a:xfrm>
        </p:grpSpPr>
        <p:pic>
          <p:nvPicPr>
            <p:cNvPr id="49" name="Полилиния 9" descr=""/>
            <p:cNvPicPr/>
            <p:nvPr/>
          </p:nvPicPr>
          <p:blipFill>
            <a:blip r:embed="rId4"/>
            <a:stretch/>
          </p:blipFill>
          <p:spPr>
            <a:xfrm>
              <a:off x="1036800" y="-237960"/>
              <a:ext cx="2388960" cy="76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58920" y="-14400"/>
              <a:ext cx="1727280" cy="70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Полилиния 10"/>
          <p:cNvGrpSpPr/>
          <p:nvPr/>
        </p:nvGrpSpPr>
        <p:grpSpPr>
          <a:xfrm>
            <a:off x="-19080" y="-19080"/>
            <a:ext cx="2828880" cy="6907320"/>
            <a:chOff x="-19080" y="-19080"/>
            <a:chExt cx="2828880" cy="6907320"/>
          </a:xfrm>
        </p:grpSpPr>
        <p:pic>
          <p:nvPicPr>
            <p:cNvPr id="52" name="Полилиния 10" descr=""/>
            <p:cNvPicPr/>
            <p:nvPr/>
          </p:nvPicPr>
          <p:blipFill>
            <a:blip r:embed="rId5"/>
            <a:stretch/>
          </p:blipFill>
          <p:spPr>
            <a:xfrm>
              <a:off x="-19080" y="-19080"/>
              <a:ext cx="28288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279576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6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93" name="Полилиния 7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94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Полилиния 8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97" name="Полилиния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9" name="Группа 9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Группа 10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Группа 11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26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103" name="Овал 27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Овал 28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105" name="Овал 28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Прямая соединительная линия 29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Овал 30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Овал 31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Овал 32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Овал 33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Овал 34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Овал 35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Овал 36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Овал 37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Овал 38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Группа 39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118" name="Овал 40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" name="Овал 41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120" name="Овал 41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рямая соединительная линия 42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Овал 43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Овал 44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Овал 45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Овал 46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Овал 47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Овал 48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Овал 49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Овал 50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Овал 51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Группа 52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133" name="Овал 53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Овал 54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135" name="Овал 54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Прямая соединительная линия 55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Овал 56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Овал 57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Овал 58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Овал 59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Овал 60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Овал 61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Овал 62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Овал 63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Овал 64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Группа 6"/>
          <p:cNvGrpSpPr/>
          <p:nvPr/>
        </p:nvGrpSpPr>
        <p:grpSpPr>
          <a:xfrm>
            <a:off x="-254520" y="-27000"/>
            <a:ext cx="9463680" cy="8979840"/>
            <a:chOff x="-254520" y="-27000"/>
            <a:chExt cx="9463680" cy="8979840"/>
          </a:xfrm>
        </p:grpSpPr>
        <p:grpSp>
          <p:nvGrpSpPr>
            <p:cNvPr id="186" name="Полилиния 7"/>
            <p:cNvGrpSpPr/>
            <p:nvPr/>
          </p:nvGrpSpPr>
          <p:grpSpPr>
            <a:xfrm>
              <a:off x="-84240" y="5003280"/>
              <a:ext cx="9189000" cy="3056400"/>
              <a:chOff x="-84240" y="5003280"/>
              <a:chExt cx="9189000" cy="3056400"/>
            </a:xfrm>
          </p:grpSpPr>
          <p:pic>
            <p:nvPicPr>
              <p:cNvPr id="187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-84240" y="5003280"/>
                <a:ext cx="9189000" cy="30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10800000">
                <a:off x="-32040" y="5205960"/>
                <a:ext cx="8842680" cy="265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Полилиния 8"/>
            <p:cNvGrpSpPr/>
            <p:nvPr/>
          </p:nvGrpSpPr>
          <p:grpSpPr>
            <a:xfrm>
              <a:off x="-254520" y="4328280"/>
              <a:ext cx="9050400" cy="4624560"/>
              <a:chOff x="-254520" y="4328280"/>
              <a:chExt cx="9050400" cy="4624560"/>
            </a:xfrm>
          </p:grpSpPr>
          <p:pic>
            <p:nvPicPr>
              <p:cNvPr id="190" name="Полилиния 8" descr=""/>
              <p:cNvPicPr/>
              <p:nvPr/>
            </p:nvPicPr>
            <p:blipFill>
              <a:blip r:embed="rId3"/>
              <a:stretch/>
            </p:blipFill>
            <p:spPr>
              <a:xfrm>
                <a:off x="-73800" y="5705280"/>
                <a:ext cx="8869680" cy="14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4496400">
                <a:off x="2961720" y="2357640"/>
                <a:ext cx="2484360" cy="85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2" name="Группа 9" descr=""/>
            <p:cNvPicPr/>
            <p:nvPr/>
          </p:nvPicPr>
          <p:blipFill>
            <a:blip r:embed="rId4"/>
            <a:stretch/>
          </p:blipFill>
          <p:spPr>
            <a:xfrm>
              <a:off x="3909240" y="2287440"/>
              <a:ext cx="5299920" cy="52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Группа 10" descr=""/>
            <p:cNvPicPr/>
            <p:nvPr/>
          </p:nvPicPr>
          <p:blipFill>
            <a:blip r:embed="rId5"/>
            <a:stretch/>
          </p:blipFill>
          <p:spPr>
            <a:xfrm>
              <a:off x="-90360" y="-27000"/>
              <a:ext cx="2151360" cy="32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0"/>
          <p:cNvGrpSpPr/>
          <p:nvPr/>
        </p:nvGrpSpPr>
        <p:grpSpPr>
          <a:xfrm>
            <a:off x="7681320" y="2176560"/>
            <a:ext cx="449640" cy="307800"/>
            <a:chOff x="7681320" y="2176560"/>
            <a:chExt cx="449640" cy="307800"/>
          </a:xfrm>
        </p:grpSpPr>
        <p:sp>
          <p:nvSpPr>
            <p:cNvPr id="195" name="Овал 21"/>
            <p:cNvSpPr/>
            <p:nvPr/>
          </p:nvSpPr>
          <p:spPr>
            <a:xfrm rot="4495200">
              <a:off x="8004240" y="2251080"/>
              <a:ext cx="1317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Овал 22"/>
            <p:cNvGrpSpPr/>
            <p:nvPr/>
          </p:nvGrpSpPr>
          <p:grpSpPr>
            <a:xfrm>
              <a:off x="7681320" y="2176560"/>
              <a:ext cx="410760" cy="307800"/>
              <a:chOff x="7681320" y="2176560"/>
              <a:chExt cx="410760" cy="307800"/>
            </a:xfrm>
          </p:grpSpPr>
          <p:pic>
            <p:nvPicPr>
              <p:cNvPr id="197" name="Овал 22" descr="">
                <a:hlinkClick r:id="" action="ppaction://hlinkshowjump?jump=nextslide"/>
              </p:cNvPr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7681320" y="2176200"/>
                <a:ext cx="41076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4494600">
                <a:off x="7799400" y="2202480"/>
                <a:ext cx="186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Прямая соединительная линия 23"/>
            <p:cNvSpPr/>
            <p:nvPr/>
          </p:nvSpPr>
          <p:spPr>
            <a:xfrm flipH="1">
              <a:off x="7715520" y="2284200"/>
              <a:ext cx="35424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Овал 24"/>
            <p:cNvSpPr/>
            <p:nvPr/>
          </p:nvSpPr>
          <p:spPr>
            <a:xfrm rot="4495200">
              <a:off x="8073000" y="2256840"/>
              <a:ext cx="65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Овал 25"/>
            <p:cNvSpPr/>
            <p:nvPr/>
          </p:nvSpPr>
          <p:spPr>
            <a:xfrm rot="4495200">
              <a:off x="7960320" y="22413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Овал 26"/>
            <p:cNvSpPr/>
            <p:nvPr/>
          </p:nvSpPr>
          <p:spPr>
            <a:xfrm rot="4495200">
              <a:off x="7886880" y="22269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Овал 27"/>
            <p:cNvSpPr/>
            <p:nvPr/>
          </p:nvSpPr>
          <p:spPr>
            <a:xfrm rot="4495200">
              <a:off x="7822800" y="224424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Овал 28"/>
            <p:cNvSpPr/>
            <p:nvPr/>
          </p:nvSpPr>
          <p:spPr>
            <a:xfrm rot="4495200">
              <a:off x="7766640" y="22935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Овал 29"/>
            <p:cNvSpPr/>
            <p:nvPr/>
          </p:nvSpPr>
          <p:spPr>
            <a:xfrm rot="4495200">
              <a:off x="7985880" y="233712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Овал 30"/>
            <p:cNvSpPr/>
            <p:nvPr/>
          </p:nvSpPr>
          <p:spPr>
            <a:xfrm rot="4495200">
              <a:off x="7929720" y="238608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Овал 31"/>
            <p:cNvSpPr/>
            <p:nvPr/>
          </p:nvSpPr>
          <p:spPr>
            <a:xfrm rot="4495200">
              <a:off x="7865640" y="24033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Овал 32"/>
            <p:cNvSpPr/>
            <p:nvPr/>
          </p:nvSpPr>
          <p:spPr>
            <a:xfrm rot="4495200">
              <a:off x="7792560" y="238932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Группа 33"/>
          <p:cNvGrpSpPr/>
          <p:nvPr/>
        </p:nvGrpSpPr>
        <p:grpSpPr>
          <a:xfrm>
            <a:off x="6405840" y="4890240"/>
            <a:ext cx="410040" cy="351000"/>
            <a:chOff x="6405840" y="4890240"/>
            <a:chExt cx="410040" cy="351000"/>
          </a:xfrm>
        </p:grpSpPr>
        <p:sp>
          <p:nvSpPr>
            <p:cNvPr id="210" name="Овал 34"/>
            <p:cNvSpPr/>
            <p:nvPr/>
          </p:nvSpPr>
          <p:spPr>
            <a:xfrm rot="13759200">
              <a:off x="6411240" y="5136480"/>
              <a:ext cx="121680" cy="7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Овал 35"/>
            <p:cNvGrpSpPr/>
            <p:nvPr/>
          </p:nvGrpSpPr>
          <p:grpSpPr>
            <a:xfrm>
              <a:off x="6415920" y="4890240"/>
              <a:ext cx="399960" cy="310320"/>
              <a:chOff x="6415920" y="4890240"/>
              <a:chExt cx="399960" cy="310320"/>
            </a:xfrm>
          </p:grpSpPr>
          <p:pic>
            <p:nvPicPr>
              <p:cNvPr id="212" name="Овал 35" descr="">
                <a:hlinkClick r:id="" action="ppaction://hlinkshowjump?jump=previous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6415920" y="4890600"/>
                <a:ext cx="3999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13758600">
                <a:off x="6534000" y="4907520"/>
                <a:ext cx="17208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Прямая соединительная линия 36"/>
            <p:cNvSpPr/>
            <p:nvPr/>
          </p:nvSpPr>
          <p:spPr>
            <a:xfrm flipV="1">
              <a:off x="6472800" y="4917960"/>
              <a:ext cx="2952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Овал 37"/>
            <p:cNvSpPr/>
            <p:nvPr/>
          </p:nvSpPr>
          <p:spPr>
            <a:xfrm rot="13759200">
              <a:off x="6411960" y="5180760"/>
              <a:ext cx="608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Овал 38"/>
            <p:cNvSpPr/>
            <p:nvPr/>
          </p:nvSpPr>
          <p:spPr>
            <a:xfrm rot="13759200">
              <a:off x="6553800" y="51310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Овал 39"/>
            <p:cNvSpPr/>
            <p:nvPr/>
          </p:nvSpPr>
          <p:spPr>
            <a:xfrm rot="13759200">
              <a:off x="6627240" y="510804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Овал 40"/>
            <p:cNvSpPr/>
            <p:nvPr/>
          </p:nvSpPr>
          <p:spPr>
            <a:xfrm rot="13759200">
              <a:off x="6680880" y="506160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Овал 41"/>
            <p:cNvSpPr/>
            <p:nvPr/>
          </p:nvSpPr>
          <p:spPr>
            <a:xfrm rot="13759200">
              <a:off x="6715080" y="49924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Овал 42"/>
            <p:cNvSpPr/>
            <p:nvPr/>
          </p:nvSpPr>
          <p:spPr>
            <a:xfrm rot="13759200">
              <a:off x="6494040" y="506196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Овал 43"/>
            <p:cNvSpPr/>
            <p:nvPr/>
          </p:nvSpPr>
          <p:spPr>
            <a:xfrm rot="13759200">
              <a:off x="6527880" y="49924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Овал 44"/>
            <p:cNvSpPr/>
            <p:nvPr/>
          </p:nvSpPr>
          <p:spPr>
            <a:xfrm rot="13759200">
              <a:off x="6581880" y="494604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Овал 45"/>
            <p:cNvSpPr/>
            <p:nvPr/>
          </p:nvSpPr>
          <p:spPr>
            <a:xfrm rot="13759200">
              <a:off x="6655680" y="492300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Группа 46" descr=""/>
          <p:cNvPicPr/>
          <p:nvPr/>
        </p:nvPicPr>
        <p:blipFill>
          <a:blip r:embed="rId8"/>
          <a:stretch/>
        </p:blipFill>
        <p:spPr>
          <a:xfrm>
            <a:off x="1189080" y="182520"/>
            <a:ext cx="487440" cy="353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7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264" name="Полилиния 8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265" name="Полилиния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7" name="Полилиния 9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268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0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Группа 11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Группа 12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Группа 24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274" name="Овал 25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Овал 26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276" name="Овал 26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Прямая соединительная линия 27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Овал 28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Овал 29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Овал 30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Овал 31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Овал 32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Овал 33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Овал 34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Овал 35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Овал 36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Группа 37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289" name="Овал 38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" name="Овал 39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291" name="Овал 39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Прямая соединительная линия 40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Овал 41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Овал 42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Овал 43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Овал 44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Овал 45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Овал 46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Овал 47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Овал 48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Овал 49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Группа 50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304" name="Овал 51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5" name="Овал 52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306" name="Овал 52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Прямая соединительная линия 53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Овал 54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Овал 55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Овал 56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Овал 57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Овал 58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Овал 59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Овал 60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Овал 61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Овал 62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Группа 4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357" name="Полилиния 5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358" name="Полилиния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" name="Полилиния 6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361" name="Полилиния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3" name="Группа 7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Группа 8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Группа 9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Группа 21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367" name="Овал 22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8" name="Овал 23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369" name="Овал 23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1" name="Прямая соединительная линия 24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Овал 25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Овал 26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Овал 27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Овал 28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Овал 29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Овал 30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Овал 31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Овал 32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Овал 33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Группа 34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382" name="Овал 35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3" name="Овал 36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384" name="Овал 36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Прямая соединительная линия 37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Овал 38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Овал 39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Овал 40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Овал 41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Овал 42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Овал 43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Овал 44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Овал 45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Овал 46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Группа 47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397" name="Овал 48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Овал 49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399" name="Овал 49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1" name="Прямая соединительная линия 50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Овал 51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Овал 52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Овал 53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Овал 54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Овал 55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Овал 56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Овал 57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Овал 58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Овал 59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Группа 7"/>
          <p:cNvGrpSpPr/>
          <p:nvPr/>
        </p:nvGrpSpPr>
        <p:grpSpPr>
          <a:xfrm>
            <a:off x="-254520" y="-27000"/>
            <a:ext cx="9463680" cy="8979840"/>
            <a:chOff x="-254520" y="-27000"/>
            <a:chExt cx="9463680" cy="8979840"/>
          </a:xfrm>
        </p:grpSpPr>
        <p:grpSp>
          <p:nvGrpSpPr>
            <p:cNvPr id="450" name="Полилиния 8"/>
            <p:cNvGrpSpPr/>
            <p:nvPr/>
          </p:nvGrpSpPr>
          <p:grpSpPr>
            <a:xfrm>
              <a:off x="-84240" y="5003280"/>
              <a:ext cx="9189000" cy="3056400"/>
              <a:chOff x="-84240" y="5003280"/>
              <a:chExt cx="9189000" cy="3056400"/>
            </a:xfrm>
          </p:grpSpPr>
          <p:pic>
            <p:nvPicPr>
              <p:cNvPr id="451" name="Полилиния 8" descr=""/>
              <p:cNvPicPr/>
              <p:nvPr/>
            </p:nvPicPr>
            <p:blipFill>
              <a:blip r:embed="rId2"/>
              <a:stretch/>
            </p:blipFill>
            <p:spPr>
              <a:xfrm>
                <a:off x="-84240" y="5003280"/>
                <a:ext cx="9189000" cy="30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 rot="10800000">
                <a:off x="-32040" y="5205960"/>
                <a:ext cx="8842680" cy="265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Полилиния 9"/>
            <p:cNvGrpSpPr/>
            <p:nvPr/>
          </p:nvGrpSpPr>
          <p:grpSpPr>
            <a:xfrm>
              <a:off x="-254520" y="4328280"/>
              <a:ext cx="9050400" cy="4624560"/>
              <a:chOff x="-254520" y="4328280"/>
              <a:chExt cx="9050400" cy="4624560"/>
            </a:xfrm>
          </p:grpSpPr>
          <p:pic>
            <p:nvPicPr>
              <p:cNvPr id="454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73800" y="5705280"/>
                <a:ext cx="8869680" cy="14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4496400">
                <a:off x="2961720" y="2357640"/>
                <a:ext cx="2484360" cy="85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6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3909240" y="2287440"/>
              <a:ext cx="5299920" cy="52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Группа 11" descr=""/>
            <p:cNvPicPr/>
            <p:nvPr/>
          </p:nvPicPr>
          <p:blipFill>
            <a:blip r:embed="rId5"/>
            <a:stretch/>
          </p:blipFill>
          <p:spPr>
            <a:xfrm>
              <a:off x="-90360" y="-27000"/>
              <a:ext cx="2151360" cy="32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Группа 21"/>
          <p:cNvGrpSpPr/>
          <p:nvPr/>
        </p:nvGrpSpPr>
        <p:grpSpPr>
          <a:xfrm>
            <a:off x="7777440" y="4619880"/>
            <a:ext cx="406080" cy="357120"/>
            <a:chOff x="7777440" y="4619880"/>
            <a:chExt cx="406080" cy="357120"/>
          </a:xfrm>
        </p:grpSpPr>
        <p:sp>
          <p:nvSpPr>
            <p:cNvPr id="459" name="Овал 22"/>
            <p:cNvSpPr/>
            <p:nvPr/>
          </p:nvSpPr>
          <p:spPr>
            <a:xfrm rot="7987200">
              <a:off x="8057160" y="4874400"/>
              <a:ext cx="11952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0" name="Овал 23"/>
            <p:cNvGrpSpPr/>
            <p:nvPr/>
          </p:nvGrpSpPr>
          <p:grpSpPr>
            <a:xfrm>
              <a:off x="7777440" y="4619880"/>
              <a:ext cx="390600" cy="312120"/>
              <a:chOff x="7777440" y="4619880"/>
              <a:chExt cx="390600" cy="312120"/>
            </a:xfrm>
          </p:grpSpPr>
          <p:pic>
            <p:nvPicPr>
              <p:cNvPr id="461" name="Овал 23" descr="">
                <a:hlinkClick r:id="" action="ppaction://hlinkshowjump?jump=nextslide"/>
              </p:cNvPr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7777440" y="4619520"/>
                <a:ext cx="39060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7986600">
                <a:off x="7890840" y="4640040"/>
                <a:ext cx="1692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3" name="Прямая соединительная линия 24"/>
            <p:cNvSpPr/>
            <p:nvPr/>
          </p:nvSpPr>
          <p:spPr>
            <a:xfrm flipH="1" flipV="1">
              <a:off x="7834680" y="4644360"/>
              <a:ext cx="28260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Овал 25"/>
            <p:cNvSpPr/>
            <p:nvPr/>
          </p:nvSpPr>
          <p:spPr>
            <a:xfrm rot="7987200">
              <a:off x="8116200" y="491832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Овал 26"/>
            <p:cNvSpPr/>
            <p:nvPr/>
          </p:nvSpPr>
          <p:spPr>
            <a:xfrm rot="7987200">
              <a:off x="8068320" y="4799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Овал 27"/>
            <p:cNvSpPr/>
            <p:nvPr/>
          </p:nvSpPr>
          <p:spPr>
            <a:xfrm rot="7987200">
              <a:off x="8037000" y="47293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Овал 28"/>
            <p:cNvSpPr/>
            <p:nvPr/>
          </p:nvSpPr>
          <p:spPr>
            <a:xfrm rot="7987200">
              <a:off x="7985880" y="468108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Овал 29"/>
            <p:cNvSpPr/>
            <p:nvPr/>
          </p:nvSpPr>
          <p:spPr>
            <a:xfrm rot="7987200">
              <a:off x="7914240" y="4655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Овал 30"/>
            <p:cNvSpPr/>
            <p:nvPr/>
          </p:nvSpPr>
          <p:spPr>
            <a:xfrm rot="7987200">
              <a:off x="8006760" y="486468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Овал 31"/>
            <p:cNvSpPr/>
            <p:nvPr/>
          </p:nvSpPr>
          <p:spPr>
            <a:xfrm rot="7987200">
              <a:off x="7935120" y="48384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Овал 32"/>
            <p:cNvSpPr/>
            <p:nvPr/>
          </p:nvSpPr>
          <p:spPr>
            <a:xfrm rot="7987200">
              <a:off x="7883640" y="4790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Овал 33"/>
            <p:cNvSpPr/>
            <p:nvPr/>
          </p:nvSpPr>
          <p:spPr>
            <a:xfrm rot="7987200">
              <a:off x="7853040" y="47203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Группа 34"/>
          <p:cNvGrpSpPr/>
          <p:nvPr/>
        </p:nvGrpSpPr>
        <p:grpSpPr>
          <a:xfrm>
            <a:off x="6178320" y="5124960"/>
            <a:ext cx="409680" cy="352440"/>
            <a:chOff x="6178320" y="5124960"/>
            <a:chExt cx="409680" cy="352440"/>
          </a:xfrm>
        </p:grpSpPr>
        <p:sp>
          <p:nvSpPr>
            <p:cNvPr id="474" name="Овал 35"/>
            <p:cNvSpPr/>
            <p:nvPr/>
          </p:nvSpPr>
          <p:spPr>
            <a:xfrm rot="13759200">
              <a:off x="6183360" y="5373000"/>
              <a:ext cx="1216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Овал 36"/>
            <p:cNvGrpSpPr/>
            <p:nvPr/>
          </p:nvGrpSpPr>
          <p:grpSpPr>
            <a:xfrm>
              <a:off x="6190200" y="5124960"/>
              <a:ext cx="397800" cy="311400"/>
              <a:chOff x="6190200" y="5124960"/>
              <a:chExt cx="397800" cy="311400"/>
            </a:xfrm>
          </p:grpSpPr>
          <p:pic>
            <p:nvPicPr>
              <p:cNvPr id="476" name="Овал 36" descr="">
                <a:hlinkClick r:id="" action="ppaction://hlinkshowjump?jump=previous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6190200" y="5124600"/>
                <a:ext cx="39780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3758600">
                <a:off x="6306120" y="5144400"/>
                <a:ext cx="172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8" name="Прямая соединительная линия 37"/>
            <p:cNvSpPr/>
            <p:nvPr/>
          </p:nvSpPr>
          <p:spPr>
            <a:xfrm flipV="1">
              <a:off x="6245280" y="5155560"/>
              <a:ext cx="29376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Овал 38"/>
            <p:cNvSpPr/>
            <p:nvPr/>
          </p:nvSpPr>
          <p:spPr>
            <a:xfrm rot="13759200">
              <a:off x="6184080" y="5417280"/>
              <a:ext cx="608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Овал 39"/>
            <p:cNvSpPr/>
            <p:nvPr/>
          </p:nvSpPr>
          <p:spPr>
            <a:xfrm rot="13759200">
              <a:off x="6325560" y="536832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Овал 40"/>
            <p:cNvSpPr/>
            <p:nvPr/>
          </p:nvSpPr>
          <p:spPr>
            <a:xfrm rot="13759200">
              <a:off x="6398640" y="534528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Овал 41"/>
            <p:cNvSpPr/>
            <p:nvPr/>
          </p:nvSpPr>
          <p:spPr>
            <a:xfrm rot="13759200">
              <a:off x="6452280" y="52992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Овал 42"/>
            <p:cNvSpPr/>
            <p:nvPr/>
          </p:nvSpPr>
          <p:spPr>
            <a:xfrm rot="13759200">
              <a:off x="6486120" y="523044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Овал 43"/>
            <p:cNvSpPr/>
            <p:nvPr/>
          </p:nvSpPr>
          <p:spPr>
            <a:xfrm rot="13759200">
              <a:off x="6265800" y="52992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Овал 44"/>
            <p:cNvSpPr/>
            <p:nvPr/>
          </p:nvSpPr>
          <p:spPr>
            <a:xfrm rot="13759200">
              <a:off x="6299280" y="522972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Овал 45"/>
            <p:cNvSpPr/>
            <p:nvPr/>
          </p:nvSpPr>
          <p:spPr>
            <a:xfrm rot="13759200">
              <a:off x="6352920" y="51840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Овал 46"/>
            <p:cNvSpPr/>
            <p:nvPr/>
          </p:nvSpPr>
          <p:spPr>
            <a:xfrm rot="13759200">
              <a:off x="6426360" y="516096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Группа 47"/>
          <p:cNvGrpSpPr/>
          <p:nvPr/>
        </p:nvGrpSpPr>
        <p:grpSpPr>
          <a:xfrm>
            <a:off x="8535960" y="6368040"/>
            <a:ext cx="452880" cy="307800"/>
            <a:chOff x="8535960" y="6368040"/>
            <a:chExt cx="452880" cy="307800"/>
          </a:xfrm>
        </p:grpSpPr>
        <p:sp>
          <p:nvSpPr>
            <p:cNvPr id="489" name="Овал 48"/>
            <p:cNvSpPr/>
            <p:nvPr/>
          </p:nvSpPr>
          <p:spPr>
            <a:xfrm rot="4965000">
              <a:off x="8863200" y="6465240"/>
              <a:ext cx="13392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0" name="Овал 49"/>
            <p:cNvGrpSpPr/>
            <p:nvPr/>
          </p:nvGrpSpPr>
          <p:grpSpPr>
            <a:xfrm>
              <a:off x="8535960" y="6368040"/>
              <a:ext cx="420480" cy="307800"/>
              <a:chOff x="8535960" y="6368040"/>
              <a:chExt cx="420480" cy="307800"/>
            </a:xfrm>
          </p:grpSpPr>
          <p:pic>
            <p:nvPicPr>
              <p:cNvPr id="491" name="Овал 49" descr="">
                <a:hlinkClick r:id="" action="ppaction://hlinkshowjump?jump=endshow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8535960" y="6367680"/>
                <a:ext cx="42048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 rot="4964400">
                <a:off x="8651520" y="6391080"/>
                <a:ext cx="1897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3" name="Прямая соединительная линия 50"/>
            <p:cNvSpPr/>
            <p:nvPr/>
          </p:nvSpPr>
          <p:spPr>
            <a:xfrm flipH="1">
              <a:off x="8562960" y="6498720"/>
              <a:ext cx="367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Овал 51"/>
            <p:cNvSpPr/>
            <p:nvPr/>
          </p:nvSpPr>
          <p:spPr>
            <a:xfrm rot="4965000">
              <a:off x="8934480" y="6476400"/>
              <a:ext cx="6696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Овал 52"/>
            <p:cNvSpPr/>
            <p:nvPr/>
          </p:nvSpPr>
          <p:spPr>
            <a:xfrm rot="4965000">
              <a:off x="8823960" y="644292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Овал 53"/>
            <p:cNvSpPr/>
            <p:nvPr/>
          </p:nvSpPr>
          <p:spPr>
            <a:xfrm rot="4965000">
              <a:off x="8752680" y="641808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Овал 54"/>
            <p:cNvSpPr/>
            <p:nvPr/>
          </p:nvSpPr>
          <p:spPr>
            <a:xfrm rot="4965000">
              <a:off x="8686080" y="642636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Овал 55"/>
            <p:cNvSpPr/>
            <p:nvPr/>
          </p:nvSpPr>
          <p:spPr>
            <a:xfrm rot="4965000">
              <a:off x="8623440" y="646848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Овал 56"/>
            <p:cNvSpPr/>
            <p:nvPr/>
          </p:nvSpPr>
          <p:spPr>
            <a:xfrm rot="4965000">
              <a:off x="8836560" y="654264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Овал 57"/>
            <p:cNvSpPr/>
            <p:nvPr/>
          </p:nvSpPr>
          <p:spPr>
            <a:xfrm rot="4965000">
              <a:off x="8773920" y="658440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Овал 58"/>
            <p:cNvSpPr/>
            <p:nvPr/>
          </p:nvSpPr>
          <p:spPr>
            <a:xfrm rot="4965000">
              <a:off x="8707320" y="659304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Овал 59"/>
            <p:cNvSpPr/>
            <p:nvPr/>
          </p:nvSpPr>
          <p:spPr>
            <a:xfrm rot="4965000">
              <a:off x="8636040" y="656820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995640" y="2565360"/>
            <a:ext cx="4665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Экологическое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оспитание детей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ошкольного возраста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859280" y="620640"/>
            <a:ext cx="338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МБДОУ "Детский сад №28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12000" y="551664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дготовила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Саляхетдинова О.В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Объект 2"/>
          <p:cNvSpPr/>
          <p:nvPr/>
        </p:nvSpPr>
        <p:spPr>
          <a:xfrm>
            <a:off x="468360" y="333360"/>
            <a:ext cx="8209080" cy="63356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1763640" y="476280"/>
            <a:ext cx="6032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Изготовление стенгазет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"Природа Южного Урала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Объект 2"/>
          <p:cNvSpPr/>
          <p:nvPr/>
        </p:nvSpPr>
        <p:spPr>
          <a:xfrm>
            <a:off x="250920" y="404640"/>
            <a:ext cx="864216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124000" y="692280"/>
            <a:ext cx="495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собие по темам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4030920" cy="40305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Объект 2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32000" y="476280"/>
            <a:ext cx="66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ематические альбомы,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алгоритмы для составления рассказов,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альбомы для экспериментальной деятельност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87640" cy="38894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Объект 2"/>
          <p:cNvSpPr/>
          <p:nvPr/>
        </p:nvSpPr>
        <p:spPr>
          <a:xfrm>
            <a:off x="684360" y="404640"/>
            <a:ext cx="7848360" cy="6121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1403280" y="62064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ематические лепбуки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Объект 2"/>
          <p:cNvSpPr/>
          <p:nvPr/>
        </p:nvSpPr>
        <p:spPr>
          <a:xfrm>
            <a:off x="684360" y="260280"/>
            <a:ext cx="7848360" cy="6337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03280" y="47628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идактические игры по экологии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Объект 2"/>
          <p:cNvSpPr/>
          <p:nvPr/>
        </p:nvSpPr>
        <p:spPr>
          <a:xfrm>
            <a:off x="32400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76360" y="620640"/>
            <a:ext cx="62485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рогулки, наблюдения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961080" cy="39607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Объект 2"/>
          <p:cNvSpPr/>
          <p:nvPr/>
        </p:nvSpPr>
        <p:spPr>
          <a:xfrm>
            <a:off x="25092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268360" y="62064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руд в природе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60728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84360" y="549360"/>
            <a:ext cx="7921440" cy="5759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Анкетирование, проведение опро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Беседы за круглым столом, родительские собр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Совместные досуги, праздники, виктор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Консультации в родительский уго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Организация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Участие в проект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Участие в непосредственно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Совместные рисунки на тему природы, конкурсы поде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Экологический стен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Организация дней открытых двер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Выпуск газет, фотогазет, экологических альбомов, плакатов, консультаций, папок-передвиж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Экологические а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03280" y="90792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Формы работы с родителям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96" name="Picture 2" descr="D:\ДЛЯ ОКТЯБРЯ\Картинки для стенда и блога\ДЛЯ БЛОГА\0_74f6c_8b5db2ad_L.png"/>
          <p:cNvPicPr/>
          <p:nvPr/>
        </p:nvPicPr>
        <p:blipFill>
          <a:blip r:embed="rId1"/>
          <a:stretch/>
        </p:blipFill>
        <p:spPr>
          <a:xfrm>
            <a:off x="7236000" y="4321080"/>
            <a:ext cx="17856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Объект 2"/>
          <p:cNvSpPr/>
          <p:nvPr/>
        </p:nvSpPr>
        <p:spPr>
          <a:xfrm>
            <a:off x="539640" y="333360"/>
            <a:ext cx="8209080" cy="6192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095640" cy="309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3132000" y="620640"/>
            <a:ext cx="5167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аглядная информация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ля родителе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258920" y="1916280"/>
            <a:ext cx="24480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апки-передвижк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716360" y="2349360"/>
            <a:ext cx="3456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Консультации, памятки,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буклеты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Объект 2"/>
          <p:cNvSpPr/>
          <p:nvPr/>
        </p:nvSpPr>
        <p:spPr>
          <a:xfrm>
            <a:off x="179280" y="260280"/>
            <a:ext cx="871380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258920" y="69228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ыставка поделок из овоще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388800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23640" y="764640"/>
            <a:ext cx="8064360" cy="4969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Воспитание экологически грамотного, социально актив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ошкольника, ответственного за состояние окружающей ср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бережно относящегося к богатствам прир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052640"/>
            <a:ext cx="532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Цель экологического воспитания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8360" y="2637000"/>
            <a:ext cx="1295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Задачи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328464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Формирование представлений о том, что человек часть природы и что он должен беречь, охранять и защищать её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Формирование навыков культуры поведения в прир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Расширять представления о способах правильного взаимодействия с растениями и живот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Воспитывать у детей заботливое отношение к природе путем целенаправленного общения их с прир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Объект 2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258920" y="69228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недрение здоровьесберегающих технологи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148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2916360" y="2637000"/>
            <a:ext cx="1869840" cy="18730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>
            <a:off x="1187280" y="198900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410920" y="259920"/>
            <a:ext cx="6480360" cy="6264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Познавательные 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Экскурсия в прир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Трудовая деятельность в уголке природы, на участке  и на  ок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Чтение литературы, рассматривание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   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емонстрационного материла, разучивание стихов, пословиц, поговорок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идактические, сюжетно-ролевые, подвижные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Проведение музыкальных и спортивных развлеч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Оформление выставки детских раб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Наблюдение за животным растительным миром, за  трудом взросл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Экспериментир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627280" y="620640"/>
            <a:ext cx="612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Содержание работ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 экологическому воспитанию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ошкольнико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402920" y="1483920"/>
            <a:ext cx="7489800" cy="4032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Создание развивающей предметно - пространственной  среды.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Работа с детьми.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Сотрудничество с родителями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348000" y="1916280"/>
            <a:ext cx="47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аправления работы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Объект 2"/>
          <p:cNvSpPr/>
          <p:nvPr/>
        </p:nvSpPr>
        <p:spPr>
          <a:xfrm>
            <a:off x="468360" y="333360"/>
            <a:ext cx="8209080" cy="6192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50920" y="476280"/>
            <a:ext cx="518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Центр природы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Объект 2"/>
          <p:cNvSpPr/>
          <p:nvPr/>
        </p:nvSpPr>
        <p:spPr>
          <a:xfrm>
            <a:off x="250920" y="260280"/>
            <a:ext cx="8785080" cy="640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258920" y="40464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Формы работы с детьм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33800" cy="4248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2411280" y="1052640"/>
            <a:ext cx="63928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Беседа "Земля Уральская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лезные ископаемые Южного Урала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бъект 2"/>
          <p:cNvSpPr/>
          <p:nvPr/>
        </p:nvSpPr>
        <p:spPr>
          <a:xfrm>
            <a:off x="324000" y="189000"/>
            <a:ext cx="8569080" cy="640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95640" y="549360"/>
            <a:ext cx="487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ОД  конструирование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Оригами "Лебедь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0418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Объект 2"/>
          <p:cNvSpPr/>
          <p:nvPr/>
        </p:nvSpPr>
        <p:spPr>
          <a:xfrm>
            <a:off x="32400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55640" y="549360"/>
            <a:ext cx="756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икторина "Путешествие в страну бумаги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Объект 2"/>
          <p:cNvSpPr/>
          <p:nvPr/>
        </p:nvSpPr>
        <p:spPr>
          <a:xfrm>
            <a:off x="179280" y="260280"/>
            <a:ext cx="8713800" cy="6264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54936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ыставка рисунков и поделок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11-18T07:52:01Z</dcterms:modified>
  <cp:revision>17</cp:revision>
  <dc:subject/>
  <dc:title>Слайд 1</dc:title>
</cp:coreProperties>
</file>