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0.png" ContentType="image/png"/>
  <Override PartName="/ppt/media/image4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113-EAD7-49F6-810F-890BCFBB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8F0-57BC-4E3D-B9CE-9D327BF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802-8BBF-45B9-A010-75451A00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CC3-FA37-44E6-88CB-FB78E907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ABD-411E-47E0-AABA-4CF37C4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1E3-67F0-42DD-82AB-84E3C9FF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749-4587-4D21-A7EA-A8058FAA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C9E-920C-4D16-8CA9-8E4262CD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F7B-93D6-4874-9095-91CE8DF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0D5-881A-4C44-8694-B739924A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C3A-7350-4A5F-BCDA-2CF6A53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D74-F35D-4538-8700-6FC6ABFF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940E-1A21-4DF9-A6EB-1C388BF6E2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 rot="167400">
            <a:off x="2698920" y="-42840"/>
            <a:ext cx="842760" cy="6869160"/>
          </a:xfrm>
          <a:custGeom>
            <a:avLst/>
            <a:gdLst/>
            <a:ahLst/>
            <a:rect l="l" t="t" r="r" b="b"/>
            <a:pathLst>
              <a:path w="842113" h="6868632">
                <a:moveTo>
                  <a:pt x="765545" y="0"/>
                </a:moveTo>
                <a:cubicBezTo>
                  <a:pt x="441252" y="464289"/>
                  <a:pt x="-262269" y="714154"/>
                  <a:pt x="531628" y="3274828"/>
                </a:cubicBezTo>
                <a:cubicBezTo>
                  <a:pt x="1463748" y="6090683"/>
                  <a:pt x="0" y="6868632"/>
                  <a:pt x="0" y="6868632"/>
                </a:cubicBezTo>
                <a:lnTo>
                  <a:pt x="0" y="6868632"/>
                </a:lnTo>
              </a:path>
            </a:pathLst>
          </a:custGeom>
          <a:noFill/>
          <a:ln w="38160">
            <a:solidFill>
              <a:srgbClr val="568d11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Полилиния 7"/>
          <p:cNvGrpSpPr/>
          <p:nvPr/>
        </p:nvGrpSpPr>
        <p:grpSpPr>
          <a:xfrm>
            <a:off x="1788480" y="-139680"/>
            <a:ext cx="1991520" cy="7491240"/>
            <a:chOff x="1788480" y="-139680"/>
            <a:chExt cx="1991520" cy="7491240"/>
          </a:xfrm>
        </p:grpSpPr>
        <p:pic>
          <p:nvPicPr>
            <p:cNvPr id="43" name="Полилиния 7" descr=""/>
            <p:cNvPicPr/>
            <p:nvPr/>
          </p:nvPicPr>
          <p:blipFill>
            <a:blip r:embed="rId2"/>
            <a:stretch/>
          </p:blipFill>
          <p:spPr>
            <a:xfrm>
              <a:off x="1828800" y="-139680"/>
              <a:ext cx="1951200" cy="74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89600">
              <a:off x="1976040" y="63360"/>
              <a:ext cx="1471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Полилиния 8"/>
          <p:cNvGrpSpPr/>
          <p:nvPr/>
        </p:nvGrpSpPr>
        <p:grpSpPr>
          <a:xfrm>
            <a:off x="1139760" y="-244440"/>
            <a:ext cx="2432160" cy="7553160"/>
            <a:chOff x="1139760" y="-244440"/>
            <a:chExt cx="2432160" cy="7553160"/>
          </a:xfrm>
        </p:grpSpPr>
        <p:pic>
          <p:nvPicPr>
            <p:cNvPr id="46" name="Полилиния 8" descr=""/>
            <p:cNvPicPr/>
            <p:nvPr/>
          </p:nvPicPr>
          <p:blipFill>
            <a:blip r:embed="rId3"/>
            <a:stretch/>
          </p:blipFill>
          <p:spPr>
            <a:xfrm>
              <a:off x="1139760" y="-244440"/>
              <a:ext cx="2432160" cy="75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68360" y="-20520"/>
              <a:ext cx="1763640" cy="68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Полилиния 9"/>
          <p:cNvGrpSpPr/>
          <p:nvPr/>
        </p:nvGrpSpPr>
        <p:grpSpPr>
          <a:xfrm>
            <a:off x="1036800" y="-237960"/>
            <a:ext cx="2388960" cy="7699320"/>
            <a:chOff x="1036800" y="-237960"/>
            <a:chExt cx="2388960" cy="7699320"/>
          </a:xfrm>
        </p:grpSpPr>
        <p:pic>
          <p:nvPicPr>
            <p:cNvPr id="49" name="Полилиния 9" descr=""/>
            <p:cNvPicPr/>
            <p:nvPr/>
          </p:nvPicPr>
          <p:blipFill>
            <a:blip r:embed="rId4"/>
            <a:stretch/>
          </p:blipFill>
          <p:spPr>
            <a:xfrm>
              <a:off x="1036800" y="-237960"/>
              <a:ext cx="2388960" cy="76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58920" y="-14400"/>
              <a:ext cx="1727280" cy="70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Полилиния 10"/>
          <p:cNvGrpSpPr/>
          <p:nvPr/>
        </p:nvGrpSpPr>
        <p:grpSpPr>
          <a:xfrm>
            <a:off x="-19080" y="-19080"/>
            <a:ext cx="2828880" cy="6907320"/>
            <a:chOff x="-19080" y="-19080"/>
            <a:chExt cx="2828880" cy="6907320"/>
          </a:xfrm>
        </p:grpSpPr>
        <p:pic>
          <p:nvPicPr>
            <p:cNvPr id="52" name="Полилиния 10" descr=""/>
            <p:cNvPicPr/>
            <p:nvPr/>
          </p:nvPicPr>
          <p:blipFill>
            <a:blip r:embed="rId5"/>
            <a:stretch/>
          </p:blipFill>
          <p:spPr>
            <a:xfrm>
              <a:off x="-19080" y="-19080"/>
              <a:ext cx="28288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2795760" cy="68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6"/>
          <p:cNvGrpSpPr/>
          <p:nvPr/>
        </p:nvGrpSpPr>
        <p:grpSpPr>
          <a:xfrm>
            <a:off x="-27000" y="-2076840"/>
            <a:ext cx="9182160" cy="10941480"/>
            <a:chOff x="-27000" y="-2076840"/>
            <a:chExt cx="9182160" cy="10941480"/>
          </a:xfrm>
        </p:grpSpPr>
        <p:grpSp>
          <p:nvGrpSpPr>
            <p:cNvPr id="93" name="Полилиния 7"/>
            <p:cNvGrpSpPr/>
            <p:nvPr/>
          </p:nvGrpSpPr>
          <p:grpSpPr>
            <a:xfrm>
              <a:off x="151920" y="-1220760"/>
              <a:ext cx="9003240" cy="3687840"/>
              <a:chOff x="151920" y="-1220760"/>
              <a:chExt cx="9003240" cy="3687840"/>
            </a:xfrm>
          </p:grpSpPr>
          <p:pic>
            <p:nvPicPr>
              <p:cNvPr id="94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920" y="-1220760"/>
                <a:ext cx="9003240" cy="36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357120" y="-937080"/>
                <a:ext cx="8393400" cy="28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Полилиния 8"/>
            <p:cNvGrpSpPr/>
            <p:nvPr/>
          </p:nvGrpSpPr>
          <p:grpSpPr>
            <a:xfrm>
              <a:off x="99360" y="-2076840"/>
              <a:ext cx="8686440" cy="4841280"/>
              <a:chOff x="99360" y="-2076840"/>
              <a:chExt cx="8686440" cy="4841280"/>
            </a:xfrm>
          </p:grpSpPr>
          <p:pic>
            <p:nvPicPr>
              <p:cNvPr id="97" name="Полилиния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-249840"/>
                <a:ext cx="8458920" cy="16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6303000">
                <a:off x="2998440" y="-3738240"/>
                <a:ext cx="2818080" cy="81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9" name="Группа 9" descr=""/>
            <p:cNvPicPr/>
            <p:nvPr/>
          </p:nvPicPr>
          <p:blipFill>
            <a:blip r:embed="rId4"/>
            <a:stretch/>
          </p:blipFill>
          <p:spPr>
            <a:xfrm>
              <a:off x="6156000" y="-374400"/>
              <a:ext cx="2792160" cy="44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Группа 10" descr=""/>
            <p:cNvPicPr/>
            <p:nvPr/>
          </p:nvPicPr>
          <p:blipFill>
            <a:blip r:embed="rId5"/>
            <a:stretch/>
          </p:blipFill>
          <p:spPr>
            <a:xfrm>
              <a:off x="6503040" y="2777760"/>
              <a:ext cx="207036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Группа 11" descr=""/>
            <p:cNvPicPr/>
            <p:nvPr/>
          </p:nvPicPr>
          <p:blipFill>
            <a:blip r:embed="rId6"/>
            <a:stretch/>
          </p:blipFill>
          <p:spPr>
            <a:xfrm>
              <a:off x="-27000" y="2901960"/>
              <a:ext cx="5080680" cy="596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26"/>
          <p:cNvGrpSpPr/>
          <p:nvPr/>
        </p:nvGrpSpPr>
        <p:grpSpPr>
          <a:xfrm>
            <a:off x="2646720" y="6470640"/>
            <a:ext cx="405720" cy="356040"/>
            <a:chOff x="2646720" y="6470640"/>
            <a:chExt cx="405720" cy="356040"/>
          </a:xfrm>
        </p:grpSpPr>
        <p:sp>
          <p:nvSpPr>
            <p:cNvPr id="103" name="Овал 27"/>
            <p:cNvSpPr/>
            <p:nvPr/>
          </p:nvSpPr>
          <p:spPr>
            <a:xfrm rot="7987200">
              <a:off x="2926080" y="6724080"/>
              <a:ext cx="119520" cy="6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Овал 28"/>
            <p:cNvGrpSpPr/>
            <p:nvPr/>
          </p:nvGrpSpPr>
          <p:grpSpPr>
            <a:xfrm>
              <a:off x="2646720" y="6470640"/>
              <a:ext cx="389160" cy="311040"/>
              <a:chOff x="2646720" y="6470640"/>
              <a:chExt cx="389160" cy="311040"/>
            </a:xfrm>
          </p:grpSpPr>
          <p:pic>
            <p:nvPicPr>
              <p:cNvPr id="105" name="Овал 28" descr="">
                <a:hlinkClick r:id="" action="ppaction://hlinkshowjump?jump=next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2646720" y="6470280"/>
                <a:ext cx="3891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7986600">
                <a:off x="2760840" y="6490800"/>
                <a:ext cx="169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Прямая соединительная линия 29"/>
            <p:cNvSpPr/>
            <p:nvPr/>
          </p:nvSpPr>
          <p:spPr>
            <a:xfrm flipH="1" flipV="1">
              <a:off x="2705040" y="6495480"/>
              <a:ext cx="28152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Овал 30"/>
            <p:cNvSpPr/>
            <p:nvPr/>
          </p:nvSpPr>
          <p:spPr>
            <a:xfrm rot="7987200">
              <a:off x="2985480" y="676764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Овал 31"/>
            <p:cNvSpPr/>
            <p:nvPr/>
          </p:nvSpPr>
          <p:spPr>
            <a:xfrm rot="7987200">
              <a:off x="2937600" y="6649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Овал 32"/>
            <p:cNvSpPr/>
            <p:nvPr/>
          </p:nvSpPr>
          <p:spPr>
            <a:xfrm rot="7987200">
              <a:off x="2907000" y="65790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Овал 33"/>
            <p:cNvSpPr/>
            <p:nvPr/>
          </p:nvSpPr>
          <p:spPr>
            <a:xfrm rot="7987200">
              <a:off x="2855880" y="65311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Овал 34"/>
            <p:cNvSpPr/>
            <p:nvPr/>
          </p:nvSpPr>
          <p:spPr>
            <a:xfrm rot="7987200">
              <a:off x="2783880" y="6505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Овал 35"/>
            <p:cNvSpPr/>
            <p:nvPr/>
          </p:nvSpPr>
          <p:spPr>
            <a:xfrm rot="7987200">
              <a:off x="2876040" y="67143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Овал 36"/>
            <p:cNvSpPr/>
            <p:nvPr/>
          </p:nvSpPr>
          <p:spPr>
            <a:xfrm rot="7987200">
              <a:off x="2804400" y="668844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Овал 37"/>
            <p:cNvSpPr/>
            <p:nvPr/>
          </p:nvSpPr>
          <p:spPr>
            <a:xfrm rot="7987200">
              <a:off x="2753280" y="66409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Овал 38"/>
            <p:cNvSpPr/>
            <p:nvPr/>
          </p:nvSpPr>
          <p:spPr>
            <a:xfrm rot="7987200">
              <a:off x="2722680" y="65707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Группа 39"/>
          <p:cNvGrpSpPr/>
          <p:nvPr/>
        </p:nvGrpSpPr>
        <p:grpSpPr>
          <a:xfrm>
            <a:off x="91440" y="6401880"/>
            <a:ext cx="410400" cy="353160"/>
            <a:chOff x="91440" y="6401880"/>
            <a:chExt cx="410400" cy="353160"/>
          </a:xfrm>
        </p:grpSpPr>
        <p:sp>
          <p:nvSpPr>
            <p:cNvPr id="118" name="Овал 40"/>
            <p:cNvSpPr/>
            <p:nvPr/>
          </p:nvSpPr>
          <p:spPr>
            <a:xfrm rot="13759200">
              <a:off x="96840" y="6649560"/>
              <a:ext cx="1234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" name="Овал 41"/>
            <p:cNvGrpSpPr/>
            <p:nvPr/>
          </p:nvGrpSpPr>
          <p:grpSpPr>
            <a:xfrm>
              <a:off x="101520" y="6401880"/>
              <a:ext cx="400320" cy="312120"/>
              <a:chOff x="101520" y="6401880"/>
              <a:chExt cx="400320" cy="312120"/>
            </a:xfrm>
          </p:grpSpPr>
          <p:pic>
            <p:nvPicPr>
              <p:cNvPr id="120" name="Овал 41" descr="">
                <a:hlinkClick r:id="" action="ppaction://hlinkshowjump?jump=previousslide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101520" y="6401520"/>
                <a:ext cx="40032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3758600">
                <a:off x="219600" y="6419880"/>
                <a:ext cx="1746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Прямая соединительная линия 42"/>
            <p:cNvSpPr/>
            <p:nvPr/>
          </p:nvSpPr>
          <p:spPr>
            <a:xfrm flipV="1">
              <a:off x="159840" y="6430680"/>
              <a:ext cx="29556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Овал 43"/>
            <p:cNvSpPr/>
            <p:nvPr/>
          </p:nvSpPr>
          <p:spPr>
            <a:xfrm rot="13759200">
              <a:off x="97920" y="6694200"/>
              <a:ext cx="6156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Овал 44"/>
            <p:cNvSpPr/>
            <p:nvPr/>
          </p:nvSpPr>
          <p:spPr>
            <a:xfrm rot="13759200">
              <a:off x="240480" y="66445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Овал 45"/>
            <p:cNvSpPr/>
            <p:nvPr/>
          </p:nvSpPr>
          <p:spPr>
            <a:xfrm rot="13759200">
              <a:off x="314640" y="662184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Овал 46"/>
            <p:cNvSpPr/>
            <p:nvPr/>
          </p:nvSpPr>
          <p:spPr>
            <a:xfrm rot="13759200">
              <a:off x="368280" y="6575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Овал 47"/>
            <p:cNvSpPr/>
            <p:nvPr/>
          </p:nvSpPr>
          <p:spPr>
            <a:xfrm rot="13759200">
              <a:off x="402120" y="65059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Овал 48"/>
            <p:cNvSpPr/>
            <p:nvPr/>
          </p:nvSpPr>
          <p:spPr>
            <a:xfrm rot="13759200">
              <a:off x="180360" y="65743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Овал 49"/>
            <p:cNvSpPr/>
            <p:nvPr/>
          </p:nvSpPr>
          <p:spPr>
            <a:xfrm rot="13759200">
              <a:off x="213840" y="650448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Овал 50"/>
            <p:cNvSpPr/>
            <p:nvPr/>
          </p:nvSpPr>
          <p:spPr>
            <a:xfrm rot="13759200">
              <a:off x="267840" y="6458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Овал 51"/>
            <p:cNvSpPr/>
            <p:nvPr/>
          </p:nvSpPr>
          <p:spPr>
            <a:xfrm rot="13759200">
              <a:off x="341640" y="64357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Группа 52"/>
          <p:cNvGrpSpPr/>
          <p:nvPr/>
        </p:nvGrpSpPr>
        <p:grpSpPr>
          <a:xfrm>
            <a:off x="8516880" y="178560"/>
            <a:ext cx="453240" cy="306720"/>
            <a:chOff x="8516880" y="178560"/>
            <a:chExt cx="453240" cy="306720"/>
          </a:xfrm>
        </p:grpSpPr>
        <p:sp>
          <p:nvSpPr>
            <p:cNvPr id="133" name="Овал 53"/>
            <p:cNvSpPr/>
            <p:nvPr/>
          </p:nvSpPr>
          <p:spPr>
            <a:xfrm rot="4965000">
              <a:off x="8844840" y="277920"/>
              <a:ext cx="13356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Овал 54"/>
            <p:cNvGrpSpPr/>
            <p:nvPr/>
          </p:nvGrpSpPr>
          <p:grpSpPr>
            <a:xfrm>
              <a:off x="8516880" y="178560"/>
              <a:ext cx="415800" cy="306720"/>
              <a:chOff x="8516880" y="178560"/>
              <a:chExt cx="415800" cy="306720"/>
            </a:xfrm>
          </p:grpSpPr>
          <p:pic>
            <p:nvPicPr>
              <p:cNvPr id="135" name="Овал 54" descr="">
                <a:hlinkClick r:id="" action="ppaction://hlinkshowjump?jump=endshow"/>
              </p:cNvPr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8516880" y="178200"/>
                <a:ext cx="41580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 rot="4964400">
                <a:off x="8633520" y="203400"/>
                <a:ext cx="1890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Прямая соединительная линия 55"/>
            <p:cNvSpPr/>
            <p:nvPr/>
          </p:nvSpPr>
          <p:spPr>
            <a:xfrm flipH="1">
              <a:off x="8542800" y="311040"/>
              <a:ext cx="3682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Овал 56"/>
            <p:cNvSpPr/>
            <p:nvPr/>
          </p:nvSpPr>
          <p:spPr>
            <a:xfrm rot="4965000">
              <a:off x="8916120" y="288720"/>
              <a:ext cx="66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Овал 57"/>
            <p:cNvSpPr/>
            <p:nvPr/>
          </p:nvSpPr>
          <p:spPr>
            <a:xfrm rot="4965000">
              <a:off x="8805240" y="25560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Овал 58"/>
            <p:cNvSpPr/>
            <p:nvPr/>
          </p:nvSpPr>
          <p:spPr>
            <a:xfrm rot="4965000">
              <a:off x="8733600" y="2311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Овал 59"/>
            <p:cNvSpPr/>
            <p:nvPr/>
          </p:nvSpPr>
          <p:spPr>
            <a:xfrm rot="4965000">
              <a:off x="8666640" y="2397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Овал 60"/>
            <p:cNvSpPr/>
            <p:nvPr/>
          </p:nvSpPr>
          <p:spPr>
            <a:xfrm rot="4965000">
              <a:off x="8604000" y="2811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Овал 61"/>
            <p:cNvSpPr/>
            <p:nvPr/>
          </p:nvSpPr>
          <p:spPr>
            <a:xfrm rot="4965000">
              <a:off x="8817840" y="3549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Овал 62"/>
            <p:cNvSpPr/>
            <p:nvPr/>
          </p:nvSpPr>
          <p:spPr>
            <a:xfrm rot="4965000">
              <a:off x="8754840" y="3967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Овал 63"/>
            <p:cNvSpPr/>
            <p:nvPr/>
          </p:nvSpPr>
          <p:spPr>
            <a:xfrm rot="4965000">
              <a:off x="8687520" y="4053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Овал 64"/>
            <p:cNvSpPr/>
            <p:nvPr/>
          </p:nvSpPr>
          <p:spPr>
            <a:xfrm rot="4965000">
              <a:off x="8616600" y="3805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Группа 6"/>
          <p:cNvGrpSpPr/>
          <p:nvPr/>
        </p:nvGrpSpPr>
        <p:grpSpPr>
          <a:xfrm>
            <a:off x="-254520" y="-27000"/>
            <a:ext cx="9463680" cy="8979840"/>
            <a:chOff x="-254520" y="-27000"/>
            <a:chExt cx="9463680" cy="8979840"/>
          </a:xfrm>
        </p:grpSpPr>
        <p:grpSp>
          <p:nvGrpSpPr>
            <p:cNvPr id="186" name="Полилиния 7"/>
            <p:cNvGrpSpPr/>
            <p:nvPr/>
          </p:nvGrpSpPr>
          <p:grpSpPr>
            <a:xfrm>
              <a:off x="-84240" y="5003280"/>
              <a:ext cx="9189000" cy="3056400"/>
              <a:chOff x="-84240" y="5003280"/>
              <a:chExt cx="9189000" cy="3056400"/>
            </a:xfrm>
          </p:grpSpPr>
          <p:pic>
            <p:nvPicPr>
              <p:cNvPr id="187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-84240" y="5003280"/>
                <a:ext cx="9189000" cy="30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10800000">
                <a:off x="-32040" y="5205960"/>
                <a:ext cx="8842680" cy="265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Полилиния 8"/>
            <p:cNvGrpSpPr/>
            <p:nvPr/>
          </p:nvGrpSpPr>
          <p:grpSpPr>
            <a:xfrm>
              <a:off x="-254520" y="4328280"/>
              <a:ext cx="9050400" cy="4624560"/>
              <a:chOff x="-254520" y="4328280"/>
              <a:chExt cx="9050400" cy="4624560"/>
            </a:xfrm>
          </p:grpSpPr>
          <p:pic>
            <p:nvPicPr>
              <p:cNvPr id="190" name="Полилиния 8" descr=""/>
              <p:cNvPicPr/>
              <p:nvPr/>
            </p:nvPicPr>
            <p:blipFill>
              <a:blip r:embed="rId3"/>
              <a:stretch/>
            </p:blipFill>
            <p:spPr>
              <a:xfrm>
                <a:off x="-73800" y="5705280"/>
                <a:ext cx="8869680" cy="14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4496400">
                <a:off x="2961720" y="2357640"/>
                <a:ext cx="2484360" cy="85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2" name="Группа 9" descr=""/>
            <p:cNvPicPr/>
            <p:nvPr/>
          </p:nvPicPr>
          <p:blipFill>
            <a:blip r:embed="rId4"/>
            <a:stretch/>
          </p:blipFill>
          <p:spPr>
            <a:xfrm>
              <a:off x="3909240" y="2287440"/>
              <a:ext cx="5299920" cy="52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Группа 10" descr=""/>
            <p:cNvPicPr/>
            <p:nvPr/>
          </p:nvPicPr>
          <p:blipFill>
            <a:blip r:embed="rId5"/>
            <a:stretch/>
          </p:blipFill>
          <p:spPr>
            <a:xfrm>
              <a:off x="-90360" y="-27000"/>
              <a:ext cx="2151360" cy="329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Группа 20"/>
          <p:cNvGrpSpPr/>
          <p:nvPr/>
        </p:nvGrpSpPr>
        <p:grpSpPr>
          <a:xfrm>
            <a:off x="7681320" y="2176560"/>
            <a:ext cx="449640" cy="307800"/>
            <a:chOff x="7681320" y="2176560"/>
            <a:chExt cx="449640" cy="307800"/>
          </a:xfrm>
        </p:grpSpPr>
        <p:sp>
          <p:nvSpPr>
            <p:cNvPr id="195" name="Овал 21"/>
            <p:cNvSpPr/>
            <p:nvPr/>
          </p:nvSpPr>
          <p:spPr>
            <a:xfrm rot="4495200">
              <a:off x="8004240" y="2251080"/>
              <a:ext cx="13176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Овал 22"/>
            <p:cNvGrpSpPr/>
            <p:nvPr/>
          </p:nvGrpSpPr>
          <p:grpSpPr>
            <a:xfrm>
              <a:off x="7681320" y="2176560"/>
              <a:ext cx="410760" cy="307800"/>
              <a:chOff x="7681320" y="2176560"/>
              <a:chExt cx="410760" cy="307800"/>
            </a:xfrm>
          </p:grpSpPr>
          <p:pic>
            <p:nvPicPr>
              <p:cNvPr id="197" name="Овал 22" descr="">
                <a:hlinkClick r:id="" action="ppaction://hlinkshowjump?jump=nextslide"/>
              </p:cNvPr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7681320" y="2176200"/>
                <a:ext cx="41076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4494600">
                <a:off x="7799400" y="2202480"/>
                <a:ext cx="186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Прямая соединительная линия 23"/>
            <p:cNvSpPr/>
            <p:nvPr/>
          </p:nvSpPr>
          <p:spPr>
            <a:xfrm flipH="1">
              <a:off x="7715520" y="2284200"/>
              <a:ext cx="35424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Овал 24"/>
            <p:cNvSpPr/>
            <p:nvPr/>
          </p:nvSpPr>
          <p:spPr>
            <a:xfrm rot="4495200">
              <a:off x="8073000" y="2256840"/>
              <a:ext cx="65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Овал 25"/>
            <p:cNvSpPr/>
            <p:nvPr/>
          </p:nvSpPr>
          <p:spPr>
            <a:xfrm rot="4495200">
              <a:off x="7960320" y="22413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Овал 26"/>
            <p:cNvSpPr/>
            <p:nvPr/>
          </p:nvSpPr>
          <p:spPr>
            <a:xfrm rot="4495200">
              <a:off x="7886880" y="22269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Овал 27"/>
            <p:cNvSpPr/>
            <p:nvPr/>
          </p:nvSpPr>
          <p:spPr>
            <a:xfrm rot="4495200">
              <a:off x="7822800" y="224424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Овал 28"/>
            <p:cNvSpPr/>
            <p:nvPr/>
          </p:nvSpPr>
          <p:spPr>
            <a:xfrm rot="4495200">
              <a:off x="7766640" y="22935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Овал 29"/>
            <p:cNvSpPr/>
            <p:nvPr/>
          </p:nvSpPr>
          <p:spPr>
            <a:xfrm rot="4495200">
              <a:off x="7985880" y="233712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Овал 30"/>
            <p:cNvSpPr/>
            <p:nvPr/>
          </p:nvSpPr>
          <p:spPr>
            <a:xfrm rot="4495200">
              <a:off x="7929720" y="238608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Овал 31"/>
            <p:cNvSpPr/>
            <p:nvPr/>
          </p:nvSpPr>
          <p:spPr>
            <a:xfrm rot="4495200">
              <a:off x="7865640" y="240336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Овал 32"/>
            <p:cNvSpPr/>
            <p:nvPr/>
          </p:nvSpPr>
          <p:spPr>
            <a:xfrm rot="4495200">
              <a:off x="7792560" y="2389320"/>
              <a:ext cx="3276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Группа 33"/>
          <p:cNvGrpSpPr/>
          <p:nvPr/>
        </p:nvGrpSpPr>
        <p:grpSpPr>
          <a:xfrm>
            <a:off x="6405840" y="4890240"/>
            <a:ext cx="410040" cy="351000"/>
            <a:chOff x="6405840" y="4890240"/>
            <a:chExt cx="410040" cy="351000"/>
          </a:xfrm>
        </p:grpSpPr>
        <p:sp>
          <p:nvSpPr>
            <p:cNvPr id="210" name="Овал 34"/>
            <p:cNvSpPr/>
            <p:nvPr/>
          </p:nvSpPr>
          <p:spPr>
            <a:xfrm rot="13759200">
              <a:off x="6411240" y="5136480"/>
              <a:ext cx="121680" cy="70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Овал 35"/>
            <p:cNvGrpSpPr/>
            <p:nvPr/>
          </p:nvGrpSpPr>
          <p:grpSpPr>
            <a:xfrm>
              <a:off x="6415920" y="4890240"/>
              <a:ext cx="399960" cy="310320"/>
              <a:chOff x="6415920" y="4890240"/>
              <a:chExt cx="399960" cy="310320"/>
            </a:xfrm>
          </p:grpSpPr>
          <p:pic>
            <p:nvPicPr>
              <p:cNvPr id="212" name="Овал 35" descr="">
                <a:hlinkClick r:id="" action="ppaction://hlinkshowjump?jump=previous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6415920" y="4890600"/>
                <a:ext cx="3999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13758600">
                <a:off x="6534000" y="4907520"/>
                <a:ext cx="17208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Прямая соединительная линия 36"/>
            <p:cNvSpPr/>
            <p:nvPr/>
          </p:nvSpPr>
          <p:spPr>
            <a:xfrm flipV="1">
              <a:off x="6472800" y="4917960"/>
              <a:ext cx="2952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Овал 37"/>
            <p:cNvSpPr/>
            <p:nvPr/>
          </p:nvSpPr>
          <p:spPr>
            <a:xfrm rot="13759200">
              <a:off x="6411960" y="5180760"/>
              <a:ext cx="608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Овал 38"/>
            <p:cNvSpPr/>
            <p:nvPr/>
          </p:nvSpPr>
          <p:spPr>
            <a:xfrm rot="13759200">
              <a:off x="6553800" y="513108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Овал 39"/>
            <p:cNvSpPr/>
            <p:nvPr/>
          </p:nvSpPr>
          <p:spPr>
            <a:xfrm rot="13759200">
              <a:off x="6627240" y="510804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Овал 40"/>
            <p:cNvSpPr/>
            <p:nvPr/>
          </p:nvSpPr>
          <p:spPr>
            <a:xfrm rot="13759200">
              <a:off x="6680880" y="506160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Овал 41"/>
            <p:cNvSpPr/>
            <p:nvPr/>
          </p:nvSpPr>
          <p:spPr>
            <a:xfrm rot="13759200">
              <a:off x="6715080" y="499248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Овал 42"/>
            <p:cNvSpPr/>
            <p:nvPr/>
          </p:nvSpPr>
          <p:spPr>
            <a:xfrm rot="13759200">
              <a:off x="6494040" y="506196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Овал 43"/>
            <p:cNvSpPr/>
            <p:nvPr/>
          </p:nvSpPr>
          <p:spPr>
            <a:xfrm rot="13759200">
              <a:off x="6527880" y="499248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Овал 44"/>
            <p:cNvSpPr/>
            <p:nvPr/>
          </p:nvSpPr>
          <p:spPr>
            <a:xfrm rot="13759200">
              <a:off x="6581880" y="494604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Овал 45"/>
            <p:cNvSpPr/>
            <p:nvPr/>
          </p:nvSpPr>
          <p:spPr>
            <a:xfrm rot="13759200">
              <a:off x="6655680" y="4923000"/>
              <a:ext cx="3024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Группа 46" descr=""/>
          <p:cNvPicPr/>
          <p:nvPr/>
        </p:nvPicPr>
        <p:blipFill>
          <a:blip r:embed="rId8"/>
          <a:stretch/>
        </p:blipFill>
        <p:spPr>
          <a:xfrm>
            <a:off x="1189080" y="182520"/>
            <a:ext cx="487440" cy="353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7"/>
          <p:cNvGrpSpPr/>
          <p:nvPr/>
        </p:nvGrpSpPr>
        <p:grpSpPr>
          <a:xfrm>
            <a:off x="-27000" y="-2076840"/>
            <a:ext cx="9182160" cy="10941480"/>
            <a:chOff x="-27000" y="-2076840"/>
            <a:chExt cx="9182160" cy="10941480"/>
          </a:xfrm>
        </p:grpSpPr>
        <p:grpSp>
          <p:nvGrpSpPr>
            <p:cNvPr id="264" name="Полилиния 8"/>
            <p:cNvGrpSpPr/>
            <p:nvPr/>
          </p:nvGrpSpPr>
          <p:grpSpPr>
            <a:xfrm>
              <a:off x="151920" y="-1220760"/>
              <a:ext cx="9003240" cy="3687840"/>
              <a:chOff x="151920" y="-1220760"/>
              <a:chExt cx="9003240" cy="3687840"/>
            </a:xfrm>
          </p:grpSpPr>
          <p:pic>
            <p:nvPicPr>
              <p:cNvPr id="265" name="Полилиния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920" y="-1220760"/>
                <a:ext cx="9003240" cy="36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357120" y="-937080"/>
                <a:ext cx="8393400" cy="28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7" name="Полилиния 9"/>
            <p:cNvGrpSpPr/>
            <p:nvPr/>
          </p:nvGrpSpPr>
          <p:grpSpPr>
            <a:xfrm>
              <a:off x="99360" y="-2076840"/>
              <a:ext cx="8686440" cy="4841280"/>
              <a:chOff x="99360" y="-2076840"/>
              <a:chExt cx="8686440" cy="4841280"/>
            </a:xfrm>
          </p:grpSpPr>
          <p:pic>
            <p:nvPicPr>
              <p:cNvPr id="268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-249840"/>
                <a:ext cx="8458920" cy="16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6303000">
                <a:off x="2998440" y="-3738240"/>
                <a:ext cx="2818080" cy="81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0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6156000" y="-374400"/>
              <a:ext cx="2792160" cy="44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Группа 11" descr=""/>
            <p:cNvPicPr/>
            <p:nvPr/>
          </p:nvPicPr>
          <p:blipFill>
            <a:blip r:embed="rId5"/>
            <a:stretch/>
          </p:blipFill>
          <p:spPr>
            <a:xfrm>
              <a:off x="6503040" y="2777760"/>
              <a:ext cx="207036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Группа 12" descr=""/>
            <p:cNvPicPr/>
            <p:nvPr/>
          </p:nvPicPr>
          <p:blipFill>
            <a:blip r:embed="rId6"/>
            <a:stretch/>
          </p:blipFill>
          <p:spPr>
            <a:xfrm>
              <a:off x="-27000" y="2901960"/>
              <a:ext cx="5080680" cy="596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Группа 24"/>
          <p:cNvGrpSpPr/>
          <p:nvPr/>
        </p:nvGrpSpPr>
        <p:grpSpPr>
          <a:xfrm>
            <a:off x="2646720" y="6470640"/>
            <a:ext cx="405720" cy="356040"/>
            <a:chOff x="2646720" y="6470640"/>
            <a:chExt cx="405720" cy="356040"/>
          </a:xfrm>
        </p:grpSpPr>
        <p:sp>
          <p:nvSpPr>
            <p:cNvPr id="274" name="Овал 25"/>
            <p:cNvSpPr/>
            <p:nvPr/>
          </p:nvSpPr>
          <p:spPr>
            <a:xfrm rot="7987200">
              <a:off x="2926080" y="6724080"/>
              <a:ext cx="119520" cy="6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Овал 26"/>
            <p:cNvGrpSpPr/>
            <p:nvPr/>
          </p:nvGrpSpPr>
          <p:grpSpPr>
            <a:xfrm>
              <a:off x="2646720" y="6470640"/>
              <a:ext cx="389160" cy="311040"/>
              <a:chOff x="2646720" y="6470640"/>
              <a:chExt cx="389160" cy="311040"/>
            </a:xfrm>
          </p:grpSpPr>
          <p:pic>
            <p:nvPicPr>
              <p:cNvPr id="276" name="Овал 26" descr="">
                <a:hlinkClick r:id="" action="ppaction://hlinkshowjump?jump=next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2646720" y="6470280"/>
                <a:ext cx="3891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 rot="7986600">
                <a:off x="2760840" y="6490800"/>
                <a:ext cx="169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Прямая соединительная линия 27"/>
            <p:cNvSpPr/>
            <p:nvPr/>
          </p:nvSpPr>
          <p:spPr>
            <a:xfrm flipH="1" flipV="1">
              <a:off x="2705040" y="6495480"/>
              <a:ext cx="28152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Овал 28"/>
            <p:cNvSpPr/>
            <p:nvPr/>
          </p:nvSpPr>
          <p:spPr>
            <a:xfrm rot="7987200">
              <a:off x="2985480" y="676764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Овал 29"/>
            <p:cNvSpPr/>
            <p:nvPr/>
          </p:nvSpPr>
          <p:spPr>
            <a:xfrm rot="7987200">
              <a:off x="2937600" y="6649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Овал 30"/>
            <p:cNvSpPr/>
            <p:nvPr/>
          </p:nvSpPr>
          <p:spPr>
            <a:xfrm rot="7987200">
              <a:off x="2907000" y="65790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Овал 31"/>
            <p:cNvSpPr/>
            <p:nvPr/>
          </p:nvSpPr>
          <p:spPr>
            <a:xfrm rot="7987200">
              <a:off x="2855880" y="65311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Овал 32"/>
            <p:cNvSpPr/>
            <p:nvPr/>
          </p:nvSpPr>
          <p:spPr>
            <a:xfrm rot="7987200">
              <a:off x="2783880" y="6505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Овал 33"/>
            <p:cNvSpPr/>
            <p:nvPr/>
          </p:nvSpPr>
          <p:spPr>
            <a:xfrm rot="7987200">
              <a:off x="2876040" y="67143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Овал 34"/>
            <p:cNvSpPr/>
            <p:nvPr/>
          </p:nvSpPr>
          <p:spPr>
            <a:xfrm rot="7987200">
              <a:off x="2804400" y="668844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Овал 35"/>
            <p:cNvSpPr/>
            <p:nvPr/>
          </p:nvSpPr>
          <p:spPr>
            <a:xfrm rot="7987200">
              <a:off x="2753280" y="66409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Овал 36"/>
            <p:cNvSpPr/>
            <p:nvPr/>
          </p:nvSpPr>
          <p:spPr>
            <a:xfrm rot="7987200">
              <a:off x="2722680" y="65707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Группа 37"/>
          <p:cNvGrpSpPr/>
          <p:nvPr/>
        </p:nvGrpSpPr>
        <p:grpSpPr>
          <a:xfrm>
            <a:off x="91440" y="6401880"/>
            <a:ext cx="410400" cy="353160"/>
            <a:chOff x="91440" y="6401880"/>
            <a:chExt cx="410400" cy="353160"/>
          </a:xfrm>
        </p:grpSpPr>
        <p:sp>
          <p:nvSpPr>
            <p:cNvPr id="289" name="Овал 38"/>
            <p:cNvSpPr/>
            <p:nvPr/>
          </p:nvSpPr>
          <p:spPr>
            <a:xfrm rot="13759200">
              <a:off x="96840" y="6649560"/>
              <a:ext cx="1234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" name="Овал 39"/>
            <p:cNvGrpSpPr/>
            <p:nvPr/>
          </p:nvGrpSpPr>
          <p:grpSpPr>
            <a:xfrm>
              <a:off x="101520" y="6401880"/>
              <a:ext cx="400320" cy="312120"/>
              <a:chOff x="101520" y="6401880"/>
              <a:chExt cx="400320" cy="312120"/>
            </a:xfrm>
          </p:grpSpPr>
          <p:pic>
            <p:nvPicPr>
              <p:cNvPr id="291" name="Овал 39" descr="">
                <a:hlinkClick r:id="" action="ppaction://hlinkshowjump?jump=previousslide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101520" y="6401520"/>
                <a:ext cx="40032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 rot="13758600">
                <a:off x="219600" y="6419880"/>
                <a:ext cx="1746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Прямая соединительная линия 40"/>
            <p:cNvSpPr/>
            <p:nvPr/>
          </p:nvSpPr>
          <p:spPr>
            <a:xfrm flipV="1">
              <a:off x="159840" y="6430680"/>
              <a:ext cx="29556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Овал 41"/>
            <p:cNvSpPr/>
            <p:nvPr/>
          </p:nvSpPr>
          <p:spPr>
            <a:xfrm rot="13759200">
              <a:off x="97920" y="6694200"/>
              <a:ext cx="6156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Овал 42"/>
            <p:cNvSpPr/>
            <p:nvPr/>
          </p:nvSpPr>
          <p:spPr>
            <a:xfrm rot="13759200">
              <a:off x="240480" y="66445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Овал 43"/>
            <p:cNvSpPr/>
            <p:nvPr/>
          </p:nvSpPr>
          <p:spPr>
            <a:xfrm rot="13759200">
              <a:off x="314640" y="662184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Овал 44"/>
            <p:cNvSpPr/>
            <p:nvPr/>
          </p:nvSpPr>
          <p:spPr>
            <a:xfrm rot="13759200">
              <a:off x="368280" y="6575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Овал 45"/>
            <p:cNvSpPr/>
            <p:nvPr/>
          </p:nvSpPr>
          <p:spPr>
            <a:xfrm rot="13759200">
              <a:off x="402120" y="65059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Овал 46"/>
            <p:cNvSpPr/>
            <p:nvPr/>
          </p:nvSpPr>
          <p:spPr>
            <a:xfrm rot="13759200">
              <a:off x="180360" y="65743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Овал 47"/>
            <p:cNvSpPr/>
            <p:nvPr/>
          </p:nvSpPr>
          <p:spPr>
            <a:xfrm rot="13759200">
              <a:off x="213840" y="650448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Овал 48"/>
            <p:cNvSpPr/>
            <p:nvPr/>
          </p:nvSpPr>
          <p:spPr>
            <a:xfrm rot="13759200">
              <a:off x="267840" y="6458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Овал 49"/>
            <p:cNvSpPr/>
            <p:nvPr/>
          </p:nvSpPr>
          <p:spPr>
            <a:xfrm rot="13759200">
              <a:off x="341640" y="64357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Группа 50"/>
          <p:cNvGrpSpPr/>
          <p:nvPr/>
        </p:nvGrpSpPr>
        <p:grpSpPr>
          <a:xfrm>
            <a:off x="8516880" y="178560"/>
            <a:ext cx="453240" cy="306720"/>
            <a:chOff x="8516880" y="178560"/>
            <a:chExt cx="453240" cy="306720"/>
          </a:xfrm>
        </p:grpSpPr>
        <p:sp>
          <p:nvSpPr>
            <p:cNvPr id="304" name="Овал 51"/>
            <p:cNvSpPr/>
            <p:nvPr/>
          </p:nvSpPr>
          <p:spPr>
            <a:xfrm rot="4965000">
              <a:off x="8844840" y="277920"/>
              <a:ext cx="13356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5" name="Овал 52"/>
            <p:cNvGrpSpPr/>
            <p:nvPr/>
          </p:nvGrpSpPr>
          <p:grpSpPr>
            <a:xfrm>
              <a:off x="8516880" y="178560"/>
              <a:ext cx="415800" cy="306720"/>
              <a:chOff x="8516880" y="178560"/>
              <a:chExt cx="415800" cy="306720"/>
            </a:xfrm>
          </p:grpSpPr>
          <p:pic>
            <p:nvPicPr>
              <p:cNvPr id="306" name="Овал 52" descr="">
                <a:hlinkClick r:id="" action="ppaction://hlinkshowjump?jump=endshow"/>
              </p:cNvPr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8516880" y="178200"/>
                <a:ext cx="41580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964400">
                <a:off x="8633520" y="203400"/>
                <a:ext cx="1890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Прямая соединительная линия 53"/>
            <p:cNvSpPr/>
            <p:nvPr/>
          </p:nvSpPr>
          <p:spPr>
            <a:xfrm flipH="1">
              <a:off x="8542800" y="311040"/>
              <a:ext cx="3682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Овал 54"/>
            <p:cNvSpPr/>
            <p:nvPr/>
          </p:nvSpPr>
          <p:spPr>
            <a:xfrm rot="4965000">
              <a:off x="8916120" y="288720"/>
              <a:ext cx="66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Овал 55"/>
            <p:cNvSpPr/>
            <p:nvPr/>
          </p:nvSpPr>
          <p:spPr>
            <a:xfrm rot="4965000">
              <a:off x="8805240" y="25560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Овал 56"/>
            <p:cNvSpPr/>
            <p:nvPr/>
          </p:nvSpPr>
          <p:spPr>
            <a:xfrm rot="4965000">
              <a:off x="8733600" y="2311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Овал 57"/>
            <p:cNvSpPr/>
            <p:nvPr/>
          </p:nvSpPr>
          <p:spPr>
            <a:xfrm rot="4965000">
              <a:off x="8666640" y="2397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Овал 58"/>
            <p:cNvSpPr/>
            <p:nvPr/>
          </p:nvSpPr>
          <p:spPr>
            <a:xfrm rot="4965000">
              <a:off x="8604000" y="2811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Овал 59"/>
            <p:cNvSpPr/>
            <p:nvPr/>
          </p:nvSpPr>
          <p:spPr>
            <a:xfrm rot="4965000">
              <a:off x="8817840" y="3549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Овал 60"/>
            <p:cNvSpPr/>
            <p:nvPr/>
          </p:nvSpPr>
          <p:spPr>
            <a:xfrm rot="4965000">
              <a:off x="8754840" y="3967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Овал 61"/>
            <p:cNvSpPr/>
            <p:nvPr/>
          </p:nvSpPr>
          <p:spPr>
            <a:xfrm rot="4965000">
              <a:off x="8687520" y="4053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Овал 62"/>
            <p:cNvSpPr/>
            <p:nvPr/>
          </p:nvSpPr>
          <p:spPr>
            <a:xfrm rot="4965000">
              <a:off x="8616600" y="3805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Группа 4"/>
          <p:cNvGrpSpPr/>
          <p:nvPr/>
        </p:nvGrpSpPr>
        <p:grpSpPr>
          <a:xfrm>
            <a:off x="-27000" y="-2076840"/>
            <a:ext cx="9182160" cy="10941480"/>
            <a:chOff x="-27000" y="-2076840"/>
            <a:chExt cx="9182160" cy="10941480"/>
          </a:xfrm>
        </p:grpSpPr>
        <p:grpSp>
          <p:nvGrpSpPr>
            <p:cNvPr id="357" name="Полилиния 5"/>
            <p:cNvGrpSpPr/>
            <p:nvPr/>
          </p:nvGrpSpPr>
          <p:grpSpPr>
            <a:xfrm>
              <a:off x="151920" y="-1220760"/>
              <a:ext cx="9003240" cy="3687840"/>
              <a:chOff x="151920" y="-1220760"/>
              <a:chExt cx="9003240" cy="3687840"/>
            </a:xfrm>
          </p:grpSpPr>
          <p:pic>
            <p:nvPicPr>
              <p:cNvPr id="358" name="Полилиния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920" y="-1220760"/>
                <a:ext cx="9003240" cy="36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357120" y="-937080"/>
                <a:ext cx="8393400" cy="28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" name="Полилиния 6"/>
            <p:cNvGrpSpPr/>
            <p:nvPr/>
          </p:nvGrpSpPr>
          <p:grpSpPr>
            <a:xfrm>
              <a:off x="99360" y="-2076840"/>
              <a:ext cx="8686440" cy="4841280"/>
              <a:chOff x="99360" y="-2076840"/>
              <a:chExt cx="8686440" cy="4841280"/>
            </a:xfrm>
          </p:grpSpPr>
          <p:pic>
            <p:nvPicPr>
              <p:cNvPr id="361" name="Полилиния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-249840"/>
                <a:ext cx="8458920" cy="16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6303000">
                <a:off x="2998440" y="-3738240"/>
                <a:ext cx="2818080" cy="81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63" name="Группа 7" descr=""/>
            <p:cNvPicPr/>
            <p:nvPr/>
          </p:nvPicPr>
          <p:blipFill>
            <a:blip r:embed="rId4"/>
            <a:stretch/>
          </p:blipFill>
          <p:spPr>
            <a:xfrm>
              <a:off x="6156000" y="-374400"/>
              <a:ext cx="2792160" cy="44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Группа 8" descr=""/>
            <p:cNvPicPr/>
            <p:nvPr/>
          </p:nvPicPr>
          <p:blipFill>
            <a:blip r:embed="rId5"/>
            <a:stretch/>
          </p:blipFill>
          <p:spPr>
            <a:xfrm>
              <a:off x="6503040" y="2777760"/>
              <a:ext cx="2070360" cy="37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Группа 9" descr=""/>
            <p:cNvPicPr/>
            <p:nvPr/>
          </p:nvPicPr>
          <p:blipFill>
            <a:blip r:embed="rId6"/>
            <a:stretch/>
          </p:blipFill>
          <p:spPr>
            <a:xfrm>
              <a:off x="-27000" y="2901960"/>
              <a:ext cx="5080680" cy="596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Группа 21"/>
          <p:cNvGrpSpPr/>
          <p:nvPr/>
        </p:nvGrpSpPr>
        <p:grpSpPr>
          <a:xfrm>
            <a:off x="2646720" y="6470640"/>
            <a:ext cx="405720" cy="356040"/>
            <a:chOff x="2646720" y="6470640"/>
            <a:chExt cx="405720" cy="356040"/>
          </a:xfrm>
        </p:grpSpPr>
        <p:sp>
          <p:nvSpPr>
            <p:cNvPr id="367" name="Овал 22"/>
            <p:cNvSpPr/>
            <p:nvPr/>
          </p:nvSpPr>
          <p:spPr>
            <a:xfrm rot="7987200">
              <a:off x="2926080" y="6724080"/>
              <a:ext cx="119520" cy="6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8" name="Овал 23"/>
            <p:cNvGrpSpPr/>
            <p:nvPr/>
          </p:nvGrpSpPr>
          <p:grpSpPr>
            <a:xfrm>
              <a:off x="2646720" y="6470640"/>
              <a:ext cx="389160" cy="311040"/>
              <a:chOff x="2646720" y="6470640"/>
              <a:chExt cx="389160" cy="311040"/>
            </a:xfrm>
          </p:grpSpPr>
          <p:pic>
            <p:nvPicPr>
              <p:cNvPr id="369" name="Овал 23" descr="">
                <a:hlinkClick r:id="" action="ppaction://hlinkshowjump?jump=next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2646720" y="6470280"/>
                <a:ext cx="38916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 rot="7986600">
                <a:off x="2760840" y="6490800"/>
                <a:ext cx="169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1" name="Прямая соединительная линия 24"/>
            <p:cNvSpPr/>
            <p:nvPr/>
          </p:nvSpPr>
          <p:spPr>
            <a:xfrm flipH="1" flipV="1">
              <a:off x="2705040" y="6495480"/>
              <a:ext cx="28152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Овал 25"/>
            <p:cNvSpPr/>
            <p:nvPr/>
          </p:nvSpPr>
          <p:spPr>
            <a:xfrm rot="7987200">
              <a:off x="2985480" y="676764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Овал 26"/>
            <p:cNvSpPr/>
            <p:nvPr/>
          </p:nvSpPr>
          <p:spPr>
            <a:xfrm rot="7987200">
              <a:off x="2937600" y="6649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Овал 27"/>
            <p:cNvSpPr/>
            <p:nvPr/>
          </p:nvSpPr>
          <p:spPr>
            <a:xfrm rot="7987200">
              <a:off x="2907000" y="65790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Овал 28"/>
            <p:cNvSpPr/>
            <p:nvPr/>
          </p:nvSpPr>
          <p:spPr>
            <a:xfrm rot="7987200">
              <a:off x="2855880" y="65311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Овал 29"/>
            <p:cNvSpPr/>
            <p:nvPr/>
          </p:nvSpPr>
          <p:spPr>
            <a:xfrm rot="7987200">
              <a:off x="2783880" y="65052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Овал 30"/>
            <p:cNvSpPr/>
            <p:nvPr/>
          </p:nvSpPr>
          <p:spPr>
            <a:xfrm rot="7987200">
              <a:off x="2876040" y="67143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Овал 31"/>
            <p:cNvSpPr/>
            <p:nvPr/>
          </p:nvSpPr>
          <p:spPr>
            <a:xfrm rot="7987200">
              <a:off x="2804400" y="668844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Овал 32"/>
            <p:cNvSpPr/>
            <p:nvPr/>
          </p:nvSpPr>
          <p:spPr>
            <a:xfrm rot="7987200">
              <a:off x="2753280" y="66409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Овал 33"/>
            <p:cNvSpPr/>
            <p:nvPr/>
          </p:nvSpPr>
          <p:spPr>
            <a:xfrm rot="7987200">
              <a:off x="2722680" y="65707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Группа 34"/>
          <p:cNvGrpSpPr/>
          <p:nvPr/>
        </p:nvGrpSpPr>
        <p:grpSpPr>
          <a:xfrm>
            <a:off x="91440" y="6401880"/>
            <a:ext cx="410400" cy="353160"/>
            <a:chOff x="91440" y="6401880"/>
            <a:chExt cx="410400" cy="353160"/>
          </a:xfrm>
        </p:grpSpPr>
        <p:sp>
          <p:nvSpPr>
            <p:cNvPr id="382" name="Овал 35"/>
            <p:cNvSpPr/>
            <p:nvPr/>
          </p:nvSpPr>
          <p:spPr>
            <a:xfrm rot="13759200">
              <a:off x="96840" y="6649560"/>
              <a:ext cx="1234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3" name="Овал 36"/>
            <p:cNvGrpSpPr/>
            <p:nvPr/>
          </p:nvGrpSpPr>
          <p:grpSpPr>
            <a:xfrm>
              <a:off x="101520" y="6401880"/>
              <a:ext cx="400320" cy="312120"/>
              <a:chOff x="101520" y="6401880"/>
              <a:chExt cx="400320" cy="312120"/>
            </a:xfrm>
          </p:grpSpPr>
          <p:pic>
            <p:nvPicPr>
              <p:cNvPr id="384" name="Овал 36" descr="">
                <a:hlinkClick r:id="" action="ppaction://hlinkshowjump?jump=previousslide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101520" y="6401520"/>
                <a:ext cx="40032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 rot="13758600">
                <a:off x="219600" y="6419880"/>
                <a:ext cx="1746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Прямая соединительная линия 37"/>
            <p:cNvSpPr/>
            <p:nvPr/>
          </p:nvSpPr>
          <p:spPr>
            <a:xfrm flipV="1">
              <a:off x="159840" y="6430680"/>
              <a:ext cx="295560" cy="25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Овал 38"/>
            <p:cNvSpPr/>
            <p:nvPr/>
          </p:nvSpPr>
          <p:spPr>
            <a:xfrm rot="13759200">
              <a:off x="97920" y="6694200"/>
              <a:ext cx="6156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Овал 39"/>
            <p:cNvSpPr/>
            <p:nvPr/>
          </p:nvSpPr>
          <p:spPr>
            <a:xfrm rot="13759200">
              <a:off x="240480" y="66445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Овал 40"/>
            <p:cNvSpPr/>
            <p:nvPr/>
          </p:nvSpPr>
          <p:spPr>
            <a:xfrm rot="13759200">
              <a:off x="314640" y="662184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Овал 41"/>
            <p:cNvSpPr/>
            <p:nvPr/>
          </p:nvSpPr>
          <p:spPr>
            <a:xfrm rot="13759200">
              <a:off x="368280" y="6575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Овал 42"/>
            <p:cNvSpPr/>
            <p:nvPr/>
          </p:nvSpPr>
          <p:spPr>
            <a:xfrm rot="13759200">
              <a:off x="402120" y="65059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Овал 43"/>
            <p:cNvSpPr/>
            <p:nvPr/>
          </p:nvSpPr>
          <p:spPr>
            <a:xfrm rot="13759200">
              <a:off x="180360" y="65743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Овал 44"/>
            <p:cNvSpPr/>
            <p:nvPr/>
          </p:nvSpPr>
          <p:spPr>
            <a:xfrm rot="13759200">
              <a:off x="213840" y="650448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Овал 45"/>
            <p:cNvSpPr/>
            <p:nvPr/>
          </p:nvSpPr>
          <p:spPr>
            <a:xfrm rot="13759200">
              <a:off x="267840" y="645840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Овал 46"/>
            <p:cNvSpPr/>
            <p:nvPr/>
          </p:nvSpPr>
          <p:spPr>
            <a:xfrm rot="13759200">
              <a:off x="341640" y="6435720"/>
              <a:ext cx="3060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Группа 47"/>
          <p:cNvGrpSpPr/>
          <p:nvPr/>
        </p:nvGrpSpPr>
        <p:grpSpPr>
          <a:xfrm>
            <a:off x="8516880" y="178560"/>
            <a:ext cx="453240" cy="306720"/>
            <a:chOff x="8516880" y="178560"/>
            <a:chExt cx="453240" cy="306720"/>
          </a:xfrm>
        </p:grpSpPr>
        <p:sp>
          <p:nvSpPr>
            <p:cNvPr id="397" name="Овал 48"/>
            <p:cNvSpPr/>
            <p:nvPr/>
          </p:nvSpPr>
          <p:spPr>
            <a:xfrm rot="4965000">
              <a:off x="8844840" y="277920"/>
              <a:ext cx="13356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Овал 49"/>
            <p:cNvGrpSpPr/>
            <p:nvPr/>
          </p:nvGrpSpPr>
          <p:grpSpPr>
            <a:xfrm>
              <a:off x="8516880" y="178560"/>
              <a:ext cx="415800" cy="306720"/>
              <a:chOff x="8516880" y="178560"/>
              <a:chExt cx="415800" cy="306720"/>
            </a:xfrm>
          </p:grpSpPr>
          <p:pic>
            <p:nvPicPr>
              <p:cNvPr id="399" name="Овал 49" descr="">
                <a:hlinkClick r:id="" action="ppaction://hlinkshowjump?jump=endshow"/>
              </p:cNvPr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8516880" y="178200"/>
                <a:ext cx="41580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4964400">
                <a:off x="8633520" y="203400"/>
                <a:ext cx="1890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1" name="Прямая соединительная линия 50"/>
            <p:cNvSpPr/>
            <p:nvPr/>
          </p:nvSpPr>
          <p:spPr>
            <a:xfrm flipH="1">
              <a:off x="8542800" y="311040"/>
              <a:ext cx="3682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Овал 51"/>
            <p:cNvSpPr/>
            <p:nvPr/>
          </p:nvSpPr>
          <p:spPr>
            <a:xfrm rot="4965000">
              <a:off x="8916120" y="288720"/>
              <a:ext cx="66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Овал 52"/>
            <p:cNvSpPr/>
            <p:nvPr/>
          </p:nvSpPr>
          <p:spPr>
            <a:xfrm rot="4965000">
              <a:off x="8805240" y="25560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Овал 53"/>
            <p:cNvSpPr/>
            <p:nvPr/>
          </p:nvSpPr>
          <p:spPr>
            <a:xfrm rot="4965000">
              <a:off x="8733600" y="2311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Овал 54"/>
            <p:cNvSpPr/>
            <p:nvPr/>
          </p:nvSpPr>
          <p:spPr>
            <a:xfrm rot="4965000">
              <a:off x="8666640" y="2397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Овал 55"/>
            <p:cNvSpPr/>
            <p:nvPr/>
          </p:nvSpPr>
          <p:spPr>
            <a:xfrm rot="4965000">
              <a:off x="8604000" y="2811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Овал 56"/>
            <p:cNvSpPr/>
            <p:nvPr/>
          </p:nvSpPr>
          <p:spPr>
            <a:xfrm rot="4965000">
              <a:off x="8817840" y="3549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Овал 57"/>
            <p:cNvSpPr/>
            <p:nvPr/>
          </p:nvSpPr>
          <p:spPr>
            <a:xfrm rot="4965000">
              <a:off x="8754840" y="3967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Овал 58"/>
            <p:cNvSpPr/>
            <p:nvPr/>
          </p:nvSpPr>
          <p:spPr>
            <a:xfrm rot="4965000">
              <a:off x="8687520" y="40536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Овал 59"/>
            <p:cNvSpPr/>
            <p:nvPr/>
          </p:nvSpPr>
          <p:spPr>
            <a:xfrm rot="4965000">
              <a:off x="8616600" y="380520"/>
              <a:ext cx="3312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Группа 7"/>
          <p:cNvGrpSpPr/>
          <p:nvPr/>
        </p:nvGrpSpPr>
        <p:grpSpPr>
          <a:xfrm>
            <a:off x="-254520" y="-27000"/>
            <a:ext cx="9463680" cy="8979840"/>
            <a:chOff x="-254520" y="-27000"/>
            <a:chExt cx="9463680" cy="8979840"/>
          </a:xfrm>
        </p:grpSpPr>
        <p:grpSp>
          <p:nvGrpSpPr>
            <p:cNvPr id="450" name="Полилиния 8"/>
            <p:cNvGrpSpPr/>
            <p:nvPr/>
          </p:nvGrpSpPr>
          <p:grpSpPr>
            <a:xfrm>
              <a:off x="-84240" y="5003280"/>
              <a:ext cx="9189000" cy="3056400"/>
              <a:chOff x="-84240" y="5003280"/>
              <a:chExt cx="9189000" cy="3056400"/>
            </a:xfrm>
          </p:grpSpPr>
          <p:pic>
            <p:nvPicPr>
              <p:cNvPr id="451" name="Полилиния 8" descr=""/>
              <p:cNvPicPr/>
              <p:nvPr/>
            </p:nvPicPr>
            <p:blipFill>
              <a:blip r:embed="rId2"/>
              <a:stretch/>
            </p:blipFill>
            <p:spPr>
              <a:xfrm>
                <a:off x="-84240" y="5003280"/>
                <a:ext cx="9189000" cy="30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 rot="10800000">
                <a:off x="-32040" y="5205960"/>
                <a:ext cx="8842680" cy="265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Полилиния 9"/>
            <p:cNvGrpSpPr/>
            <p:nvPr/>
          </p:nvGrpSpPr>
          <p:grpSpPr>
            <a:xfrm>
              <a:off x="-254520" y="4328280"/>
              <a:ext cx="9050400" cy="4624560"/>
              <a:chOff x="-254520" y="4328280"/>
              <a:chExt cx="9050400" cy="4624560"/>
            </a:xfrm>
          </p:grpSpPr>
          <p:pic>
            <p:nvPicPr>
              <p:cNvPr id="454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73800" y="5705280"/>
                <a:ext cx="8869680" cy="14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4496400">
                <a:off x="2961720" y="2357640"/>
                <a:ext cx="2484360" cy="85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56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3909240" y="2287440"/>
              <a:ext cx="5299920" cy="52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Группа 11" descr=""/>
            <p:cNvPicPr/>
            <p:nvPr/>
          </p:nvPicPr>
          <p:blipFill>
            <a:blip r:embed="rId5"/>
            <a:stretch/>
          </p:blipFill>
          <p:spPr>
            <a:xfrm>
              <a:off x="-90360" y="-27000"/>
              <a:ext cx="2151360" cy="329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Группа 21"/>
          <p:cNvGrpSpPr/>
          <p:nvPr/>
        </p:nvGrpSpPr>
        <p:grpSpPr>
          <a:xfrm>
            <a:off x="7777440" y="4619880"/>
            <a:ext cx="406080" cy="357120"/>
            <a:chOff x="7777440" y="4619880"/>
            <a:chExt cx="406080" cy="357120"/>
          </a:xfrm>
        </p:grpSpPr>
        <p:sp>
          <p:nvSpPr>
            <p:cNvPr id="459" name="Овал 22"/>
            <p:cNvSpPr/>
            <p:nvPr/>
          </p:nvSpPr>
          <p:spPr>
            <a:xfrm rot="7987200">
              <a:off x="8057160" y="4874400"/>
              <a:ext cx="11952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0" name="Овал 23"/>
            <p:cNvGrpSpPr/>
            <p:nvPr/>
          </p:nvGrpSpPr>
          <p:grpSpPr>
            <a:xfrm>
              <a:off x="7777440" y="4619880"/>
              <a:ext cx="390600" cy="312120"/>
              <a:chOff x="7777440" y="4619880"/>
              <a:chExt cx="390600" cy="312120"/>
            </a:xfrm>
          </p:grpSpPr>
          <p:pic>
            <p:nvPicPr>
              <p:cNvPr id="461" name="Овал 23" descr="">
                <a:hlinkClick r:id="" action="ppaction://hlinkshowjump?jump=nextslide"/>
              </p:cNvPr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7777440" y="4619520"/>
                <a:ext cx="39060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 rot="7986600">
                <a:off x="7890840" y="4640040"/>
                <a:ext cx="16920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3" name="Прямая соединительная линия 24"/>
            <p:cNvSpPr/>
            <p:nvPr/>
          </p:nvSpPr>
          <p:spPr>
            <a:xfrm flipH="1" flipV="1">
              <a:off x="7834680" y="4644360"/>
              <a:ext cx="28260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Овал 25"/>
            <p:cNvSpPr/>
            <p:nvPr/>
          </p:nvSpPr>
          <p:spPr>
            <a:xfrm rot="7987200">
              <a:off x="8116200" y="4918320"/>
              <a:ext cx="5976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Овал 26"/>
            <p:cNvSpPr/>
            <p:nvPr/>
          </p:nvSpPr>
          <p:spPr>
            <a:xfrm rot="7987200">
              <a:off x="8068320" y="47991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Овал 27"/>
            <p:cNvSpPr/>
            <p:nvPr/>
          </p:nvSpPr>
          <p:spPr>
            <a:xfrm rot="7987200">
              <a:off x="8037000" y="47293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Овал 28"/>
            <p:cNvSpPr/>
            <p:nvPr/>
          </p:nvSpPr>
          <p:spPr>
            <a:xfrm rot="7987200">
              <a:off x="7985880" y="468108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Овал 29"/>
            <p:cNvSpPr/>
            <p:nvPr/>
          </p:nvSpPr>
          <p:spPr>
            <a:xfrm rot="7987200">
              <a:off x="7914240" y="46551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Овал 30"/>
            <p:cNvSpPr/>
            <p:nvPr/>
          </p:nvSpPr>
          <p:spPr>
            <a:xfrm rot="7987200">
              <a:off x="8006760" y="486468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Овал 31"/>
            <p:cNvSpPr/>
            <p:nvPr/>
          </p:nvSpPr>
          <p:spPr>
            <a:xfrm rot="7987200">
              <a:off x="7935120" y="483840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Овал 32"/>
            <p:cNvSpPr/>
            <p:nvPr/>
          </p:nvSpPr>
          <p:spPr>
            <a:xfrm rot="7987200">
              <a:off x="7883640" y="479016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Овал 33"/>
            <p:cNvSpPr/>
            <p:nvPr/>
          </p:nvSpPr>
          <p:spPr>
            <a:xfrm rot="7987200">
              <a:off x="7853040" y="4720320"/>
              <a:ext cx="2988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Группа 34"/>
          <p:cNvGrpSpPr/>
          <p:nvPr/>
        </p:nvGrpSpPr>
        <p:grpSpPr>
          <a:xfrm>
            <a:off x="6178320" y="5124960"/>
            <a:ext cx="409680" cy="352440"/>
            <a:chOff x="6178320" y="5124960"/>
            <a:chExt cx="409680" cy="352440"/>
          </a:xfrm>
        </p:grpSpPr>
        <p:sp>
          <p:nvSpPr>
            <p:cNvPr id="474" name="Овал 35"/>
            <p:cNvSpPr/>
            <p:nvPr/>
          </p:nvSpPr>
          <p:spPr>
            <a:xfrm rot="13759200">
              <a:off x="6183360" y="5373000"/>
              <a:ext cx="1216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Овал 36"/>
            <p:cNvGrpSpPr/>
            <p:nvPr/>
          </p:nvGrpSpPr>
          <p:grpSpPr>
            <a:xfrm>
              <a:off x="6190200" y="5124960"/>
              <a:ext cx="397800" cy="311400"/>
              <a:chOff x="6190200" y="5124960"/>
              <a:chExt cx="397800" cy="311400"/>
            </a:xfrm>
          </p:grpSpPr>
          <p:pic>
            <p:nvPicPr>
              <p:cNvPr id="476" name="Овал 36" descr="">
                <a:hlinkClick r:id="" action="ppaction://hlinkshowjump?jump=previousslide"/>
              </p:cNvPr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6190200" y="5124600"/>
                <a:ext cx="39780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13758600">
                <a:off x="6306120" y="5144400"/>
                <a:ext cx="1720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8" name="Прямая соединительная линия 37"/>
            <p:cNvSpPr/>
            <p:nvPr/>
          </p:nvSpPr>
          <p:spPr>
            <a:xfrm flipV="1">
              <a:off x="6245280" y="5155560"/>
              <a:ext cx="29376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Овал 38"/>
            <p:cNvSpPr/>
            <p:nvPr/>
          </p:nvSpPr>
          <p:spPr>
            <a:xfrm rot="13759200">
              <a:off x="6184080" y="5417280"/>
              <a:ext cx="608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Овал 39"/>
            <p:cNvSpPr/>
            <p:nvPr/>
          </p:nvSpPr>
          <p:spPr>
            <a:xfrm rot="13759200">
              <a:off x="6325560" y="536832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Овал 40"/>
            <p:cNvSpPr/>
            <p:nvPr/>
          </p:nvSpPr>
          <p:spPr>
            <a:xfrm rot="13759200">
              <a:off x="6398640" y="534528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Овал 41"/>
            <p:cNvSpPr/>
            <p:nvPr/>
          </p:nvSpPr>
          <p:spPr>
            <a:xfrm rot="13759200">
              <a:off x="6452280" y="529920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Овал 42"/>
            <p:cNvSpPr/>
            <p:nvPr/>
          </p:nvSpPr>
          <p:spPr>
            <a:xfrm rot="13759200">
              <a:off x="6486120" y="523044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Овал 43"/>
            <p:cNvSpPr/>
            <p:nvPr/>
          </p:nvSpPr>
          <p:spPr>
            <a:xfrm rot="13759200">
              <a:off x="6265800" y="529920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Овал 44"/>
            <p:cNvSpPr/>
            <p:nvPr/>
          </p:nvSpPr>
          <p:spPr>
            <a:xfrm rot="13759200">
              <a:off x="6299280" y="522972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Овал 45"/>
            <p:cNvSpPr/>
            <p:nvPr/>
          </p:nvSpPr>
          <p:spPr>
            <a:xfrm rot="13759200">
              <a:off x="6352920" y="518400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Овал 46"/>
            <p:cNvSpPr/>
            <p:nvPr/>
          </p:nvSpPr>
          <p:spPr>
            <a:xfrm rot="13759200">
              <a:off x="6426360" y="5160960"/>
              <a:ext cx="30240" cy="3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Группа 47"/>
          <p:cNvGrpSpPr/>
          <p:nvPr/>
        </p:nvGrpSpPr>
        <p:grpSpPr>
          <a:xfrm>
            <a:off x="8535960" y="6368040"/>
            <a:ext cx="452880" cy="307800"/>
            <a:chOff x="8535960" y="6368040"/>
            <a:chExt cx="452880" cy="307800"/>
          </a:xfrm>
        </p:grpSpPr>
        <p:sp>
          <p:nvSpPr>
            <p:cNvPr id="489" name="Овал 48"/>
            <p:cNvSpPr/>
            <p:nvPr/>
          </p:nvSpPr>
          <p:spPr>
            <a:xfrm rot="4965000">
              <a:off x="8863200" y="6465240"/>
              <a:ext cx="13392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0" name="Овал 49"/>
            <p:cNvGrpSpPr/>
            <p:nvPr/>
          </p:nvGrpSpPr>
          <p:grpSpPr>
            <a:xfrm>
              <a:off x="8535960" y="6368040"/>
              <a:ext cx="420480" cy="307800"/>
              <a:chOff x="8535960" y="6368040"/>
              <a:chExt cx="420480" cy="307800"/>
            </a:xfrm>
          </p:grpSpPr>
          <p:pic>
            <p:nvPicPr>
              <p:cNvPr id="491" name="Овал 49" descr="">
                <a:hlinkClick r:id="" action="ppaction://hlinkshowjump?jump=endshow"/>
              </p:cNvPr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8535960" y="6367680"/>
                <a:ext cx="420480" cy="30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 rot="4964400">
                <a:off x="8651520" y="6391080"/>
                <a:ext cx="1897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3" name="Прямая соединительная линия 50"/>
            <p:cNvSpPr/>
            <p:nvPr/>
          </p:nvSpPr>
          <p:spPr>
            <a:xfrm flipH="1">
              <a:off x="8562960" y="6498720"/>
              <a:ext cx="3672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Овал 51"/>
            <p:cNvSpPr/>
            <p:nvPr/>
          </p:nvSpPr>
          <p:spPr>
            <a:xfrm rot="4965000">
              <a:off x="8934480" y="6476400"/>
              <a:ext cx="6696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Овал 52"/>
            <p:cNvSpPr/>
            <p:nvPr/>
          </p:nvSpPr>
          <p:spPr>
            <a:xfrm rot="4965000">
              <a:off x="8823960" y="644292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Овал 53"/>
            <p:cNvSpPr/>
            <p:nvPr/>
          </p:nvSpPr>
          <p:spPr>
            <a:xfrm rot="4965000">
              <a:off x="8752680" y="641808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Овал 54"/>
            <p:cNvSpPr/>
            <p:nvPr/>
          </p:nvSpPr>
          <p:spPr>
            <a:xfrm rot="4965000">
              <a:off x="8686080" y="642636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Овал 55"/>
            <p:cNvSpPr/>
            <p:nvPr/>
          </p:nvSpPr>
          <p:spPr>
            <a:xfrm rot="4965000">
              <a:off x="8623440" y="646848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Овал 56"/>
            <p:cNvSpPr/>
            <p:nvPr/>
          </p:nvSpPr>
          <p:spPr>
            <a:xfrm rot="4965000">
              <a:off x="8836560" y="654264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Овал 57"/>
            <p:cNvSpPr/>
            <p:nvPr/>
          </p:nvSpPr>
          <p:spPr>
            <a:xfrm rot="4965000">
              <a:off x="8773920" y="658440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Овал 58"/>
            <p:cNvSpPr/>
            <p:nvPr/>
          </p:nvSpPr>
          <p:spPr>
            <a:xfrm rot="4965000">
              <a:off x="8707320" y="659304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Овал 59"/>
            <p:cNvSpPr/>
            <p:nvPr/>
          </p:nvSpPr>
          <p:spPr>
            <a:xfrm rot="4965000">
              <a:off x="8636040" y="6568200"/>
              <a:ext cx="3348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995640" y="2565360"/>
            <a:ext cx="4665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Экологическое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оспитание детей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ошкольного возраста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859280" y="620640"/>
            <a:ext cx="338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МБДОУ "Детский сад №28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12000" y="551664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дготовила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Саляхетдинова О.В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Объект 2"/>
          <p:cNvSpPr/>
          <p:nvPr/>
        </p:nvSpPr>
        <p:spPr>
          <a:xfrm>
            <a:off x="468360" y="333360"/>
            <a:ext cx="8209080" cy="63356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1763640" y="476280"/>
            <a:ext cx="6032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Изготовление стенгазеты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"Природа Южного Урала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Объект 2"/>
          <p:cNvSpPr/>
          <p:nvPr/>
        </p:nvSpPr>
        <p:spPr>
          <a:xfrm>
            <a:off x="250920" y="404640"/>
            <a:ext cx="864216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124000" y="692280"/>
            <a:ext cx="495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собие по темам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4030920" cy="40305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Объект 2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32000" y="476280"/>
            <a:ext cx="66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Тематические альбомы,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алгоритмы для составления рассказов,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альбомы для экспериментальной деятельност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887640" cy="38894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888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Объект 2"/>
          <p:cNvSpPr/>
          <p:nvPr/>
        </p:nvSpPr>
        <p:spPr>
          <a:xfrm>
            <a:off x="684360" y="404640"/>
            <a:ext cx="7848360" cy="6121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1403280" y="62064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Тематические лепбуки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Объект 2"/>
          <p:cNvSpPr/>
          <p:nvPr/>
        </p:nvSpPr>
        <p:spPr>
          <a:xfrm>
            <a:off x="684360" y="260280"/>
            <a:ext cx="7848360" cy="63374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03280" y="47628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идактические игры по экологии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Объект 2"/>
          <p:cNvSpPr/>
          <p:nvPr/>
        </p:nvSpPr>
        <p:spPr>
          <a:xfrm>
            <a:off x="324000" y="260280"/>
            <a:ext cx="856908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76360" y="620640"/>
            <a:ext cx="62485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рогулки, наблюдения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961080" cy="39607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Объект 2"/>
          <p:cNvSpPr/>
          <p:nvPr/>
        </p:nvSpPr>
        <p:spPr>
          <a:xfrm>
            <a:off x="250920" y="260280"/>
            <a:ext cx="856908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268360" y="62064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Труд в природе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60728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84360" y="549360"/>
            <a:ext cx="7921440" cy="57592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Анкетирование, проведение опро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Беседы за круглым столом, родительские собр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Совместные досуги, праздники, виктор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Консультации в родительский угол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Организация развивающей предметно-пространственной сре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Участие в проект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Участие в непосредственно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Совместные рисунки на тему природы, конкурсы подел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Экологический стен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Организация дней открытых двер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Выпуск газет, фотогазет, экологических альбомов, плакатов, консультаций, папок-передвиж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Bookman Old Style"/>
              </a:rPr>
              <a:t>Экологические а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03280" y="90792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Формы работы с родителям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96" name="Picture 2" descr="D:\ДЛЯ ОКТЯБРЯ\Картинки для стенда и блога\ДЛЯ БЛОГА\0_74f6c_8b5db2ad_L.png"/>
          <p:cNvPicPr/>
          <p:nvPr/>
        </p:nvPicPr>
        <p:blipFill>
          <a:blip r:embed="rId1"/>
          <a:stretch/>
        </p:blipFill>
        <p:spPr>
          <a:xfrm>
            <a:off x="7236000" y="4321080"/>
            <a:ext cx="17856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Объект 2"/>
          <p:cNvSpPr/>
          <p:nvPr/>
        </p:nvSpPr>
        <p:spPr>
          <a:xfrm>
            <a:off x="539640" y="333360"/>
            <a:ext cx="8209080" cy="6192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095640" cy="309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3132000" y="620640"/>
            <a:ext cx="5167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Наглядная информация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ля родителей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258920" y="1916280"/>
            <a:ext cx="244800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апки-передвижк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716360" y="2349360"/>
            <a:ext cx="3456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Консультации, памятки,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буклеты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Объект 2"/>
          <p:cNvSpPr/>
          <p:nvPr/>
        </p:nvSpPr>
        <p:spPr>
          <a:xfrm>
            <a:off x="179280" y="260280"/>
            <a:ext cx="871380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258920" y="69228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ыставка поделок из овощей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388800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23640" y="764640"/>
            <a:ext cx="8064360" cy="4969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Воспитание экологически грамотного, социально актив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дошкольника, ответственного за состояние окружающей ср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бережно относящегося к богатствам прир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8360" y="1052640"/>
            <a:ext cx="532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Цель экологического воспитания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8360" y="2637000"/>
            <a:ext cx="1295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Задачи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328464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Формирование представлений о том, что человек часть природы и что он должен беречь, охранять и защищать её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Формирование навыков культуры поведения в прир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Расширять представления о способах правильного взаимодействия с растениями и живот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Воспитывать у детей заботливое отношение к природе путем целенаправленного общения их с природ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Объект 2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258920" y="69228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недрение здоровьесберегающих технологий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5148360" y="458136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2916360" y="2637000"/>
            <a:ext cx="1869840" cy="18730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5"/>
          <a:stretch/>
        </p:blipFill>
        <p:spPr>
          <a:xfrm>
            <a:off x="1187280" y="198900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410920" y="259920"/>
            <a:ext cx="6480360" cy="6264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Познавательные зан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Экскурсия в прир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Трудовая деятельность в уголке природы, на участке  и на  ок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Чтение литературы, рассматривание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   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демонстрационного материла, разучивание стихов, пословиц, поговорок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Дидактические, сюжетно-ролевые, подвижные иг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Проведение музыкальных и спортивных развлеч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Оформление выставки детских раб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Наблюдение за животным растительным миром, за  трудом взросл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Экспериментир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627280" y="620640"/>
            <a:ext cx="612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Содержание работы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 экологическому воспитанию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дошкольнико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402920" y="1483920"/>
            <a:ext cx="7489800" cy="4032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Создание развивающей предметно - пространственной  среды.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Работа с детьми.</a:t>
            </a:r>
            <a:br>
              <a:rPr sz="1800"/>
            </a:b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Bookman Old Style"/>
              </a:rPr>
              <a:t>Сотрудничество с родителями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348000" y="1916280"/>
            <a:ext cx="47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Направления работы: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Объект 2"/>
          <p:cNvSpPr/>
          <p:nvPr/>
        </p:nvSpPr>
        <p:spPr>
          <a:xfrm>
            <a:off x="468360" y="333360"/>
            <a:ext cx="8209080" cy="6192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050920" y="476280"/>
            <a:ext cx="518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Центр природы 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Объект 2"/>
          <p:cNvSpPr/>
          <p:nvPr/>
        </p:nvSpPr>
        <p:spPr>
          <a:xfrm>
            <a:off x="250920" y="260280"/>
            <a:ext cx="8785080" cy="6408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258920" y="40464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Формы работы с детьми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464000" cy="4248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033800" cy="4248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2411280" y="1052640"/>
            <a:ext cx="63928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Беседа "Земля Уральская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Полезные ископаемые Южного Урала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Объект 2"/>
          <p:cNvSpPr/>
          <p:nvPr/>
        </p:nvSpPr>
        <p:spPr>
          <a:xfrm>
            <a:off x="324000" y="189000"/>
            <a:ext cx="8569080" cy="6408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195640" y="549360"/>
            <a:ext cx="487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НОД  конструирование 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Оригами "Лебедь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0418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Объект 2"/>
          <p:cNvSpPr/>
          <p:nvPr/>
        </p:nvSpPr>
        <p:spPr>
          <a:xfrm>
            <a:off x="324000" y="260280"/>
            <a:ext cx="8569080" cy="6193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55640" y="549360"/>
            <a:ext cx="756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икторина "Путешествие в страну бумаги"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Объект 2"/>
          <p:cNvSpPr/>
          <p:nvPr/>
        </p:nvSpPr>
        <p:spPr>
          <a:xfrm>
            <a:off x="179280" y="260280"/>
            <a:ext cx="8713800" cy="6264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549360"/>
            <a:ext cx="6392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latin typeface="Bookman Old Style"/>
              </a:rPr>
              <a:t>Выставка рисунков и поделок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8-11-18T07:52:01Z</dcterms:modified>
  <cp:revision>17</cp:revision>
  <dc:subject/>
  <dc:title>Слайд 1</dc:title>
</cp:coreProperties>
</file>