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4B0F50-476B-4CDD-B489-240CAF9D57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A9BA99-51C0-4BDD-A19E-DA30836823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77504A-F748-47EE-B4E0-1CD1875B4A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86392E-E75A-4C39-9BE5-3E00E38226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B8BC5E-1563-40CD-B952-C209A3991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263911-9FBE-4D5B-A3C8-4735EA5BE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0B7B17-A173-4E4D-AD58-97741D66C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3E13CF-5059-4998-865F-2BC57CCDB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F3C4A5-F71B-4FB6-A61B-EC07C3004D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432925-852B-4AFF-92C4-F2F984BED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66A3BC-9AF9-4A67-8B4C-806CBE7776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F4DD03-AE34-44E4-A25A-81373237F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9EB93B-6049-4A81-9B4F-E57F31DF8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64D155-A39D-41F9-86EB-73BF48722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D148A2-1967-4CFA-8DD3-D570CF6D5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AAD0A5-EA6D-41BA-9A15-A845E2212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2A0EFF-879B-464D-B9B5-8DC0AA4DC4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7BE6-7D40-4619-8A0F-8C0575F5F7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4BD0-C62B-410C-943C-99FF5DEB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5A3F-3094-4EF0-A39A-DDCEAD93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855D-E02E-4DD4-8037-004A87248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F543-C6B9-418D-913F-37BB1C70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C3E6-B99F-4629-A0E4-E950C14C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3BB9A-8061-401A-8903-3B47865B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FF5A2-9054-41C4-9EC6-11BD766D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0599-7BDB-478D-BA28-CEA35944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A5AC-D6D0-4CD9-AE84-0E3C8D8D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CCD5-8565-4BEA-8277-4A2E3141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11AC-E883-42F7-9718-7FA81CFF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70251C-3947-4085-9914-28D5CE0C0AA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58972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600" y="9558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Разработка блок-схем документированных процедур системы менеджмента качества (СМК) образовательной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2520" y="3695760"/>
            <a:ext cx="7848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684600" y="5796000"/>
          <a:ext cx="5005080" cy="798120"/>
        </p:xfrm>
        <a:graphic>
          <a:graphicData uri="http://schemas.openxmlformats.org/drawingml/2006/table">
            <a:tbl>
              <a:tblPr/>
              <a:tblGrid>
                <a:gridCol w="2946960"/>
                <a:gridCol w="2058120"/>
              </a:tblGrid>
              <a:tr h="381240">
                <a:tc gridSpan="2"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 gridSpan="2">
                  <a:txBody>
                    <a:bodyPr lIns="50400" rIns="50400" tIns="1512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еждународный конкурс проектных и исследовательских работ обучающих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92200" y="366840"/>
            <a:ext cx="795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Графическое представление хода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51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 (входящий или исходящ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637000"/>
            <a:ext cx="516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акет документов (входящие и исходящ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10000" y="3789360"/>
            <a:ext cx="5164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5084640"/>
            <a:ext cx="2378160" cy="6480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4028" y="0"/>
                </a:moveTo>
                <a:lnTo>
                  <a:pt x="15938" y="0"/>
                </a:lnTo>
                <a:lnTo>
                  <a:pt x="20000" y="10000"/>
                </a:lnTo>
                <a:lnTo>
                  <a:pt x="15938" y="20000"/>
                </a:lnTo>
                <a:lnTo>
                  <a:pt x="4028" y="20000"/>
                </a:lnTo>
                <a:lnTo>
                  <a:pt x="0" y="10000"/>
                </a:lnTo>
                <a:lnTo>
                  <a:pt x="4028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5229360"/>
            <a:ext cx="5164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иклические действ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1700280"/>
            <a:ext cx="1873440" cy="720720"/>
          </a:xfrm>
          <a:prstGeom prst="flowChartDocumen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2637000"/>
            <a:ext cx="1943280" cy="863280"/>
          </a:xfrm>
          <a:prstGeom prst="flowChartMultidocumen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3716280"/>
            <a:ext cx="1656000" cy="936720"/>
          </a:xfrm>
          <a:prstGeom prst="flowChartMagneticDisk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3933720"/>
            <a:ext cx="51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Microsoft YaHei"/>
              </a:rPr>
              <a:t>7. Оценка процесса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Microsoft YaHei"/>
              </a:rPr>
              <a:t>(критерии результативност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Microsoft YaHei"/>
              </a:rPr>
              <a:t>Показатели результативности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оцесса, характеризуют степень достижения цели процесса и запланирован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Для определения результативности процесса, необходимо вспомн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с какой целью данный процесс реализуется в орган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ую ценность он для нее представля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кто является потребителем результата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ие требования предъявляет потребитель к процессу и его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Microsoft YaHei"/>
              </a:rPr>
              <a:t>Блок-схема основ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3760" y="1757520"/>
            <a:ext cx="9191520" cy="33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3284640"/>
            <a:ext cx="9134640" cy="3905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9152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360" y="3284640"/>
            <a:ext cx="9134640" cy="3905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91520" cy="3343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47640" y="3284640"/>
            <a:ext cx="4032360" cy="36180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13000"/>
            <a:ext cx="1835280" cy="100800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3860640"/>
            <a:ext cx="4032360" cy="36036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165720"/>
            <a:ext cx="1835280" cy="100836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5589720"/>
            <a:ext cx="1834920" cy="100800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Microsoft YaHei"/>
              </a:rPr>
              <a:t>Блок-схема основ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81000" y="1328760"/>
            <a:ext cx="9306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Microsoft YaHei"/>
              </a:rPr>
              <a:t>Блок-схема соз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81048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Microsoft YaHei"/>
              </a:rPr>
              <a:t>Понятия валидации и вер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341360"/>
            <a:ext cx="896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алид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гарантированная уверенность организации в том, что услуга соответствует всем необходимым стандар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рифик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процедура проверки, что услуга соответствует всем изначально заданным треб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4600440"/>
            <a:ext cx="3276720" cy="22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Microsoft YaHei"/>
              </a:rPr>
              <a:t>Понятия валидации и вер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907920"/>
            <a:ext cx="76438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Microsoft YaHei"/>
              </a:rPr>
              <a:t>1               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1601640"/>
            <a:ext cx="8136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Microsoft YaHei"/>
              </a:rPr>
              <a:t>Блок-схема поддерживающе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4720" y="692280"/>
            <a:ext cx="8639280" cy="56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труктура документации СМ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6520" y="1989000"/>
            <a:ext cx="8130960" cy="4332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89880" y="0"/>
            <a:ext cx="15541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Microsoft YaHei"/>
              </a:rPr>
              <a:t>Блок-схема поддерживающе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4720" y="692280"/>
            <a:ext cx="8639280" cy="5629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77080" y="4005360"/>
            <a:ext cx="1440" cy="1655640"/>
          </a:xfrm>
          <a:prstGeom prst="line">
            <a:avLst/>
          </a:prstGeom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78200" y="5661000"/>
            <a:ext cx="3100320" cy="144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60560" y="0"/>
            <a:ext cx="52228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03640" y="6381720"/>
            <a:ext cx="3168720" cy="47628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Microsoft YaHei"/>
              </a:rPr>
              <a:t>Варианты блок-сх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779148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Microsoft YaHei"/>
              </a:rPr>
              <a:t>Варианты блок-сх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820000" cy="55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7040" y="981000"/>
            <a:ext cx="8886960" cy="5657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40464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Варианты блок-сх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85200" y="279360"/>
            <a:ext cx="1217520" cy="100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417680"/>
            <a:ext cx="82296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4.4.2 Организация должна в необходимом объем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разрабатывать, актуализировать и применять документированную информацию для обеспечения функционирования процес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регистрировать и сохранять документированную информацию для обеспечения уверенности в том, что эти процессы осуществляются в соответствии с тем, как это было запланиров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0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окументация С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1280" y="235080"/>
            <a:ext cx="682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Microsoft YaHei"/>
              </a:rPr>
              <a:t>Процесс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ледовательность  взаимосвязанных  или взаимодействующи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видов  деятельности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преобразующих входы в вых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85200" y="279360"/>
            <a:ext cx="1217520" cy="100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8041"/>
          <a:stretch/>
        </p:blipFill>
        <p:spPr>
          <a:xfrm>
            <a:off x="247680" y="1752480"/>
            <a:ext cx="878832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413000"/>
            <a:ext cx="8229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1. Область при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2. Нормативные с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3. Определения, обозначения, сокра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4. Основные по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5. Ответств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6. Порядок реализации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7. Оценка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8. Записи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9. Приложения: формы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23320" y="0"/>
            <a:ext cx="1120680" cy="1143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89000"/>
            <a:ext cx="756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труктура документированной процед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746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4. Основные положения документированной процедуры : примеры крупных шагов процес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773360"/>
            <a:ext cx="8713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Microsoft YaHei"/>
              </a:rPr>
              <a:t>ОП02 «Проектирование образовательных программ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4.2. Основные направления деятель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4.2.1. Проектирование ООП (бакалавриат, магистрату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4.2.2. Проектирование дополнительных образовательны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4.2.3. Проектирование образовательных программ послевузовского профессионально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аспиранту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746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4. Основные положения документированной процедуры : примеры крупных шагов процес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341360"/>
            <a:ext cx="8964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4.4. Процесс управления персоналом включает следующие виды деятель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•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Обеспечение кадра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Обучение персонала, повышение квалификац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•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Аттестация персон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74680"/>
            <a:ext cx="9144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5. Ответствен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700280"/>
            <a:ext cx="87138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5.1. Ответственность за процесс в целом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Microsoft YaHei"/>
              </a:rPr>
              <a:t>Руководитель процесса (владелец процес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  <a:ea typeface="Microsoft YaHe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5.2. Ответственность за направления деятельности в рамках процес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Microsoft YaHei"/>
              </a:rPr>
              <a:t>за каждый крупный шаг должна быть определена ответственность – и это НЕ руководите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  <a:ea typeface="Microsoft YaHe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6. Порядок реализации процесса </a:t>
            </a:r>
            <a:br>
              <a:rPr sz="24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6.1. Описание деятельности вербальн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6.2. Представление последовательности деятельности по каждому направлению в форме блок-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Графические симво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7760" y="2421000"/>
            <a:ext cx="1887840" cy="5047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0160" y="2421000"/>
            <a:ext cx="51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ало и конец действ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7760" y="3286080"/>
            <a:ext cx="1887840" cy="35388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40160" y="3213000"/>
            <a:ext cx="51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йствие в ходе выпол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4000" y="3997440"/>
            <a:ext cx="2704680" cy="1446120"/>
            <a:chOff x="324000" y="3997440"/>
            <a:chExt cx="2704680" cy="1446120"/>
          </a:xfrm>
        </p:grpSpPr>
        <p:sp>
          <p:nvSpPr>
            <p:cNvPr id="79" name=""/>
            <p:cNvSpPr/>
            <p:nvPr/>
          </p:nvSpPr>
          <p:spPr>
            <a:xfrm>
              <a:off x="736560" y="4148280"/>
              <a:ext cx="2292120" cy="718920"/>
            </a:xfrm>
            <a:prstGeom prst="diamond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24000" y="4508640"/>
              <a:ext cx="412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3520" y="4869000"/>
              <a:ext cx="0" cy="574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45160" y="5013360"/>
              <a:ext cx="73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5440" y="3997440"/>
              <a:ext cx="73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438360" y="4221000"/>
            <a:ext cx="51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нятие решения (моменты возможного принятия альтернативного решения – точки задержки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42920" y="5661000"/>
            <a:ext cx="1440000" cy="934920"/>
            <a:chOff x="1042920" y="5661000"/>
            <a:chExt cx="1440000" cy="934920"/>
          </a:xfrm>
        </p:grpSpPr>
        <p:sp>
          <p:nvSpPr>
            <p:cNvPr id="86" name=""/>
            <p:cNvSpPr/>
            <p:nvPr/>
          </p:nvSpPr>
          <p:spPr>
            <a:xfrm>
              <a:off x="1042920" y="6035760"/>
              <a:ext cx="574920" cy="560160"/>
            </a:xfrm>
            <a:prstGeom prst="flowChartOffpageConnector">
              <a:avLst/>
            </a:prstGeom>
            <a:solidFill>
              <a:srgbClr val="ffffff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14360" y="5661000"/>
              <a:ext cx="0" cy="3729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8000" y="5661000"/>
              <a:ext cx="574920" cy="560520"/>
            </a:xfrm>
            <a:prstGeom prst="flowChartOffpageConnector">
              <a:avLst/>
            </a:prstGeom>
            <a:solidFill>
              <a:srgbClr val="ffffff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95640" y="6222960"/>
              <a:ext cx="0" cy="3729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64000" y="5373720"/>
            <a:ext cx="5400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начки переноса этапа процесса с одной страницы на другую с указанием номера страницы, на которую осуществляется переход или от которой пришло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0:23:08Z</dcterms:created>
  <dc:creator>Черноиванова Наталья</dc:creator>
  <dc:description/>
  <dc:language>en-US</dc:language>
  <cp:lastModifiedBy>Захарова Елена</cp:lastModifiedBy>
  <dcterms:modified xsi:type="dcterms:W3CDTF">2017-12-15T11:03:26Z</dcterms:modified>
  <cp:revision>562</cp:revision>
  <dc:subject/>
  <dc:title>Презентация PowerPoint</dc:title>
</cp:coreProperties>
</file>