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7BEFA1-F796-4C42-B1E7-8423162E66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0BC74C-8670-48A3-91D1-F9F2D37BD0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5E30A3-CD73-4D9A-81D3-E26A9774F4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458A61-DC48-48EA-BC2A-A3AF2B26B4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6DCA58-0B2E-4855-BE3F-AFC6363432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2C7D7F-AB6E-4167-84A9-067A488AB0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16CC5A-4B3B-4DCD-AC23-C1AB5A39DA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8A1A88-CD2F-4A93-AFBA-3A37FF8D68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2E2FC9-9F27-4DEA-A365-B5C687F521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DE8E14-22CD-4479-A81F-05D74D799B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9B2AA0-11C9-4EEA-821C-DB2EC65C2D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E0A32F-9EEC-4D82-B4D0-55D56046F9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875D2C-D5D4-491F-A86E-4B57095FE9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076C9A-3434-48DF-8536-35259C9A17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23A07A-5EA5-45BC-8346-3CA5DB04AE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74F257-2929-4D55-B5F3-5CF4AE62D1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1DB6D7-0D56-4A48-BB28-407C23598E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9DC5-C0C2-498A-9ABF-73215EF9C7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AC378-7F75-4101-9183-96B82BE2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58E2C-C8F4-4E94-B9D9-91757F75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D7896-37DB-4A48-9A07-7A5D3E8B33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41FC3-1AAF-4AC9-BFE3-90CC6CB2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9CBF7-123C-4C10-8BD2-94D22604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11624-A0A2-4435-A01B-F6A98104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5F47B-8D82-45D3-89F9-52DF827A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DBD9F-5525-4A5A-A7A5-4E1920E1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8D8D6-8DD0-46B2-A28D-3E7E8CDD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9692-427A-4CC0-BFCA-110F96EF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7E27A-8119-4633-A8E2-6B997EB2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9CA8F9-20CB-4E3E-8E77-42473EC3EDF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83664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58972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600" y="955800"/>
            <a:ext cx="86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Разработка блок-схем документированных процедур системы менеджмента качества (СМК) образовательной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82520" y="3695760"/>
            <a:ext cx="78487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684600" y="5796000"/>
          <a:ext cx="5005080" cy="798120"/>
        </p:xfrm>
        <a:graphic>
          <a:graphicData uri="http://schemas.openxmlformats.org/drawingml/2006/table">
            <a:tbl>
              <a:tblPr/>
              <a:tblGrid>
                <a:gridCol w="2946960"/>
                <a:gridCol w="2058120"/>
              </a:tblGrid>
              <a:tr h="381240">
                <a:tc gridSpan="2"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 gridSpan="2"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Международный конкурс проектных и исследовательских работ обучающихс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92200" y="366840"/>
            <a:ext cx="7959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Графическое представление хода 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51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кумент (входящий или исходящ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2637000"/>
            <a:ext cx="516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акет документов (входящие и исходящ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10000" y="3789360"/>
            <a:ext cx="5164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5084640"/>
            <a:ext cx="2378160" cy="6480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4028" y="0"/>
                </a:moveTo>
                <a:lnTo>
                  <a:pt x="15938" y="0"/>
                </a:lnTo>
                <a:lnTo>
                  <a:pt x="20000" y="10000"/>
                </a:lnTo>
                <a:lnTo>
                  <a:pt x="15938" y="20000"/>
                </a:lnTo>
                <a:lnTo>
                  <a:pt x="4028" y="20000"/>
                </a:lnTo>
                <a:lnTo>
                  <a:pt x="0" y="10000"/>
                </a:lnTo>
                <a:lnTo>
                  <a:pt x="4028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5229360"/>
            <a:ext cx="5164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иклические действи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1700280"/>
            <a:ext cx="1873440" cy="720720"/>
          </a:xfrm>
          <a:prstGeom prst="flowChartDocumen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2637000"/>
            <a:ext cx="1943280" cy="863280"/>
          </a:xfrm>
          <a:prstGeom prst="flowChartMultidocumen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3716280"/>
            <a:ext cx="1656000" cy="936720"/>
          </a:xfrm>
          <a:prstGeom prst="flowChartMagneticDisk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3933720"/>
            <a:ext cx="51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аза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Microsoft YaHei"/>
              </a:rPr>
              <a:t>7. Оценка процесса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Microsoft YaHei"/>
              </a:rPr>
              <a:t>(критерии результативност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00200"/>
            <a:ext cx="82296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  <a:ea typeface="Microsoft YaHei"/>
              </a:rPr>
              <a:t>Показатели результативности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процесса, характеризуют степень достижения цели процесса и запланированн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Для определения результативности процесса, необходимо вспомн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с какой целью данный процесс реализуется в организ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ую ценность он для нее представля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кто является потребителем результата проц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ие требования предъявляет потребитель к процессу и его результ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Microsoft YaHei"/>
              </a:rPr>
              <a:t>Блок-схема основно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23760" y="1757520"/>
            <a:ext cx="9191520" cy="33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3284640"/>
            <a:ext cx="9134640" cy="3905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-47520" y="0"/>
            <a:ext cx="9191520" cy="33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360" y="3284640"/>
            <a:ext cx="9134640" cy="3905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-47520" y="0"/>
            <a:ext cx="9191520" cy="3343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47640" y="3284640"/>
            <a:ext cx="4032360" cy="361800"/>
          </a:xfrm>
          <a:prstGeom prst="ellipse">
            <a:avLst/>
          </a:prstGeom>
          <a:noFill/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13000"/>
            <a:ext cx="1835280" cy="1008000"/>
          </a:xfrm>
          <a:prstGeom prst="ellipse">
            <a:avLst/>
          </a:prstGeom>
          <a:noFill/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3860640"/>
            <a:ext cx="4032360" cy="360360"/>
          </a:xfrm>
          <a:prstGeom prst="ellipse">
            <a:avLst/>
          </a:prstGeom>
          <a:noFill/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165720"/>
            <a:ext cx="1835280" cy="1008360"/>
          </a:xfrm>
          <a:prstGeom prst="ellipse">
            <a:avLst/>
          </a:prstGeom>
          <a:noFill/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8360" y="5589720"/>
            <a:ext cx="1834920" cy="1008000"/>
          </a:xfrm>
          <a:prstGeom prst="ellipse">
            <a:avLst/>
          </a:prstGeom>
          <a:noFill/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Microsoft YaHei"/>
              </a:rPr>
              <a:t>Блок-схема основ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81000" y="1328760"/>
            <a:ext cx="930600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Microsoft YaHei"/>
              </a:rPr>
              <a:t>Блок-схема соз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681048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Microsoft YaHei"/>
              </a:rPr>
              <a:t>Понятия валидации и вер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1341360"/>
            <a:ext cx="8964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алид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гарантированная уверенность организации в том, что услуга соответствует всем необходимым стандар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ерифик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процедура проверки, что услуга соответствует всем изначально заданным требов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867280" y="4600440"/>
            <a:ext cx="3276720" cy="22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Microsoft YaHei"/>
              </a:rPr>
              <a:t>Понятия валидации и вер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907920"/>
            <a:ext cx="764388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Microsoft YaHei"/>
              </a:rPr>
              <a:t>1                           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1601640"/>
            <a:ext cx="8136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260280"/>
            <a:ext cx="82296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Microsoft YaHei"/>
              </a:rPr>
              <a:t>Блок-схема поддерживающего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4720" y="692280"/>
            <a:ext cx="8639280" cy="56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Структура документации СМ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6520" y="1989000"/>
            <a:ext cx="8130960" cy="4332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89880" y="0"/>
            <a:ext cx="155412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Microsoft YaHei"/>
              </a:rPr>
              <a:t>Блок-схема поддерживающе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04720" y="692280"/>
            <a:ext cx="8639280" cy="5629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77080" y="4005360"/>
            <a:ext cx="1440" cy="1655640"/>
          </a:xfrm>
          <a:prstGeom prst="line">
            <a:avLst/>
          </a:prstGeom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778200" y="5661000"/>
            <a:ext cx="3100320" cy="1440"/>
          </a:xfrm>
          <a:prstGeom prst="line">
            <a:avLst/>
          </a:prstGeom>
          <a:ln cap="sq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60560" y="0"/>
            <a:ext cx="52228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03640" y="6381720"/>
            <a:ext cx="3168720" cy="476280"/>
          </a:xfrm>
          <a:prstGeom prst="ellipse">
            <a:avLst/>
          </a:prstGeom>
          <a:noFill/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Microsoft YaHei"/>
              </a:rPr>
              <a:t>Варианты блок-сх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7791480" cy="53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Microsoft YaHei"/>
              </a:rPr>
              <a:t>Варианты блок-сх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820000" cy="554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7040" y="981000"/>
            <a:ext cx="8886960" cy="5657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9640" y="404640"/>
            <a:ext cx="8229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Варианты блок-сх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85200" y="279360"/>
            <a:ext cx="1217520" cy="100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1417680"/>
            <a:ext cx="822960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4.4.2 Организация должна в необходимом объем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разрабатывать, актуализировать и применять документированную информацию для обеспечения функционирования процес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регистрировать и сохранять документированную информацию для обеспечения уверенности в том, что эти процессы осуществляются в соответствии с тем, как это было запланиров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20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окументация С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1280" y="235080"/>
            <a:ext cx="682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  <a:ea typeface="Microsoft YaHei"/>
              </a:rPr>
              <a:t>Процесс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следовательность  взаимосвязанных  или взаимодействующих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видов  деятельности,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преобразующих входы в вых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85200" y="279360"/>
            <a:ext cx="1217520" cy="100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0" b="8041"/>
          <a:stretch/>
        </p:blipFill>
        <p:spPr>
          <a:xfrm>
            <a:off x="247680" y="1752480"/>
            <a:ext cx="878832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1413000"/>
            <a:ext cx="82296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1. Область приме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2. Нормативные ссы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3. Определения, обозначения, сокра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4. Основные по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5. Ответств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6. Порядок реализации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7. Оценка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8. Записи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9. Приложения: формы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023320" y="0"/>
            <a:ext cx="1120680" cy="1143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189000"/>
            <a:ext cx="756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Структура документированной процед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7468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4. Основные положения документированной процедуры : примеры крупных шагов процесс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773360"/>
            <a:ext cx="8713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Microsoft YaHei"/>
              </a:rPr>
              <a:t>ОП02 «Проектирование образовательных программ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4.2. Основные направления деятельно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4.2.1. Проектирование ООП (бакалавриат, магистрату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4.2.2. Проектирование дополнительных образовательных пр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4.2.3. Проектирование образовательных программ послевузовского профессионального образ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аспиранту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7468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4. Основные положения документированной процедуры : примеры крупных шагов процесс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341360"/>
            <a:ext cx="8964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4.4. Процесс управления персоналом включает следующие виды деятельност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•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Обеспечение кадрам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•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Обучение персонала, повышение квалификац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•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Аттестация персона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74680"/>
            <a:ext cx="9144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Microsoft YaHei"/>
              </a:rPr>
              <a:t>5. Ответствен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700280"/>
            <a:ext cx="87138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5.1. Ответственность за процесс в целом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  <a:ea typeface="Microsoft YaHei"/>
              </a:rPr>
              <a:t>Руководитель процесса (владелец процес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  <a:ea typeface="Microsoft YaHe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5.2. Ответственность за направления деятельности в рамках процесс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  <a:ea typeface="Microsoft YaHei"/>
              </a:rPr>
              <a:t>за каждый крупный шаг должна быть определена ответственность – и это НЕ руководите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  <a:ea typeface="Microsoft YaHe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Microsoft YaHei"/>
              </a:rPr>
              <a:t>6. Порядок реализации процесса </a:t>
            </a:r>
            <a:br>
              <a:rPr sz="2400"/>
            </a:b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6.1. Описание деятельности вербальн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6.2. Представление последовательности деятельности по каждому направлению в форме блок-сх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Графические симво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7760" y="2421000"/>
            <a:ext cx="1887840" cy="50472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40160" y="2421000"/>
            <a:ext cx="51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чало и конец действ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7760" y="3286080"/>
            <a:ext cx="1887840" cy="35388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40160" y="3213000"/>
            <a:ext cx="51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йствие в ходе выпол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4000" y="3997440"/>
            <a:ext cx="2704680" cy="1446120"/>
            <a:chOff x="324000" y="3997440"/>
            <a:chExt cx="2704680" cy="1446120"/>
          </a:xfrm>
        </p:grpSpPr>
        <p:sp>
          <p:nvSpPr>
            <p:cNvPr id="79" name=""/>
            <p:cNvSpPr/>
            <p:nvPr/>
          </p:nvSpPr>
          <p:spPr>
            <a:xfrm>
              <a:off x="736560" y="4148280"/>
              <a:ext cx="2292120" cy="718920"/>
            </a:xfrm>
            <a:prstGeom prst="diamond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24000" y="4508640"/>
              <a:ext cx="412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83520" y="4869000"/>
              <a:ext cx="0" cy="574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45160" y="5013360"/>
              <a:ext cx="73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5440" y="3997440"/>
              <a:ext cx="73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438360" y="4221000"/>
            <a:ext cx="51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нятие решения (моменты возможного принятия альтернативного решения – точки задержки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042920" y="5661000"/>
            <a:ext cx="1440000" cy="934920"/>
            <a:chOff x="1042920" y="5661000"/>
            <a:chExt cx="1440000" cy="934920"/>
          </a:xfrm>
        </p:grpSpPr>
        <p:sp>
          <p:nvSpPr>
            <p:cNvPr id="86" name=""/>
            <p:cNvSpPr/>
            <p:nvPr/>
          </p:nvSpPr>
          <p:spPr>
            <a:xfrm>
              <a:off x="1042920" y="6035760"/>
              <a:ext cx="574920" cy="560160"/>
            </a:xfrm>
            <a:prstGeom prst="flowChartOffpageConnector">
              <a:avLst/>
            </a:prstGeom>
            <a:solidFill>
              <a:srgbClr val="ffffff"/>
            </a:solidFill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14360" y="5661000"/>
              <a:ext cx="0" cy="3729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08000" y="5661000"/>
              <a:ext cx="574920" cy="560520"/>
            </a:xfrm>
            <a:prstGeom prst="flowChartOffpageConnector">
              <a:avLst/>
            </a:prstGeom>
            <a:solidFill>
              <a:srgbClr val="ffffff"/>
            </a:solidFill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95640" y="6222960"/>
              <a:ext cx="0" cy="3729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64000" y="5373720"/>
            <a:ext cx="5400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начки переноса этапа процесса с одной страницы на другую с указанием номера страницы, на которую осуществляется переход или от которой пришло 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0:23:08Z</dcterms:created>
  <dc:creator>Черноиванова Наталья</dc:creator>
  <dc:description/>
  <dc:language>en-US</dc:language>
  <cp:lastModifiedBy>Захарова Елена</cp:lastModifiedBy>
  <dcterms:modified xsi:type="dcterms:W3CDTF">2017-12-15T11:03:26Z</dcterms:modified>
  <cp:revision>562</cp:revision>
  <dc:subject/>
  <dc:title>Презентация PowerPoint</dc:title>
</cp:coreProperties>
</file>