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9E3C-1DD7-4E96-9670-C9EB83085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5557-083A-46B3-904E-1834D3331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4B79-BAB3-4C53-84F5-AD1A01439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0FA-4A8D-459C-B36B-8C0A650C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57C-2569-44B1-A28A-7BC72EAD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E72-466F-4822-A0C4-C3CF42B4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8AA-8D03-49C6-AE3C-6C620C38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600D-B339-4532-8EC0-45E73AA7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E783-5F06-4A51-A455-9BD63F70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9EE4-F49D-4F46-9797-1C085C5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7B24-8B39-42D6-89A3-94164006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CD08-6F70-43CF-A68D-270067EA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5424-F3AA-4C09-83AB-0287A941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7277-C549-4381-AF56-B152F05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2F4-E3DB-4D37-889C-539F6525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837E-205B-4C4D-85B2-01C731E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2833-5010-45F5-93DE-DBAF1EF9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FF2C-DF9E-4F75-A0F1-ED1BE170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9B0A-336C-4DBC-AC35-F27CECFE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9B33-C249-4294-8F08-28B0D2D9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CAFE-98CE-4DAF-B2A7-A4BDCDFF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28FD-CD02-40F6-9381-1DF6E816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0FBF-93E7-4D6B-8D24-AC93A1B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DD39-B99D-405C-AAED-9906BEF1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974C-7314-4B83-A9A9-74F5704D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5EE-33F8-4C10-9760-2D4883AE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E355-DA77-417C-A591-5CAD558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EFE2-7155-4A25-9D9C-6CE290EC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C447-A148-49BB-A873-B86F683E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0B74-CAE4-4648-ACDD-FFC0AE1C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DF36-50DB-4708-94C2-686080C5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FD95-A42B-4954-AF51-4E80BC02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2F4F-1CE8-4D72-91AC-BD2E0D9C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D148-534A-4BC4-9ACA-97223604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D426F-5528-45BA-AF97-0B28E615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5B23-10D0-4B00-AF23-CA3BBFB0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FC2-42F9-4FB9-B8F8-66613FF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500E9-5FF8-4DEB-8650-459486C9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7023-1650-428B-A853-2A0F849A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22F3-ED22-4973-98D1-BFE3B762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6F4A1-D63A-46A7-BFC1-E5BBC38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A6A9-1933-436F-931C-5A34955D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99EA-E42D-489F-B3AD-1E34098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A16B-107F-4353-8779-608AF0C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69513-9DFD-45C9-B5A6-E3680A0F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F8D1D-974F-4100-BECC-91C27324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44A4-3547-4E2C-93B6-D28BF2DC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C50-61A9-4F34-92BE-2F0951DF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15D4-2901-4408-A9E1-793C4F6F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2A14-F6A3-474A-BD63-A073636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CFA74-2AC5-46F2-AECD-6E35883A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97BF7-2942-4B84-A7BF-3CED1238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D438A-5362-4F50-B8CA-5645C8B0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F4A6-67B6-4B61-BD07-37FC1E3B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9857C-210B-4331-85D8-9DB4198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FD90B-D427-45DD-B9C2-976C2D35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68304-8C10-4998-9656-968F559E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90B39-3B52-439E-BCC0-7F41C4EE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2B9-0887-452B-8CD8-154EC638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42A88-3745-47FD-B98E-1EC4E42E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68D7-37CC-465F-BA73-53060DF5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6FC77-434F-4CE8-80B7-24A580B6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E757-CC41-4C3A-8A21-04EEF76A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96FC4-3AD7-4126-9985-B740E32D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2E6A-6B25-4B7E-B4A5-C90A6CA7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39AA6-0B79-4C03-B757-FAE31470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D2AE7-4575-4C78-8CA2-016E3E29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D8555-5B3D-429D-B040-1CCDE56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8DD66-B709-4863-9162-4201626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C6D-EC85-4102-8CCF-EE81B83F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53579-CF21-4579-AE86-AD8D6DA7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C8A3F-D257-437C-A575-6A967F5B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3537D-13EC-4034-AA9B-05DE30F9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49B2F-041B-404A-BDE3-839A31D2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17609-8AE5-44F7-ACC7-ECADCC3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8EB32-4C08-4CA1-917B-B1880F49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FFD89-AED8-447E-922C-8319213A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01074-F3E4-480C-B4D3-E97A8C71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9D181-2E61-4D02-8902-7604ADB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89E9D-8342-4F26-BCF8-4CD2AF9E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EF0-723D-47D9-9E77-DCE3FF3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B9FC9-3288-4ACB-9662-AE986D4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32F75-3643-46EE-B7B3-BA877EC8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F3C77-655D-4656-8400-526D5112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DA198-BD04-4E2C-BCA1-5B37D5A2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872F9-A7DC-49FD-8178-A84F55A5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F46-92C4-4DF9-8715-455AD64A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5573-2D7D-4365-A41E-56EA26F93B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B95B-5248-4497-B846-94C1E81EB5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B2BB-096E-44E5-9AFD-F396950A10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A324-4B58-498B-A794-C1A2902FFD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1244-89B3-4352-8C98-EC62DAE44F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BE38-1423-480E-A299-84EC0EFAC6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08E5-2736-420F-8FEB-036262E03A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2" descr="https://b1.culture.ru/c/772923.jpg"/>
          <p:cNvPicPr/>
          <p:nvPr/>
        </p:nvPicPr>
        <p:blipFill>
          <a:blip r:embed="rId1"/>
          <a:stretch/>
        </p:blipFill>
        <p:spPr>
          <a:xfrm>
            <a:off x="1041480" y="285840"/>
            <a:ext cx="8102520" cy="47386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музыке 2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ог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четвер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342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343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0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351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aa8a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8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aa8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9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Picture 44" descr="http://animashki.kak2z.org/pic/25/animashki-muzika-152.gif"/>
          <p:cNvPicPr/>
          <p:nvPr/>
        </p:nvPicPr>
        <p:blipFill>
          <a:blip r:embed="rId2"/>
          <a:stretch/>
        </p:blipFill>
        <p:spPr>
          <a:xfrm>
            <a:off x="0" y="3286080"/>
            <a:ext cx="132876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Что означает слово мелодия 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цев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ть песн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рширов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6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77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Metka" hidden="1"/>
            <p:cNvSpPr/>
            <p:nvPr/>
          </p:nvSpPr>
          <p:spPr>
            <a:xfrm>
              <a:off x="571320" y="215748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83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Metka" hidden="1"/>
            <p:cNvSpPr/>
            <p:nvPr/>
          </p:nvSpPr>
          <p:spPr>
            <a:xfrm>
              <a:off x="571320" y="279252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8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89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Metka" hidden="1"/>
            <p:cNvSpPr/>
            <p:nvPr/>
          </p:nvSpPr>
          <p:spPr>
            <a:xfrm>
              <a:off x="571320" y="342756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4" name="Picture 54" descr="D:\рисунки\музыка\ЖИВАЯ МУЗ .png"/>
          <p:cNvPicPr/>
          <p:nvPr/>
        </p:nvPicPr>
        <p:blipFill>
          <a:blip r:embed="rId1"/>
          <a:stretch/>
        </p:blipFill>
        <p:spPr>
          <a:xfrm>
            <a:off x="4500720" y="1785960"/>
            <a:ext cx="389088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Песня состоит из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лож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бзац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упле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Metka" hidden="1"/>
            <p:cNvSpPr/>
            <p:nvPr/>
          </p:nvSpPr>
          <p:spPr>
            <a:xfrm>
              <a:off x="571320" y="215748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Metka" hidden="1"/>
            <p:cNvSpPr/>
            <p:nvPr/>
          </p:nvSpPr>
          <p:spPr>
            <a:xfrm>
              <a:off x="571320" y="279252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d22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0d2227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Metka" hidden="1"/>
            <p:cNvSpPr/>
            <p:nvPr/>
          </p:nvSpPr>
          <p:spPr>
            <a:xfrm>
              <a:off x="571320" y="3427560"/>
              <a:ext cx="144360" cy="14436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6" name="Picture 2" descr="D:\рисунки\музыка\89244383_0_520b1_b8410923_L.png"/>
          <p:cNvPicPr/>
          <p:nvPr/>
        </p:nvPicPr>
        <p:blipFill>
          <a:blip r:embed="rId1"/>
          <a:stretch/>
        </p:blipFill>
        <p:spPr>
          <a:xfrm>
            <a:off x="5183280" y="1500120"/>
            <a:ext cx="316692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5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5400000"/>
          </a:gradFill>
          <a:ln w="3816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равильный ответ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Что такое гимн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зыкальная эмблема государ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сня о Роди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сня о друж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0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41" name="Rectangle 13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4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Metka" hidden="1"/>
            <p:cNvSpPr/>
            <p:nvPr/>
          </p:nvSpPr>
          <p:spPr>
            <a:xfrm>
              <a:off x="554040" y="213840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6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7" name="Rectangle 13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4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Metka" hidden="1"/>
            <p:cNvSpPr/>
            <p:nvPr/>
          </p:nvSpPr>
          <p:spPr>
            <a:xfrm>
              <a:off x="554040" y="277344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53" name="Rectangle 13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Metka" hidden="1"/>
            <p:cNvSpPr/>
            <p:nvPr/>
          </p:nvSpPr>
          <p:spPr>
            <a:xfrm>
              <a:off x="554040" y="340848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9" name="Picture 55" descr="D:\рисунки\музыка\instrumental_music_tunes_01.jpg"/>
          <p:cNvPicPr/>
          <p:nvPr/>
        </p:nvPicPr>
        <p:blipFill>
          <a:blip r:embed="rId1"/>
          <a:stretch/>
        </p:blipFill>
        <p:spPr>
          <a:xfrm>
            <a:off x="4786200" y="2571840"/>
            <a:ext cx="3929040" cy="26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8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5400000"/>
          </a:gradFill>
          <a:ln w="3816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равильный ответ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Как называют человека, который поёт песню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ртсм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4" name="Rectangle 13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4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554040" y="213840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0" name="Rectangle 13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4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554040" y="277344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86" name="Rectangle 13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Rectangle 14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Metka" hidden="1"/>
            <p:cNvSpPr/>
            <p:nvPr/>
          </p:nvSpPr>
          <p:spPr>
            <a:xfrm>
              <a:off x="554040" y="340848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2" name="Picture 2" descr="D:\рисунки\музыка\uroki_musiki.jpg"/>
          <p:cNvPicPr/>
          <p:nvPr/>
        </p:nvPicPr>
        <p:blipFill>
          <a:blip r:embed="rId1"/>
          <a:stretch/>
        </p:blipFill>
        <p:spPr>
          <a:xfrm>
            <a:off x="5500800" y="1643040"/>
            <a:ext cx="265572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1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5400000"/>
          </a:gradFill>
          <a:ln w="3816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равильный ответ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Что сочиняет композитор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их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аз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зы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6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07" name="Rectangle 13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Rectangle 14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Metka" hidden="1"/>
            <p:cNvSpPr/>
            <p:nvPr/>
          </p:nvSpPr>
          <p:spPr>
            <a:xfrm>
              <a:off x="554040" y="213840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13" name="Rectangle 13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Metka" hidden="1"/>
            <p:cNvSpPr/>
            <p:nvPr/>
          </p:nvSpPr>
          <p:spPr>
            <a:xfrm>
              <a:off x="554040" y="277344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19" name="Rectangle 13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Rectangle 14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Metka" hidden="1"/>
            <p:cNvSpPr/>
            <p:nvPr/>
          </p:nvSpPr>
          <p:spPr>
            <a:xfrm>
              <a:off x="554040" y="340848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Picture 2" descr="D:\рисунки\музыка\treble_clef_1378.jpg"/>
          <p:cNvPicPr/>
          <p:nvPr/>
        </p:nvPicPr>
        <p:blipFill>
          <a:blip r:embed="rId1"/>
          <a:stretch/>
        </p:blipFill>
        <p:spPr>
          <a:xfrm>
            <a:off x="4357800" y="1428840"/>
            <a:ext cx="420048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http://oboi.cc/1280-768-100-uploads/11_05_2013/view/201209/oboik.ru_6409.jpg"/>
          <p:cNvPicPr/>
          <p:nvPr/>
        </p:nvPicPr>
        <p:blipFill>
          <a:blip r:embed="rId1"/>
          <a:stretch/>
        </p:blipFill>
        <p:spPr>
          <a:xfrm>
            <a:off x="0" y="0"/>
            <a:ext cx="8786880" cy="164304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765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3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5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5400000"/>
          </a:gradFill>
          <a:ln w="3816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равильный ответ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47"/>
          <p:cNvSpPr/>
          <p:nvPr/>
        </p:nvSpPr>
        <p:spPr>
          <a:xfrm>
            <a:off x="814320" y="1785960"/>
            <a:ext cx="83296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При помощи чего записывают музыку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48"/>
          <p:cNvSpPr/>
          <p:nvPr/>
        </p:nvSpPr>
        <p:spPr>
          <a:xfrm>
            <a:off x="2357280" y="371484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ук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9"/>
          <p:cNvSpPr/>
          <p:nvPr/>
        </p:nvSpPr>
        <p:spPr>
          <a:xfrm>
            <a:off x="2571840" y="4500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50"/>
          <p:cNvSpPr/>
          <p:nvPr/>
        </p:nvSpPr>
        <p:spPr>
          <a:xfrm>
            <a:off x="2500200" y="53578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иф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" name="KAN_1"/>
          <p:cNvGrpSpPr/>
          <p:nvPr/>
        </p:nvGrpSpPr>
        <p:grpSpPr>
          <a:xfrm>
            <a:off x="1643040" y="3714840"/>
            <a:ext cx="647640" cy="395280"/>
            <a:chOff x="1643040" y="3714840"/>
            <a:chExt cx="647640" cy="395280"/>
          </a:xfrm>
        </p:grpSpPr>
        <p:sp>
          <p:nvSpPr>
            <p:cNvPr id="541" name="Rectangle 13"/>
            <p:cNvSpPr/>
            <p:nvPr/>
          </p:nvSpPr>
          <p:spPr>
            <a:xfrm>
              <a:off x="1643040" y="371484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Rectangle 14"/>
            <p:cNvSpPr/>
            <p:nvPr/>
          </p:nvSpPr>
          <p:spPr>
            <a:xfrm>
              <a:off x="1662120" y="3732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Rectangle 15"/>
            <p:cNvSpPr/>
            <p:nvPr/>
          </p:nvSpPr>
          <p:spPr>
            <a:xfrm>
              <a:off x="1698480" y="3768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Rectangle 16"/>
            <p:cNvSpPr/>
            <p:nvPr/>
          </p:nvSpPr>
          <p:spPr>
            <a:xfrm>
              <a:off x="1735200" y="3805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Metka" hidden="1"/>
            <p:cNvSpPr/>
            <p:nvPr/>
          </p:nvSpPr>
          <p:spPr>
            <a:xfrm>
              <a:off x="1752480" y="382140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6" name="KAN_2"/>
          <p:cNvGrpSpPr/>
          <p:nvPr/>
        </p:nvGrpSpPr>
        <p:grpSpPr>
          <a:xfrm>
            <a:off x="1643040" y="4572000"/>
            <a:ext cx="647640" cy="395280"/>
            <a:chOff x="1643040" y="4572000"/>
            <a:chExt cx="647640" cy="395280"/>
          </a:xfrm>
        </p:grpSpPr>
        <p:sp>
          <p:nvSpPr>
            <p:cNvPr id="547" name="Rectangle 13"/>
            <p:cNvSpPr/>
            <p:nvPr/>
          </p:nvSpPr>
          <p:spPr>
            <a:xfrm>
              <a:off x="1643040" y="457200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Rectangle 14"/>
            <p:cNvSpPr/>
            <p:nvPr/>
          </p:nvSpPr>
          <p:spPr>
            <a:xfrm>
              <a:off x="166212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Rectangle 15"/>
            <p:cNvSpPr/>
            <p:nvPr/>
          </p:nvSpPr>
          <p:spPr>
            <a:xfrm>
              <a:off x="169848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Rectangle 16"/>
            <p:cNvSpPr/>
            <p:nvPr/>
          </p:nvSpPr>
          <p:spPr>
            <a:xfrm>
              <a:off x="1735200" y="4662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Metka" hidden="1"/>
            <p:cNvSpPr/>
            <p:nvPr/>
          </p:nvSpPr>
          <p:spPr>
            <a:xfrm>
              <a:off x="1752480" y="467856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" name="KAN_3"/>
          <p:cNvGrpSpPr/>
          <p:nvPr/>
        </p:nvGrpSpPr>
        <p:grpSpPr>
          <a:xfrm>
            <a:off x="1643040" y="5357880"/>
            <a:ext cx="647640" cy="395280"/>
            <a:chOff x="1643040" y="5357880"/>
            <a:chExt cx="647640" cy="395280"/>
          </a:xfrm>
        </p:grpSpPr>
        <p:sp>
          <p:nvSpPr>
            <p:cNvPr id="553" name="Rectangle 13"/>
            <p:cNvSpPr/>
            <p:nvPr/>
          </p:nvSpPr>
          <p:spPr>
            <a:xfrm>
              <a:off x="1643040" y="5357880"/>
              <a:ext cx="647640" cy="39528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Rectangle 14"/>
            <p:cNvSpPr/>
            <p:nvPr/>
          </p:nvSpPr>
          <p:spPr>
            <a:xfrm>
              <a:off x="1662120" y="5375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3891a7"/>
                </a:gs>
                <a:gs pos="100000">
                  <a:srgbClr val="0c1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Rectangle 15"/>
            <p:cNvSpPr/>
            <p:nvPr/>
          </p:nvSpPr>
          <p:spPr>
            <a:xfrm>
              <a:off x="1698480" y="5411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a1b1f"/>
                </a:gs>
                <a:gs pos="100000">
                  <a:srgbClr val="3891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Rectangle 16"/>
            <p:cNvSpPr/>
            <p:nvPr/>
          </p:nvSpPr>
          <p:spPr>
            <a:xfrm>
              <a:off x="1735200" y="5448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Metka" hidden="1"/>
            <p:cNvSpPr/>
            <p:nvPr/>
          </p:nvSpPr>
          <p:spPr>
            <a:xfrm>
              <a:off x="1752480" y="5464440"/>
              <a:ext cx="179280" cy="180720"/>
            </a:xfrm>
            <a:prstGeom prst="pie">
              <a:avLst/>
            </a:prstGeom>
            <a:solidFill>
              <a:srgbClr val="8dc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4f271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9" name="Picture 6" descr="http://www.gifki.org/data/media/102/muzyka-animatsionnaya-kartinka-0522.gif"/>
          <p:cNvPicPr/>
          <p:nvPr/>
        </p:nvPicPr>
        <p:blipFill>
          <a:blip r:embed="rId2"/>
          <a:stretch/>
        </p:blipFill>
        <p:spPr>
          <a:xfrm>
            <a:off x="5572080" y="3857760"/>
            <a:ext cx="1714680" cy="19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891a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71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2000160" y="428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f271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f271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69840">
            <a:solidFill>
              <a:srgbClr val="feb80a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7" name="Picture 21" descr="https://nfmadou6.edumsko.ru/uploads/2000/1401/section/76471/1522717.gif?1500039988354"/>
          <p:cNvPicPr/>
          <p:nvPr/>
        </p:nvPicPr>
        <p:blipFill>
          <a:blip r:embed="rId1"/>
          <a:stretch/>
        </p:blipFill>
        <p:spPr>
          <a:xfrm>
            <a:off x="0" y="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Oleg</cp:lastModifiedBy>
  <dcterms:modified xsi:type="dcterms:W3CDTF">2018-10-22T19:03:21Z</dcterms:modified>
  <cp:revision>19</cp:revision>
  <dc:subject/>
  <dc:title>Шаблон для создания тестов</dc:title>
</cp:coreProperties>
</file>