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F70-A1F4-4C57-AE68-0E6906698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21D1-5FC3-465F-9B39-12A18ECEE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A23E-3FD7-4A24-B9F6-4276EAD47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CEC-6ED5-476C-9582-69EDB4BA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739-CA92-43CB-A21A-C33F7821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710-6455-4DB7-B622-8A8315A8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FA9-766F-4905-B546-CEAD1DBD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B164-9415-449E-9DCC-FEABC65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398A-7AE0-4938-B890-48AC0E09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ECD0-8347-4FA8-93B7-AAB054B2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4BC8-4297-4B59-886D-8DDE6709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0DEC-CC5C-4C43-827F-99E77AC1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0BE-338E-4932-B0AF-EE6D10E0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DFBE-BD56-4001-AFC1-B0B215D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05E-F819-49DF-85F4-E8379365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DB5E-D4D1-4F42-AF09-624CB07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C1DD-635C-46A0-82A0-3658C7B8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13D3-387B-42A9-B976-8BFE5655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A865-6EE7-4C79-8C85-09D83C71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7010-3F3E-46BE-B410-E14126B5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8785-2F3F-40A4-A9B2-798D2704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002E-BCFA-4D1B-A0DC-8BEAF728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D4DD-B458-49EA-A197-7DC3CA3C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BEF4-F9A7-49CC-8434-CFF04AFE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3F24-4044-4C46-80E9-20B25838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B7E-C84D-4E22-8A79-F483851B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D97A-56F4-481F-B52B-811D2BC1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B4AB-4D2E-454D-A9EF-ACB52F2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10C9-060F-4F3F-B14F-6248F07B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059E-DC2E-458A-94AF-36B5E6B9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CA07-7082-47F5-A31F-3151C563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0C4C-8CCB-47EE-ABF6-D15AF545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D92E-F983-4DAE-9468-DDED628D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FB612-829B-4BFA-98CC-C4813C1F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9C34-BCF3-4BF6-87BE-D75A7D63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9B9A-B53A-4328-9357-AA495AC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129-35F5-4671-8C48-B617A37C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F4D30-70E8-4CCE-AF61-B3452F93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DF63-B4BF-46D6-926C-CC106EBB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39F2B-9CAB-4E7B-AE30-C344C6F3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6DB2-6271-47BC-9155-3F241869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284B-B40E-409D-A74F-DC2186E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CB5A-6F09-4EDB-8856-DC2821D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8622-9DC5-4D5B-91AC-8098F7C0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C1D7E-6A55-47FA-9D3B-3DE47812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5320E-3623-4068-A821-BFD5A523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A8F2F-B58B-4199-92A2-A8D6E521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E45-2C3E-46CE-9B57-8E0208D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E0E07-4E3A-4E33-B4CA-4549782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BF9A-C6F7-4BFD-B4B4-AF5C2B29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2F6E-9E72-4788-8630-C5A8BBA1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2B53-828D-4AD4-94C9-B45A1DDB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BE8B2-57DC-4A11-A966-F79D264D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AE8F-CF98-4AD0-A210-C08D25DC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DD0B6-BED4-4EF8-86A1-0CDF6F1F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2875A-ACA4-41D7-B803-81531207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34D4-A3DD-4711-91AD-429721DF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09A4-E2EF-405B-907C-5AEE9511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416-6132-473C-9A4E-B23B88CB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25FC-ABE9-4421-B266-DA157485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E8AF-EC33-4EAB-B37A-C605CD2E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C036-C63E-41A5-B16E-BF1E4246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50472-4485-4ECC-9936-A92396D9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0C39-1E16-454E-BF75-379972F4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5575-8027-4B8F-BA62-AC8E6C22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09DBC-319E-45B7-8EDE-07A6276C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EC33-105B-4E25-9B48-4C3ADF63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A6504-00FF-4E57-A2EE-9622C6A2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9CE7-1F7E-4228-AEF7-61E0FB5B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243-A456-48F8-B57E-9E946B7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F832-0CE0-49D1-A852-BD78A1C8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BEAC-2F3C-4095-9B9E-ADE0C018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57C34-238E-43FE-8124-BEA760D4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4FBF-5FC7-4D42-AA50-C6E4164B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06E75-606B-4DAF-8376-787D9955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BCBF9-F59D-43B9-8938-ACC7C172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33004-D428-49E8-8C9D-4A07500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A91D9-EAEC-436A-86BE-8E6EC16D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7E5B9-981F-48F9-B02B-A236C605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14904-75B7-41C7-800D-B68029A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EA9-E847-43A6-A0DE-93A09909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7BB7-52F5-4408-957C-58B7A8C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B9508-593D-45C7-9B23-E4D1C35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1AC4-D6DD-4D6E-9907-55DF49A1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93BF1-4572-4DBE-9077-2E63A219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95908-23D3-4460-BE00-85E5DDE7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7C8-90A3-4CAD-9935-18A2E52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502D-667A-4175-A1DF-9F102C90E4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1F99-BCFB-425A-92FE-8BA45162915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C25-A7F4-4441-B833-91DB070F33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BB71-FCDF-4CD0-A76C-7845756F4E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811C-68CA-43CA-9CF0-0B0B94B684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FCBA-8106-46DC-A6F4-C77544E1A8A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3E10-9CD3-4136-8358-5E5BDAA25D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2" descr="https://b1.culture.ru/c/772923.jpg"/>
          <p:cNvPicPr/>
          <p:nvPr/>
        </p:nvPicPr>
        <p:blipFill>
          <a:blip r:embed="rId1"/>
          <a:stretch/>
        </p:blipFill>
        <p:spPr>
          <a:xfrm>
            <a:off x="1041480" y="285840"/>
            <a:ext cx="8102520" cy="47386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музыке 2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ог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четвер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342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343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0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351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8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aa8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9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Picture 44" descr="http://animashki.kak2z.org/pic/25/animashki-muzika-152.gif"/>
          <p:cNvPicPr/>
          <p:nvPr/>
        </p:nvPicPr>
        <p:blipFill>
          <a:blip r:embed="rId2"/>
          <a:stretch/>
        </p:blipFill>
        <p:spPr>
          <a:xfrm>
            <a:off x="0" y="3286080"/>
            <a:ext cx="132876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Что означает слово мелодия 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цев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ть пес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рширов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6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77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Metka" hidden="1"/>
            <p:cNvSpPr/>
            <p:nvPr/>
          </p:nvSpPr>
          <p:spPr>
            <a:xfrm>
              <a:off x="571320" y="215748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83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Metka" hidden="1"/>
            <p:cNvSpPr/>
            <p:nvPr/>
          </p:nvSpPr>
          <p:spPr>
            <a:xfrm>
              <a:off x="571320" y="279252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8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89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Metka" hidden="1"/>
            <p:cNvSpPr/>
            <p:nvPr/>
          </p:nvSpPr>
          <p:spPr>
            <a:xfrm>
              <a:off x="571320" y="342756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4" name="Picture 54" descr="D:\рисунки\музыка\ЖИВАЯ МУЗ .png"/>
          <p:cNvPicPr/>
          <p:nvPr/>
        </p:nvPicPr>
        <p:blipFill>
          <a:blip r:embed="rId1"/>
          <a:stretch/>
        </p:blipFill>
        <p:spPr>
          <a:xfrm>
            <a:off x="4500720" y="1785960"/>
            <a:ext cx="389088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Песня состоит из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лож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бзац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упле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Metka" hidden="1"/>
            <p:cNvSpPr/>
            <p:nvPr/>
          </p:nvSpPr>
          <p:spPr>
            <a:xfrm>
              <a:off x="571320" y="215748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Metka" hidden="1"/>
            <p:cNvSpPr/>
            <p:nvPr/>
          </p:nvSpPr>
          <p:spPr>
            <a:xfrm>
              <a:off x="571320" y="279252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Metka" hidden="1"/>
            <p:cNvSpPr/>
            <p:nvPr/>
          </p:nvSpPr>
          <p:spPr>
            <a:xfrm>
              <a:off x="571320" y="342756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6" name="Picture 2" descr="D:\рисунки\музыка\89244383_0_520b1_b8410923_L.png"/>
          <p:cNvPicPr/>
          <p:nvPr/>
        </p:nvPicPr>
        <p:blipFill>
          <a:blip r:embed="rId1"/>
          <a:stretch/>
        </p:blipFill>
        <p:spPr>
          <a:xfrm>
            <a:off x="5183280" y="1500120"/>
            <a:ext cx="316692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5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5400000"/>
          </a:gradFill>
          <a:ln w="3816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равильный ответ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Что такое гимн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зыкальная эмблема государ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сня о Роди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сня о друж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0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41" name="Rectangle 13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4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Metka" hidden="1"/>
            <p:cNvSpPr/>
            <p:nvPr/>
          </p:nvSpPr>
          <p:spPr>
            <a:xfrm>
              <a:off x="554040" y="213840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7" name="Rectangle 13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4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Metka" hidden="1"/>
            <p:cNvSpPr/>
            <p:nvPr/>
          </p:nvSpPr>
          <p:spPr>
            <a:xfrm>
              <a:off x="554040" y="277344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53" name="Rectangle 13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Metka" hidden="1"/>
            <p:cNvSpPr/>
            <p:nvPr/>
          </p:nvSpPr>
          <p:spPr>
            <a:xfrm>
              <a:off x="554040" y="340848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9" name="Picture 55" descr="D:\рисунки\музыка\instrumental_music_tunes_01.jpg"/>
          <p:cNvPicPr/>
          <p:nvPr/>
        </p:nvPicPr>
        <p:blipFill>
          <a:blip r:embed="rId1"/>
          <a:stretch/>
        </p:blipFill>
        <p:spPr>
          <a:xfrm>
            <a:off x="4786200" y="2571840"/>
            <a:ext cx="3929040" cy="26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8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5400000"/>
          </a:gradFill>
          <a:ln w="3816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равильный ответ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Как называют человека, который поёт песню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ртсм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4" name="Rectangle 13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4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554040" y="213840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0" name="Rectangle 13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554040" y="277344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86" name="Rectangle 13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Rectangle 14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Metka" hidden="1"/>
            <p:cNvSpPr/>
            <p:nvPr/>
          </p:nvSpPr>
          <p:spPr>
            <a:xfrm>
              <a:off x="554040" y="340848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2" name="Picture 2" descr="D:\рисунки\музыка\uroki_musiki.jpg"/>
          <p:cNvPicPr/>
          <p:nvPr/>
        </p:nvPicPr>
        <p:blipFill>
          <a:blip r:embed="rId1"/>
          <a:stretch/>
        </p:blipFill>
        <p:spPr>
          <a:xfrm>
            <a:off x="5500800" y="1643040"/>
            <a:ext cx="265572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1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5400000"/>
          </a:gradFill>
          <a:ln w="3816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равильный ответ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Что сочиняет композитор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их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аз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зы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6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07" name="Rectangle 13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Rectangle 14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Metka" hidden="1"/>
            <p:cNvSpPr/>
            <p:nvPr/>
          </p:nvSpPr>
          <p:spPr>
            <a:xfrm>
              <a:off x="554040" y="213840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13" name="Rectangle 13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Metka" hidden="1"/>
            <p:cNvSpPr/>
            <p:nvPr/>
          </p:nvSpPr>
          <p:spPr>
            <a:xfrm>
              <a:off x="554040" y="277344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19" name="Rectangle 13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Rectangle 14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Metka" hidden="1"/>
            <p:cNvSpPr/>
            <p:nvPr/>
          </p:nvSpPr>
          <p:spPr>
            <a:xfrm>
              <a:off x="554040" y="340848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2" descr="D:\рисунки\музыка\treble_clef_1378.jpg"/>
          <p:cNvPicPr/>
          <p:nvPr/>
        </p:nvPicPr>
        <p:blipFill>
          <a:blip r:embed="rId1"/>
          <a:stretch/>
        </p:blipFill>
        <p:spPr>
          <a:xfrm>
            <a:off x="4357800" y="1428840"/>
            <a:ext cx="420048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http://oboi.cc/1280-768-100-uploads/11_05_2013/view/201209/oboik.ru_6409.jpg"/>
          <p:cNvPicPr/>
          <p:nvPr/>
        </p:nvPicPr>
        <p:blipFill>
          <a:blip r:embed="rId1"/>
          <a:stretch/>
        </p:blipFill>
        <p:spPr>
          <a:xfrm>
            <a:off x="0" y="0"/>
            <a:ext cx="8786880" cy="164304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3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5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5400000"/>
          </a:gradFill>
          <a:ln w="3816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равильный ответ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47"/>
          <p:cNvSpPr/>
          <p:nvPr/>
        </p:nvSpPr>
        <p:spPr>
          <a:xfrm>
            <a:off x="814320" y="1785960"/>
            <a:ext cx="83296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При помощи чего записывают музыку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48"/>
          <p:cNvSpPr/>
          <p:nvPr/>
        </p:nvSpPr>
        <p:spPr>
          <a:xfrm>
            <a:off x="2357280" y="371484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ук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9"/>
          <p:cNvSpPr/>
          <p:nvPr/>
        </p:nvSpPr>
        <p:spPr>
          <a:xfrm>
            <a:off x="2571840" y="4500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50"/>
          <p:cNvSpPr/>
          <p:nvPr/>
        </p:nvSpPr>
        <p:spPr>
          <a:xfrm>
            <a:off x="2500200" y="53578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ф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" name="KAN_1"/>
          <p:cNvGrpSpPr/>
          <p:nvPr/>
        </p:nvGrpSpPr>
        <p:grpSpPr>
          <a:xfrm>
            <a:off x="1643040" y="3714840"/>
            <a:ext cx="647640" cy="395280"/>
            <a:chOff x="1643040" y="3714840"/>
            <a:chExt cx="647640" cy="395280"/>
          </a:xfrm>
        </p:grpSpPr>
        <p:sp>
          <p:nvSpPr>
            <p:cNvPr id="541" name="Rectangle 13"/>
            <p:cNvSpPr/>
            <p:nvPr/>
          </p:nvSpPr>
          <p:spPr>
            <a:xfrm>
              <a:off x="1643040" y="3714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Rectangle 14"/>
            <p:cNvSpPr/>
            <p:nvPr/>
          </p:nvSpPr>
          <p:spPr>
            <a:xfrm>
              <a:off x="1662120" y="3732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Rectangle 15"/>
            <p:cNvSpPr/>
            <p:nvPr/>
          </p:nvSpPr>
          <p:spPr>
            <a:xfrm>
              <a:off x="1698480" y="3768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Rectangle 16"/>
            <p:cNvSpPr/>
            <p:nvPr/>
          </p:nvSpPr>
          <p:spPr>
            <a:xfrm>
              <a:off x="1735200" y="3805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Metka" hidden="1"/>
            <p:cNvSpPr/>
            <p:nvPr/>
          </p:nvSpPr>
          <p:spPr>
            <a:xfrm>
              <a:off x="1752480" y="382140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6" name="KAN_2"/>
          <p:cNvGrpSpPr/>
          <p:nvPr/>
        </p:nvGrpSpPr>
        <p:grpSpPr>
          <a:xfrm>
            <a:off x="1643040" y="4572000"/>
            <a:ext cx="647640" cy="395280"/>
            <a:chOff x="1643040" y="4572000"/>
            <a:chExt cx="647640" cy="395280"/>
          </a:xfrm>
        </p:grpSpPr>
        <p:sp>
          <p:nvSpPr>
            <p:cNvPr id="547" name="Rectangle 13"/>
            <p:cNvSpPr/>
            <p:nvPr/>
          </p:nvSpPr>
          <p:spPr>
            <a:xfrm>
              <a:off x="1643040" y="457200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Rectangle 14"/>
            <p:cNvSpPr/>
            <p:nvPr/>
          </p:nvSpPr>
          <p:spPr>
            <a:xfrm>
              <a:off x="166212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Rectangle 15"/>
            <p:cNvSpPr/>
            <p:nvPr/>
          </p:nvSpPr>
          <p:spPr>
            <a:xfrm>
              <a:off x="169848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Rectangle 16"/>
            <p:cNvSpPr/>
            <p:nvPr/>
          </p:nvSpPr>
          <p:spPr>
            <a:xfrm>
              <a:off x="1735200" y="4662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Metka" hidden="1"/>
            <p:cNvSpPr/>
            <p:nvPr/>
          </p:nvSpPr>
          <p:spPr>
            <a:xfrm>
              <a:off x="1752480" y="467856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" name="KAN_3"/>
          <p:cNvGrpSpPr/>
          <p:nvPr/>
        </p:nvGrpSpPr>
        <p:grpSpPr>
          <a:xfrm>
            <a:off x="1643040" y="5357880"/>
            <a:ext cx="647640" cy="395280"/>
            <a:chOff x="1643040" y="5357880"/>
            <a:chExt cx="647640" cy="395280"/>
          </a:xfrm>
        </p:grpSpPr>
        <p:sp>
          <p:nvSpPr>
            <p:cNvPr id="553" name="Rectangle 13"/>
            <p:cNvSpPr/>
            <p:nvPr/>
          </p:nvSpPr>
          <p:spPr>
            <a:xfrm>
              <a:off x="1643040" y="5357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Rectangle 14"/>
            <p:cNvSpPr/>
            <p:nvPr/>
          </p:nvSpPr>
          <p:spPr>
            <a:xfrm>
              <a:off x="1662120" y="5375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Rectangle 15"/>
            <p:cNvSpPr/>
            <p:nvPr/>
          </p:nvSpPr>
          <p:spPr>
            <a:xfrm>
              <a:off x="1698480" y="5411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Rectangle 16"/>
            <p:cNvSpPr/>
            <p:nvPr/>
          </p:nvSpPr>
          <p:spPr>
            <a:xfrm>
              <a:off x="1735200" y="5448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Metka" hidden="1"/>
            <p:cNvSpPr/>
            <p:nvPr/>
          </p:nvSpPr>
          <p:spPr>
            <a:xfrm>
              <a:off x="1752480" y="546444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9" name="Picture 6" descr="http://www.gifki.org/data/media/102/muzyka-animatsionnaya-kartinka-0522.gif"/>
          <p:cNvPicPr/>
          <p:nvPr/>
        </p:nvPicPr>
        <p:blipFill>
          <a:blip r:embed="rId2"/>
          <a:stretch/>
        </p:blipFill>
        <p:spPr>
          <a:xfrm>
            <a:off x="5572080" y="3857760"/>
            <a:ext cx="1714680" cy="19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2000160" y="42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271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f271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69840">
            <a:solidFill>
              <a:srgbClr val="feb80a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7" name="Picture 21" descr="https://nfmadou6.edumsko.ru/uploads/2000/1401/section/76471/1522717.gif?1500039988354"/>
          <p:cNvPicPr/>
          <p:nvPr/>
        </p:nvPicPr>
        <p:blipFill>
          <a:blip r:embed="rId1"/>
          <a:stretch/>
        </p:blipFill>
        <p:spPr>
          <a:xfrm>
            <a:off x="0" y="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Oleg</cp:lastModifiedBy>
  <dcterms:modified xsi:type="dcterms:W3CDTF">2018-10-22T19:03:21Z</dcterms:modified>
  <cp:revision>19</cp:revision>
  <dc:subject/>
  <dc:title>Шаблон для создания тестов</dc:title>
</cp:coreProperties>
</file>