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CCB-BA44-4282-8ED4-DF83C437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0FB-5FBB-4A38-A5E0-8E5A038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550-3749-4D35-9152-E774E821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80B-9B17-4E5D-946E-0EE89228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8ABD-0DB2-4E94-A76E-DBFAD9DE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0806-3407-4B37-96A1-D2648D54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88B-99A4-4EDC-8489-86D2706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0950-5A92-41DA-BA99-D8D8B97D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2158-EAAE-44EC-AF52-A886ED6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1E04-A68C-4E10-8C21-796508F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180C-CFD7-44A6-B104-A6BC560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07C-1927-4FA7-8F99-0D1B63F7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AF7-27F9-4172-8B72-697B261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704-76CD-4516-B47B-DCB4494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EEE-060D-4013-997E-3F9FE3F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1C54-54C1-4822-9792-E200938C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DD99-D0B2-4EDB-959B-0B3D0D05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424-B072-41EE-8650-532C8A1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4F6-0491-4956-913F-4C689899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23E-0323-4C19-A44B-D5FF424C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AE0-00A2-45E5-BFD6-32DA3D00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E24-D5A9-494C-BFA7-1DD2A8A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E13-E947-40C1-A88D-4C49E7A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612-838E-4FF1-81D8-DDFA386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4521-5B90-49DD-BE1A-F4E2CBCD8C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2B4-0AB8-446C-B17B-B8B64BD861B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исла от 1 до 1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иселева О.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БОУ «СШ №31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f0b7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Раз, два , три , четыре, 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Будем вместе повторять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Один да четыре будет 5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Два да три тоже 5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Три да два, один да четыре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Всю пятерку изучили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А теперь мы отдохн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И опять считать начнем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четыре-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ставить знаки &gt;, &lt;, =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5…4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7…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6…6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8…7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3…2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1…6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f4dd"/>
                </a:solidFill>
                <a:latin typeface="Arial"/>
              </a:rPr>
              <a:t>ЛЕСЕНКА НАСТРО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AutoShape 2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AutoShape 2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AutoShape 3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AutoShape 3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AutoShape 3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3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1" descr="Картинки по запросу ЗЕЛЕНЫЙ ВЕСЕЛЫЙСМАЙЛИК"/>
          <p:cNvPicPr/>
          <p:nvPr/>
        </p:nvPicPr>
        <p:blipFill>
          <a:blip r:embed="rId1"/>
          <a:stretch/>
        </p:blipFill>
        <p:spPr>
          <a:xfrm>
            <a:off x="539640" y="2060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4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Picture 45" descr="Похожее изображение"/>
          <p:cNvPicPr/>
          <p:nvPr/>
        </p:nvPicPr>
        <p:blipFill>
          <a:blip r:embed="rId2"/>
          <a:stretch/>
        </p:blipFill>
        <p:spPr>
          <a:xfrm>
            <a:off x="3203640" y="198900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4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AutoShape 5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AutoShape 5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AutoShape 5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7" descr="Похожее изображение"/>
          <p:cNvPicPr/>
          <p:nvPr/>
        </p:nvPicPr>
        <p:blipFill>
          <a:blip r:embed="rId3"/>
          <a:stretch/>
        </p:blipFill>
        <p:spPr>
          <a:xfrm>
            <a:off x="4643280" y="4221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619280" y="98064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311"/>
                </a:solidFill>
                <a:latin typeface="Arial"/>
              </a:rPr>
              <a:t>Прозвенел уже звонок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311"/>
                </a:solidFill>
                <a:latin typeface="Arial"/>
              </a:rPr>
              <a:t>Начинается урок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f1311"/>
                </a:solidFill>
                <a:latin typeface="Arial"/>
              </a:rPr>
              <a:t>Повторение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остав числа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решение задач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азвания геометрических фигур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УСТНЫЙ СЧ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7" descr="Картинки по запросу УСТНЫЙ СЧЕТ ДО 10КАРТИНКА"/>
          <p:cNvPicPr/>
          <p:nvPr/>
        </p:nvPicPr>
        <p:blipFill>
          <a:blip r:embed="rId1"/>
          <a:stretch/>
        </p:blipFill>
        <p:spPr>
          <a:xfrm>
            <a:off x="179280" y="1125360"/>
            <a:ext cx="74836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Картинки по запросу УСТНЫЙ СЧЕТ ДО 10КАРТИНКА"/>
          <p:cNvPicPr/>
          <p:nvPr/>
        </p:nvPicPr>
        <p:blipFill>
          <a:blip r:embed="rId1"/>
          <a:stretch/>
        </p:blipFill>
        <p:spPr>
          <a:xfrm>
            <a:off x="1042920" y="40464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Игра «прибавляем и вычитаем по 1» 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т 0 до 10 через 2 и « обратно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т 1 до 10 через 1 и « обратно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4" descr="Картинки по запросу СОСТАВ ЧИСЛА 6 КАРТИНКА"/>
          <p:cNvPicPr/>
          <p:nvPr/>
        </p:nvPicPr>
        <p:blipFill>
          <a:blip r:embed="rId1"/>
          <a:stretch/>
        </p:blipFill>
        <p:spPr>
          <a:xfrm>
            <a:off x="611280" y="981000"/>
            <a:ext cx="6954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Картинки по запросу СОСТАВ ЧИСЛА 7 КАРТИНКА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5" descr="Картинки по запросу ГЕОМЕТРИЧЕСКИЙ МАТЕРИАЛ 1 КЛАСС СЧЕТ ОТ 1 ДО 10"/>
          <p:cNvPicPr/>
          <p:nvPr/>
        </p:nvPicPr>
        <p:blipFill>
          <a:blip r:embed="rId1"/>
          <a:stretch/>
        </p:blipFill>
        <p:spPr>
          <a:xfrm>
            <a:off x="1187280" y="1197000"/>
            <a:ext cx="5545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9T09:41:40Z</dcterms:created>
  <dc:creator>Пользователь</dc:creator>
  <dc:description/>
  <dc:language>en-US</dc:language>
  <cp:lastModifiedBy>Olenka</cp:lastModifiedBy>
  <dcterms:modified xsi:type="dcterms:W3CDTF">2018-11-21T13:11:44Z</dcterms:modified>
  <cp:revision>7</cp:revision>
  <dc:subject/>
  <dc:title>Слайд 1</dc:title>
</cp:coreProperties>
</file>