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4246-39B7-42CB-B537-1106FAFDC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B97B-6A1D-4A53-9EF6-71E6E41D7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928C-AC27-4850-A464-4244FDD5C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23E5-8D32-4020-A93D-2053BEEF6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9A0D1-3C49-4D74-AABE-BF1DC3242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BCFC2-B409-41C0-9B32-865C1D597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D9486-4FF7-40E6-88AC-61280F127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2472B-F85A-4277-A3C7-AE690F233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D1FA2-1E0E-4B39-9F8B-7454EAACB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F7439-2C0C-43CF-B853-C282DB375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E6E25-55DB-4A92-AA87-9098BCD8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9D1F-FB6D-43A7-ABB8-68276EDB5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219CB-F271-45C8-A7C2-C98E3D8B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99BB9-A414-422F-861F-C3FD31BB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BFBA9-506A-4758-8FB8-3EE25EADA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7822F-17C4-407C-9EB6-795B2357A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AEE3D-2325-48D0-B757-8927C63D5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0383-D97E-4F96-8FB1-71456BACC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4E1A-C684-4633-8E3E-CEA06F0BC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6D7B-5CB8-4A25-AA6C-E6E9D64B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7F7C-BFD3-4218-8494-F10636926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036F-B406-49C9-8ECB-0B526621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7DAA-E1E7-4033-932E-8FAB04C2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532E-A9E9-4192-87C2-824997C6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A672D-175E-47D2-A769-151A7DCFF35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7AB04-7E81-4807-B1CD-7AAB6FBB2CB3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Числа от 1 до 10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читель начальных классов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иселева О.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МБОУ «СШ №31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4f0b7"/>
                </a:solidFill>
                <a:latin typeface="Arial"/>
              </a:rPr>
              <a:t>ФИЗМИНУТК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4f177"/>
                </a:solidFill>
                <a:latin typeface="Arial"/>
              </a:rPr>
              <a:t>Раз, два , три , четыре, </a:t>
            </a:r>
            <a:br>
              <a:rPr sz="3200"/>
            </a:br>
            <a:r>
              <a:rPr b="0" lang="ru-RU" sz="3200" spc="-1" strike="noStrike">
                <a:solidFill>
                  <a:srgbClr val="f4f177"/>
                </a:solidFill>
                <a:latin typeface="Arial"/>
              </a:rPr>
              <a:t>Будем вместе повторять.</a:t>
            </a:r>
            <a:br>
              <a:rPr sz="3200"/>
            </a:br>
            <a:r>
              <a:rPr b="0" lang="ru-RU" sz="3200" spc="-1" strike="noStrike">
                <a:solidFill>
                  <a:srgbClr val="f4f177"/>
                </a:solidFill>
                <a:latin typeface="Arial"/>
              </a:rPr>
              <a:t>Один да четыре будет 5</a:t>
            </a:r>
            <a:br>
              <a:rPr sz="3200"/>
            </a:br>
            <a:r>
              <a:rPr b="0" lang="ru-RU" sz="3200" spc="-1" strike="noStrike">
                <a:solidFill>
                  <a:srgbClr val="f4f177"/>
                </a:solidFill>
                <a:latin typeface="Arial"/>
              </a:rPr>
              <a:t>Два да три тоже 5</a:t>
            </a:r>
            <a:br>
              <a:rPr sz="3200"/>
            </a:br>
            <a:r>
              <a:rPr b="0" lang="ru-RU" sz="3200" spc="-1" strike="noStrike">
                <a:solidFill>
                  <a:srgbClr val="f4f177"/>
                </a:solidFill>
                <a:latin typeface="Arial"/>
              </a:rPr>
              <a:t>Три да два, один да четыре</a:t>
            </a:r>
            <a:br>
              <a:rPr sz="3200"/>
            </a:br>
            <a:r>
              <a:rPr b="0" lang="ru-RU" sz="3200" spc="-1" strike="noStrike">
                <a:solidFill>
                  <a:srgbClr val="f4f177"/>
                </a:solidFill>
                <a:latin typeface="Arial"/>
              </a:rPr>
              <a:t>Всю пятерку изучили.</a:t>
            </a:r>
            <a:br>
              <a:rPr sz="3200"/>
            </a:br>
            <a:r>
              <a:rPr b="0" lang="ru-RU" sz="3200" spc="-1" strike="noStrike">
                <a:solidFill>
                  <a:srgbClr val="f4f177"/>
                </a:solidFill>
                <a:latin typeface="Arial"/>
              </a:rPr>
              <a:t>А теперь мы отдохнем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4f177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f4f177"/>
                </a:solidFill>
                <a:latin typeface="Arial"/>
              </a:rPr>
              <a:t>И опять считать начнем.</a:t>
            </a:r>
            <a:br>
              <a:rPr sz="3200"/>
            </a:br>
            <a:r>
              <a:rPr b="0" lang="ru-RU" sz="3200" spc="-1" strike="noStrike">
                <a:solidFill>
                  <a:srgbClr val="f4f177"/>
                </a:solidFill>
                <a:latin typeface="Arial"/>
              </a:rPr>
              <a:t>четыре-5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оставить знаки &gt;, &lt;, =.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1311"/>
                </a:solidFill>
                <a:latin typeface="Arial"/>
              </a:rPr>
              <a:t>5…4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1311"/>
                </a:solidFill>
                <a:latin typeface="Arial"/>
              </a:rPr>
              <a:t>7…9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1311"/>
                </a:solidFill>
                <a:latin typeface="Arial"/>
              </a:rPr>
              <a:t>6…6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1311"/>
                </a:solidFill>
                <a:latin typeface="Arial"/>
              </a:rPr>
              <a:t>8…7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1311"/>
                </a:solidFill>
                <a:latin typeface="Arial"/>
              </a:rPr>
              <a:t>3…2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1311"/>
                </a:solidFill>
                <a:latin typeface="Arial"/>
              </a:rPr>
              <a:t>1…6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cf4dd"/>
                </a:solidFill>
                <a:latin typeface="Arial"/>
              </a:rPr>
              <a:t>ЛЕСЕНКА НАСТРОЕНИ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AutoShape 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AutoShape 11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AutoShape 1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7" name="AutoShape 1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8" name="AutoShape 1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" name="AutoShape 19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AutoShape 21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AutoShape 2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AutoShape 2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" name="AutoShape 2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" name="AutoShape 29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5" name="AutoShape 31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6" name="AutoShape 3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7" name="AutoShape 3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" name="AutoShape 3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9" name="AutoShape 39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0" name="Picture 41" descr="Картинки по запросу ЗЕЛЕНЫЙ ВЕСЕЛЫЙСМАЙЛИК"/>
          <p:cNvPicPr/>
          <p:nvPr/>
        </p:nvPicPr>
        <p:blipFill>
          <a:blip r:embed="rId1"/>
          <a:stretch/>
        </p:blipFill>
        <p:spPr>
          <a:xfrm>
            <a:off x="539640" y="2060640"/>
            <a:ext cx="2016360" cy="2016000"/>
          </a:xfrm>
          <a:prstGeom prst="rect">
            <a:avLst/>
          </a:prstGeom>
          <a:ln w="0">
            <a:noFill/>
          </a:ln>
        </p:spPr>
      </p:pic>
      <p:sp>
        <p:nvSpPr>
          <p:cNvPr id="241" name="AutoShape 4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2" name="Picture 45" descr="Похожее изображение"/>
          <p:cNvPicPr/>
          <p:nvPr/>
        </p:nvPicPr>
        <p:blipFill>
          <a:blip r:embed="rId2"/>
          <a:stretch/>
        </p:blipFill>
        <p:spPr>
          <a:xfrm>
            <a:off x="3203640" y="1989000"/>
            <a:ext cx="2143080" cy="2143440"/>
          </a:xfrm>
          <a:prstGeom prst="rect">
            <a:avLst/>
          </a:prstGeom>
          <a:ln w="0">
            <a:noFill/>
          </a:ln>
        </p:spPr>
      </p:pic>
      <p:sp>
        <p:nvSpPr>
          <p:cNvPr id="243" name="AutoShape 4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5" name="AutoShape 51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6" name="AutoShape 5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7" name="AutoShape 5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8" name="Picture 57" descr="Похожее изображение"/>
          <p:cNvPicPr/>
          <p:nvPr/>
        </p:nvPicPr>
        <p:blipFill>
          <a:blip r:embed="rId3"/>
          <a:stretch/>
        </p:blipFill>
        <p:spPr>
          <a:xfrm>
            <a:off x="4643280" y="422100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1619280" y="980640"/>
            <a:ext cx="56404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2f1311"/>
                </a:solidFill>
                <a:latin typeface="Arial"/>
              </a:rPr>
              <a:t>Прозвенел уже звонок</a:t>
            </a:r>
            <a:endParaRPr b="0" lang="en-US" sz="6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2f1311"/>
                </a:solidFill>
                <a:latin typeface="Arial"/>
              </a:rPr>
              <a:t>Начинается урок</a:t>
            </a:r>
            <a:endParaRPr b="0" lang="en-US" sz="6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2f1311"/>
                </a:solidFill>
                <a:latin typeface="Arial"/>
              </a:rPr>
              <a:t>Повторение</a:t>
            </a:r>
            <a:endParaRPr b="0" lang="en-US" sz="7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состав числа, 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решение задач, 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названия геометрических фигур 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f1311"/>
                </a:solidFill>
                <a:latin typeface="Arial"/>
              </a:rPr>
              <a:t>УСТНЫЙ СЧЕТ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0" name="Picture 7" descr="Картинки по запросу УСТНЫЙ СЧЕТ ДО 10КАРТИНКА"/>
          <p:cNvPicPr/>
          <p:nvPr/>
        </p:nvPicPr>
        <p:blipFill>
          <a:blip r:embed="rId1"/>
          <a:stretch/>
        </p:blipFill>
        <p:spPr>
          <a:xfrm>
            <a:off x="179280" y="1125360"/>
            <a:ext cx="748368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3" name="Picture 5" descr="Картинки по запросу УСТНЫЙ СЧЕТ ДО 10КАРТИНКА"/>
          <p:cNvPicPr/>
          <p:nvPr/>
        </p:nvPicPr>
        <p:blipFill>
          <a:blip r:embed="rId1"/>
          <a:stretch/>
        </p:blipFill>
        <p:spPr>
          <a:xfrm>
            <a:off x="1042920" y="40464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f7d47d"/>
                </a:solidFill>
                <a:latin typeface="Arial"/>
              </a:rPr>
              <a:t>Игра «прибавляем и вычитаем по 1» 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От 0 до 10 через 2 и « обратно»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От 1 до 10 через 1 и « обратно»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7" name="Picture 4" descr="Картинки по запросу СОСТАВ ЧИСЛА 6 КАРТИНКА"/>
          <p:cNvPicPr/>
          <p:nvPr/>
        </p:nvPicPr>
        <p:blipFill>
          <a:blip r:embed="rId1"/>
          <a:stretch/>
        </p:blipFill>
        <p:spPr>
          <a:xfrm>
            <a:off x="611280" y="981000"/>
            <a:ext cx="6954840" cy="52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3" name="Picture 7" descr="Картинки по запросу СОСТАВ ЧИСЛА 7 КАРТИНКА"/>
          <p:cNvPicPr/>
          <p:nvPr/>
        </p:nvPicPr>
        <p:blipFill>
          <a:blip r:embed="rId1"/>
          <a:stretch/>
        </p:blipFill>
        <p:spPr>
          <a:xfrm>
            <a:off x="155520" y="460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6" name="Picture 5" descr="Картинки по запросу ГЕОМЕТРИЧЕСКИЙ МАТЕРИАЛ 1 КЛАСС СЧЕТ ОТ 1 ДО 10"/>
          <p:cNvPicPr/>
          <p:nvPr/>
        </p:nvPicPr>
        <p:blipFill>
          <a:blip r:embed="rId1"/>
          <a:stretch/>
        </p:blipFill>
        <p:spPr>
          <a:xfrm>
            <a:off x="1187280" y="1197000"/>
            <a:ext cx="5545440" cy="50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19T09:41:40Z</dcterms:created>
  <dc:creator>Пользователь</dc:creator>
  <dc:description/>
  <dc:language>en-US</dc:language>
  <cp:lastModifiedBy>Olenka</cp:lastModifiedBy>
  <dcterms:modified xsi:type="dcterms:W3CDTF">2018-11-21T13:11:44Z</dcterms:modified>
  <cp:revision>7</cp:revision>
  <dc:subject/>
  <dc:title>Слайд 1</dc:title>
</cp:coreProperties>
</file>