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20.gif" ContentType="image/gif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793413" cy="772636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AFC-C699-4571-84DD-75B41A2D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971532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7840" y="4466160"/>
            <a:ext cx="971532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11A-5AD4-4E09-A1EF-83C2E0D6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16280" y="180180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7840" y="446616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16280" y="446616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3DA-8081-44C3-B841-2DC5E3C2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31280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2840" y="1801800"/>
            <a:ext cx="31280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07480" y="1801800"/>
            <a:ext cx="31280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7840" y="4466160"/>
            <a:ext cx="31280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2840" y="4466160"/>
            <a:ext cx="31280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07480" y="4466160"/>
            <a:ext cx="31280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4B8-E358-4781-9404-F519D301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7840" y="1801800"/>
            <a:ext cx="971532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F43-4EB0-4832-87A0-C90E11EF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971532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B6C-9A41-4D5B-9DA3-8C47F2D4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474084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16280" y="1801800"/>
            <a:ext cx="474084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3EC-8B62-45A4-A8C0-46B6B5A1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795-4222-4DCC-B6AE-36E2DBAF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7840" y="309600"/>
            <a:ext cx="971532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DE3-8ADE-464D-A505-F7AEDDFE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6280" y="1801800"/>
            <a:ext cx="474084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7840" y="446616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5E1-8540-4638-A79E-847866E3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474084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6280" y="180180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16280" y="446616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D94-D25D-4E45-87FB-5598E0C3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7840" y="180180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6280" y="1801800"/>
            <a:ext cx="474084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7840" y="4466160"/>
            <a:ext cx="9715320" cy="24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C81-00E3-4D4E-89C9-DB97819E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7840" y="1801800"/>
            <a:ext cx="971532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8200" y="7035840"/>
            <a:ext cx="251928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87840" y="7035840"/>
            <a:ext cx="34164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34240" y="7035840"/>
            <a:ext cx="251928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7028-037F-496A-BD4C-B22E27EBC8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082960" y="1487520"/>
            <a:ext cx="7659360" cy="548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293760" y="628560"/>
            <a:ext cx="9767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b6bcf"/>
                </a:solidFill>
                <a:latin typeface="Arial Black"/>
              </a:rPr>
              <a:t>Обучение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b6bcf"/>
                </a:solidFill>
                <a:latin typeface="Arial Black"/>
              </a:rPr>
              <a:t>Звукобуквенному  анализу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ÐÐ°ÑÑÐ¸Ð½ÐºÐ¸ Ð¿Ð¾ Ð·Ð°Ð¿ÑÐ¾ÑÑ Ð·Ð²ÑÐºÐ¾Ð²Ð¸ÑÐºÐ¸  ÑÐ¸ÑÑÐ½Ð¾Ðº"/>
          <p:cNvPicPr/>
          <p:nvPr/>
        </p:nvPicPr>
        <p:blipFill>
          <a:blip r:embed="rId1"/>
          <a:stretch/>
        </p:blipFill>
        <p:spPr>
          <a:xfrm>
            <a:off x="3164040" y="3359160"/>
            <a:ext cx="3801960" cy="38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и могут быть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чевые и не рече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ÐÐ°ÑÑÐ¸Ð½ÐºÐ¸ Ð¿Ð¾ Ð·Ð°Ð¿ÑÐ¾ÑÑ Ð½Ð¾ÑÐºÐ°"/>
          <p:cNvPicPr/>
          <p:nvPr/>
        </p:nvPicPr>
        <p:blipFill>
          <a:blip r:embed="rId1"/>
          <a:stretch/>
        </p:blipFill>
        <p:spPr>
          <a:xfrm>
            <a:off x="4424400" y="1782720"/>
            <a:ext cx="1942920" cy="1714680"/>
          </a:xfrm>
          <a:prstGeom prst="rect">
            <a:avLst/>
          </a:prstGeom>
          <a:ln w="0">
            <a:noFill/>
          </a:ln>
        </p:spPr>
      </p:pic>
      <p:sp>
        <p:nvSpPr>
          <p:cNvPr id="47" name="Стрелка вниз 9"/>
          <p:cNvSpPr/>
          <p:nvPr/>
        </p:nvSpPr>
        <p:spPr>
          <a:xfrm flipV="1" rot="13714800">
            <a:off x="4074840" y="3006000"/>
            <a:ext cx="274680" cy="1147320"/>
          </a:xfrm>
          <a:prstGeom prst="downArrow">
            <a:avLst>
              <a:gd name="adj1" fmla="val 50000"/>
              <a:gd name="adj2" fmla="val 11846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ÐÐ°ÑÑÐ¸Ð½ÐºÐ¸ Ð¿Ð¾ Ð·Ð°Ð¿ÑÐ¾ÑÑ Ð½Ð¾ÑÐºÐ°"/>
          <p:cNvPicPr/>
          <p:nvPr/>
        </p:nvPicPr>
        <p:blipFill>
          <a:blip r:embed="rId2"/>
          <a:stretch/>
        </p:blipFill>
        <p:spPr>
          <a:xfrm>
            <a:off x="1363680" y="384480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49" name="Стрелка вниз 11"/>
          <p:cNvSpPr/>
          <p:nvPr/>
        </p:nvSpPr>
        <p:spPr>
          <a:xfrm flipV="1" rot="7985400">
            <a:off x="6432840" y="3063960"/>
            <a:ext cx="244440" cy="1150920"/>
          </a:xfrm>
          <a:prstGeom prst="downArrow">
            <a:avLst>
              <a:gd name="adj1" fmla="val 50000"/>
              <a:gd name="adj2" fmla="val 11847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ÐÐ°ÑÑÐ¸Ð½ÐºÐ¸ Ð¿Ð¾ Ð·Ð°Ð¿ÑÐ¾ÑÑ Ð±Ð°ÑÐ°Ð±Ð°Ð½"/>
          <p:cNvPicPr/>
          <p:nvPr/>
        </p:nvPicPr>
        <p:blipFill>
          <a:blip r:embed="rId3"/>
          <a:stretch/>
        </p:blipFill>
        <p:spPr>
          <a:xfrm>
            <a:off x="6357960" y="3852720"/>
            <a:ext cx="3376440" cy="33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ые зву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826920" y="3619440"/>
            <a:ext cx="4529160" cy="2201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241280" y="2422440"/>
            <a:ext cx="377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сны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3"/>
          <p:cNvSpPr/>
          <p:nvPr/>
        </p:nvSpPr>
        <p:spPr>
          <a:xfrm rot="2961600">
            <a:off x="4208040" y="1258920"/>
            <a:ext cx="385560" cy="153828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низ 5"/>
          <p:cNvSpPr/>
          <p:nvPr/>
        </p:nvSpPr>
        <p:spPr>
          <a:xfrm flipV="1" rot="8064600">
            <a:off x="6282720" y="1415520"/>
            <a:ext cx="384120" cy="13842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540400" y="2395440"/>
            <a:ext cx="471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гласны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ÐÐ°ÑÑÐ¸Ð½ÐºÐ¸ Ð¿Ð¾ Ð·Ð°Ð¿ÑÐ¾ÑÑ ÑÐµÐ»Ð¾Ð²ÐµÑÐºÐ¸ ÑÐ¾Ð³Ð»Ð°ÑÐ½ÑÐµ  Ð·Ð²ÑÐºÐ¸"/>
          <p:cNvPicPr/>
          <p:nvPr/>
        </p:nvPicPr>
        <p:blipFill>
          <a:blip r:embed="rId2"/>
          <a:srcRect l="-52914" t="-230305" r="114574" b="230322"/>
          <a:stretch/>
        </p:blipFill>
        <p:spPr>
          <a:xfrm>
            <a:off x="6934320" y="-628560"/>
            <a:ext cx="1827000" cy="20764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2633760" y="61675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7802640" y="6167520"/>
            <a:ext cx="914400" cy="91440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ÐÐ°ÑÑÐ¸Ð½ÐºÐ¸ Ð¿Ð¾ Ð·Ð°Ð¿ÑÐ¾ÑÑ Ð·Ð²ÑÐºÐ¾Ð²Ð¸ÑÐºÐ¸  ÑÐ¸ÑÑÐ½Ð¾Ðº"/>
          <p:cNvPicPr/>
          <p:nvPr/>
        </p:nvPicPr>
        <p:blipFill>
          <a:blip r:embed="rId3"/>
          <a:stretch/>
        </p:blipFill>
        <p:spPr>
          <a:xfrm>
            <a:off x="6332400" y="3529080"/>
            <a:ext cx="3252960" cy="21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гласные зву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2"/>
          <p:cNvSpPr/>
          <p:nvPr/>
        </p:nvSpPr>
        <p:spPr>
          <a:xfrm rot="8403000">
            <a:off x="3285720" y="1973160"/>
            <a:ext cx="1355760" cy="247680"/>
          </a:xfrm>
          <a:prstGeom prst="rightArrow">
            <a:avLst>
              <a:gd name="adj1" fmla="val 50000"/>
              <a:gd name="adj2" fmla="val 5022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3"/>
          <p:cNvSpPr/>
          <p:nvPr/>
        </p:nvSpPr>
        <p:spPr>
          <a:xfrm rot="2287200">
            <a:off x="6227640" y="1989000"/>
            <a:ext cx="1268640" cy="262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2201760" y="5638680"/>
            <a:ext cx="1152720" cy="10810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8183520" y="5638680"/>
            <a:ext cx="1158840" cy="11318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857160" y="22035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7713360" y="217800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ÐÐ°ÑÑÐ¸Ð½ÐºÐ¸ Ð¿Ð¾ Ð·Ð°Ð¿ÑÐ¾ÑÑ Ð·Ð²ÑÐºÐ¾Ð²Ð¸ÑÐºÐ¸  ÑÐ¸ÑÑÐ½Ð¾Ðº"/>
          <p:cNvPicPr/>
          <p:nvPr/>
        </p:nvPicPr>
        <p:blipFill>
          <a:blip r:embed="rId1"/>
          <a:stretch/>
        </p:blipFill>
        <p:spPr>
          <a:xfrm>
            <a:off x="1212840" y="3108240"/>
            <a:ext cx="3468600" cy="232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ÐÐ°ÑÑÐ¸Ð½ÐºÐ¸ Ð¿Ð¾ Ð·Ð°Ð¿ÑÐ¾ÑÑ Ð·Ð²ÑÐºÐ¾Ð²Ð¸ÑÐºÐ¸  ÑÐ¸ÑÑÐ½Ð¾Ðº"/>
          <p:cNvPicPr/>
          <p:nvPr/>
        </p:nvPicPr>
        <p:blipFill>
          <a:blip r:embed="rId2"/>
          <a:stretch/>
        </p:blipFill>
        <p:spPr>
          <a:xfrm>
            <a:off x="7051680" y="3111480"/>
            <a:ext cx="297828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ые звуки могут бы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972040" y="3213000"/>
            <a:ext cx="3733920" cy="2803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ÐÐ°ÑÑÐ¸Ð½ÐºÐ¸ Ð¿Ð¾ Ð·Ð°Ð¿ÑÐ¾ÑÑ Ð·Ð²ÑÐºÐ¾Ð²Ð¸ÑÐºÐ¸  ÑÐ¸ÑÑÐ½Ð¾Ðº"/>
          <p:cNvPicPr/>
          <p:nvPr/>
        </p:nvPicPr>
        <p:blipFill>
          <a:blip r:embed="rId2"/>
          <a:stretch/>
        </p:blipFill>
        <p:spPr>
          <a:xfrm>
            <a:off x="1292400" y="3216240"/>
            <a:ext cx="3749400" cy="2725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6620040" y="2016000"/>
            <a:ext cx="28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ЗВОНКИЕ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930320" y="2195640"/>
            <a:ext cx="21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ГЛУХ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7840" y="309600"/>
            <a:ext cx="9715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звук отличается от букв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940040" y="1611360"/>
            <a:ext cx="19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Звук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6765480" y="1596960"/>
            <a:ext cx="182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Букв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003320" y="2955960"/>
            <a:ext cx="4122720" cy="270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ÐÐ°ÑÑÐ¸Ð½ÐºÐ¸ Ð¿Ð¾ Ð·Ð°Ð¿ÑÐ¾ÑÑ Ð±ÑÐºÐ²Ñ Ð¿Ð¸ÑÐµÐ¼"/>
          <p:cNvPicPr/>
          <p:nvPr/>
        </p:nvPicPr>
        <p:blipFill>
          <a:blip r:embed="rId2"/>
          <a:srcRect l="8806" t="0" r="0" b="0"/>
          <a:stretch/>
        </p:blipFill>
        <p:spPr>
          <a:xfrm>
            <a:off x="5972040" y="2955960"/>
            <a:ext cx="4410360" cy="27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3" descr=""/>
          <p:cNvPicPr/>
          <p:nvPr/>
        </p:nvPicPr>
        <p:blipFill>
          <a:blip r:embed="rId1"/>
          <a:stretch/>
        </p:blipFill>
        <p:spPr>
          <a:xfrm>
            <a:off x="1474920" y="476280"/>
            <a:ext cx="8126280" cy="4741920"/>
          </a:xfrm>
          <a:prstGeom prst="rect">
            <a:avLst/>
          </a:prstGeom>
          <a:ln w="0">
            <a:noFill/>
          </a:ln>
        </p:spPr>
      </p:pic>
      <p:sp>
        <p:nvSpPr>
          <p:cNvPr id="81" name="Oval 4"/>
          <p:cNvSpPr/>
          <p:nvPr/>
        </p:nvSpPr>
        <p:spPr>
          <a:xfrm>
            <a:off x="2516040" y="2803680"/>
            <a:ext cx="57636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3308400" y="2803680"/>
            <a:ext cx="576360" cy="50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3884760" y="4438800"/>
            <a:ext cx="19447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Oval 4"/>
          <p:cNvSpPr/>
          <p:nvPr/>
        </p:nvSpPr>
        <p:spPr>
          <a:xfrm>
            <a:off x="6908760" y="2836800"/>
            <a:ext cx="57636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"/>
          <p:cNvSpPr/>
          <p:nvPr/>
        </p:nvSpPr>
        <p:spPr>
          <a:xfrm>
            <a:off x="7701120" y="2840040"/>
            <a:ext cx="576000" cy="50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4856040" y="5408640"/>
            <a:ext cx="57780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5540400" y="5408640"/>
            <a:ext cx="57636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021"/>
          <p:cNvPicPr/>
          <p:nvPr/>
        </p:nvPicPr>
        <p:blipFill>
          <a:blip r:embed="rId4"/>
          <a:stretch/>
        </p:blipFill>
        <p:spPr>
          <a:xfrm>
            <a:off x="506520" y="1547640"/>
            <a:ext cx="1763640" cy="2578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019"/>
          <p:cNvPicPr/>
          <p:nvPr/>
        </p:nvPicPr>
        <p:blipFill>
          <a:blip r:embed="rId5"/>
          <a:stretch/>
        </p:blipFill>
        <p:spPr>
          <a:xfrm>
            <a:off x="8277120" y="1895400"/>
            <a:ext cx="150840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0046"/>
          <p:cNvPicPr/>
          <p:nvPr/>
        </p:nvPicPr>
        <p:blipFill>
          <a:blip r:embed="rId1"/>
          <a:stretch/>
        </p:blipFill>
        <p:spPr>
          <a:xfrm>
            <a:off x="1074600" y="1623960"/>
            <a:ext cx="4178520" cy="2521080"/>
          </a:xfrm>
          <a:prstGeom prst="rect">
            <a:avLst/>
          </a:prstGeom>
          <a:ln w="0">
            <a:noFill/>
          </a:ln>
        </p:spPr>
      </p:pic>
      <p:sp>
        <p:nvSpPr>
          <p:cNvPr id="91" name="Овал 2"/>
          <p:cNvSpPr/>
          <p:nvPr/>
        </p:nvSpPr>
        <p:spPr>
          <a:xfrm>
            <a:off x="1450800" y="5305320"/>
            <a:ext cx="719280" cy="69552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2200320" y="5305320"/>
            <a:ext cx="725400" cy="69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2955960" y="5292720"/>
            <a:ext cx="720720" cy="6984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 flipH="1">
            <a:off x="1809000" y="4340160"/>
            <a:ext cx="249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И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939000" y="4346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О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8"/>
          <p:cNvSpPr/>
          <p:nvPr/>
        </p:nvSpPr>
        <p:spPr>
          <a:xfrm>
            <a:off x="8283600" y="5318280"/>
            <a:ext cx="720720" cy="69516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7564320" y="5305320"/>
            <a:ext cx="719280" cy="69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0"/>
          <p:cNvSpPr/>
          <p:nvPr/>
        </p:nvSpPr>
        <p:spPr>
          <a:xfrm>
            <a:off x="6843600" y="5305320"/>
            <a:ext cx="720720" cy="69552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ÐÐ°ÑÑÐ¸Ð½ÐºÐ¸ Ð¿Ð¾ Ð·Ð°Ð¿ÑÐ¾ÑÑ ÐºÐ¾Ñ ÑÐ¸ÑÑÐ½Ð¾Ðº Ð´Ð»Ñ Ð´ÐµÑÐµÐ¹"/>
          <p:cNvPicPr/>
          <p:nvPr/>
        </p:nvPicPr>
        <p:blipFill>
          <a:blip r:embed="rId2"/>
          <a:stretch/>
        </p:blipFill>
        <p:spPr>
          <a:xfrm>
            <a:off x="6854760" y="1008000"/>
            <a:ext cx="2260800" cy="305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1" descr=""/>
          <p:cNvPicPr/>
          <p:nvPr/>
        </p:nvPicPr>
        <p:blipFill>
          <a:blip r:embed="rId1"/>
          <a:stretch/>
        </p:blipFill>
        <p:spPr>
          <a:xfrm>
            <a:off x="1073160" y="1920960"/>
            <a:ext cx="8766000" cy="91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ÐÐ°ÑÑÐ¸Ð½ÐºÐ¸ Ð¿Ð¾ Ð·Ð°Ð¿ÑÐ¾ÑÑ ÐÐÐÐÐÐÐÐ Ð®  ÑÐ¸ÑÑÐ½Ð¾Ðº"/>
          <p:cNvPicPr/>
          <p:nvPr/>
        </p:nvPicPr>
        <p:blipFill>
          <a:blip r:embed="rId2"/>
          <a:stretch/>
        </p:blipFill>
        <p:spPr>
          <a:xfrm>
            <a:off x="3235320" y="3071880"/>
            <a:ext cx="374508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0:01:47Z</dcterms:created>
  <dc:creator>bsa</dc:creator>
  <dc:description/>
  <dc:language>en-US</dc:language>
  <cp:lastModifiedBy>натали</cp:lastModifiedBy>
  <dcterms:modified xsi:type="dcterms:W3CDTF">2018-11-27T12:29:39Z</dcterms:modified>
  <cp:revision>33</cp:revision>
  <dc:subject/>
  <dc:title>Слайд 1</dc:title>
</cp:coreProperties>
</file>