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25C-2CF8-4D68-96F0-11D51187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A9F-C300-4A8A-A90B-1848677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15E-DA71-4705-A220-43C7961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B1F-904F-4DB5-828B-AF47E574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6F3-36A6-4891-B326-3D73951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8A0-7B77-4FD6-B750-B3BDF3EA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75E-E5E7-41D5-BCD0-EE35D13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0C2-6B01-41FB-8464-C3C9861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820-B4DA-4026-82D9-4BA1743C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DF6-9631-4725-8397-5E11F5F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368-4191-4498-89FC-9757438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B30-C414-41DD-A7AB-292A78C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D36-94E4-47F9-9476-385AA91A99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3789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тикуляционная гимнастика               для свистящих звуко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итель-логопед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Б ДОУ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 Детский сад №249»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имоненко Н.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3814920"/>
            <a:ext cx="56883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и губки улыбнули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о к ушкам потянулис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попробуй «ииии» скаж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 заборчик покажи!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619280" y="836640"/>
            <a:ext cx="571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6000" y="981000"/>
            <a:ext cx="7758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нуть губы прямо к ушка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 нравится лягушка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ыбаются, смею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глаза у них, как блюд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ÐÐ°ÑÑÐ¸Ð½ÐºÐ¸ Ð¿Ð¾ Ð·Ð°Ð¿ÑÐ¾ÑÑ Ð»ÑÐ³ÑÑÐºÐ° ÐºÐ°ÑÑÐ¸Ð½ÐºÐ°Ñ png"/>
          <p:cNvPicPr/>
          <p:nvPr/>
        </p:nvPicPr>
        <p:blipFill>
          <a:blip r:embed="rId2"/>
          <a:stretch/>
        </p:blipFill>
        <p:spPr>
          <a:xfrm>
            <a:off x="2987640" y="3213000"/>
            <a:ext cx="36003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4000" y="836280"/>
            <a:ext cx="81154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лопатой полож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од счет его держ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, два, три, четыре, п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надо расслабля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ÐÐ¾ÑÐ¾Ð¶ÐµÐµ Ð¸Ð·Ð¾Ð±ÑÐ°Ð¶ÐµÐ½Ð¸Ðµ"/>
          <p:cNvPicPr/>
          <p:nvPr/>
        </p:nvPicPr>
        <p:blipFill>
          <a:blip r:embed="rId2"/>
          <a:srcRect l="6974" t="11099" r="9374" b="2962"/>
          <a:stretch/>
        </p:blipFill>
        <p:spPr>
          <a:xfrm>
            <a:off x="4059360" y="2997360"/>
            <a:ext cx="4593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348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7560" y="17679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иголочкой по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отянем остри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ÐÐ°ÑÑÐ¸Ð½ÐºÐ¸ Ð¿Ð¾ Ð·Ð°Ð¿ÑÐ¾ÑÑ Ð¸Ð³Ð»Ð° ÐºÐ°ÑÑÐ¸Ð½ÐºÐ°Ñ png"/>
          <p:cNvPicPr/>
          <p:nvPr/>
        </p:nvPicPr>
        <p:blipFill>
          <a:blip r:embed="rId2"/>
          <a:stretch/>
        </p:blipFill>
        <p:spPr>
          <a:xfrm rot="17436000">
            <a:off x="4452120" y="3099240"/>
            <a:ext cx="360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-6480"/>
            <a:ext cx="924084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052640"/>
            <a:ext cx="60897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щу зубы, посмотр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болели чтоб он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ÐÐ°ÑÑÐ¸Ð½ÐºÐ¸ Ð¿Ð¾ Ð·Ð°Ð¿ÑÐ¾ÑÑ ÐºÐ¾Ñ ÑÐ¸ÑÑÐ¸Ñ Ð·ÑÐ±Ñ ÐºÐ°ÑÑÐ¸Ð½ÐºÐ°Ñ png"/>
          <p:cNvPicPr/>
          <p:nvPr/>
        </p:nvPicPr>
        <p:blipFill>
          <a:blip r:embed="rId2"/>
          <a:stretch/>
        </p:blipFill>
        <p:spPr>
          <a:xfrm>
            <a:off x="2987640" y="2841480"/>
            <a:ext cx="30290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-47520" y="0"/>
            <a:ext cx="923904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419640" y="1216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Спинка язычка сейчас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Станет горочкой у нас.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Ну-ка, горка, поднимись!</a:t>
            </a:r>
            <a:br>
              <a:rPr sz="2800"/>
            </a:br>
            <a:r>
              <a:rPr b="0" lang="ru-RU" sz="2800" spc="-1" strike="noStrike">
                <a:solidFill>
                  <a:srgbClr val="180613"/>
                </a:solidFill>
                <a:latin typeface="Times New Roman"/>
                <a:ea typeface="Times New Roman"/>
              </a:rPr>
              <a:t>Мы помчимся с горки вни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ÐÐ°ÑÑÐ¸Ð½ÐºÐ¸ Ð¿Ð¾ Ð·Ð°Ð¿ÑÐ¾ÑÑ Ð³Ð¾ÑÐºÐ° ÐºÐ°ÑÑÐ¸Ð½ÐºÐ°Ñ png"/>
          <p:cNvPicPr/>
          <p:nvPr/>
        </p:nvPicPr>
        <p:blipFill>
          <a:blip r:embed="rId3"/>
          <a:stretch/>
        </p:blipFill>
        <p:spPr>
          <a:xfrm>
            <a:off x="34920" y="1558800"/>
            <a:ext cx="5302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-14400" y="0"/>
            <a:ext cx="91299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195640" y="102240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203640" y="119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16360" y="134136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а из душа льется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 Ванечка смеё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ÐÐ°ÑÑÐ¸Ð½ÐºÐ¸ Ð¿Ð¾ Ð·Ð°Ð¿ÑÐ¾ÑÑ ÑÐµÐ±ÐµÐ½Ð¾Ðº Ð² Ð²Ð°Ð½Ð½Ð¾Ð¹ ÑÐ¸ÑÑÐ½Ð¾Ðº png"/>
          <p:cNvPicPr/>
          <p:nvPr/>
        </p:nvPicPr>
        <p:blipFill>
          <a:blip r:embed="rId2"/>
          <a:stretch/>
        </p:blipFill>
        <p:spPr>
          <a:xfrm>
            <a:off x="3851280" y="2695680"/>
            <a:ext cx="3746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-31680" y="-1440"/>
            <a:ext cx="9177120" cy="688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ÐÐ°ÑÑÐ¸Ð½ÐºÐ¸ Ð¿Ð¾ Ð·Ð°Ð¿ÑÐ¾ÑÑ Ð±Ð»Ð°Ð³Ð¾Ð´Ð°ÑÑ Ð·Ð° Ð²Ð½Ð¸Ð¼Ð°Ð½Ð¸Ðµ ÑÐ¸ÑÑÐ½Ð¾Ðº png"/>
          <p:cNvPicPr/>
          <p:nvPr/>
        </p:nvPicPr>
        <p:blipFill>
          <a:blip r:embed="rId2"/>
          <a:stretch/>
        </p:blipFill>
        <p:spPr>
          <a:xfrm>
            <a:off x="2340000" y="1125360"/>
            <a:ext cx="48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натали</cp:lastModifiedBy>
  <dcterms:modified xsi:type="dcterms:W3CDTF">2018-11-27T13:52:41Z</dcterms:modified>
  <cp:revision>26</cp:revision>
  <dc:subject/>
  <dc:title>Слайд 1</dc:title>
</cp:coreProperties>
</file>