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F5F2-DB46-4E1F-973F-8F37845E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D77B-1F1E-481B-9D76-1E29F3C0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AF9A-0BF1-496B-A9CA-2664456B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4A39-EF71-494E-B6AE-5F33A189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B38D-8FD6-4A5E-BDCB-BFC9AD4D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EE68-49B6-4A5B-B8BF-26A43F3C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8B4F-83E3-4866-B683-7C0E6AE1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A68E-FBD6-471B-8D60-01441D6A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9CEB-FEA4-40D2-B01B-6204036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A5C2-429A-4621-B392-EE03A033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6806-6B8F-4B03-9F4A-0C9208D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C67F-EAFA-442C-9300-90A6C1B2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4423-98AE-444E-B7E7-7BAD3D8A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01FA-04D4-48A1-8DEC-1845E9A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1EC6-5CB0-4C75-ADBA-9E909EF0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CC94-AD52-4C20-A4E3-25C7442C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B082-B895-4B8C-A970-D6955F4A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4A13-0236-490A-8D54-875B0DEB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BB2C-24D7-4C94-8FF7-EA5A98AC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902E-7440-4BF3-8AF5-12B841F7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6FF3-BD54-4E62-B491-24CE2255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5697-F5ED-4C09-A33C-F9CEB3C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4B86-3906-4112-8E75-52DD562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7C65-DBD3-423B-906E-60FD4E8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D2F0-54E9-445F-98F4-FE693B257F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F1FD-C28D-49E7-B937-CD5BBBBED6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едикаментозное лечение ММ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параты группы ноотроп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отро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аце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цефа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мма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реброли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ина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иди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текс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ен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параты группы ноотропов усиливают метаболические процессы, улучшают работу нейронов, стимулируют кровообращение. Они обладают антиоксидантными свойствами, устраняют гипокс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чшим из седативных препаратов является феназеп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го применяют при невротических, неврозоподобных и психопатических состоя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 широко используется при лечении детей с ММ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еврологическое обследование детей с неврологической патолог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71373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СГ – ультразвуковое исследование (УЗИ) мозга через роднички и височное окно. Надежный метод визуализации головного мозга, позволяет оценить анатомическое строение мозга, полостную систему, косвенно судить о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ЗДГ сосудов позволяет оценить артериальный и венозный кровоток по сосудам головного мозга и ше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ЭГ – незаменимый метод в диагностике заболеваний эпилептического спектра. Позволяет оценить биоэлектрическую активность моз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К УЗДГ – транскраниальная ультразвуковая доплерография позволяет оценить состояние сосудов мозга и ше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МГ – электронейромиография позволяет оценить состояние мышечного аппарата и проводящих нер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ндиллография – снимок шейного отдела позвоночника в трех проек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лечения детей с ММ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КМП – метод транскраниальных микрополяр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49:29Z</dcterms:created>
  <dc:creator>user</dc:creator>
  <dc:description/>
  <dc:language>en-US</dc:language>
  <cp:lastModifiedBy>User</cp:lastModifiedBy>
  <dcterms:modified xsi:type="dcterms:W3CDTF">2018-03-27T04:58:51Z</dcterms:modified>
  <cp:revision>4</cp:revision>
  <dc:subject/>
  <dc:title>Медикаментозное лечение ММД</dc:title>
</cp:coreProperties>
</file>