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A10F7-D1CE-4FC9-932F-6219E8A51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038C0-9DFD-415B-8330-A21B29A42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5744F-6BBA-4F04-9205-6372DB79A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D4FB6-F2B3-4DEE-B18F-71E662952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0282F-133A-46EA-9F3F-B6C3534BD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8E74E-274E-4868-A12B-81EBEF702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9E60E-DDCC-45D2-B9FA-7DCC7A77A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BF71C-363F-4F5D-899D-F1F931214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2AFC1-AD10-4B2B-AF71-F78BBFFA4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29240-D08A-49EF-8987-F9D1EE9BE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C62F0-69AF-4870-9856-EE234B5A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4C38B-4B32-433D-B3BF-CDAF91804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9DBE4-44AF-4EFD-9F5D-0313F959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B13AE-D48D-40E8-8150-41C0CB69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53714-E247-43BC-AA20-18052CC91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1C67F-BD68-4F94-8E69-96197133C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B0D6F-CB43-4115-9259-7BE1F6186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7AFDD-2FA6-453E-9C04-C56523037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A8EA2-F367-4E77-B96D-14C8CF19A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54DC2-5F4E-4069-97F6-D3BBA5AD5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9D764-98C2-46B4-BB43-8FB199F41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535EA-5470-4287-9CFA-97BAE9A3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1D567-C644-4E0D-9BF6-C96E3590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B5D20-E0CC-4493-96AB-7EE111F5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B9A2E-4929-40FA-B90D-0AB2CDE2F4A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F1E1B-53FE-4960-97CC-70C10F456A9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5640" y="2276280"/>
            <a:ext cx="7772400" cy="194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Медикаментозное лечение ММД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епараты группы ноотроп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отроп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раце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нцефаб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аммал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ребролиз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минал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ридит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ртекс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стен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епараты группы ноотропов усиливают метаболические процессы, улучшают работу нейронов, стимулируют кровообращение. Они обладают антиоксидантными свойствами, устраняют гипокси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68360" y="141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учшим из седативных препаратов является феназепа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го применяют при невротических, неврозоподобных и психопатических состояния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н широко используется при лечении детей с ММ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щеневрологическое обследование детей с неврологической патологи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55640" y="2420640"/>
            <a:ext cx="713736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СГ – ультразвуковое исследование (УЗИ) мозга через роднички и височное окно. Надежный метод визуализации головного мозга, позволяет оценить анатомическое строение мозга, полостную систему, косвенно судить о давл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3964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ЗДГ сосудов позволяет оценить артериальный и венозный кровоток по сосудам головного мозга и ше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ЭГ – незаменимый метод в диагностике заболеваний эпилептического спектра. Позволяет оценить биоэлектрическую активность мозг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9528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К УЗДГ – транскраниальная ультразвуковая доплерография позволяет оценить состояние сосудов мозга и ше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НМГ – электронейромиография позволяет оценить состояние мышечного аппарата и проводящих нерв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ондиллография – снимок шейного отдела позвоночника в трех проекц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тоды лечения детей с ММ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КМП – метод транскраниальных микрополяризац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6T10:49:29Z</dcterms:created>
  <dc:creator>user</dc:creator>
  <dc:description/>
  <dc:language>en-US</dc:language>
  <cp:lastModifiedBy>User</cp:lastModifiedBy>
  <dcterms:modified xsi:type="dcterms:W3CDTF">2018-03-27T04:58:51Z</dcterms:modified>
  <cp:revision>4</cp:revision>
  <dc:subject/>
  <dc:title>Медикаментозное лечение ММД</dc:title>
</cp:coreProperties>
</file>