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AD8D2-2916-45A1-865C-9CB1F55E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B6753-44DA-407D-A2A6-42739755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FAF7C-C995-40DA-A712-A18182A2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70AE1-92F3-4E56-8A43-E98D18CC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9972-8A39-4923-8871-162458C3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7307-CA15-4813-A06F-A984EFCD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8271-E3EA-4A0C-B9A1-D57AFC15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C0AE-1502-41C5-81B1-70B2FF14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228E-2ADD-42C9-9365-9D3D4B2B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9AD9-A7A0-48AC-A285-A72E1455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D8CB-4723-43EA-B766-4B8A23A1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449B3-7E78-4436-B2E3-5E726A69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0F51-CF6D-43E5-95C6-79E39199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D09A-9959-4C6E-A714-A3190703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A872-15E4-4D9A-A900-FCCEAAB1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5E52-D9CD-43D7-8F67-1ACC2966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D1E7-E424-47C6-9401-514B5A69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A8E5C-0ED3-47A3-BBC2-5936F42A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32ECB-E700-4533-87BD-A61A3AE6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9B51B-2E72-4A00-B1BA-2C6383CE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E686F-208F-4871-8296-40B30451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ADEB5-4EA0-40EF-AF83-2DAB87E7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5B8BF-5D40-4521-B651-378E69FA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ED91A-1B0E-4046-87DA-DFFFB4A5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1B44-222A-4720-B094-9E2B135B54A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1BD2-43A9-4A3A-95F7-EEA8FFFC35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едикаментозное лечение ММД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параты группы ноотроп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отро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аце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нцефа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мма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реброли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ина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иди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текс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стен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параты группы ноотропов усиливают метаболические процессы, улучшают работу нейронов, стимулируют кровообращение. Они обладают антиоксидантными свойствами, устраняют гипокс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учшим из седативных препаратов является феназеп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го применяют при невротических, неврозоподобных и психопатических состоян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н широко используется при лечении детей с ММ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неврологическое обследование детей с неврологической патолог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2420640"/>
            <a:ext cx="71373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СГ – ультразвуковое исследование (УЗИ) мозга через роднички и височное окно. Надежный метод визуализации головного мозга, позволяет оценить анатомическое строение мозга, полостную систему, косвенно судить о давл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ЗДГ сосудов позволяет оценить артериальный и венозный кровоток по сосудам головного мозга и ше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ЭГ – незаменимый метод в диагностике заболеваний эпилептического спектра. Позволяет оценить биоэлектрическую активность моз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К УЗДГ – транскраниальная ультразвуковая доплерография позволяет оценить состояние сосудов мозга и ше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НМГ – электронейромиография позволяет оценить состояние мышечного аппарата и проводящих нерв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ндиллография – снимок шейного отдела позвоночника в трех проекц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лечения детей с ММ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КМП – метод транскраниальных микрополяриз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49:29Z</dcterms:created>
  <dc:creator>user</dc:creator>
  <dc:description/>
  <dc:language>en-US</dc:language>
  <cp:lastModifiedBy>User</cp:lastModifiedBy>
  <dcterms:modified xsi:type="dcterms:W3CDTF">2018-03-27T04:58:51Z</dcterms:modified>
  <cp:revision>4</cp:revision>
  <dc:subject/>
  <dc:title>Медикаментозное лечение ММД</dc:title>
</cp:coreProperties>
</file>