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F147-5EA7-4BAD-8963-B87704B0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FA25-F8FC-4EDB-8847-B0C27D55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69A-32A6-4BB2-94B0-A78034DF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A6B-F401-4C26-B587-6BEAB8D6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DAE1-D6CC-4D62-9BCB-38AFF0D8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5071-0E35-46BD-AF19-DC626B28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0D1B-8FF7-4037-9890-CDE3C7C1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AF27-81D0-4253-8C0F-4E119E8D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F253-2CAD-428F-AD3E-47AB6518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55E4-575F-4992-812E-77D902E4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0C23-D0E0-4759-8204-C835DEAE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2CD-4791-4DD5-83BA-FCAE5795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6DDD-B5C2-4C35-9936-737C015E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1947-02CB-4E32-8555-29D66533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853F-0752-4553-9786-C71A4FB5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0760-A961-44EC-924E-11ADEC0A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6934-1E02-4636-8016-41E47C30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980-C5B4-4389-A3B9-3C0B60D2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39E1-D0F8-4E34-94E6-B091C19B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C6D-D864-4115-9E4D-675B4CC1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51B-9CFE-4EF5-B97A-33AED83F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15F-F2F9-4D06-A446-BA07B835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B4AC-2C56-49BE-AA20-5B38EEC4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E5C7-DF44-480B-8A9E-DBEFB0F3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5763-1769-4A7C-8EF3-F1EC1DB951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58F0-EB92-4240-AFF5-3A22A92DF9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ПРОБЛЕМНОЕ</a:t>
            </a:r>
            <a:br>
              <a:rPr sz="5000"/>
            </a:b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ОБУЧЕНИЕ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4005360"/>
            <a:ext cx="65534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 учител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з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АОУ «Гимназия №1»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«Формула корней квадратного уравнения» 8 клас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ешить 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² +3х +2 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524720" y="544500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8" y="7493"/>
                </a:moveTo>
                <a:lnTo>
                  <a:pt x="11346" y="7493"/>
                </a:lnTo>
                <a:lnTo>
                  <a:pt x="11346" y="12828"/>
                </a:lnTo>
                <a:cubicBezTo>
                  <a:pt x="11346" y="13751"/>
                  <a:pt x="12147" y="14482"/>
                  <a:pt x="13183" y="14482"/>
                </a:cubicBezTo>
                <a:lnTo>
                  <a:pt x="14845" y="14482"/>
                </a:lnTo>
                <a:cubicBezTo>
                  <a:pt x="15881" y="14482"/>
                  <a:pt x="16681" y="13751"/>
                  <a:pt x="16681" y="12828"/>
                </a:cubicBezTo>
                <a:lnTo>
                  <a:pt x="16681" y="7493"/>
                </a:lnTo>
                <a:lnTo>
                  <a:pt x="14845" y="7493"/>
                </a:lnTo>
                <a:lnTo>
                  <a:pt x="18353" y="3985"/>
                </a:lnTo>
                <a:lnTo>
                  <a:pt x="22025" y="7493"/>
                </a:lnTo>
                <a:lnTo>
                  <a:pt x="20189" y="7493"/>
                </a:lnTo>
                <a:lnTo>
                  <a:pt x="20189" y="12828"/>
                </a:lnTo>
                <a:cubicBezTo>
                  <a:pt x="20189" y="15596"/>
                  <a:pt x="17613" y="18155"/>
                  <a:pt x="14845" y="18155"/>
                </a:cubicBezTo>
                <a:lnTo>
                  <a:pt x="13183" y="18155"/>
                </a:lnTo>
                <a:cubicBezTo>
                  <a:pt x="10415" y="18155"/>
                  <a:pt x="7838" y="15596"/>
                  <a:pt x="7838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«Сумма углов треугольника» 7 клас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аким образом можно найти сумму углов треугольни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7524720" y="544500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8" y="7493"/>
                </a:moveTo>
                <a:lnTo>
                  <a:pt x="11346" y="7493"/>
                </a:lnTo>
                <a:lnTo>
                  <a:pt x="11346" y="12828"/>
                </a:lnTo>
                <a:cubicBezTo>
                  <a:pt x="11346" y="13751"/>
                  <a:pt x="12147" y="14482"/>
                  <a:pt x="13183" y="14482"/>
                </a:cubicBezTo>
                <a:lnTo>
                  <a:pt x="14845" y="14482"/>
                </a:lnTo>
                <a:cubicBezTo>
                  <a:pt x="15881" y="14482"/>
                  <a:pt x="16681" y="13751"/>
                  <a:pt x="16681" y="12828"/>
                </a:cubicBezTo>
                <a:lnTo>
                  <a:pt x="16681" y="7493"/>
                </a:lnTo>
                <a:lnTo>
                  <a:pt x="14845" y="7493"/>
                </a:lnTo>
                <a:lnTo>
                  <a:pt x="18353" y="3985"/>
                </a:lnTo>
                <a:lnTo>
                  <a:pt x="22025" y="7493"/>
                </a:lnTo>
                <a:lnTo>
                  <a:pt x="20189" y="7493"/>
                </a:lnTo>
                <a:lnTo>
                  <a:pt x="20189" y="12828"/>
                </a:lnTo>
                <a:cubicBezTo>
                  <a:pt x="20189" y="15596"/>
                  <a:pt x="17613" y="18155"/>
                  <a:pt x="14845" y="18155"/>
                </a:cubicBezTo>
                <a:lnTo>
                  <a:pt x="13183" y="18155"/>
                </a:lnTo>
                <a:cubicBezTo>
                  <a:pt x="10415" y="18155"/>
                  <a:pt x="7838" y="15596"/>
                  <a:pt x="7838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Проблемное обучение на уроках физик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Проблем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00"/>
                </a:solidFill>
                <a:uFillTx/>
                <a:latin typeface="Times New Roman"/>
                <a:hlinkClick r:id="rId1" action="ppaction://hlinksldjump"/>
              </a:rPr>
              <a:t>Демонстрационный э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Мысленный э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Фронтальные опы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Экспериментальные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51640" y="5661000"/>
            <a:ext cx="649440" cy="504720"/>
          </a:xfrm>
          <a:custGeom>
            <a:avLst/>
            <a:gdLst>
              <a:gd name="textAreaLeft" fmla="*/ 32400 w 649440"/>
              <a:gd name="textAreaRight" fmla="*/ 617040 w 6494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89" h="21600">
                <a:moveTo>
                  <a:pt x="0" y="0"/>
                </a:moveTo>
                <a:lnTo>
                  <a:pt x="27789" y="0"/>
                </a:lnTo>
                <a:lnTo>
                  <a:pt x="27789" y="21600"/>
                </a:lnTo>
                <a:lnTo>
                  <a:pt x="0" y="21600"/>
                </a:lnTo>
                <a:close/>
              </a:path>
              <a:path fill="lightenLess" w="27789" h="21600">
                <a:moveTo>
                  <a:pt x="0" y="0"/>
                </a:moveTo>
                <a:lnTo>
                  <a:pt x="27789" y="0"/>
                </a:lnTo>
                <a:lnTo>
                  <a:pt x="26389" y="1400"/>
                </a:lnTo>
                <a:lnTo>
                  <a:pt x="1400" y="1400"/>
                </a:lnTo>
                <a:close/>
              </a:path>
              <a:path fill="darken" w="27789" h="21600">
                <a:moveTo>
                  <a:pt x="27789" y="0"/>
                </a:moveTo>
                <a:lnTo>
                  <a:pt x="27789" y="21600"/>
                </a:lnTo>
                <a:lnTo>
                  <a:pt x="26389" y="20200"/>
                </a:lnTo>
                <a:lnTo>
                  <a:pt x="26389" y="1400"/>
                </a:lnTo>
                <a:close/>
              </a:path>
              <a:path fill="darkenLess" w="27789" h="21600">
                <a:moveTo>
                  <a:pt x="27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9" y="20200"/>
                </a:lnTo>
                <a:close/>
              </a:path>
              <a:path fill="lighten" w="27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9" h="21600">
                <a:moveTo>
                  <a:pt x="17393" y="10800"/>
                </a:moveTo>
                <a:lnTo>
                  <a:pt x="6888" y="17806"/>
                </a:lnTo>
                <a:lnTo>
                  <a:pt x="6888" y="3794"/>
                </a:lnTo>
                <a:close/>
              </a:path>
              <a:path fill="darken" w="27789" h="21600">
                <a:moveTo>
                  <a:pt x="19239" y="3794"/>
                </a:moveTo>
                <a:lnTo>
                  <a:pt x="19239" y="17806"/>
                </a:lnTo>
                <a:lnTo>
                  <a:pt x="20901" y="17806"/>
                </a:lnTo>
                <a:lnTo>
                  <a:pt x="20901" y="3794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77708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Times New Roman"/>
              </a:rPr>
              <a:t>Проблемный вопрос</a:t>
            </a: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Times New Roman"/>
              </a:rPr>
              <a:t>«Условия плавания тел»</a:t>
            </a:r>
            <a:r>
              <a:rPr b="1" lang="en-US" sz="3600" spc="-1" strike="noStrike">
                <a:solidFill>
                  <a:srgbClr val="0066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Times New Roman"/>
              </a:rPr>
              <a:t>7 класс</a:t>
            </a:r>
            <a:br>
              <a:rPr sz="3600"/>
            </a:br>
            <a:r>
              <a:rPr b="1" lang="en-US" sz="3600" spc="-1" strike="noStrike">
                <a:solidFill>
                  <a:srgbClr val="006633"/>
                </a:solidFill>
                <a:latin typeface="Times New Roman"/>
              </a:rPr>
              <a:t>Почему тонет брошенный </a:t>
            </a:r>
            <a:br>
              <a:rPr sz="3600"/>
            </a:br>
            <a:r>
              <a:rPr b="1" lang="en-US" sz="3600" spc="-1" strike="noStrike">
                <a:solidFill>
                  <a:srgbClr val="006633"/>
                </a:solidFill>
                <a:latin typeface="Times New Roman"/>
              </a:rPr>
              <a:t>в воду гвоздь,</a:t>
            </a:r>
            <a:br>
              <a:rPr sz="3600"/>
            </a:br>
            <a:r>
              <a:rPr b="1" lang="en-US" sz="3600" spc="-1" strike="noStrike">
                <a:solidFill>
                  <a:srgbClr val="006633"/>
                </a:solidFill>
                <a:latin typeface="Times New Roman"/>
              </a:rPr>
              <a:t>а тяжелое судно плавает</a:t>
            </a:r>
            <a:r>
              <a:rPr b="1" lang="en-US" sz="4000" spc="-1" strike="noStrike">
                <a:solidFill>
                  <a:srgbClr val="006633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чему тела плаваю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7380360" y="558972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55" h="21600">
                <a:moveTo>
                  <a:pt x="11521" y="7493"/>
                </a:moveTo>
                <a:lnTo>
                  <a:pt x="15029" y="7493"/>
                </a:lnTo>
                <a:lnTo>
                  <a:pt x="15029" y="12828"/>
                </a:lnTo>
                <a:cubicBezTo>
                  <a:pt x="15029" y="13751"/>
                  <a:pt x="15829" y="14482"/>
                  <a:pt x="16865" y="14482"/>
                </a:cubicBezTo>
                <a:lnTo>
                  <a:pt x="18528" y="14482"/>
                </a:lnTo>
                <a:cubicBezTo>
                  <a:pt x="19563" y="14482"/>
                  <a:pt x="20364" y="13751"/>
                  <a:pt x="20364" y="12828"/>
                </a:cubicBezTo>
                <a:lnTo>
                  <a:pt x="20364" y="7493"/>
                </a:lnTo>
                <a:lnTo>
                  <a:pt x="18528" y="7493"/>
                </a:lnTo>
                <a:lnTo>
                  <a:pt x="22035" y="3985"/>
                </a:lnTo>
                <a:lnTo>
                  <a:pt x="25708" y="7493"/>
                </a:lnTo>
                <a:lnTo>
                  <a:pt x="23872" y="7493"/>
                </a:lnTo>
                <a:lnTo>
                  <a:pt x="23872" y="12828"/>
                </a:lnTo>
                <a:cubicBezTo>
                  <a:pt x="23872" y="15596"/>
                  <a:pt x="21295" y="18155"/>
                  <a:pt x="18528" y="18155"/>
                </a:cubicBezTo>
                <a:lnTo>
                  <a:pt x="16865" y="18155"/>
                </a:lnTo>
                <a:cubicBezTo>
                  <a:pt x="14097" y="18155"/>
                  <a:pt x="11521" y="15596"/>
                  <a:pt x="11521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Times New Roman"/>
              </a:rPr>
              <a:t>Демонстрационный эксперимент</a:t>
            </a: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Times New Roman"/>
              </a:rPr>
              <a:t>«Диффузия» 7 класс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ределить скорость диффу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аха в помещении и сравнить ее со скоростью движения молек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Скорость молекул примерно 400 м / с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7380360" y="558972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55" h="21600">
                <a:moveTo>
                  <a:pt x="11521" y="7493"/>
                </a:moveTo>
                <a:lnTo>
                  <a:pt x="15029" y="7493"/>
                </a:lnTo>
                <a:lnTo>
                  <a:pt x="15029" y="12828"/>
                </a:lnTo>
                <a:cubicBezTo>
                  <a:pt x="15029" y="13751"/>
                  <a:pt x="15829" y="14482"/>
                  <a:pt x="16865" y="14482"/>
                </a:cubicBezTo>
                <a:lnTo>
                  <a:pt x="18528" y="14482"/>
                </a:lnTo>
                <a:cubicBezTo>
                  <a:pt x="19563" y="14482"/>
                  <a:pt x="20364" y="13751"/>
                  <a:pt x="20364" y="12828"/>
                </a:cubicBezTo>
                <a:lnTo>
                  <a:pt x="20364" y="7493"/>
                </a:lnTo>
                <a:lnTo>
                  <a:pt x="18528" y="7493"/>
                </a:lnTo>
                <a:lnTo>
                  <a:pt x="22035" y="3985"/>
                </a:lnTo>
                <a:lnTo>
                  <a:pt x="25708" y="7493"/>
                </a:lnTo>
                <a:lnTo>
                  <a:pt x="23872" y="7493"/>
                </a:lnTo>
                <a:lnTo>
                  <a:pt x="23872" y="12828"/>
                </a:lnTo>
                <a:cubicBezTo>
                  <a:pt x="23872" y="15596"/>
                  <a:pt x="21295" y="18155"/>
                  <a:pt x="18528" y="18155"/>
                </a:cubicBezTo>
                <a:lnTo>
                  <a:pt x="16865" y="18155"/>
                </a:lnTo>
                <a:cubicBezTo>
                  <a:pt x="14097" y="18155"/>
                  <a:pt x="11521" y="15596"/>
                  <a:pt x="11521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Фронтальный опыт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«Сила трения» 7 клас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 каких факторов завис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ила трения?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7380360" y="558972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55" h="21600">
                <a:moveTo>
                  <a:pt x="11521" y="7493"/>
                </a:moveTo>
                <a:lnTo>
                  <a:pt x="15029" y="7493"/>
                </a:lnTo>
                <a:lnTo>
                  <a:pt x="15029" y="12828"/>
                </a:lnTo>
                <a:cubicBezTo>
                  <a:pt x="15029" y="13751"/>
                  <a:pt x="15829" y="14482"/>
                  <a:pt x="16865" y="14482"/>
                </a:cubicBezTo>
                <a:lnTo>
                  <a:pt x="18528" y="14482"/>
                </a:lnTo>
                <a:cubicBezTo>
                  <a:pt x="19563" y="14482"/>
                  <a:pt x="20364" y="13751"/>
                  <a:pt x="20364" y="12828"/>
                </a:cubicBezTo>
                <a:lnTo>
                  <a:pt x="20364" y="7493"/>
                </a:lnTo>
                <a:lnTo>
                  <a:pt x="18528" y="7493"/>
                </a:lnTo>
                <a:lnTo>
                  <a:pt x="22035" y="3985"/>
                </a:lnTo>
                <a:lnTo>
                  <a:pt x="25708" y="7493"/>
                </a:lnTo>
                <a:lnTo>
                  <a:pt x="23872" y="7493"/>
                </a:lnTo>
                <a:lnTo>
                  <a:pt x="23872" y="12828"/>
                </a:lnTo>
                <a:cubicBezTo>
                  <a:pt x="23872" y="15596"/>
                  <a:pt x="21295" y="18155"/>
                  <a:pt x="18528" y="18155"/>
                </a:cubicBezTo>
                <a:lnTo>
                  <a:pt x="16865" y="18155"/>
                </a:lnTo>
                <a:cubicBezTo>
                  <a:pt x="14097" y="18155"/>
                  <a:pt x="11521" y="15596"/>
                  <a:pt x="11521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32400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Мысленный эксперимент</a:t>
            </a:r>
            <a:br>
              <a:rPr sz="3800"/>
            </a:br>
            <a:r>
              <a:rPr b="0" lang="en-US" sz="3200" spc="-1" strike="noStrike">
                <a:solidFill>
                  <a:srgbClr val="006633"/>
                </a:solidFill>
                <a:latin typeface="Times New Roman"/>
              </a:rPr>
              <a:t>«Сопротивление проводника» 8 класс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т каких параметров зависит сопротивление проводн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7380360" y="558972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55" h="21600">
                <a:moveTo>
                  <a:pt x="11521" y="7493"/>
                </a:moveTo>
                <a:lnTo>
                  <a:pt x="15029" y="7493"/>
                </a:lnTo>
                <a:lnTo>
                  <a:pt x="15029" y="12828"/>
                </a:lnTo>
                <a:cubicBezTo>
                  <a:pt x="15029" y="13751"/>
                  <a:pt x="15829" y="14482"/>
                  <a:pt x="16865" y="14482"/>
                </a:cubicBezTo>
                <a:lnTo>
                  <a:pt x="18528" y="14482"/>
                </a:lnTo>
                <a:cubicBezTo>
                  <a:pt x="19563" y="14482"/>
                  <a:pt x="20364" y="13751"/>
                  <a:pt x="20364" y="12828"/>
                </a:cubicBezTo>
                <a:lnTo>
                  <a:pt x="20364" y="7493"/>
                </a:lnTo>
                <a:lnTo>
                  <a:pt x="18528" y="7493"/>
                </a:lnTo>
                <a:lnTo>
                  <a:pt x="22035" y="3985"/>
                </a:lnTo>
                <a:lnTo>
                  <a:pt x="25708" y="7493"/>
                </a:lnTo>
                <a:lnTo>
                  <a:pt x="23872" y="7493"/>
                </a:lnTo>
                <a:lnTo>
                  <a:pt x="23872" y="12828"/>
                </a:lnTo>
                <a:cubicBezTo>
                  <a:pt x="23872" y="15596"/>
                  <a:pt x="21295" y="18155"/>
                  <a:pt x="18528" y="18155"/>
                </a:cubicBezTo>
                <a:lnTo>
                  <a:pt x="16865" y="18155"/>
                </a:lnTo>
                <a:cubicBezTo>
                  <a:pt x="14097" y="18155"/>
                  <a:pt x="11521" y="15596"/>
                  <a:pt x="11521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7885080" cy="3048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«Теория относительности» 11 клас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3"/>
          <p:cNvSpPr/>
          <p:nvPr/>
        </p:nvSpPr>
        <p:spPr>
          <a:xfrm>
            <a:off x="684360" y="404640"/>
            <a:ext cx="75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812f"/>
                </a:solidFill>
                <a:latin typeface="Times New Roman"/>
              </a:rPr>
              <a:t>«Достойна только та жизнь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812f"/>
                </a:solidFill>
                <a:latin typeface="Times New Roman"/>
              </a:rPr>
              <a:t>которая прожита ради других людей.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812f"/>
                </a:solidFill>
                <a:latin typeface="Times New Roman"/>
              </a:rPr>
              <a:t>Альберт Эйнштейн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6624720" cy="46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лассификация проблемных уроков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820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Урок версионного характера. </a:t>
            </a:r>
            <a:br>
              <a:rPr sz="3200"/>
            </a:b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Урок сравнительно – обобщающег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характер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Урок с включением морально – этической пробле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Проблемное обучение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58920" y="3962160"/>
            <a:ext cx="547524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стантин Дмитриевич 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ссийский педаго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оположник нау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дагогики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24-18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23608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Times New Roman"/>
              </a:rPr>
              <a:t>Проблемное обучение – 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Times New Roman"/>
              </a:rPr>
              <a:t>тип обучения, обеспечивающий творческое усвоение знаний, помогающий научить ученика не только понимать, но и мыслить.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7254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лью проблемного обучения является развитие интеллекта и творческой 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2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254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учение школьников ставить вопросы (проблемы) –  важнейший  фактор роста качества обучения, средство подготовки к творчеству, тру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2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1523520"/>
            <a:ext cx="8208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Проблемное обучение-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Актуальное, развивающее, необходимое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Думай, соображай, применяй!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Научи детей мыслить!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МЫШЛЕНИЕ начинается с </a:t>
            </a:r>
            <a:r>
              <a:rPr b="0" lang="en-US" sz="5600" spc="-1" strike="noStrike">
                <a:solidFill>
                  <a:srgbClr val="006633"/>
                </a:solidFill>
                <a:latin typeface="Garamond"/>
              </a:rPr>
              <a:t>проблемной ситуации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90560" y="443664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ргей Леонид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бинштей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ветский псих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89-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1617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роблемное обучение - </a:t>
            </a: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4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обучение, протекающее в виде разрешения последовательно создаваемых в учебных целях проблемных ситуаций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70828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облемная ситуация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труднение, порождаемое несоответствием, несогласованностью между имеющимися знаниями и теми, которые необходимы для решения возникшей или предложенной задач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Этапы проблемной ситуации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отиворечие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остановка проблем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оиск реш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познавательная деятельность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ыражение решен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вывод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Методы проблемного обуч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сследовательский мет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вристический мет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тод проблемного из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Способы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оздания</a:t>
            </a: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 проблемных ситуаций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столкновение жизненных  представления детей с научными фактами, объяснить которые они не могу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решение новых задач старыми способам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столкновения различных мнений, выдвинутого предположения и результатов его опытной проверки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роблемное обучение на уроках математик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Иррациональные числа» 8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Формула корней квадратного уравнения» 8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Сумма углов треугольника» 7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80360" y="5445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5128" y="17806"/>
                </a:lnTo>
                <a:lnTo>
                  <a:pt x="5128" y="3794"/>
                </a:lnTo>
                <a:close/>
              </a:path>
              <a:path fill="darken" w="24270" h="21600">
                <a:moveTo>
                  <a:pt x="17479" y="3794"/>
                </a:moveTo>
                <a:lnTo>
                  <a:pt x="17479" y="17806"/>
                </a:lnTo>
                <a:lnTo>
                  <a:pt x="19141" y="17806"/>
                </a:lnTo>
                <a:lnTo>
                  <a:pt x="19141" y="3794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«Иррациональные числа» 8 клас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ешите 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² = 4              х²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 = ±2              х-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7524720" y="544500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8" y="7493"/>
                </a:moveTo>
                <a:lnTo>
                  <a:pt x="11346" y="7493"/>
                </a:lnTo>
                <a:lnTo>
                  <a:pt x="11346" y="12828"/>
                </a:lnTo>
                <a:cubicBezTo>
                  <a:pt x="11346" y="13751"/>
                  <a:pt x="12147" y="14482"/>
                  <a:pt x="13183" y="14482"/>
                </a:cubicBezTo>
                <a:lnTo>
                  <a:pt x="14845" y="14482"/>
                </a:lnTo>
                <a:cubicBezTo>
                  <a:pt x="15881" y="14482"/>
                  <a:pt x="16681" y="13751"/>
                  <a:pt x="16681" y="12828"/>
                </a:cubicBezTo>
                <a:lnTo>
                  <a:pt x="16681" y="7493"/>
                </a:lnTo>
                <a:lnTo>
                  <a:pt x="14845" y="7493"/>
                </a:lnTo>
                <a:lnTo>
                  <a:pt x="18353" y="3985"/>
                </a:lnTo>
                <a:lnTo>
                  <a:pt x="22025" y="7493"/>
                </a:lnTo>
                <a:lnTo>
                  <a:pt x="20189" y="7493"/>
                </a:lnTo>
                <a:lnTo>
                  <a:pt x="20189" y="12828"/>
                </a:lnTo>
                <a:cubicBezTo>
                  <a:pt x="20189" y="15596"/>
                  <a:pt x="17613" y="18155"/>
                  <a:pt x="14845" y="18155"/>
                </a:cubicBezTo>
                <a:lnTo>
                  <a:pt x="13183" y="18155"/>
                </a:lnTo>
                <a:cubicBezTo>
                  <a:pt x="10415" y="18155"/>
                  <a:pt x="7838" y="15596"/>
                  <a:pt x="7838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1T19:30:10Z</dcterms:created>
  <dc:creator>Asup</dc:creator>
  <dc:description/>
  <dc:language>en-US</dc:language>
  <cp:lastModifiedBy>Win</cp:lastModifiedBy>
  <dcterms:modified xsi:type="dcterms:W3CDTF">2012-11-23T09:58:19Z</dcterms:modified>
  <cp:revision>28</cp:revision>
  <dc:subject/>
  <dc:title>Проблемное обучение на уроках математ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