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65A5-BDAA-48A1-9B30-6A0970286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512B-803A-4341-B784-18B959758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A0AD-AB2D-4478-B888-845ED5052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968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126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810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1968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126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1B87-631A-42A5-8A88-49E9C7FD1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A10A0-0E56-419F-AB4D-507EB5ECA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473BD-BB95-4145-BBC0-BDE35678E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38868-96C7-47E7-A5C2-2B2E05488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F85ED-B9AE-454A-A65D-92D1D709E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B48F0-472D-4A94-A6A8-179A5566F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14040" y="1523520"/>
            <a:ext cx="7623000" cy="81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ADB24-2C3C-4F76-8EE4-8392B4B89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0B694-E074-461E-9A85-3D470E7A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9E23-81BC-4039-B45F-801FE19A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058C1-15AA-4CFC-A11C-C1428E4B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BCAD5-6696-48D3-A4E4-9E9538B9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A73FA-9041-4C55-BC19-1249A1B77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F3837-CB0C-4467-8B6C-8813684ED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1968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126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810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1968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4126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E245A-F53F-4C2A-9276-69C9A3E93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E807-5853-4627-8DFF-7115542E0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DBF8-8C38-45DC-A32D-B07385CA2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A444-CF50-4A61-953F-330EA01BB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040" y="1523520"/>
            <a:ext cx="7623000" cy="81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192C-E72F-483C-9CE0-5A657425E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F294-BDA5-4502-A2EA-2BB797C84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E7A8-8369-42F0-B3A7-972A14BA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FF74-3605-4A10-BF06-EE41AB06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1FBC7-E93E-4EFA-90EF-95363D13805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EF7FD-3279-4D94-BC8E-D5F824E77DC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ПРОБЛЕМНОЕ</a:t>
            </a:r>
            <a:br>
              <a:rPr sz="5000"/>
            </a:b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ОБУЧЕНИЕ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4005360"/>
            <a:ext cx="655344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 учителе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те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из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еогра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фор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МАОУ «Гимназия №1»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«Формула корней квадратного уравнения» 8 класс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Решить уравн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х² +3х +2 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7524720" y="5445000"/>
            <a:ext cx="792360" cy="576360"/>
          </a:xfrm>
          <a:custGeom>
            <a:avLst/>
            <a:gdLst>
              <a:gd name="textAreaLeft" fmla="*/ 37080 w 792360"/>
              <a:gd name="textAreaRight" fmla="*/ 755280 w 792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9690" h="21600">
                <a:moveTo>
                  <a:pt x="0" y="0"/>
                </a:moveTo>
                <a:lnTo>
                  <a:pt x="29690" y="0"/>
                </a:lnTo>
                <a:lnTo>
                  <a:pt x="29690" y="21600"/>
                </a:lnTo>
                <a:lnTo>
                  <a:pt x="0" y="21600"/>
                </a:lnTo>
                <a:close/>
              </a:path>
              <a:path fill="lightenLess" w="29690" h="21600">
                <a:moveTo>
                  <a:pt x="0" y="0"/>
                </a:moveTo>
                <a:lnTo>
                  <a:pt x="29690" y="0"/>
                </a:lnTo>
                <a:lnTo>
                  <a:pt x="28290" y="1400"/>
                </a:lnTo>
                <a:lnTo>
                  <a:pt x="1400" y="1400"/>
                </a:lnTo>
                <a:close/>
              </a:path>
              <a:path fill="darken" w="29690" h="21600">
                <a:moveTo>
                  <a:pt x="29690" y="0"/>
                </a:moveTo>
                <a:lnTo>
                  <a:pt x="29690" y="21600"/>
                </a:lnTo>
                <a:lnTo>
                  <a:pt x="28290" y="20200"/>
                </a:lnTo>
                <a:lnTo>
                  <a:pt x="28290" y="1400"/>
                </a:lnTo>
                <a:close/>
              </a:path>
              <a:path fill="darkenLess" w="29690" h="21600">
                <a:moveTo>
                  <a:pt x="29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0" y="20200"/>
                </a:lnTo>
                <a:close/>
              </a:path>
              <a:path fill="lighten" w="29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0" h="21600">
                <a:moveTo>
                  <a:pt x="7838" y="7493"/>
                </a:moveTo>
                <a:lnTo>
                  <a:pt x="11346" y="7493"/>
                </a:lnTo>
                <a:lnTo>
                  <a:pt x="11346" y="12828"/>
                </a:lnTo>
                <a:cubicBezTo>
                  <a:pt x="11346" y="13751"/>
                  <a:pt x="12147" y="14482"/>
                  <a:pt x="13183" y="14482"/>
                </a:cubicBezTo>
                <a:lnTo>
                  <a:pt x="14845" y="14482"/>
                </a:lnTo>
                <a:cubicBezTo>
                  <a:pt x="15881" y="14482"/>
                  <a:pt x="16681" y="13751"/>
                  <a:pt x="16681" y="12828"/>
                </a:cubicBezTo>
                <a:lnTo>
                  <a:pt x="16681" y="7493"/>
                </a:lnTo>
                <a:lnTo>
                  <a:pt x="14845" y="7493"/>
                </a:lnTo>
                <a:lnTo>
                  <a:pt x="18353" y="3985"/>
                </a:lnTo>
                <a:lnTo>
                  <a:pt x="22025" y="7493"/>
                </a:lnTo>
                <a:lnTo>
                  <a:pt x="20189" y="7493"/>
                </a:lnTo>
                <a:lnTo>
                  <a:pt x="20189" y="12828"/>
                </a:lnTo>
                <a:cubicBezTo>
                  <a:pt x="20189" y="15596"/>
                  <a:pt x="17613" y="18155"/>
                  <a:pt x="14845" y="18155"/>
                </a:cubicBezTo>
                <a:lnTo>
                  <a:pt x="13183" y="18155"/>
                </a:lnTo>
                <a:cubicBezTo>
                  <a:pt x="10415" y="18155"/>
                  <a:pt x="7838" y="15596"/>
                  <a:pt x="7838" y="12828"/>
                </a:cubicBez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«Сумма углов треугольника» 7 класс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Каким образом можно найти сумму углов треугольник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" action="ppaction://hlinkshowjump?jump=previousslide"/>
          </p:cNvPr>
          <p:cNvSpPr/>
          <p:nvPr/>
        </p:nvSpPr>
        <p:spPr>
          <a:xfrm>
            <a:off x="7524720" y="5445000"/>
            <a:ext cx="792360" cy="576360"/>
          </a:xfrm>
          <a:custGeom>
            <a:avLst/>
            <a:gdLst>
              <a:gd name="textAreaLeft" fmla="*/ 37080 w 792360"/>
              <a:gd name="textAreaRight" fmla="*/ 755280 w 792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9690" h="21600">
                <a:moveTo>
                  <a:pt x="0" y="0"/>
                </a:moveTo>
                <a:lnTo>
                  <a:pt x="29690" y="0"/>
                </a:lnTo>
                <a:lnTo>
                  <a:pt x="29690" y="21600"/>
                </a:lnTo>
                <a:lnTo>
                  <a:pt x="0" y="21600"/>
                </a:lnTo>
                <a:close/>
              </a:path>
              <a:path fill="lightenLess" w="29690" h="21600">
                <a:moveTo>
                  <a:pt x="0" y="0"/>
                </a:moveTo>
                <a:lnTo>
                  <a:pt x="29690" y="0"/>
                </a:lnTo>
                <a:lnTo>
                  <a:pt x="28290" y="1400"/>
                </a:lnTo>
                <a:lnTo>
                  <a:pt x="1400" y="1400"/>
                </a:lnTo>
                <a:close/>
              </a:path>
              <a:path fill="darken" w="29690" h="21600">
                <a:moveTo>
                  <a:pt x="29690" y="0"/>
                </a:moveTo>
                <a:lnTo>
                  <a:pt x="29690" y="21600"/>
                </a:lnTo>
                <a:lnTo>
                  <a:pt x="28290" y="20200"/>
                </a:lnTo>
                <a:lnTo>
                  <a:pt x="28290" y="1400"/>
                </a:lnTo>
                <a:close/>
              </a:path>
              <a:path fill="darkenLess" w="29690" h="21600">
                <a:moveTo>
                  <a:pt x="29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0" y="20200"/>
                </a:lnTo>
                <a:close/>
              </a:path>
              <a:path fill="lighten" w="29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0" h="21600">
                <a:moveTo>
                  <a:pt x="7838" y="7493"/>
                </a:moveTo>
                <a:lnTo>
                  <a:pt x="11346" y="7493"/>
                </a:lnTo>
                <a:lnTo>
                  <a:pt x="11346" y="12828"/>
                </a:lnTo>
                <a:cubicBezTo>
                  <a:pt x="11346" y="13751"/>
                  <a:pt x="12147" y="14482"/>
                  <a:pt x="13183" y="14482"/>
                </a:cubicBezTo>
                <a:lnTo>
                  <a:pt x="14845" y="14482"/>
                </a:lnTo>
                <a:cubicBezTo>
                  <a:pt x="15881" y="14482"/>
                  <a:pt x="16681" y="13751"/>
                  <a:pt x="16681" y="12828"/>
                </a:cubicBezTo>
                <a:lnTo>
                  <a:pt x="16681" y="7493"/>
                </a:lnTo>
                <a:lnTo>
                  <a:pt x="14845" y="7493"/>
                </a:lnTo>
                <a:lnTo>
                  <a:pt x="18353" y="3985"/>
                </a:lnTo>
                <a:lnTo>
                  <a:pt x="22025" y="7493"/>
                </a:lnTo>
                <a:lnTo>
                  <a:pt x="20189" y="7493"/>
                </a:lnTo>
                <a:lnTo>
                  <a:pt x="20189" y="12828"/>
                </a:lnTo>
                <a:cubicBezTo>
                  <a:pt x="20189" y="15596"/>
                  <a:pt x="17613" y="18155"/>
                  <a:pt x="14845" y="18155"/>
                </a:cubicBezTo>
                <a:lnTo>
                  <a:pt x="13183" y="18155"/>
                </a:lnTo>
                <a:cubicBezTo>
                  <a:pt x="10415" y="18155"/>
                  <a:pt x="7838" y="15596"/>
                  <a:pt x="7838" y="12828"/>
                </a:cubicBez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Times New Roman"/>
              </a:rPr>
              <a:t>Проблемное обучение на уроках физики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Times New Roman"/>
              </a:rPr>
              <a:t>Проблемные вопро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00"/>
                </a:solidFill>
                <a:uFillTx/>
                <a:latin typeface="Times New Roman"/>
                <a:hlinkClick r:id="rId1" action="ppaction://hlinksldjump"/>
              </a:rPr>
              <a:t>Демонстрационный эксперим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Times New Roman"/>
              </a:rPr>
              <a:t>Мысленный эксперим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Times New Roman"/>
              </a:rPr>
              <a:t>Фронтальные опы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Times New Roman"/>
              </a:rPr>
              <a:t>Экспериментальные за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Times New Roman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51640" y="5661000"/>
            <a:ext cx="649440" cy="504720"/>
          </a:xfrm>
          <a:custGeom>
            <a:avLst/>
            <a:gdLst>
              <a:gd name="textAreaLeft" fmla="*/ 32400 w 649440"/>
              <a:gd name="textAreaRight" fmla="*/ 617040 w 6494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89" h="21600">
                <a:moveTo>
                  <a:pt x="0" y="0"/>
                </a:moveTo>
                <a:lnTo>
                  <a:pt x="27789" y="0"/>
                </a:lnTo>
                <a:lnTo>
                  <a:pt x="27789" y="21600"/>
                </a:lnTo>
                <a:lnTo>
                  <a:pt x="0" y="21600"/>
                </a:lnTo>
                <a:close/>
              </a:path>
              <a:path fill="lightenLess" w="27789" h="21600">
                <a:moveTo>
                  <a:pt x="0" y="0"/>
                </a:moveTo>
                <a:lnTo>
                  <a:pt x="27789" y="0"/>
                </a:lnTo>
                <a:lnTo>
                  <a:pt x="26389" y="1400"/>
                </a:lnTo>
                <a:lnTo>
                  <a:pt x="1400" y="1400"/>
                </a:lnTo>
                <a:close/>
              </a:path>
              <a:path fill="darken" w="27789" h="21600">
                <a:moveTo>
                  <a:pt x="27789" y="0"/>
                </a:moveTo>
                <a:lnTo>
                  <a:pt x="27789" y="21600"/>
                </a:lnTo>
                <a:lnTo>
                  <a:pt x="26389" y="20200"/>
                </a:lnTo>
                <a:lnTo>
                  <a:pt x="26389" y="1400"/>
                </a:lnTo>
                <a:close/>
              </a:path>
              <a:path fill="darkenLess" w="27789" h="21600">
                <a:moveTo>
                  <a:pt x="27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9" y="20200"/>
                </a:lnTo>
                <a:close/>
              </a:path>
              <a:path fill="lighten" w="27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9" h="21600">
                <a:moveTo>
                  <a:pt x="17393" y="10800"/>
                </a:moveTo>
                <a:lnTo>
                  <a:pt x="6888" y="17806"/>
                </a:lnTo>
                <a:lnTo>
                  <a:pt x="6888" y="3794"/>
                </a:lnTo>
                <a:close/>
              </a:path>
              <a:path fill="darken" w="27789" h="21600">
                <a:moveTo>
                  <a:pt x="19239" y="3794"/>
                </a:moveTo>
                <a:lnTo>
                  <a:pt x="19239" y="17806"/>
                </a:lnTo>
                <a:lnTo>
                  <a:pt x="20901" y="17806"/>
                </a:lnTo>
                <a:lnTo>
                  <a:pt x="20901" y="3794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77708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Times New Roman"/>
              </a:rPr>
              <a:t>Проблемный вопрос</a:t>
            </a:r>
            <a:br>
              <a:rPr sz="3600"/>
            </a:br>
            <a:r>
              <a:rPr b="0" lang="en-US" sz="3600" spc="-1" strike="noStrike">
                <a:solidFill>
                  <a:srgbClr val="006633"/>
                </a:solidFill>
                <a:latin typeface="Times New Roman"/>
              </a:rPr>
              <a:t>«Условия плавания тел»</a:t>
            </a:r>
            <a:r>
              <a:rPr b="1" lang="en-US" sz="3600" spc="-1" strike="noStrike">
                <a:solidFill>
                  <a:srgbClr val="0066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6633"/>
                </a:solidFill>
                <a:latin typeface="Times New Roman"/>
              </a:rPr>
              <a:t>7 класс</a:t>
            </a:r>
            <a:br>
              <a:rPr sz="3600"/>
            </a:br>
            <a:r>
              <a:rPr b="1" lang="en-US" sz="3600" spc="-1" strike="noStrike">
                <a:solidFill>
                  <a:srgbClr val="006633"/>
                </a:solidFill>
                <a:latin typeface="Times New Roman"/>
              </a:rPr>
              <a:t>Почему тонет брошенный </a:t>
            </a:r>
            <a:br>
              <a:rPr sz="3600"/>
            </a:br>
            <a:r>
              <a:rPr b="1" lang="en-US" sz="3600" spc="-1" strike="noStrike">
                <a:solidFill>
                  <a:srgbClr val="006633"/>
                </a:solidFill>
                <a:latin typeface="Times New Roman"/>
              </a:rPr>
              <a:t>в воду гвоздь,</a:t>
            </a:r>
            <a:br>
              <a:rPr sz="3600"/>
            </a:br>
            <a:r>
              <a:rPr b="1" lang="en-US" sz="3600" spc="-1" strike="noStrike">
                <a:solidFill>
                  <a:srgbClr val="006633"/>
                </a:solidFill>
                <a:latin typeface="Times New Roman"/>
              </a:rPr>
              <a:t>а тяжелое судно плавает</a:t>
            </a:r>
            <a:r>
              <a:rPr b="1" lang="en-US" sz="4000" spc="-1" strike="noStrike">
                <a:solidFill>
                  <a:srgbClr val="006633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32000" y="4365720"/>
            <a:ext cx="6400800" cy="175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очему тела плаваю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" action="ppaction://hlinkshowjump?jump=previousslide"/>
          </p:cNvPr>
          <p:cNvSpPr/>
          <p:nvPr/>
        </p:nvSpPr>
        <p:spPr>
          <a:xfrm>
            <a:off x="7380360" y="5589720"/>
            <a:ext cx="863640" cy="503280"/>
          </a:xfrm>
          <a:custGeom>
            <a:avLst/>
            <a:gdLst>
              <a:gd name="textAreaLeft" fmla="*/ 32400 w 863640"/>
              <a:gd name="textAreaRight" fmla="*/ 831240 w 863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7055" h="21600">
                <a:moveTo>
                  <a:pt x="0" y="0"/>
                </a:moveTo>
                <a:lnTo>
                  <a:pt x="37055" y="0"/>
                </a:lnTo>
                <a:lnTo>
                  <a:pt x="37055" y="21600"/>
                </a:lnTo>
                <a:lnTo>
                  <a:pt x="0" y="21600"/>
                </a:lnTo>
                <a:close/>
              </a:path>
              <a:path fill="lightenLess" w="37055" h="21600">
                <a:moveTo>
                  <a:pt x="0" y="0"/>
                </a:moveTo>
                <a:lnTo>
                  <a:pt x="37055" y="0"/>
                </a:lnTo>
                <a:lnTo>
                  <a:pt x="35655" y="1400"/>
                </a:lnTo>
                <a:lnTo>
                  <a:pt x="1400" y="1400"/>
                </a:lnTo>
                <a:close/>
              </a:path>
              <a:path fill="darken" w="37055" h="21600">
                <a:moveTo>
                  <a:pt x="37055" y="0"/>
                </a:moveTo>
                <a:lnTo>
                  <a:pt x="37055" y="21600"/>
                </a:lnTo>
                <a:lnTo>
                  <a:pt x="35655" y="20200"/>
                </a:lnTo>
                <a:lnTo>
                  <a:pt x="35655" y="1400"/>
                </a:lnTo>
                <a:close/>
              </a:path>
              <a:path fill="darkenLess" w="37055" h="21600">
                <a:moveTo>
                  <a:pt x="370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55" y="20200"/>
                </a:lnTo>
                <a:close/>
              </a:path>
              <a:path fill="lighten" w="370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55" h="21600">
                <a:moveTo>
                  <a:pt x="11521" y="7493"/>
                </a:moveTo>
                <a:lnTo>
                  <a:pt x="15029" y="7493"/>
                </a:lnTo>
                <a:lnTo>
                  <a:pt x="15029" y="12828"/>
                </a:lnTo>
                <a:cubicBezTo>
                  <a:pt x="15029" y="13751"/>
                  <a:pt x="15829" y="14482"/>
                  <a:pt x="16865" y="14482"/>
                </a:cubicBezTo>
                <a:lnTo>
                  <a:pt x="18528" y="14482"/>
                </a:lnTo>
                <a:cubicBezTo>
                  <a:pt x="19563" y="14482"/>
                  <a:pt x="20364" y="13751"/>
                  <a:pt x="20364" y="12828"/>
                </a:cubicBezTo>
                <a:lnTo>
                  <a:pt x="20364" y="7493"/>
                </a:lnTo>
                <a:lnTo>
                  <a:pt x="18528" y="7493"/>
                </a:lnTo>
                <a:lnTo>
                  <a:pt x="22035" y="3985"/>
                </a:lnTo>
                <a:lnTo>
                  <a:pt x="25708" y="7493"/>
                </a:lnTo>
                <a:lnTo>
                  <a:pt x="23872" y="7493"/>
                </a:lnTo>
                <a:lnTo>
                  <a:pt x="23872" y="12828"/>
                </a:lnTo>
                <a:cubicBezTo>
                  <a:pt x="23872" y="15596"/>
                  <a:pt x="21295" y="18155"/>
                  <a:pt x="18528" y="18155"/>
                </a:cubicBezTo>
                <a:lnTo>
                  <a:pt x="16865" y="18155"/>
                </a:lnTo>
                <a:cubicBezTo>
                  <a:pt x="14097" y="18155"/>
                  <a:pt x="11521" y="15596"/>
                  <a:pt x="11521" y="12828"/>
                </a:cubicBez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Times New Roman"/>
              </a:rPr>
              <a:t>Демонстрационный эксперимент</a:t>
            </a:r>
            <a:br>
              <a:rPr sz="3600"/>
            </a:br>
            <a:r>
              <a:rPr b="0" lang="en-US" sz="3600" spc="-1" strike="noStrike">
                <a:solidFill>
                  <a:srgbClr val="006633"/>
                </a:solidFill>
                <a:latin typeface="Times New Roman"/>
              </a:rPr>
              <a:t>«Диффузия» 7 класс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пределить скорость диффуз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паха в помещении и сравнить ее со скоростью движения молеку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Скорость молекул примерно 400 м / с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" action="ppaction://hlinkshowjump?jump=previousslide"/>
          </p:cNvPr>
          <p:cNvSpPr/>
          <p:nvPr/>
        </p:nvSpPr>
        <p:spPr>
          <a:xfrm>
            <a:off x="7380360" y="5589720"/>
            <a:ext cx="863640" cy="503280"/>
          </a:xfrm>
          <a:custGeom>
            <a:avLst/>
            <a:gdLst>
              <a:gd name="textAreaLeft" fmla="*/ 32400 w 863640"/>
              <a:gd name="textAreaRight" fmla="*/ 831240 w 863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7055" h="21600">
                <a:moveTo>
                  <a:pt x="0" y="0"/>
                </a:moveTo>
                <a:lnTo>
                  <a:pt x="37055" y="0"/>
                </a:lnTo>
                <a:lnTo>
                  <a:pt x="37055" y="21600"/>
                </a:lnTo>
                <a:lnTo>
                  <a:pt x="0" y="21600"/>
                </a:lnTo>
                <a:close/>
              </a:path>
              <a:path fill="lightenLess" w="37055" h="21600">
                <a:moveTo>
                  <a:pt x="0" y="0"/>
                </a:moveTo>
                <a:lnTo>
                  <a:pt x="37055" y="0"/>
                </a:lnTo>
                <a:lnTo>
                  <a:pt x="35655" y="1400"/>
                </a:lnTo>
                <a:lnTo>
                  <a:pt x="1400" y="1400"/>
                </a:lnTo>
                <a:close/>
              </a:path>
              <a:path fill="darken" w="37055" h="21600">
                <a:moveTo>
                  <a:pt x="37055" y="0"/>
                </a:moveTo>
                <a:lnTo>
                  <a:pt x="37055" y="21600"/>
                </a:lnTo>
                <a:lnTo>
                  <a:pt x="35655" y="20200"/>
                </a:lnTo>
                <a:lnTo>
                  <a:pt x="35655" y="1400"/>
                </a:lnTo>
                <a:close/>
              </a:path>
              <a:path fill="darkenLess" w="37055" h="21600">
                <a:moveTo>
                  <a:pt x="370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55" y="20200"/>
                </a:lnTo>
                <a:close/>
              </a:path>
              <a:path fill="lighten" w="370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55" h="21600">
                <a:moveTo>
                  <a:pt x="11521" y="7493"/>
                </a:moveTo>
                <a:lnTo>
                  <a:pt x="15029" y="7493"/>
                </a:lnTo>
                <a:lnTo>
                  <a:pt x="15029" y="12828"/>
                </a:lnTo>
                <a:cubicBezTo>
                  <a:pt x="15029" y="13751"/>
                  <a:pt x="15829" y="14482"/>
                  <a:pt x="16865" y="14482"/>
                </a:cubicBezTo>
                <a:lnTo>
                  <a:pt x="18528" y="14482"/>
                </a:lnTo>
                <a:cubicBezTo>
                  <a:pt x="19563" y="14482"/>
                  <a:pt x="20364" y="13751"/>
                  <a:pt x="20364" y="12828"/>
                </a:cubicBezTo>
                <a:lnTo>
                  <a:pt x="20364" y="7493"/>
                </a:lnTo>
                <a:lnTo>
                  <a:pt x="18528" y="7493"/>
                </a:lnTo>
                <a:lnTo>
                  <a:pt x="22035" y="3985"/>
                </a:lnTo>
                <a:lnTo>
                  <a:pt x="25708" y="7493"/>
                </a:lnTo>
                <a:lnTo>
                  <a:pt x="23872" y="7493"/>
                </a:lnTo>
                <a:lnTo>
                  <a:pt x="23872" y="12828"/>
                </a:lnTo>
                <a:cubicBezTo>
                  <a:pt x="23872" y="15596"/>
                  <a:pt x="21295" y="18155"/>
                  <a:pt x="18528" y="18155"/>
                </a:cubicBezTo>
                <a:lnTo>
                  <a:pt x="16865" y="18155"/>
                </a:lnTo>
                <a:cubicBezTo>
                  <a:pt x="14097" y="18155"/>
                  <a:pt x="11521" y="15596"/>
                  <a:pt x="11521" y="12828"/>
                </a:cubicBez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Фронтальный опыт</a:t>
            </a:r>
            <a:br>
              <a:rPr sz="3800"/>
            </a:b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«Сила трения» 7 класс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т каких факторов зависи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ила трения?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" action="ppaction://hlinkshowjump?jump=previousslide"/>
          </p:cNvPr>
          <p:cNvSpPr/>
          <p:nvPr/>
        </p:nvSpPr>
        <p:spPr>
          <a:xfrm>
            <a:off x="7380360" y="5589720"/>
            <a:ext cx="863640" cy="503280"/>
          </a:xfrm>
          <a:custGeom>
            <a:avLst/>
            <a:gdLst>
              <a:gd name="textAreaLeft" fmla="*/ 32400 w 863640"/>
              <a:gd name="textAreaRight" fmla="*/ 831240 w 863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7055" h="21600">
                <a:moveTo>
                  <a:pt x="0" y="0"/>
                </a:moveTo>
                <a:lnTo>
                  <a:pt x="37055" y="0"/>
                </a:lnTo>
                <a:lnTo>
                  <a:pt x="37055" y="21600"/>
                </a:lnTo>
                <a:lnTo>
                  <a:pt x="0" y="21600"/>
                </a:lnTo>
                <a:close/>
              </a:path>
              <a:path fill="lightenLess" w="37055" h="21600">
                <a:moveTo>
                  <a:pt x="0" y="0"/>
                </a:moveTo>
                <a:lnTo>
                  <a:pt x="37055" y="0"/>
                </a:lnTo>
                <a:lnTo>
                  <a:pt x="35655" y="1400"/>
                </a:lnTo>
                <a:lnTo>
                  <a:pt x="1400" y="1400"/>
                </a:lnTo>
                <a:close/>
              </a:path>
              <a:path fill="darken" w="37055" h="21600">
                <a:moveTo>
                  <a:pt x="37055" y="0"/>
                </a:moveTo>
                <a:lnTo>
                  <a:pt x="37055" y="21600"/>
                </a:lnTo>
                <a:lnTo>
                  <a:pt x="35655" y="20200"/>
                </a:lnTo>
                <a:lnTo>
                  <a:pt x="35655" y="1400"/>
                </a:lnTo>
                <a:close/>
              </a:path>
              <a:path fill="darkenLess" w="37055" h="21600">
                <a:moveTo>
                  <a:pt x="370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55" y="20200"/>
                </a:lnTo>
                <a:close/>
              </a:path>
              <a:path fill="lighten" w="370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55" h="21600">
                <a:moveTo>
                  <a:pt x="11521" y="7493"/>
                </a:moveTo>
                <a:lnTo>
                  <a:pt x="15029" y="7493"/>
                </a:lnTo>
                <a:lnTo>
                  <a:pt x="15029" y="12828"/>
                </a:lnTo>
                <a:cubicBezTo>
                  <a:pt x="15029" y="13751"/>
                  <a:pt x="15829" y="14482"/>
                  <a:pt x="16865" y="14482"/>
                </a:cubicBezTo>
                <a:lnTo>
                  <a:pt x="18528" y="14482"/>
                </a:lnTo>
                <a:cubicBezTo>
                  <a:pt x="19563" y="14482"/>
                  <a:pt x="20364" y="13751"/>
                  <a:pt x="20364" y="12828"/>
                </a:cubicBezTo>
                <a:lnTo>
                  <a:pt x="20364" y="7493"/>
                </a:lnTo>
                <a:lnTo>
                  <a:pt x="18528" y="7493"/>
                </a:lnTo>
                <a:lnTo>
                  <a:pt x="22035" y="3985"/>
                </a:lnTo>
                <a:lnTo>
                  <a:pt x="25708" y="7493"/>
                </a:lnTo>
                <a:lnTo>
                  <a:pt x="23872" y="7493"/>
                </a:lnTo>
                <a:lnTo>
                  <a:pt x="23872" y="12828"/>
                </a:lnTo>
                <a:cubicBezTo>
                  <a:pt x="23872" y="15596"/>
                  <a:pt x="21295" y="18155"/>
                  <a:pt x="18528" y="18155"/>
                </a:cubicBezTo>
                <a:lnTo>
                  <a:pt x="16865" y="18155"/>
                </a:lnTo>
                <a:cubicBezTo>
                  <a:pt x="14097" y="18155"/>
                  <a:pt x="11521" y="15596"/>
                  <a:pt x="11521" y="12828"/>
                </a:cubicBez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55640" y="3068640"/>
            <a:ext cx="324000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Times New Roman"/>
              </a:rPr>
              <a:t>Мысленный эксперимент</a:t>
            </a:r>
            <a:br>
              <a:rPr sz="3800"/>
            </a:br>
            <a:r>
              <a:rPr b="0" lang="en-US" sz="3200" spc="-1" strike="noStrike">
                <a:solidFill>
                  <a:srgbClr val="006633"/>
                </a:solidFill>
                <a:latin typeface="Times New Roman"/>
              </a:rPr>
              <a:t>«Сопротивление проводника» 8 класс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От каких параметров зависит сопротивление проводник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" action="ppaction://hlinkshowjump?jump=previousslide"/>
          </p:cNvPr>
          <p:cNvSpPr/>
          <p:nvPr/>
        </p:nvSpPr>
        <p:spPr>
          <a:xfrm>
            <a:off x="7380360" y="5589720"/>
            <a:ext cx="863640" cy="503280"/>
          </a:xfrm>
          <a:custGeom>
            <a:avLst/>
            <a:gdLst>
              <a:gd name="textAreaLeft" fmla="*/ 32400 w 863640"/>
              <a:gd name="textAreaRight" fmla="*/ 831240 w 863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7055" h="21600">
                <a:moveTo>
                  <a:pt x="0" y="0"/>
                </a:moveTo>
                <a:lnTo>
                  <a:pt x="37055" y="0"/>
                </a:lnTo>
                <a:lnTo>
                  <a:pt x="37055" y="21600"/>
                </a:lnTo>
                <a:lnTo>
                  <a:pt x="0" y="21600"/>
                </a:lnTo>
                <a:close/>
              </a:path>
              <a:path fill="lightenLess" w="37055" h="21600">
                <a:moveTo>
                  <a:pt x="0" y="0"/>
                </a:moveTo>
                <a:lnTo>
                  <a:pt x="37055" y="0"/>
                </a:lnTo>
                <a:lnTo>
                  <a:pt x="35655" y="1400"/>
                </a:lnTo>
                <a:lnTo>
                  <a:pt x="1400" y="1400"/>
                </a:lnTo>
                <a:close/>
              </a:path>
              <a:path fill="darken" w="37055" h="21600">
                <a:moveTo>
                  <a:pt x="37055" y="0"/>
                </a:moveTo>
                <a:lnTo>
                  <a:pt x="37055" y="21600"/>
                </a:lnTo>
                <a:lnTo>
                  <a:pt x="35655" y="20200"/>
                </a:lnTo>
                <a:lnTo>
                  <a:pt x="35655" y="1400"/>
                </a:lnTo>
                <a:close/>
              </a:path>
              <a:path fill="darkenLess" w="37055" h="21600">
                <a:moveTo>
                  <a:pt x="370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55" y="20200"/>
                </a:lnTo>
                <a:close/>
              </a:path>
              <a:path fill="lighten" w="370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55" h="21600">
                <a:moveTo>
                  <a:pt x="11521" y="7493"/>
                </a:moveTo>
                <a:lnTo>
                  <a:pt x="15029" y="7493"/>
                </a:lnTo>
                <a:lnTo>
                  <a:pt x="15029" y="12828"/>
                </a:lnTo>
                <a:cubicBezTo>
                  <a:pt x="15029" y="13751"/>
                  <a:pt x="15829" y="14482"/>
                  <a:pt x="16865" y="14482"/>
                </a:cubicBezTo>
                <a:lnTo>
                  <a:pt x="18528" y="14482"/>
                </a:lnTo>
                <a:cubicBezTo>
                  <a:pt x="19563" y="14482"/>
                  <a:pt x="20364" y="13751"/>
                  <a:pt x="20364" y="12828"/>
                </a:cubicBezTo>
                <a:lnTo>
                  <a:pt x="20364" y="7493"/>
                </a:lnTo>
                <a:lnTo>
                  <a:pt x="18528" y="7493"/>
                </a:lnTo>
                <a:lnTo>
                  <a:pt x="22035" y="3985"/>
                </a:lnTo>
                <a:lnTo>
                  <a:pt x="25708" y="7493"/>
                </a:lnTo>
                <a:lnTo>
                  <a:pt x="23872" y="7493"/>
                </a:lnTo>
                <a:lnTo>
                  <a:pt x="23872" y="12828"/>
                </a:lnTo>
                <a:cubicBezTo>
                  <a:pt x="23872" y="15596"/>
                  <a:pt x="21295" y="18155"/>
                  <a:pt x="18528" y="18155"/>
                </a:cubicBezTo>
                <a:lnTo>
                  <a:pt x="16865" y="18155"/>
                </a:lnTo>
                <a:cubicBezTo>
                  <a:pt x="14097" y="18155"/>
                  <a:pt x="11521" y="15596"/>
                  <a:pt x="11521" y="12828"/>
                </a:cubicBez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1280" y="2349360"/>
            <a:ext cx="7885080" cy="30481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«Теория относительности» 11 класс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3"/>
          <p:cNvSpPr/>
          <p:nvPr/>
        </p:nvSpPr>
        <p:spPr>
          <a:xfrm>
            <a:off x="684360" y="404640"/>
            <a:ext cx="7559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b812f"/>
                </a:solidFill>
                <a:latin typeface="Times New Roman"/>
              </a:rPr>
              <a:t>«Достойна только та жизнь,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b812f"/>
                </a:solidFill>
                <a:latin typeface="Times New Roman"/>
              </a:rPr>
              <a:t>которая прожита ради других людей.»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b812f"/>
                </a:solidFill>
                <a:latin typeface="Times New Roman"/>
              </a:rPr>
              <a:t>Альберт Эйнштейн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6624720" cy="46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Классификация проблемных уроков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39280" y="1483920"/>
            <a:ext cx="820908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96600"/>
                </a:solidFill>
                <a:latin typeface="Arial"/>
              </a:rPr>
              <a:t>Урок версионного характера. </a:t>
            </a:r>
            <a:br>
              <a:rPr sz="3200"/>
            </a:br>
            <a:r>
              <a:rPr b="1" lang="en-US" sz="3200" spc="-1" strike="noStrike">
                <a:solidFill>
                  <a:srgbClr val="99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96600"/>
                </a:solidFill>
                <a:latin typeface="Arial"/>
              </a:rPr>
              <a:t>Урок сравнительно – обобщающего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996600"/>
                </a:solidFill>
                <a:latin typeface="Arial"/>
              </a:rPr>
              <a:t>характера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96600"/>
                </a:solidFill>
                <a:latin typeface="Arial"/>
              </a:rPr>
              <a:t>Урок с включением морально – этической проблем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Проблемное обучение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058920" y="3962160"/>
            <a:ext cx="5475240" cy="24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нстантин Дмитриевич Уш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оссийский педагог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сновоположник науч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дагогики в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24-18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39640" y="3068640"/>
            <a:ext cx="236088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Times New Roman"/>
              </a:rPr>
              <a:t>Проблемное обучение – </a:t>
            </a:r>
            <a:br>
              <a:rPr sz="2800"/>
            </a:br>
            <a:r>
              <a:rPr b="1" lang="en-US" sz="2800" spc="-1" strike="noStrike">
                <a:solidFill>
                  <a:srgbClr val="006633"/>
                </a:solidFill>
                <a:latin typeface="Times New Roman"/>
              </a:rPr>
              <a:t>тип обучения, обеспечивающий творческое усвоение знаний, помогающий научить ученика не только понимать, но и мыслить.</a:t>
            </a:r>
            <a:br>
              <a:rPr sz="2800"/>
            </a:b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4000" y="220500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7254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Целью проблемного обучения является развитие интеллекта и творческой актив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725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7254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бучение школьников ставить вопросы (проблемы) –  важнейший  фактор роста качества обучения, средство подготовки к творчеству, тру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725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4360" y="1523520"/>
            <a:ext cx="82087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33"/>
                </a:solidFill>
                <a:latin typeface="Garamond"/>
              </a:rPr>
              <a:t>Проблемное обучение-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6633"/>
                </a:solidFill>
                <a:latin typeface="Garamond"/>
              </a:rPr>
              <a:t>Актуальное, развивающее, необходимое.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6633"/>
                </a:solidFill>
                <a:latin typeface="Garamond"/>
              </a:rPr>
              <a:t>Думай, соображай, применяй!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6633"/>
                </a:solidFill>
                <a:latin typeface="Garamond"/>
              </a:rPr>
              <a:t>Научи детей мыслить!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МЫШЛЕНИЕ начинается с </a:t>
            </a:r>
            <a:r>
              <a:rPr b="0" lang="en-US" sz="5600" spc="-1" strike="noStrike">
                <a:solidFill>
                  <a:srgbClr val="006633"/>
                </a:solidFill>
                <a:latin typeface="Garamond"/>
              </a:rPr>
              <a:t>проблемной ситуации</a:t>
            </a:r>
            <a:endParaRPr b="0" lang="en-US" sz="5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590560" y="4436640"/>
            <a:ext cx="6553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ергей Леонидови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убинштей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ветский психол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89-19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26920" y="4365720"/>
            <a:ext cx="16178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36280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Проблемное обучение - </a:t>
            </a:r>
            <a:r>
              <a:rPr b="0" lang="en-US" sz="24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2400"/>
            </a:b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обучение, протекающее в виде разрешения последовательно создаваемых в учебных целях проблемных ситуаций.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2708280"/>
            <a:ext cx="822960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Проблемная ситуация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затруднение, порождаемое несоответствием, несогласованностью между имеющимися знаниями и теми, которые необходимы для решения возникшей или предложенной задач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Этапы проблемной ситуации.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Противоречие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Постановка проблемы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Поиск решени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(познавательная деятельность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Выражение решени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(вывод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Методы проблемного обучени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сследовательский мет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эвристический мет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етод проблемного излож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Способы </a:t>
            </a: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создания</a:t>
            </a: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 проблемных ситуаций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столкновение жизненных  представления детей с научными фактами, объяснить которые они не могу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решение новых задач старыми способами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столкновения различных мнений, выдвинутого предположения и результатов его опытной проверки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Проблемное обучение на уроках математики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«Иррациональные числа» 8 клас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«Формула корней квадратного уравнения» 8 клас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«Сумма углов треугольника» 7 клас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80360" y="544500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15634" y="10800"/>
                </a:moveTo>
                <a:lnTo>
                  <a:pt x="5128" y="17806"/>
                </a:lnTo>
                <a:lnTo>
                  <a:pt x="5128" y="3794"/>
                </a:lnTo>
                <a:close/>
              </a:path>
              <a:path fill="darken" w="24270" h="21600">
                <a:moveTo>
                  <a:pt x="17479" y="3794"/>
                </a:moveTo>
                <a:lnTo>
                  <a:pt x="17479" y="17806"/>
                </a:lnTo>
                <a:lnTo>
                  <a:pt x="19141" y="17806"/>
                </a:lnTo>
                <a:lnTo>
                  <a:pt x="19141" y="3794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«Иррациональные числа» 8 класс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Решите уравн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х² = 4              х² =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х = ±2              х-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previousslide"/>
          </p:cNvPr>
          <p:cNvSpPr/>
          <p:nvPr/>
        </p:nvSpPr>
        <p:spPr>
          <a:xfrm>
            <a:off x="7524720" y="5445000"/>
            <a:ext cx="792360" cy="576360"/>
          </a:xfrm>
          <a:custGeom>
            <a:avLst/>
            <a:gdLst>
              <a:gd name="textAreaLeft" fmla="*/ 37080 w 792360"/>
              <a:gd name="textAreaRight" fmla="*/ 755280 w 792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9690" h="21600">
                <a:moveTo>
                  <a:pt x="0" y="0"/>
                </a:moveTo>
                <a:lnTo>
                  <a:pt x="29690" y="0"/>
                </a:lnTo>
                <a:lnTo>
                  <a:pt x="29690" y="21600"/>
                </a:lnTo>
                <a:lnTo>
                  <a:pt x="0" y="21600"/>
                </a:lnTo>
                <a:close/>
              </a:path>
              <a:path fill="lightenLess" w="29690" h="21600">
                <a:moveTo>
                  <a:pt x="0" y="0"/>
                </a:moveTo>
                <a:lnTo>
                  <a:pt x="29690" y="0"/>
                </a:lnTo>
                <a:lnTo>
                  <a:pt x="28290" y="1400"/>
                </a:lnTo>
                <a:lnTo>
                  <a:pt x="1400" y="1400"/>
                </a:lnTo>
                <a:close/>
              </a:path>
              <a:path fill="darken" w="29690" h="21600">
                <a:moveTo>
                  <a:pt x="29690" y="0"/>
                </a:moveTo>
                <a:lnTo>
                  <a:pt x="29690" y="21600"/>
                </a:lnTo>
                <a:lnTo>
                  <a:pt x="28290" y="20200"/>
                </a:lnTo>
                <a:lnTo>
                  <a:pt x="28290" y="1400"/>
                </a:lnTo>
                <a:close/>
              </a:path>
              <a:path fill="darkenLess" w="29690" h="21600">
                <a:moveTo>
                  <a:pt x="29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0" y="20200"/>
                </a:lnTo>
                <a:close/>
              </a:path>
              <a:path fill="lighten" w="29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0" h="21600">
                <a:moveTo>
                  <a:pt x="7838" y="7493"/>
                </a:moveTo>
                <a:lnTo>
                  <a:pt x="11346" y="7493"/>
                </a:lnTo>
                <a:lnTo>
                  <a:pt x="11346" y="12828"/>
                </a:lnTo>
                <a:cubicBezTo>
                  <a:pt x="11346" y="13751"/>
                  <a:pt x="12147" y="14482"/>
                  <a:pt x="13183" y="14482"/>
                </a:cubicBezTo>
                <a:lnTo>
                  <a:pt x="14845" y="14482"/>
                </a:lnTo>
                <a:cubicBezTo>
                  <a:pt x="15881" y="14482"/>
                  <a:pt x="16681" y="13751"/>
                  <a:pt x="16681" y="12828"/>
                </a:cubicBezTo>
                <a:lnTo>
                  <a:pt x="16681" y="7493"/>
                </a:lnTo>
                <a:lnTo>
                  <a:pt x="14845" y="7493"/>
                </a:lnTo>
                <a:lnTo>
                  <a:pt x="18353" y="3985"/>
                </a:lnTo>
                <a:lnTo>
                  <a:pt x="22025" y="7493"/>
                </a:lnTo>
                <a:lnTo>
                  <a:pt x="20189" y="7493"/>
                </a:lnTo>
                <a:lnTo>
                  <a:pt x="20189" y="12828"/>
                </a:lnTo>
                <a:cubicBezTo>
                  <a:pt x="20189" y="15596"/>
                  <a:pt x="17613" y="18155"/>
                  <a:pt x="14845" y="18155"/>
                </a:cubicBezTo>
                <a:lnTo>
                  <a:pt x="13183" y="18155"/>
                </a:lnTo>
                <a:cubicBezTo>
                  <a:pt x="10415" y="18155"/>
                  <a:pt x="7838" y="15596"/>
                  <a:pt x="7838" y="12828"/>
                </a:cubicBez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31T19:30:10Z</dcterms:created>
  <dc:creator>Asup</dc:creator>
  <dc:description/>
  <dc:language>en-US</dc:language>
  <cp:lastModifiedBy>Win</cp:lastModifiedBy>
  <dcterms:modified xsi:type="dcterms:W3CDTF">2012-11-23T09:58:19Z</dcterms:modified>
  <cp:revision>28</cp:revision>
  <dc:subject/>
  <dc:title>Проблемное обучение на уроках математик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