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A5BC-89CB-4839-8D98-7FD9BCFEA8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303D-A3B9-4A9A-93AF-F5D32B4BC59C}" type="slidenum">
              <a:rPr b="0" lang="ru-RU" sz="1200" spc="-1" strike="noStrike">
                <a:solidFill>
                  <a:srgbClr val="00331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7952-5365-4A2A-BB4E-F1D0D4694972}" type="slidenum">
              <a:rPr b="0" lang="ru-RU" sz="1200" spc="-1" strike="noStrike">
                <a:solidFill>
                  <a:srgbClr val="00331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1C85-E316-422E-8545-9C056B97FF2C}" type="slidenum">
              <a:rPr b="0" lang="ru-RU" sz="1200" spc="-1" strike="noStrike">
                <a:solidFill>
                  <a:srgbClr val="00331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CD0C-C898-4555-97DA-B05B3E797CE2}" type="slidenum">
              <a:rPr b="0" lang="ru-RU" sz="1200" spc="-1" strike="noStrike">
                <a:solidFill>
                  <a:srgbClr val="00331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56AA-0A13-4E06-8152-E0218A811A77}" type="slidenum">
              <a:rPr b="0" lang="ru-RU" sz="1200" spc="-1" strike="noStrike">
                <a:solidFill>
                  <a:srgbClr val="00331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E813-9248-40ED-8851-A8C35BA4F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BD26-92F2-4207-9E8E-CF000705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70AB-6E92-4AD5-A187-16F344B68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65DA-55A3-41EF-9F74-405C7E920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5BB1-8D1F-4E0A-8513-63E2B6057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F3F9-9AD9-462C-93C1-369F6524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D469-A9AA-42D1-B915-CD0C54F8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E242-5F67-499B-B62E-D6667FB2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AEED-97CD-41EB-98AE-FC020D7D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3CAF-AE3D-456E-991B-0069ED9F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A2E7-D089-4DBE-B39B-FD5117BA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F5B5-8BA1-4CA1-8051-06159B5A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C3ED-9154-47F4-8579-04309388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FF92-F1B2-4A49-B8E2-7165F7B5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8D35-9A94-4DE5-865E-10A70123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664E-8966-47F4-A73F-1E2A2EE6A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349E-08AF-4099-A075-065BE9E84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5225-73AC-4331-9CB0-DA0A9A7F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64D7-8877-4916-A2B7-FF870AFE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46C9-B8DD-43EA-9FAC-1B8AEA16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4199-A2DD-4584-9156-67735843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4BAD-E93D-4F02-B3C8-77ECF7B1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4FFE-E2A6-4A1A-95A1-4D85F7CA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94F8-BF36-4956-966E-E551161E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79">
            <a:alpha val="9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1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1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1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1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1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331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1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331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1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BFA0-E322-4C4D-98DB-1CD1E17AAA7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79">
            <a:alpha val="9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45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1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1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1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1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1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331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1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331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1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331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1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3319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3F06-464B-4C0F-90D7-70F06533BA72}" type="slidenum">
              <a:rPr b="0" lang="ru-RU" sz="1200" spc="-1" strike="noStrike">
                <a:solidFill>
                  <a:srgbClr val="00331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3880" y="1213920"/>
            <a:ext cx="80010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44f00"/>
                </a:solidFill>
                <a:latin typeface="Garamond"/>
              </a:rPr>
              <a:t>ТЕХНОЛОГИЯ </a:t>
            </a:r>
            <a:br>
              <a:rPr sz="4400"/>
            </a:br>
            <a:r>
              <a:rPr b="1" lang="ru-RU" sz="4400" spc="-1" strike="noStrike">
                <a:solidFill>
                  <a:srgbClr val="c44f00"/>
                </a:solidFill>
                <a:latin typeface="Garamond"/>
              </a:rPr>
              <a:t>РАЗВИТИЯ</a:t>
            </a:r>
            <a:br>
              <a:rPr sz="4400"/>
            </a:br>
            <a:r>
              <a:rPr b="1" lang="ru-RU" sz="4400" spc="-1" strike="noStrike">
                <a:solidFill>
                  <a:srgbClr val="c44f00"/>
                </a:solidFill>
                <a:latin typeface="Garamond"/>
              </a:rPr>
              <a:t>КРИТИЧЕСКОГО МЫШЛЕНИЯ</a:t>
            </a:r>
            <a:br>
              <a:rPr sz="4400"/>
            </a:b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КАК     СРЕДСТВО </a:t>
            </a:r>
            <a:br>
              <a:rPr sz="3200"/>
            </a:b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РАЗВИТИЯ  И  ФОРМИРОВАНИЯ УУД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00160" y="5429160"/>
            <a:ext cx="6553440" cy="9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19"/>
                </a:solidFill>
                <a:latin typeface="Arial"/>
              </a:rPr>
              <a:t>ПЕДСОВЕТ </a:t>
            </a:r>
            <a:endParaRPr b="0" lang="en-US" sz="1600" spc="-1" strike="noStrike">
              <a:solidFill>
                <a:srgbClr val="00331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19"/>
                </a:solidFill>
                <a:latin typeface="Arial"/>
              </a:rPr>
              <a:t>«Современные подходы к организации образовательного процесса в условиях перехода на ФГОС»</a:t>
            </a:r>
            <a:endParaRPr b="0" lang="en-US" sz="1600" spc="-1" strike="noStrike">
              <a:solidFill>
                <a:srgbClr val="00331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19"/>
                </a:solidFill>
                <a:latin typeface="Arial"/>
              </a:rPr>
              <a:t>19.11.2015</a:t>
            </a:r>
            <a:endParaRPr b="0" lang="en-US" sz="16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5286240" y="1428840"/>
            <a:ext cx="3643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19"/>
                </a:solidFill>
                <a:latin typeface="Times New Roman"/>
                <a:ea typeface="Times New Roman"/>
              </a:rPr>
              <a:t>«Мозг, хорошо устроенный, </a:t>
            </a:r>
            <a:endParaRPr b="0" lang="en-US" sz="2400" spc="-1" strike="noStrike">
              <a:solidFill>
                <a:srgbClr val="00331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19"/>
                </a:solidFill>
                <a:latin typeface="Times New Roman"/>
                <a:ea typeface="Times New Roman"/>
              </a:rPr>
              <a:t>стоит больше, </a:t>
            </a:r>
            <a:endParaRPr b="0" lang="en-US" sz="2400" spc="-1" strike="noStrike">
              <a:solidFill>
                <a:srgbClr val="00331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19"/>
                </a:solidFill>
                <a:latin typeface="Times New Roman"/>
                <a:ea typeface="Times New Roman"/>
              </a:rPr>
              <a:t>чем мозг, хорошо наполненный»</a:t>
            </a:r>
            <a:endParaRPr b="0" lang="en-US" sz="2400" spc="-1" strike="noStrike">
              <a:solidFill>
                <a:srgbClr val="00331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1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19"/>
                </a:solidFill>
                <a:latin typeface="Times New Roman"/>
                <a:ea typeface="Times New Roman"/>
              </a:rPr>
              <a:t>М.Монтень</a:t>
            </a:r>
            <a:endParaRPr b="0" lang="en-US" sz="24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96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92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44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52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44f00"/>
                </a:solidFill>
                <a:latin typeface="Garamond"/>
              </a:rPr>
              <a:t>«ИНСЕРТ» - </a:t>
            </a:r>
            <a:br>
              <a:rPr sz="4400"/>
            </a:br>
            <a:r>
              <a:rPr b="1" lang="ru-RU" sz="4400" spc="-1" strike="noStrike">
                <a:solidFill>
                  <a:srgbClr val="c44f00"/>
                </a:solidFill>
                <a:latin typeface="Garamond"/>
              </a:rPr>
              <a:t>эффективное чтение</a:t>
            </a:r>
            <a:br>
              <a:rPr sz="4400"/>
            </a:br>
            <a:r>
              <a:rPr b="1" lang="ru-RU" sz="4400" spc="-1" strike="noStrike">
                <a:solidFill>
                  <a:srgbClr val="c44f00"/>
                </a:solidFill>
                <a:latin typeface="Garamond"/>
              </a:rPr>
              <a:t>Урок геометрии в 8 классе по теме «Многоугольник»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28760" y="3071880"/>
          <a:ext cx="8229600" cy="3139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6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4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ν</a:t>
                      </a:r>
                      <a:endParaRPr b="0" lang="en-US" sz="4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уже знаете</a:t>
                      </a:r>
                      <a:endParaRPr b="0" lang="en-US" sz="2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-</a:t>
                      </a:r>
                      <a:endParaRPr b="0" lang="en-US" sz="4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думали иначе</a:t>
                      </a:r>
                      <a:endParaRPr b="0" lang="en-US" sz="2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+</a:t>
                      </a:r>
                      <a:endParaRPr b="0" lang="en-US" sz="4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узнали новое</a:t>
                      </a:r>
                      <a:endParaRPr b="0" lang="en-US" sz="2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? </a:t>
                      </a:r>
                      <a:endParaRPr b="0" lang="en-US" sz="4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есть вопросы</a:t>
                      </a:r>
                      <a:endParaRPr b="0" lang="en-US" sz="2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500040" y="428760"/>
          <a:ext cx="8358120" cy="5646600"/>
        </p:xfrm>
        <a:graphic>
          <a:graphicData uri="http://schemas.openxmlformats.org/drawingml/2006/table">
            <a:tbl>
              <a:tblPr/>
              <a:tblGrid>
                <a:gridCol w="2003400"/>
                <a:gridCol w="1933560"/>
                <a:gridCol w="2211480"/>
                <a:gridCol w="2209680"/>
              </a:tblGrid>
              <a:tr h="171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4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ν</a:t>
                      </a:r>
                      <a:endParaRPr b="0" lang="en-US" sz="4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уже знаете</a:t>
                      </a:r>
                      <a:endParaRPr b="0" lang="en-US" sz="2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-</a:t>
                      </a:r>
                      <a:endParaRPr b="0" lang="en-US" sz="4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думали иначе</a:t>
                      </a:r>
                      <a:endParaRPr b="0" lang="en-US" sz="2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+</a:t>
                      </a:r>
                      <a:endParaRPr b="0" lang="en-US" sz="4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узнали новое</a:t>
                      </a:r>
                      <a:endParaRPr b="0" lang="en-US" sz="2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? </a:t>
                      </a:r>
                      <a:endParaRPr b="0" lang="en-US" sz="4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есть вопросы</a:t>
                      </a:r>
                      <a:endParaRPr b="0" lang="en-US" sz="2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3934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Многоугольник. 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Вершина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многоугольника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Периметр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многоугольника. 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Диагональ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многоугольника. 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Угол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многоугольника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Определение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Многоугольника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Определение многоугольника 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Выпуклый многоугольник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Невыпуклый многоугольник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Не понял как получили формулу 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(n – 2) ·180° </a:t>
                      </a:r>
                      <a:endParaRPr b="0" lang="en-US" sz="2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44f00"/>
                </a:solidFill>
                <a:latin typeface="Garamond"/>
              </a:rPr>
              <a:t>ПРИЁМЫ</a:t>
            </a:r>
            <a:endParaRPr b="0" lang="en-US" sz="8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1071360"/>
            <a:ext cx="91440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НА СТАДИИ ОСМЫСЛЕНИЯ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«ЧТЕНИЕ С ОСТАНОВКАМИ» 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00"/>
                </a:solidFill>
                <a:latin typeface="Arial"/>
              </a:rPr>
              <a:t>«АКТИВНОЕ ЧТЕНИЕ»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«СВОДНАЯ ТАБЛИЦА»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600"/>
                </a:solidFill>
                <a:latin typeface="Arial"/>
              </a:rPr>
              <a:t>«ИЗЛОЖЕНИЕ В ПАРЕ»</a:t>
            </a:r>
            <a:endParaRPr b="0" lang="en-US" sz="28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19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3319"/>
                </a:solidFill>
                <a:latin typeface="Arial"/>
              </a:rPr>
              <a:t>РАССКАЗ АКТИВИЗАЦИЯ </a:t>
            </a:r>
            <a:r>
              <a:rPr b="1" lang="ru-RU" sz="2800" spc="-1" strike="noStrike">
                <a:solidFill>
                  <a:srgbClr val="003319"/>
                </a:solidFill>
                <a:latin typeface="Arial"/>
              </a:rPr>
              <a:t>по ключевым словам</a:t>
            </a:r>
            <a:r>
              <a:rPr b="0" lang="ru-RU" sz="2800" spc="-1" strike="noStrike">
                <a:solidFill>
                  <a:srgbClr val="003319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00"/>
                </a:solidFill>
                <a:latin typeface="Arial"/>
              </a:rPr>
              <a:t>«ИНСЕРТ»</a:t>
            </a: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3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44f00"/>
                </a:solidFill>
                <a:latin typeface="Garamond"/>
              </a:rPr>
              <a:t>ПРИЁМЫ</a:t>
            </a:r>
            <a:endParaRPr b="0" lang="en-US" sz="8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1143000"/>
            <a:ext cx="814392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НА СТАДИИ РЕФЛЕКСИИ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18960" indent="-31896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00"/>
                </a:solidFill>
                <a:latin typeface="Arial"/>
              </a:rPr>
              <a:t>«КОНЦЕПТУАЛЬНАЯ ТАБЛИЦА»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18960" indent="-31896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«ТАБЛИЦА Знаю-Хочу узнать-Узнал»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18960" indent="-31896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00"/>
                </a:solidFill>
                <a:latin typeface="Arial"/>
              </a:rPr>
              <a:t>«СИНКВЕЙН»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18960" indent="-31896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«ШЕСТЬ ШЛЯП»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18960" indent="-31896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00"/>
                </a:solidFill>
                <a:latin typeface="Arial"/>
              </a:rPr>
              <a:t>«РЮКЗАК»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18960" indent="-31896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«РАФТ»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18960" indent="-31896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 …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8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9298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44f00"/>
                </a:solidFill>
                <a:latin typeface="Garamond"/>
              </a:rPr>
              <a:t>   </a:t>
            </a:r>
            <a:r>
              <a:rPr b="1" lang="ru-RU" sz="3600" spc="-1" strike="noStrike">
                <a:solidFill>
                  <a:srgbClr val="c44f00"/>
                </a:solidFill>
                <a:latin typeface="Garamond"/>
              </a:rPr>
              <a:t>«КОНЦЕПТУАЛЬНАЯ  ТАБЛИЦА» </a:t>
            </a:r>
            <a:br>
              <a:rPr sz="3600"/>
            </a:br>
            <a:r>
              <a:rPr b="1" lang="ru-RU" sz="2800" spc="-1" strike="noStrike">
                <a:solidFill>
                  <a:srgbClr val="c44f00"/>
                </a:solidFill>
                <a:latin typeface="Garamond"/>
              </a:rPr>
              <a:t>Урок геометрии в 8 классе по теме «Четырёхугольники»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42920" y="1714680"/>
          <a:ext cx="8858160" cy="4500360"/>
        </p:xfrm>
        <a:graphic>
          <a:graphicData uri="http://schemas.openxmlformats.org/drawingml/2006/table">
            <a:tbl>
              <a:tblPr/>
              <a:tblGrid>
                <a:gridCol w="1214280"/>
                <a:gridCol w="2143080"/>
                <a:gridCol w="2000520"/>
                <a:gridCol w="928440"/>
                <a:gridCol w="1119240"/>
                <a:gridCol w="1452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Garamond"/>
                        </a:rPr>
                        <a:t>Параллелограмм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Garamond"/>
                        </a:rPr>
                        <a:t>Прямоугольник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Garamond"/>
                        </a:rPr>
                        <a:t>Ромб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Garamond"/>
                        </a:rPr>
                        <a:t>Квадрат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Garamond"/>
                        </a:rPr>
                        <a:t>Трапеция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128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19"/>
                          </a:solidFill>
                          <a:latin typeface="Garamond"/>
                        </a:rPr>
                        <a:t>Чертёж</a:t>
                      </a:r>
                      <a:endParaRPr b="0" lang="en-US" sz="16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19"/>
                          </a:solidFill>
                          <a:latin typeface="Garamond"/>
                        </a:rPr>
                        <a:t>Свойство сторон</a:t>
                      </a:r>
                      <a:endParaRPr b="0" lang="en-US" sz="16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19"/>
                          </a:solidFill>
                          <a:latin typeface="Garamond"/>
                        </a:rPr>
                        <a:t>Свойство углов</a:t>
                      </a:r>
                      <a:endParaRPr b="0" lang="en-US" sz="16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104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19"/>
                          </a:solidFill>
                          <a:latin typeface="Garamond"/>
                        </a:rPr>
                        <a:t>Свойство диагоналей</a:t>
                      </a:r>
                      <a:endParaRPr b="0" lang="en-US" sz="16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Параллелограмм 4"/>
          <p:cNvSpPr/>
          <p:nvPr/>
        </p:nvSpPr>
        <p:spPr>
          <a:xfrm>
            <a:off x="1643040" y="2571840"/>
            <a:ext cx="1500120" cy="642960"/>
          </a:xfrm>
          <a:prstGeom prst="parallelogram">
            <a:avLst>
              <a:gd name="adj" fmla="val 24995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124" name="Прямоугольник 5"/>
          <p:cNvSpPr/>
          <p:nvPr/>
        </p:nvSpPr>
        <p:spPr>
          <a:xfrm>
            <a:off x="3786120" y="2571840"/>
            <a:ext cx="1428840" cy="64296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125" name="Ромб 6"/>
          <p:cNvSpPr/>
          <p:nvPr/>
        </p:nvSpPr>
        <p:spPr>
          <a:xfrm>
            <a:off x="5715000" y="2428920"/>
            <a:ext cx="500040" cy="928800"/>
          </a:xfrm>
          <a:prstGeom prst="diamond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126" name="Трапеция 7"/>
          <p:cNvSpPr/>
          <p:nvPr/>
        </p:nvSpPr>
        <p:spPr>
          <a:xfrm>
            <a:off x="7929720" y="2500200"/>
            <a:ext cx="928440" cy="642960"/>
          </a:xfrm>
          <a:prstGeom prst="pie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19"/>
              </a:solidFill>
              <a:latin typeface="Arial"/>
            </a:endParaRPr>
          </a:p>
        </p:txBody>
      </p:sp>
      <p:sp>
        <p:nvSpPr>
          <p:cNvPr id="127" name="Прямоугольник 8"/>
          <p:cNvSpPr/>
          <p:nvPr/>
        </p:nvSpPr>
        <p:spPr>
          <a:xfrm>
            <a:off x="6643800" y="2571840"/>
            <a:ext cx="714240" cy="71424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44f00"/>
                </a:solidFill>
                <a:latin typeface="Garamond"/>
              </a:rPr>
              <a:t>ТАБЛИЦА «Знаю-Хочу узнать-Узнал»</a:t>
            </a:r>
            <a:br>
              <a:rPr sz="3600"/>
            </a:br>
            <a:r>
              <a:rPr b="1" lang="ru-RU" sz="3200" spc="-1" strike="noStrike">
                <a:solidFill>
                  <a:srgbClr val="c44f00"/>
                </a:solidFill>
                <a:latin typeface="Garamond"/>
              </a:rPr>
              <a:t>Урок физики в 9 классе по теме «Криволинейное движение»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85840" y="2000160"/>
          <a:ext cx="8715240" cy="4214880"/>
        </p:xfrm>
        <a:graphic>
          <a:graphicData uri="http://schemas.openxmlformats.org/drawingml/2006/table">
            <a:tbl>
              <a:tblPr/>
              <a:tblGrid>
                <a:gridCol w="2905200"/>
                <a:gridCol w="2904840"/>
                <a:gridCol w="2905200"/>
              </a:tblGrid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ЗНАЮ</a:t>
                      </a:r>
                      <a:endParaRPr b="0" lang="en-US" sz="2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ХОЧУ  УЗНАТЬ</a:t>
                      </a:r>
                      <a:endParaRPr b="0" lang="en-US" sz="2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УЗНАЛ</a:t>
                      </a:r>
                      <a:endParaRPr b="0" lang="en-US" sz="2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33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582c"/>
                          </a:solidFill>
                          <a:latin typeface="Arial"/>
                        </a:rPr>
                        <a:t>Виды траектории движения: прямолинейная и криволинейная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582c"/>
                          </a:solidFill>
                          <a:latin typeface="Arial"/>
                        </a:rPr>
                        <a:t>Формулы описывающие прямолинейное движение: …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582c"/>
                          </a:solidFill>
                          <a:latin typeface="Arial"/>
                        </a:rPr>
                        <a:t>Как направлена скорость и ускорение при криволинейном движении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582c"/>
                          </a:solidFill>
                          <a:latin typeface="Arial"/>
                        </a:rPr>
                        <a:t>Формулы описывающие криволинейное движение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582c"/>
                          </a:solidFill>
                          <a:latin typeface="Arial"/>
                        </a:rPr>
                        <a:t>Скорость – по касательной к окружности,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582c"/>
                          </a:solidFill>
                          <a:latin typeface="Arial"/>
                        </a:rPr>
                        <a:t>ускорение –к центру окружности, сила – к центру окружности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582c"/>
                          </a:solidFill>
                          <a:latin typeface="Arial"/>
                        </a:rPr>
                        <a:t>Формула ускорения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582c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571680" y="393840"/>
          <a:ext cx="8143560" cy="5700600"/>
        </p:xfrm>
        <a:graphic>
          <a:graphicData uri="http://schemas.openxmlformats.org/drawingml/2006/table">
            <a:tbl>
              <a:tblPr/>
              <a:tblGrid>
                <a:gridCol w="2070000"/>
                <a:gridCol w="2001600"/>
                <a:gridCol w="1785960"/>
                <a:gridCol w="22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ЗНАЮ</a:t>
                      </a:r>
                      <a:endParaRPr b="0" lang="en-US" sz="2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ХОЧУ  УЗНАТЬ</a:t>
                      </a:r>
                      <a:endParaRPr b="0" lang="en-US" sz="2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УЗНАЛ</a:t>
                      </a:r>
                      <a:endParaRPr b="0" lang="en-US" sz="2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ОСТАЛОСЬ УЗНАТЬ</a:t>
                      </a:r>
                      <a:endParaRPr b="0" lang="en-US" sz="2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47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582c"/>
                          </a:solidFill>
                          <a:latin typeface="Arial"/>
                        </a:rPr>
                        <a:t>Виды траектории движения: прямолинейная и криволинейная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582c"/>
                          </a:solidFill>
                          <a:latin typeface="Arial"/>
                        </a:rPr>
                        <a:t>Формулы описывающие прямолинейное движение: …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582c"/>
                          </a:solidFill>
                          <a:latin typeface="Arial"/>
                        </a:rPr>
                        <a:t>Как направлена скорость и ускорение при криволинейном движении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582c"/>
                          </a:solidFill>
                          <a:latin typeface="Arial"/>
                        </a:rPr>
                        <a:t>Формулы описывающие криволинейное движение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582c"/>
                          </a:solidFill>
                          <a:latin typeface="Arial"/>
                        </a:rPr>
                        <a:t>Скорость  направлена по касательной к окружности,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582c"/>
                          </a:solidFill>
                          <a:latin typeface="Arial"/>
                        </a:rPr>
                        <a:t>ускорение –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582c"/>
                          </a:solidFill>
                          <a:latin typeface="Arial"/>
                        </a:rPr>
                        <a:t>к центру окружности, сила – к центру окружности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582c"/>
                          </a:solidFill>
                          <a:latin typeface="Arial"/>
                        </a:rPr>
                        <a:t>Формула ускорения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582c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Как решать задачи на нахождение 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скорости, ускорения, 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силы.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44f00"/>
                </a:solidFill>
                <a:latin typeface="Garamond"/>
              </a:rPr>
              <a:t>РАФТ –</a:t>
            </a:r>
            <a:br>
              <a:rPr sz="3600"/>
            </a:br>
            <a:r>
              <a:rPr b="1" lang="ru-RU" sz="3200" spc="-1" strike="noStrike">
                <a:solidFill>
                  <a:srgbClr val="c44f00"/>
                </a:solidFill>
                <a:latin typeface="Garamond"/>
              </a:rPr>
              <a:t>РОЛЬ,   АУДИТОРИЯ,  ФОРМА,  ТЕМА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285920"/>
            <a:ext cx="822960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19"/>
                </a:solidFill>
                <a:latin typeface="Arial"/>
              </a:rPr>
              <a:t>“</a:t>
            </a:r>
            <a:r>
              <a:rPr b="0" lang="ru-RU" sz="3000" spc="-1" strike="noStrike">
                <a:solidFill>
                  <a:srgbClr val="003319"/>
                </a:solidFill>
                <a:latin typeface="Arial"/>
              </a:rPr>
              <a:t>Я – многогранная фигура! </a:t>
            </a: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19"/>
                </a:solidFill>
                <a:latin typeface="Arial"/>
              </a:rPr>
              <a:t>У меня есть вершины, грани и основание. Причем одна-единственная вершина расположена не в основании. </a:t>
            </a: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19"/>
                </a:solidFill>
                <a:latin typeface="Arial"/>
              </a:rPr>
              <a:t>У нее особое – почетное место! </a:t>
            </a: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19"/>
                </a:solidFill>
                <a:latin typeface="Arial"/>
              </a:rPr>
              <a:t>В основании может лежать любой многоугольник, от которого и зависит мое имя. </a:t>
            </a: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19"/>
                </a:solidFill>
                <a:latin typeface="Arial"/>
              </a:rPr>
              <a:t>А все боковые грани – треугольники.</a:t>
            </a: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19"/>
                </a:solidFill>
                <a:latin typeface="Arial"/>
              </a:rPr>
              <a:t>Как меня зовут?</a:t>
            </a:r>
            <a:endParaRPr b="0" lang="en-US" sz="30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44f00"/>
                </a:solidFill>
                <a:latin typeface="Garamond"/>
              </a:rPr>
              <a:t>«ШЕСТЬ ШЛЯП» -</a:t>
            </a:r>
            <a:br>
              <a:rPr sz="3600"/>
            </a:br>
            <a:r>
              <a:rPr b="1" lang="ru-RU" sz="3600" spc="-1" strike="noStrike">
                <a:solidFill>
                  <a:srgbClr val="c44f00"/>
                </a:solidFill>
                <a:latin typeface="Garamond"/>
              </a:rPr>
              <a:t>шесть способов мышления 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00240" y="1356840"/>
            <a:ext cx="61437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600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7600"/>
                </a:solidFill>
                <a:latin typeface="Arial"/>
              </a:rPr>
              <a:t>АТИСТИЧЕСКАЯ</a:t>
            </a:r>
            <a:endParaRPr b="0" lang="en-US" sz="20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82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582c"/>
                </a:solidFill>
                <a:latin typeface="Arial"/>
              </a:rPr>
              <a:t>(констатируются факты по проблеме, без их обсуждения);</a:t>
            </a:r>
            <a:endParaRPr b="0" lang="en-US" sz="14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600"/>
                </a:solidFill>
                <a:latin typeface="Arial"/>
              </a:rPr>
              <a:t>ПОЛОЖИТЕЛЬНАЯ </a:t>
            </a:r>
            <a:endParaRPr b="0" lang="en-US" sz="20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82c"/>
                </a:solidFill>
                <a:latin typeface="Arial"/>
              </a:rPr>
              <a:t>(высказываются положительные моменты);</a:t>
            </a:r>
            <a:endParaRPr b="0" lang="en-US" sz="14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82c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7600"/>
                </a:solidFill>
                <a:latin typeface="Arial"/>
              </a:rPr>
              <a:t>НЕГАТИВНАЯ </a:t>
            </a:r>
            <a:endParaRPr b="0" lang="en-US" sz="20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82c"/>
                </a:solidFill>
                <a:latin typeface="Arial"/>
              </a:rPr>
              <a:t>(группа констатирует отрицательные моменты по изучаемой проблеме);</a:t>
            </a:r>
            <a:endParaRPr b="0" lang="en-US" sz="14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82c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7600"/>
                </a:solidFill>
                <a:latin typeface="Arial"/>
              </a:rPr>
              <a:t>АНАЛИТИЧЕСКАЯ</a:t>
            </a:r>
            <a:endParaRPr b="0" lang="en-US" sz="20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82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582c"/>
                </a:solidFill>
                <a:latin typeface="Arial"/>
              </a:rPr>
              <a:t>(проводится анализ, группа отвечает на вопросы: почему? зачем? связи?);</a:t>
            </a:r>
            <a:endParaRPr b="0" lang="en-US" sz="14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600"/>
                </a:solidFill>
                <a:latin typeface="Arial"/>
              </a:rPr>
              <a:t>ТВОРЧЕСКАЯ </a:t>
            </a:r>
            <a:endParaRPr b="0" lang="en-US" sz="20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82c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7600"/>
                </a:solidFill>
                <a:latin typeface="Arial"/>
              </a:rPr>
              <a:t>ЭМОЦИОНАЛЬНАЯ</a:t>
            </a:r>
            <a:endParaRPr b="0" lang="en-US" sz="20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19"/>
              </a:solidFill>
              <a:latin typeface="Arial"/>
            </a:endParaRPr>
          </a:p>
        </p:txBody>
      </p:sp>
      <p:pic>
        <p:nvPicPr>
          <p:cNvPr id="135" name="Picture 2" descr="http://didaktor.ru/wp-content/uploads/2011/05/6shl.jpg"/>
          <p:cNvPicPr/>
          <p:nvPr/>
        </p:nvPicPr>
        <p:blipFill>
          <a:blip r:embed="rId1"/>
          <a:srcRect l="0" t="0" r="60961" b="67025"/>
          <a:stretch/>
        </p:blipFill>
        <p:spPr>
          <a:xfrm>
            <a:off x="214200" y="1285920"/>
            <a:ext cx="1357560" cy="1071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http://didaktor.ru/wp-content/uploads/2011/05/6shl.jpg"/>
          <p:cNvPicPr/>
          <p:nvPr/>
        </p:nvPicPr>
        <p:blipFill>
          <a:blip r:embed="rId2"/>
          <a:srcRect l="30820" t="64825" r="26031" b="0"/>
          <a:stretch/>
        </p:blipFill>
        <p:spPr>
          <a:xfrm>
            <a:off x="1357200" y="19288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http://didaktor.ru/wp-content/uploads/2011/05/6shl.jpg"/>
          <p:cNvPicPr/>
          <p:nvPr/>
        </p:nvPicPr>
        <p:blipFill>
          <a:blip r:embed="rId3"/>
          <a:srcRect l="67546" t="33737" r="0" b="31088"/>
          <a:stretch/>
        </p:blipFill>
        <p:spPr>
          <a:xfrm>
            <a:off x="357120" y="4429080"/>
            <a:ext cx="1128960" cy="1143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://didaktor.ru/wp-content/uploads/2011/05/6shl.jpg"/>
          <p:cNvPicPr/>
          <p:nvPr/>
        </p:nvPicPr>
        <p:blipFill>
          <a:blip r:embed="rId4"/>
          <a:srcRect l="34396" t="29044" r="30691" b="35781"/>
          <a:stretch/>
        </p:blipFill>
        <p:spPr>
          <a:xfrm>
            <a:off x="285840" y="2786040"/>
            <a:ext cx="1214280" cy="1143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http://didaktor.ru/wp-content/uploads/2011/05/6shl.jpg"/>
          <p:cNvPicPr/>
          <p:nvPr/>
        </p:nvPicPr>
        <p:blipFill>
          <a:blip r:embed="rId5"/>
          <a:srcRect l="0" t="37548" r="65895" b="20679"/>
          <a:stretch/>
        </p:blipFill>
        <p:spPr>
          <a:xfrm>
            <a:off x="1357200" y="5214960"/>
            <a:ext cx="1185840" cy="1357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http://didaktor.ru/wp-content/uploads/2011/05/6shl.jpg"/>
          <p:cNvPicPr/>
          <p:nvPr/>
        </p:nvPicPr>
        <p:blipFill>
          <a:blip r:embed="rId6"/>
          <a:srcRect l="44119" t="0" r="12749" b="67163"/>
          <a:stretch/>
        </p:blipFill>
        <p:spPr>
          <a:xfrm>
            <a:off x="1357200" y="3571920"/>
            <a:ext cx="1500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44f00"/>
                </a:solidFill>
                <a:latin typeface="Garamond"/>
              </a:rPr>
              <a:t>«ШЕСТЬ ШЛЯП» </a:t>
            </a:r>
            <a:br>
              <a:rPr sz="5400"/>
            </a:br>
            <a:r>
              <a:rPr b="1" lang="ru-RU" sz="2800" spc="-1" strike="noStrike">
                <a:solidFill>
                  <a:srgbClr val="c44f00"/>
                </a:solidFill>
                <a:latin typeface="Garamond"/>
              </a:rPr>
              <a:t>Урок физики в 7 классе по теме «Сила трения»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00240" y="1356840"/>
            <a:ext cx="61437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600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7600"/>
                </a:solidFill>
                <a:latin typeface="Arial"/>
              </a:rPr>
              <a:t>КОНСТАТИРУЮТСЯ ФАКТЫ ПО ТЕМЕ,</a:t>
            </a:r>
            <a:endParaRPr b="0" lang="en-US" sz="20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82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582c"/>
                </a:solidFill>
                <a:latin typeface="Arial"/>
              </a:rPr>
              <a:t>без их обсуждения</a:t>
            </a:r>
            <a:endParaRPr b="0" lang="en-US" sz="14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600"/>
                </a:solidFill>
                <a:latin typeface="Arial"/>
              </a:rPr>
              <a:t>ПОЛОЖИТЕЛЬНАЯ роль трения </a:t>
            </a:r>
            <a:endParaRPr b="0" lang="en-US" sz="20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82c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7600"/>
                </a:solidFill>
                <a:latin typeface="Arial"/>
              </a:rPr>
              <a:t>НЕГАТИВНАЯ  роль силы трения</a:t>
            </a:r>
            <a:endParaRPr b="0" lang="en-US" sz="20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82c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7600"/>
                </a:solidFill>
                <a:latin typeface="Arial"/>
              </a:rPr>
              <a:t>АНАЛИЗИРУЕТСЯ </a:t>
            </a:r>
            <a:r>
              <a:rPr b="1" lang="ru-RU" sz="2000" spc="-1" strike="noStrike" u="sng">
                <a:solidFill>
                  <a:srgbClr val="007600"/>
                </a:solidFill>
                <a:uFillTx/>
                <a:latin typeface="Arial"/>
              </a:rPr>
              <a:t>почему</a:t>
            </a:r>
            <a:r>
              <a:rPr b="1" lang="ru-RU" sz="2000" spc="-1" strike="noStrike">
                <a:solidFill>
                  <a:srgbClr val="007600"/>
                </a:solidFill>
                <a:latin typeface="Arial"/>
              </a:rPr>
              <a:t> возникает трение,</a:t>
            </a:r>
            <a:endParaRPr b="0" lang="en-US" sz="20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600"/>
                </a:solidFill>
                <a:latin typeface="Arial"/>
              </a:rPr>
              <a:t>зачем необходимо увеличивать и уменьшать трение</a:t>
            </a:r>
            <a:endParaRPr b="0" lang="en-US" sz="20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600"/>
                </a:solidFill>
                <a:latin typeface="Arial"/>
              </a:rPr>
              <a:t>ТВОРЧЕСКАЯ (предложить  способы передвижения тяжёлой мебели)</a:t>
            </a:r>
            <a:endParaRPr b="0" lang="en-US" sz="20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82c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7600"/>
                </a:solidFill>
                <a:latin typeface="Arial"/>
              </a:rPr>
              <a:t>ЭМОЦИОНАЛЬНАЯ</a:t>
            </a:r>
            <a:endParaRPr b="0" lang="en-US" sz="20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19"/>
              </a:solidFill>
              <a:latin typeface="Arial"/>
            </a:endParaRPr>
          </a:p>
        </p:txBody>
      </p:sp>
      <p:pic>
        <p:nvPicPr>
          <p:cNvPr id="143" name="Picture 2" descr="http://didaktor.ru/wp-content/uploads/2011/05/6shl.jpg"/>
          <p:cNvPicPr/>
          <p:nvPr/>
        </p:nvPicPr>
        <p:blipFill>
          <a:blip r:embed="rId1"/>
          <a:srcRect l="0" t="0" r="60961" b="67025"/>
          <a:stretch/>
        </p:blipFill>
        <p:spPr>
          <a:xfrm>
            <a:off x="214200" y="1285920"/>
            <a:ext cx="1357560" cy="1071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http://didaktor.ru/wp-content/uploads/2011/05/6shl.jpg"/>
          <p:cNvPicPr/>
          <p:nvPr/>
        </p:nvPicPr>
        <p:blipFill>
          <a:blip r:embed="rId2"/>
          <a:srcRect l="30820" t="64825" r="26031" b="0"/>
          <a:stretch/>
        </p:blipFill>
        <p:spPr>
          <a:xfrm>
            <a:off x="1357200" y="19288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http://didaktor.ru/wp-content/uploads/2011/05/6shl.jpg"/>
          <p:cNvPicPr/>
          <p:nvPr/>
        </p:nvPicPr>
        <p:blipFill>
          <a:blip r:embed="rId3"/>
          <a:srcRect l="67546" t="33737" r="0" b="31088"/>
          <a:stretch/>
        </p:blipFill>
        <p:spPr>
          <a:xfrm>
            <a:off x="357120" y="4429080"/>
            <a:ext cx="1128960" cy="1143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http://didaktor.ru/wp-content/uploads/2011/05/6shl.jpg"/>
          <p:cNvPicPr/>
          <p:nvPr/>
        </p:nvPicPr>
        <p:blipFill>
          <a:blip r:embed="rId4"/>
          <a:srcRect l="34396" t="29044" r="30691" b="35781"/>
          <a:stretch/>
        </p:blipFill>
        <p:spPr>
          <a:xfrm>
            <a:off x="285840" y="2786040"/>
            <a:ext cx="1214280" cy="1143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http://didaktor.ru/wp-content/uploads/2011/05/6shl.jpg"/>
          <p:cNvPicPr/>
          <p:nvPr/>
        </p:nvPicPr>
        <p:blipFill>
          <a:blip r:embed="rId5"/>
          <a:srcRect l="0" t="37548" r="65895" b="20679"/>
          <a:stretch/>
        </p:blipFill>
        <p:spPr>
          <a:xfrm>
            <a:off x="1357200" y="5214960"/>
            <a:ext cx="1185840" cy="1357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http://didaktor.ru/wp-content/uploads/2011/05/6shl.jpg"/>
          <p:cNvPicPr/>
          <p:nvPr/>
        </p:nvPicPr>
        <p:blipFill>
          <a:blip r:embed="rId6"/>
          <a:srcRect l="44119" t="0" r="12749" b="67163"/>
          <a:stretch/>
        </p:blipFill>
        <p:spPr>
          <a:xfrm>
            <a:off x="1357200" y="3571920"/>
            <a:ext cx="1500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44f00"/>
                </a:solidFill>
                <a:latin typeface="Garamond"/>
              </a:rPr>
              <a:t>«ТЕХНОЛОГИЯ РАЗВИТИЯ</a:t>
            </a:r>
            <a:br>
              <a:rPr sz="3200"/>
            </a:br>
            <a:r>
              <a:rPr b="1" lang="ru-RU" sz="3200" spc="-1" strike="noStrike">
                <a:solidFill>
                  <a:srgbClr val="c44f00"/>
                </a:solidFill>
                <a:latin typeface="Garamond"/>
              </a:rPr>
              <a:t>КРИТИЧЕСКОГО МЫШЛЕНИЯ»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28760" y="1285560"/>
            <a:ext cx="850104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2c"/>
                </a:solidFill>
                <a:latin typeface="Garamond"/>
              </a:rPr>
              <a:t>ИНТЕЛЛЕКТУАЛЬНЫЙ         ПРОЦЕСС</a:t>
            </a:r>
            <a:endParaRPr b="0" lang="en-US" sz="2800" spc="-1" strike="noStrike">
              <a:solidFill>
                <a:srgbClr val="003319"/>
              </a:solidFill>
              <a:latin typeface="Arial"/>
            </a:endParaRPr>
          </a:p>
          <a:p>
            <a:pPr marL="341280" indent="-3412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600"/>
                </a:solidFill>
                <a:latin typeface="Garamond"/>
              </a:rPr>
              <a:t>АКТИВНАЯ ДЕЯТЕЛЬНОСТЬ </a:t>
            </a:r>
            <a:endParaRPr b="0" lang="en-US" sz="3600" spc="-1" strike="noStrike">
              <a:solidFill>
                <a:srgbClr val="003319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2c"/>
                </a:solidFill>
                <a:latin typeface="Garamond"/>
              </a:rPr>
              <a:t>ОСМЫСЛЕНИЕ      ПРИМЕНЕНИЕ</a:t>
            </a:r>
            <a:endParaRPr b="0" lang="en-US" sz="2800" spc="-1" strike="noStrike">
              <a:solidFill>
                <a:srgbClr val="003319"/>
              </a:solidFill>
              <a:latin typeface="Arial"/>
            </a:endParaRPr>
          </a:p>
          <a:p>
            <a:pPr marL="341280" indent="-3412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600"/>
                </a:solidFill>
                <a:latin typeface="Garamond"/>
              </a:rPr>
              <a:t>АНАЛИЗ  ОБОБЩЕНИЕ</a:t>
            </a:r>
            <a:endParaRPr b="0" lang="en-US" sz="3600" spc="-1" strike="noStrike">
              <a:solidFill>
                <a:srgbClr val="003319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2c"/>
                </a:solidFill>
                <a:latin typeface="Garamond"/>
              </a:rPr>
              <a:t>ОЦЕНКА     ИНФОРМАЦИИ</a:t>
            </a:r>
            <a:endParaRPr b="0" lang="en-US" sz="2800" spc="-1" strike="noStrike">
              <a:solidFill>
                <a:srgbClr val="003319"/>
              </a:solidFill>
              <a:latin typeface="Arial"/>
            </a:endParaRPr>
          </a:p>
          <a:p>
            <a:pPr marL="341280" indent="-3412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600"/>
                </a:solidFill>
                <a:latin typeface="Garamond"/>
              </a:rPr>
              <a:t>НАБЛЮДЕНИЕ ОПЫТ РЕФЛЕКСИЯ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2c"/>
                </a:solidFill>
                <a:latin typeface="Garamond"/>
              </a:rPr>
              <a:t>РАССУЖДЕНИЯ      КОММУНИКАЦИЯ</a:t>
            </a:r>
            <a:endParaRPr b="0" lang="en-US" sz="28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64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640"/>
                            </p:stCondLst>
                            <p:childTnLst>
                              <p:par>
                                <p:cTn id="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640"/>
                            </p:stCondLst>
                            <p:childTnLst>
                              <p:par>
                                <p:cTn id="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640"/>
                            </p:stCondLst>
                            <p:childTnLst>
                              <p:par>
                                <p:cTn id="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640"/>
                            </p:stCondLst>
                            <p:childTnLst>
                              <p:par>
                                <p:cTn id="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640"/>
                            </p:stCondLst>
                            <p:childTnLst>
                              <p:par>
                                <p:cTn id="6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7640"/>
                            </p:stCondLst>
                            <p:childTnLst>
                              <p:par>
                                <p:cTn id="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44f00"/>
                </a:solidFill>
                <a:latin typeface="Garamond"/>
              </a:rPr>
              <a:t>СИНКВЕЙН</a:t>
            </a:r>
            <a:endParaRPr b="0" lang="en-US" sz="8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2560" y="1142640"/>
            <a:ext cx="90010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19"/>
                </a:solidFill>
                <a:latin typeface="Arial"/>
              </a:rPr>
              <a:t>1 СУЩЕСТВИТЕЛЬНОЕ </a:t>
            </a:r>
            <a:endParaRPr b="0" lang="en-US" sz="2800" spc="-1" strike="noStrike">
              <a:solidFill>
                <a:srgbClr val="003319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6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7600"/>
                </a:solidFill>
                <a:latin typeface="Arial"/>
              </a:rPr>
              <a:t>(тема синквейна)</a:t>
            </a:r>
            <a:endParaRPr b="0" lang="en-US" sz="2800" spc="-1" strike="noStrike">
              <a:solidFill>
                <a:srgbClr val="003319"/>
              </a:solidFill>
              <a:latin typeface="Arial"/>
            </a:endParaRPr>
          </a:p>
          <a:p>
            <a:pPr marL="341280" indent="-3412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19"/>
                </a:solidFill>
                <a:latin typeface="Arial"/>
              </a:rPr>
              <a:t>2 ПРИЛОГАТЕЛЬНЫХ </a:t>
            </a:r>
            <a:endParaRPr b="0" lang="en-US" sz="2800" spc="-1" strike="noStrike">
              <a:solidFill>
                <a:srgbClr val="003319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6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7600"/>
                </a:solidFill>
                <a:latin typeface="Arial"/>
              </a:rPr>
              <a:t>(раскрывают тему)</a:t>
            </a:r>
            <a:endParaRPr b="0" lang="en-US" sz="2800" spc="-1" strike="noStrike">
              <a:solidFill>
                <a:srgbClr val="003319"/>
              </a:solidFill>
              <a:latin typeface="Arial"/>
            </a:endParaRPr>
          </a:p>
          <a:p>
            <a:pPr marL="341280" indent="-3412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19"/>
                </a:solidFill>
                <a:latin typeface="Arial"/>
              </a:rPr>
              <a:t>3 ГЛАГОЛА </a:t>
            </a:r>
            <a:endParaRPr b="0" lang="en-US" sz="2800" spc="-1" strike="noStrike">
              <a:solidFill>
                <a:srgbClr val="003319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6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7600"/>
                </a:solidFill>
                <a:latin typeface="Arial"/>
              </a:rPr>
              <a:t>(описывают действия, относящиеся к теме)</a:t>
            </a:r>
            <a:endParaRPr b="0" lang="en-US" sz="2800" spc="-1" strike="noStrike">
              <a:solidFill>
                <a:srgbClr val="003319"/>
              </a:solidFill>
              <a:latin typeface="Arial"/>
            </a:endParaRPr>
          </a:p>
          <a:p>
            <a:pPr marL="341280" indent="-3412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19"/>
                </a:solidFill>
                <a:latin typeface="Arial"/>
              </a:rPr>
              <a:t>ФРАЗА </a:t>
            </a:r>
            <a:endParaRPr b="0" lang="en-US" sz="2800" spc="-1" strike="noStrike">
              <a:solidFill>
                <a:srgbClr val="003319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6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7600"/>
                </a:solidFill>
                <a:latin typeface="Arial"/>
              </a:rPr>
              <a:t>(свое отношение к теме)</a:t>
            </a:r>
            <a:endParaRPr b="0" lang="en-US" sz="2800" spc="-1" strike="noStrike">
              <a:solidFill>
                <a:srgbClr val="003319"/>
              </a:solidFill>
              <a:latin typeface="Arial"/>
            </a:endParaRPr>
          </a:p>
          <a:p>
            <a:pPr marL="341280" indent="-3412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19"/>
                </a:solidFill>
                <a:latin typeface="Arial"/>
              </a:rPr>
              <a:t>СЛОВО-РЕЗЮМЕ </a:t>
            </a:r>
            <a:endParaRPr b="0" lang="en-US" sz="2800" spc="-1" strike="noStrike">
              <a:solidFill>
                <a:srgbClr val="003319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6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7600"/>
                </a:solidFill>
                <a:latin typeface="Arial"/>
              </a:rPr>
              <a:t>(обобщающее или расширяющее смысл темы)</a:t>
            </a:r>
            <a:endParaRPr b="0" lang="en-US" sz="28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19"/>
                </a:solidFill>
                <a:latin typeface="Times New Roman"/>
                <a:ea typeface="Times New Roman"/>
              </a:rPr>
              <a:t>«Мозг, хорошо устроенный, </a:t>
            </a:r>
            <a:endParaRPr b="0" lang="en-US" sz="44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19"/>
                </a:solidFill>
                <a:latin typeface="Times New Roman"/>
                <a:ea typeface="Times New Roman"/>
              </a:rPr>
              <a:t>стоит больше, </a:t>
            </a:r>
            <a:endParaRPr b="0" lang="en-US" sz="44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19"/>
                </a:solidFill>
                <a:latin typeface="Times New Roman"/>
                <a:ea typeface="Times New Roman"/>
              </a:rPr>
              <a:t>чем мозг, хорошо наполненный»</a:t>
            </a:r>
            <a:endParaRPr b="0" lang="en-US" sz="44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19"/>
                </a:solidFill>
                <a:latin typeface="Times New Roman"/>
                <a:ea typeface="Times New Roman"/>
              </a:rPr>
              <a:t>М.Монтень</a:t>
            </a:r>
            <a:endParaRPr b="0" lang="en-US" sz="44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44f00"/>
                </a:solidFill>
                <a:latin typeface="Garamond"/>
              </a:rPr>
              <a:t>СТАДИИ:</a:t>
            </a:r>
            <a:endParaRPr b="0" lang="en-US" sz="8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3319"/>
                </a:solidFill>
                <a:latin typeface="Arial"/>
              </a:rPr>
              <a:t>ВЫЗОВ</a:t>
            </a:r>
            <a:endParaRPr b="0" lang="en-US" sz="66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3319"/>
                </a:solidFill>
                <a:latin typeface="Arial"/>
              </a:rPr>
              <a:t>ОСМЫСЛЕНИЕ</a:t>
            </a:r>
            <a:endParaRPr b="0" lang="en-US" sz="66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3319"/>
                </a:solidFill>
                <a:latin typeface="Arial"/>
              </a:rPr>
              <a:t>РЕФЛЕКСИЯ</a:t>
            </a:r>
            <a:endParaRPr b="0" lang="en-US" sz="66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25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44f00"/>
                </a:solidFill>
                <a:latin typeface="Garamond"/>
              </a:rPr>
              <a:t>ПРИЁМЫ</a:t>
            </a:r>
            <a:endParaRPr b="0" lang="en-US" sz="8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НА СТАДИИ ВЫЗОВА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«ВЕРИТЕ ЛИ ВЫ?»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00"/>
                </a:solidFill>
                <a:latin typeface="Arial"/>
              </a:rPr>
              <a:t>«ИНСЕРТ»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«МОЗГОВОЙ ШТУРМ»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007600"/>
                </a:solidFill>
                <a:latin typeface="Arial"/>
              </a:rPr>
              <a:t>«СОСТАВЛЕНИЕ КЛАСТЕРА»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«ТОЛСТЫЕ  И ТОНКИЕ ВОПРОСЫ»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00"/>
                </a:solidFill>
                <a:latin typeface="Arial"/>
              </a:rPr>
              <a:t>«БОРТОВОЙ ЖУРНАЛ»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d26"/>
                </a:solidFill>
                <a:latin typeface="Arial"/>
              </a:rPr>
              <a:t>«ДЕНОТАНТНЫЙ ГРАФ» 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00"/>
                </a:solidFill>
                <a:latin typeface="Arial"/>
              </a:rPr>
              <a:t>«КОРЗИНА ИДЕЙ, ПОНЯТИЙ»</a:t>
            </a: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… 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44f00"/>
                </a:solidFill>
                <a:latin typeface="Garamond"/>
              </a:rPr>
              <a:t>ПРИЁМЫ</a:t>
            </a:r>
            <a:endParaRPr b="0" lang="en-US" sz="8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1071360"/>
            <a:ext cx="91440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НА СТАДИИ ОСМЫСЛЕНИЯ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«ЧТЕНИЕ С ОСТАНОВКАМИ» 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00"/>
                </a:solidFill>
                <a:latin typeface="Arial"/>
              </a:rPr>
              <a:t>«АКТИВНОЕ ЧТЕНИЕ»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«СВОДНАЯ ТАБЛИЦА»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600"/>
                </a:solidFill>
                <a:latin typeface="Arial"/>
              </a:rPr>
              <a:t>«ИЗЛОЖЕНИЕ В ПАРЕ»</a:t>
            </a:r>
            <a:endParaRPr b="0" lang="en-US" sz="28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19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3319"/>
                </a:solidFill>
                <a:latin typeface="Arial"/>
              </a:rPr>
              <a:t>РАССКАЗ АКТИВИЗАЦИЯ </a:t>
            </a:r>
            <a:r>
              <a:rPr b="1" lang="ru-RU" sz="2800" spc="-1" strike="noStrike">
                <a:solidFill>
                  <a:srgbClr val="003319"/>
                </a:solidFill>
                <a:latin typeface="Arial"/>
              </a:rPr>
              <a:t>по ключевым словам</a:t>
            </a:r>
            <a:r>
              <a:rPr b="0" lang="ru-RU" sz="2800" spc="-1" strike="noStrike">
                <a:solidFill>
                  <a:srgbClr val="003319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00"/>
                </a:solidFill>
                <a:latin typeface="Arial"/>
              </a:rPr>
              <a:t>«ИНСЕРТ»</a:t>
            </a: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44f00"/>
                </a:solidFill>
                <a:latin typeface="Garamond"/>
              </a:rPr>
              <a:t>ПРИЁМЫ</a:t>
            </a:r>
            <a:endParaRPr b="0" lang="en-US" sz="8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1143000"/>
            <a:ext cx="814392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НА СТАДИИ РЕФЛЕКСИИ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00"/>
                </a:solidFill>
                <a:latin typeface="Arial"/>
              </a:rPr>
              <a:t>«КОНЦЕПТУАЛЬНАЯ ТАБЛИЦА»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«СИНКВЕЙН»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00"/>
                </a:solidFill>
                <a:latin typeface="Arial"/>
              </a:rPr>
              <a:t>«ШЕСТЬ ШЛЯП»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«РЮКЗАК»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19"/>
                </a:solidFill>
                <a:latin typeface="Arial"/>
              </a:rPr>
              <a:t> …</a:t>
            </a:r>
            <a:endParaRPr b="0" lang="en-US" sz="3200" spc="-1" strike="noStrike">
              <a:solidFill>
                <a:srgbClr val="00331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214200" y="1454040"/>
          <a:ext cx="8715600" cy="5189760"/>
        </p:xfrm>
        <a:graphic>
          <a:graphicData uri="http://schemas.openxmlformats.org/drawingml/2006/table">
            <a:tbl>
              <a:tblPr/>
              <a:tblGrid>
                <a:gridCol w="500040"/>
                <a:gridCol w="7039080"/>
                <a:gridCol w="588960"/>
                <a:gridCol w="587520"/>
              </a:tblGrid>
              <a:tr h="447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ВОПРОС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ВЕРЮ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НЕ ВЕРЮ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Скорость – это движение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Скорость – это расстояние между двумя  точками.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Скорость измеряют рулеткой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Скорость – это расстояние, пройденное телом за      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единицу времени.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Скорость – это быстрая езда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Скорость измеряют часами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Чем больше скорость предмета, тем дольше он 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находится в пути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Время движения объекта зависит от его  скорости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Если тела движутся одинаковое время, то и 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расстояние они пройдут одинаковое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Чтобы найти скорость, нужно расстояние 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разделить на время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44f00"/>
                </a:solidFill>
                <a:latin typeface="Garamond"/>
              </a:rPr>
              <a:t>«ВЕРИТЕ ЛИ ВЫ?» </a:t>
            </a:r>
            <a:br>
              <a:rPr sz="4400"/>
            </a:br>
            <a:r>
              <a:rPr b="1" lang="ru-RU" sz="3200" spc="-1" strike="noStrike">
                <a:solidFill>
                  <a:srgbClr val="c44f00"/>
                </a:solidFill>
                <a:latin typeface="Garamond"/>
              </a:rPr>
              <a:t>Урок физики в 7 классе по теме «Скорость»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19">
            <a:alpha val="9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214200" y="1454040"/>
          <a:ext cx="8715600" cy="5189760"/>
        </p:xfrm>
        <a:graphic>
          <a:graphicData uri="http://schemas.openxmlformats.org/drawingml/2006/table">
            <a:tbl>
              <a:tblPr/>
              <a:tblGrid>
                <a:gridCol w="500040"/>
                <a:gridCol w="7039080"/>
                <a:gridCol w="588960"/>
                <a:gridCol w="587520"/>
              </a:tblGrid>
              <a:tr h="447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ВОПРОС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ВЕРЮ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НЕ ВЕРЮ</a:t>
                      </a:r>
                      <a:endParaRPr b="0" lang="en-US" sz="13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Скорость – это движение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Скорость – это расстояние между двумя  точками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Скорость измеряют рулеткой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Скорость – это расстояние, пройденное телом за      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единицу времени.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Скорость – это быстрая езда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Скорость измеряют часами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Чем больше скорость предмета, тем дольше он 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находится в пути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Время движения объекта зависит от его  скорости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Если тела движутся одинаковое время, то и 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расстояние они пройдут одинаковое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Чтобы найти скорость, нужно расстояние 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разделить на время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19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19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19"/>
                      </a:solidFill>
                    </a:lnL>
                    <a:lnR w="5760">
                      <a:solidFill>
                        <a:srgbClr val="003319"/>
                      </a:solidFill>
                    </a:lnR>
                    <a:lnT w="5760">
                      <a:solidFill>
                        <a:srgbClr val="003319"/>
                      </a:solidFill>
                    </a:lnT>
                    <a:lnB w="5760">
                      <a:solidFill>
                        <a:srgbClr val="00331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44f00"/>
                </a:solidFill>
                <a:latin typeface="Garamond"/>
              </a:rPr>
              <a:t>«ВЕРИТЕ ЛИ ВЫ?» </a:t>
            </a:r>
            <a:br>
              <a:rPr sz="4400"/>
            </a:br>
            <a:r>
              <a:rPr b="1" lang="ru-RU" sz="3200" spc="-1" strike="noStrike">
                <a:solidFill>
                  <a:srgbClr val="c44f00"/>
                </a:solidFill>
                <a:latin typeface="Garamond"/>
              </a:rPr>
              <a:t>Урок физики в 7 классе по теме «Скорость»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31T19:30:10Z</dcterms:created>
  <dc:creator>Asup</dc:creator>
  <dc:description/>
  <dc:language>en-US</dc:language>
  <cp:lastModifiedBy>Нина</cp:lastModifiedBy>
  <dcterms:modified xsi:type="dcterms:W3CDTF">2015-11-19T20:40:15Z</dcterms:modified>
  <cp:revision>133</cp:revision>
  <dc:subject/>
  <dc:title>Проблемное обучение на уроках математи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