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E6B6-D2F8-4688-B22F-575DF806A9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DD6E-A32E-4D85-82A4-04BEF9704A1B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4D90-E34A-45EE-A1CC-17035B84EA54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A341-8A77-4A20-845E-498228E5C06A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243-E6F3-4637-A9C1-4D2B1D3E9AA0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C487-38E1-4529-A726-370BC94FA5EE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BA2-BE97-4BF6-9DD2-9F9807A0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64F-9AA9-4B06-B43C-1C87D79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C26-29D5-4352-81AE-79BC6919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5B1-715D-464F-B962-7DE6B896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B569-9FA1-426F-B999-FF590402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3B9E-3399-4E5B-AC3F-F7802025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2A0E-E008-4D28-99B5-E7EE9DF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AE83-07C2-4B99-B5DD-A0B846E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584E-B27C-4388-B57A-DE56BA6A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87ED-C717-488B-B4F7-64C68920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968-AAF9-4733-B22E-61BDA097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1E7-7B99-41C4-97FE-5696427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9DBE-3712-4336-A38D-FAA2647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EC8D-F595-4A1A-B2B6-D4E0CF2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6A2D-F1BA-42B8-9E23-061813D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C966-DC4F-48E2-9BD1-4E4F9646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9819-7EEE-4A45-AF79-954AA326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2BC-C21C-4CC7-9AE3-4BE62864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B53-1A79-4FF2-8BDD-B3FEA76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A3D-12BA-436C-A325-DFE142A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D42-10D8-4A61-AD9B-474B3BF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540-6B18-453E-84CF-402D3DB3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3A9-AC77-4CE9-97B4-7EF482A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709-5606-4C64-8120-8CAF7070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30C0-FDAE-4A7D-9F6E-1336C69655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1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1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1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FA31-98D8-4801-95B4-68948B52DD83}" type="slidenum">
              <a:rPr b="0" lang="ru-RU" sz="1200" spc="-1" strike="noStrike">
                <a:solidFill>
                  <a:srgbClr val="00331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213920"/>
            <a:ext cx="8001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ТЕХНОЛОГИЯ 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РАЗВИТИЯ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КРИТИЧЕСКОГО МЫШЛЕНИЯ</a:t>
            </a:r>
            <a:br>
              <a:rPr sz="44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К     СРЕДСТВО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ВИТИЯ  И  ФОРМИРОВАНИЯ УУД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00160" y="5429160"/>
            <a:ext cx="655344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19"/>
                </a:solidFill>
                <a:latin typeface="Arial"/>
              </a:rPr>
              <a:t>ПЕДСОВЕТ </a:t>
            </a:r>
            <a:endParaRPr b="0" lang="en-US" sz="1600" spc="-1" strike="noStrike">
              <a:solidFill>
                <a:srgbClr val="00331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19"/>
                </a:solidFill>
                <a:latin typeface="Arial"/>
              </a:rPr>
              <a:t>«Современные подходы к организации образовательного процесса в условиях перехода на ФГОС»</a:t>
            </a:r>
            <a:endParaRPr b="0" lang="en-US" sz="1600" spc="-1" strike="noStrike">
              <a:solidFill>
                <a:srgbClr val="00331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19"/>
                </a:solidFill>
                <a:latin typeface="Arial"/>
              </a:rPr>
              <a:t>19.11.2015</a:t>
            </a:r>
            <a:endParaRPr b="0" lang="en-US" sz="16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286240" y="1428840"/>
            <a:ext cx="364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«Мозг, хорошо устроенный, 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тоит больше, 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чем мозг, хорошо наполненный»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М.Монтень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4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«ИНСЕРТ» - 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эффективное чтение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Урок геометрии в 8 классе по теме «Многоугольник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760" y="3071880"/>
          <a:ext cx="8229600" cy="3139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6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ν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же знает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думали инач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и ново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? 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ть вопросы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00040" y="428760"/>
          <a:ext cx="8358120" cy="5646600"/>
        </p:xfrm>
        <a:graphic>
          <a:graphicData uri="http://schemas.openxmlformats.org/drawingml/2006/table">
            <a:tbl>
              <a:tblPr/>
              <a:tblGrid>
                <a:gridCol w="2003400"/>
                <a:gridCol w="1933560"/>
                <a:gridCol w="2211480"/>
                <a:gridCol w="2209680"/>
              </a:tblGrid>
              <a:tr h="17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ν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же знает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думали инач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и ново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? 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ть вопросы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.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Вершин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Периметр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. 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Диагональ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. 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Угол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Определение многоугольника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Выпуклый многоугольник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Невыпуклый многоугольник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Не понял как получили формулу 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(n – 2) ·180° 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07136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ОСМЫСЛЕНИ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ЧТЕНИЕ С ОСТАНОВКАМИ»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АКТИВНОЕ ЧТЕНИЕ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СВОД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«ИЗЛОЖЕНИЕ В ПАРЕ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РАССКАЗ АКТИВИЗАЦИЯ </a:t>
            </a: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по ключевым словам</a:t>
            </a:r>
            <a:r>
              <a:rPr b="0" lang="ru-RU" sz="2800" spc="-1" strike="noStrike">
                <a:solidFill>
                  <a:srgbClr val="003319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ИНСЕРТ»</a:t>
            </a: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143000"/>
            <a:ext cx="81439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РЕФЛЕКСИ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КОНЦЕПТУАЛЬ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ТАБЛИЦА Знаю-Хочу узнать-Узнал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СИНКВЕЙН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ШЕСТЬ ШЛЯП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РЮКЗАК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РАФТ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«КОНЦЕПТУАЛЬНАЯ  ТАБЛИЦА» </a:t>
            </a:r>
            <a:br>
              <a:rPr sz="3600"/>
            </a:br>
            <a:r>
              <a:rPr b="1" lang="ru-RU" sz="2800" spc="-1" strike="noStrike">
                <a:solidFill>
                  <a:srgbClr val="c44f00"/>
                </a:solidFill>
                <a:latin typeface="Garamond"/>
              </a:rPr>
              <a:t>Урок геометрии в 8 классе по теме «Четырёхугольники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920" y="1714680"/>
          <a:ext cx="8858160" cy="4500360"/>
        </p:xfrm>
        <a:graphic>
          <a:graphicData uri="http://schemas.openxmlformats.org/drawingml/2006/table">
            <a:tbl>
              <a:tblPr/>
              <a:tblGrid>
                <a:gridCol w="1214280"/>
                <a:gridCol w="2143080"/>
                <a:gridCol w="2000520"/>
                <a:gridCol w="928440"/>
                <a:gridCol w="1119240"/>
                <a:gridCol w="1452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Трапеция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12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Чертёж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Свойство сторон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Свойство углов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Свойство диагоналей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араллелограмм 4"/>
          <p:cNvSpPr/>
          <p:nvPr/>
        </p:nvSpPr>
        <p:spPr>
          <a:xfrm>
            <a:off x="1643040" y="2571840"/>
            <a:ext cx="1500120" cy="642960"/>
          </a:xfrm>
          <a:prstGeom prst="parallelogram">
            <a:avLst>
              <a:gd name="adj" fmla="val 24995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3786120" y="2571840"/>
            <a:ext cx="1428840" cy="6429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5" name="Ромб 6"/>
          <p:cNvSpPr/>
          <p:nvPr/>
        </p:nvSpPr>
        <p:spPr>
          <a:xfrm>
            <a:off x="5715000" y="2428920"/>
            <a:ext cx="500040" cy="928800"/>
          </a:xfrm>
          <a:prstGeom prst="diamond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6" name="Трапеция 7"/>
          <p:cNvSpPr/>
          <p:nvPr/>
        </p:nvSpPr>
        <p:spPr>
          <a:xfrm>
            <a:off x="7929720" y="2500200"/>
            <a:ext cx="928440" cy="642960"/>
          </a:xfrm>
          <a:prstGeom prst="pie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6643800" y="2571840"/>
            <a:ext cx="714240" cy="71424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ТАБЛИЦА «Знаю-Хочу узнать-Узнал»</a:t>
            </a:r>
            <a:br>
              <a:rPr sz="36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Урок физики в 9 классе по теме «Криволинейное движение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5840" y="2000160"/>
          <a:ext cx="8715240" cy="4214880"/>
        </p:xfrm>
        <a:graphic>
          <a:graphicData uri="http://schemas.openxmlformats.org/drawingml/2006/table">
            <a:tbl>
              <a:tblPr/>
              <a:tblGrid>
                <a:gridCol w="2905200"/>
                <a:gridCol w="2904840"/>
                <a:gridCol w="29052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ХОЧУ  УЗНАТЬ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33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Виды траектории движения: прямолинейная и криволинейна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прямолинейное движение: 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Как направлена скорость и ускорение при криволинейном движени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криволинейное движение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Скорость – по касательной к окружности,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ускорение –к центру окружности, сила – к центру окружност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а ускорени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571680" y="393840"/>
          <a:ext cx="8143560" cy="5700600"/>
        </p:xfrm>
        <a:graphic>
          <a:graphicData uri="http://schemas.openxmlformats.org/drawingml/2006/table">
            <a:tbl>
              <a:tblPr/>
              <a:tblGrid>
                <a:gridCol w="2070000"/>
                <a:gridCol w="2001600"/>
                <a:gridCol w="178596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ХОЧУ  УЗНАТЬ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ОСТАЛОСЬ УЗНАТЬ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Виды траектории движения: прямолинейная и криволинейна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прямолинейное движение: 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Как направлена скорость и ускорение при криволинейном движени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криволинейное движение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Скорость  направлена по касательной к окружности,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ускорение –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к центру окружности, сила – к центру окружност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а ускорени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Как решать задачи на нахождение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и, ускорения,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илы.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РАФТ –</a:t>
            </a:r>
            <a:br>
              <a:rPr sz="36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РОЛЬ,   АУДИТОРИЯ,  ФОРМА,  ТЕМ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Я – многогранная фигура!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У меня есть вершины, грани и основание. Причем одна-единственная вершина расположена не в основании.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У нее особое – почетное место!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В основании может лежать любой многоугольник, от которого и зависит мое имя.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А все боковые грани – треугольники.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Как меня зовут?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«ШЕСТЬ ШЛЯП» -</a:t>
            </a:r>
            <a:br>
              <a:rPr sz="3600"/>
            </a:b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шесть способов мышления 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00240" y="1356840"/>
            <a:ext cx="6143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АТИСТИЧЕСК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констатируются факты по проблеме, без их обсуждения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ПОЛОЖИТЕЛЬНА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высказываются положительные моменты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НЕГАТИВНА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группа констатирует отрицательные моменты по изучаемой проблеме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АНАЛИТИЧЕСК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проводится анализ, группа отвечает на вопросы: почему? зачем? связи?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ТВОРЧЕСКА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ЭМОЦИОНАЛЬН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</p:txBody>
      </p:sp>
      <p:pic>
        <p:nvPicPr>
          <p:cNvPr id="135" name="Picture 2" descr="http://didaktor.ru/wp-content/uploads/2011/05/6shl.jpg"/>
          <p:cNvPicPr/>
          <p:nvPr/>
        </p:nvPicPr>
        <p:blipFill>
          <a:blip r:embed="rId1"/>
          <a:srcRect l="0" t="0" r="60961" b="67025"/>
          <a:stretch/>
        </p:blipFill>
        <p:spPr>
          <a:xfrm>
            <a:off x="214200" y="128592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didaktor.ru/wp-content/uploads/2011/05/6shl.jpg"/>
          <p:cNvPicPr/>
          <p:nvPr/>
        </p:nvPicPr>
        <p:blipFill>
          <a:blip r:embed="rId2"/>
          <a:srcRect l="30820" t="64825" r="26031" b="0"/>
          <a:stretch/>
        </p:blipFill>
        <p:spPr>
          <a:xfrm>
            <a:off x="1357200" y="19288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didaktor.ru/wp-content/uploads/2011/05/6shl.jpg"/>
          <p:cNvPicPr/>
          <p:nvPr/>
        </p:nvPicPr>
        <p:blipFill>
          <a:blip r:embed="rId3"/>
          <a:srcRect l="67546" t="33737" r="0" b="31088"/>
          <a:stretch/>
        </p:blipFill>
        <p:spPr>
          <a:xfrm>
            <a:off x="357120" y="4429080"/>
            <a:ext cx="112896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didaktor.ru/wp-content/uploads/2011/05/6shl.jpg"/>
          <p:cNvPicPr/>
          <p:nvPr/>
        </p:nvPicPr>
        <p:blipFill>
          <a:blip r:embed="rId4"/>
          <a:srcRect l="34396" t="29044" r="30691" b="35781"/>
          <a:stretch/>
        </p:blipFill>
        <p:spPr>
          <a:xfrm>
            <a:off x="285840" y="278604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didaktor.ru/wp-content/uploads/2011/05/6shl.jpg"/>
          <p:cNvPicPr/>
          <p:nvPr/>
        </p:nvPicPr>
        <p:blipFill>
          <a:blip r:embed="rId5"/>
          <a:srcRect l="0" t="37548" r="65895" b="20679"/>
          <a:stretch/>
        </p:blipFill>
        <p:spPr>
          <a:xfrm>
            <a:off x="1357200" y="5214960"/>
            <a:ext cx="1185840" cy="1357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didaktor.ru/wp-content/uploads/2011/05/6shl.jpg"/>
          <p:cNvPicPr/>
          <p:nvPr/>
        </p:nvPicPr>
        <p:blipFill>
          <a:blip r:embed="rId6"/>
          <a:srcRect l="44119" t="0" r="12749" b="67163"/>
          <a:stretch/>
        </p:blipFill>
        <p:spPr>
          <a:xfrm>
            <a:off x="1357200" y="3571920"/>
            <a:ext cx="1500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«ШЕСТЬ ШЛЯП» </a:t>
            </a:r>
            <a:br>
              <a:rPr sz="5400"/>
            </a:br>
            <a:r>
              <a:rPr b="1" lang="ru-RU" sz="2800" spc="-1" strike="noStrike">
                <a:solidFill>
                  <a:srgbClr val="c44f00"/>
                </a:solidFill>
                <a:latin typeface="Garamond"/>
              </a:rPr>
              <a:t>Урок физики в 7 классе по теме «Сила трения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00240" y="1356840"/>
            <a:ext cx="6143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КОНСТАТИРУЮТСЯ ФАКТЫ ПО ТЕМЕ,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без их обсуждения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ПОЛОЖИТЕЛЬНАЯ роль трени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НЕГАТИВНАЯ  роль силы трени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АНАЛИЗИРУЕТСЯ </a:t>
            </a:r>
            <a:r>
              <a:rPr b="1" lang="ru-RU" sz="2000" spc="-1" strike="noStrike" u="sng">
                <a:solidFill>
                  <a:srgbClr val="007600"/>
                </a:solidFill>
                <a:uFillTx/>
                <a:latin typeface="Arial"/>
              </a:rPr>
              <a:t>почему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 возникает трение,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зачем необходимо увеличивать и уменьшать трение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ТВОРЧЕСКАЯ (предложить  способы передвижения тяжёлой мебели)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ЭМОЦИОНАЛЬН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</p:txBody>
      </p:sp>
      <p:pic>
        <p:nvPicPr>
          <p:cNvPr id="143" name="Picture 2" descr="http://didaktor.ru/wp-content/uploads/2011/05/6shl.jpg"/>
          <p:cNvPicPr/>
          <p:nvPr/>
        </p:nvPicPr>
        <p:blipFill>
          <a:blip r:embed="rId1"/>
          <a:srcRect l="0" t="0" r="60961" b="67025"/>
          <a:stretch/>
        </p:blipFill>
        <p:spPr>
          <a:xfrm>
            <a:off x="214200" y="128592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didaktor.ru/wp-content/uploads/2011/05/6shl.jpg"/>
          <p:cNvPicPr/>
          <p:nvPr/>
        </p:nvPicPr>
        <p:blipFill>
          <a:blip r:embed="rId2"/>
          <a:srcRect l="30820" t="64825" r="26031" b="0"/>
          <a:stretch/>
        </p:blipFill>
        <p:spPr>
          <a:xfrm>
            <a:off x="1357200" y="19288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didaktor.ru/wp-content/uploads/2011/05/6shl.jpg"/>
          <p:cNvPicPr/>
          <p:nvPr/>
        </p:nvPicPr>
        <p:blipFill>
          <a:blip r:embed="rId3"/>
          <a:srcRect l="67546" t="33737" r="0" b="31088"/>
          <a:stretch/>
        </p:blipFill>
        <p:spPr>
          <a:xfrm>
            <a:off x="357120" y="4429080"/>
            <a:ext cx="11289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didaktor.ru/wp-content/uploads/2011/05/6shl.jpg"/>
          <p:cNvPicPr/>
          <p:nvPr/>
        </p:nvPicPr>
        <p:blipFill>
          <a:blip r:embed="rId4"/>
          <a:srcRect l="34396" t="29044" r="30691" b="35781"/>
          <a:stretch/>
        </p:blipFill>
        <p:spPr>
          <a:xfrm>
            <a:off x="285840" y="278604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didaktor.ru/wp-content/uploads/2011/05/6shl.jpg"/>
          <p:cNvPicPr/>
          <p:nvPr/>
        </p:nvPicPr>
        <p:blipFill>
          <a:blip r:embed="rId5"/>
          <a:srcRect l="0" t="37548" r="65895" b="20679"/>
          <a:stretch/>
        </p:blipFill>
        <p:spPr>
          <a:xfrm>
            <a:off x="1357200" y="5214960"/>
            <a:ext cx="1185840" cy="135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didaktor.ru/wp-content/uploads/2011/05/6shl.jpg"/>
          <p:cNvPicPr/>
          <p:nvPr/>
        </p:nvPicPr>
        <p:blipFill>
          <a:blip r:embed="rId6"/>
          <a:srcRect l="44119" t="0" r="12749" b="67163"/>
          <a:stretch/>
        </p:blipFill>
        <p:spPr>
          <a:xfrm>
            <a:off x="1357200" y="3571920"/>
            <a:ext cx="1500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«ТЕХНОЛОГИЯ РАЗВИТИЯ</a:t>
            </a:r>
            <a:br>
              <a:rPr sz="32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КРИТИЧЕСКОГО МЫШЛЕНИЯ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28556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ИНТЕЛЛЕКТУАЛЬНЫЙ         ПРОЦЕСС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600"/>
                </a:solidFill>
                <a:latin typeface="Garamond"/>
              </a:rPr>
              <a:t>АКТИВНАЯ ДЕЯТЕЛЬНОСТЬ </a:t>
            </a:r>
            <a:endParaRPr b="0" lang="en-US" sz="36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ОСМЫСЛЕНИЕ      ПРИМЕНЕНИЕ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600"/>
                </a:solidFill>
                <a:latin typeface="Garamond"/>
              </a:rPr>
              <a:t>АНАЛИЗ  ОБОБЩЕНИЕ</a:t>
            </a:r>
            <a:endParaRPr b="0" lang="en-US" sz="36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ОЦЕНКА     ИНФОРМАЦИИ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600"/>
                </a:solidFill>
                <a:latin typeface="Garamond"/>
              </a:rPr>
              <a:t>НАБЛЮДЕНИЕ ОПЫТ РЕФЛЕКСИ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РАССУЖДЕНИЯ      КОММУНИКАЦИЯ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4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64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64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64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64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64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64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СИНКВЕЙ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560" y="1142640"/>
            <a:ext cx="9001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1 СУЩЕСТВИТЕЛЬНОЕ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тема синквейна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2 ПРИЛОГАТЕЛЬНЫХ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раскрывают тему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3 ГЛАГОЛА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описывают действия, относящиеся к теме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ФРАЗА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свое отношение к теме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СЛОВО-РЕЗЮМЕ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обобщающее или расширяющее смысл темы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«Мозг, хорошо устроенный, 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тоит больше, 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чем мозг, хорошо наполненный»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М.Монтень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СТАДИИ: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19"/>
                </a:solidFill>
                <a:latin typeface="Arial"/>
              </a:rPr>
              <a:t>ВЫЗОВ</a:t>
            </a:r>
            <a:endParaRPr b="0" lang="en-US" sz="66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19"/>
                </a:solidFill>
                <a:latin typeface="Arial"/>
              </a:rPr>
              <a:t>ОСМЫСЛЕНИЕ</a:t>
            </a:r>
            <a:endParaRPr b="0" lang="en-US" sz="66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19"/>
                </a:solidFill>
                <a:latin typeface="Arial"/>
              </a:rPr>
              <a:t>РЕФЛЕКСИЯ</a:t>
            </a:r>
            <a:endParaRPr b="0" lang="en-US" sz="66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25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ВЫЗОВА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ВЕРИТЕ ЛИ ВЫ?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ИНСЕРТ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МОЗГОВОЙ ШТУРМ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СОСТАВЛЕНИЕ КЛАСТЕР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ТОЛСТЫЕ  И ТОНКИЕ ВОПРОСЫ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БОРТОВОЙ ЖУРНАЛ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d26"/>
                </a:solidFill>
                <a:latin typeface="Arial"/>
              </a:rPr>
              <a:t>«ДЕНОТАНТНЫЙ ГРАФ»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КОРЗИНА ИДЕЙ, ПОНЯТИЙ»</a:t>
            </a: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…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07136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ОСМЫСЛЕНИ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ЧТЕНИЕ С ОСТАНОВКАМИ»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АКТИВНОЕ ЧТЕНИЕ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СВОД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«ИЗЛОЖЕНИЕ В ПАРЕ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РАССКАЗ АКТИВИЗАЦИЯ </a:t>
            </a: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по ключевым словам</a:t>
            </a:r>
            <a:r>
              <a:rPr b="0" lang="ru-RU" sz="2800" spc="-1" strike="noStrike">
                <a:solidFill>
                  <a:srgbClr val="003319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ИНСЕРТ»</a:t>
            </a: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143000"/>
            <a:ext cx="81439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РЕФЛЕКСИ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КОНЦЕПТУАЛЬ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СИНКВЕЙН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ШЕСТЬ ШЛЯП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РЮКЗАК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14200" y="1454040"/>
          <a:ext cx="8715600" cy="5189760"/>
        </p:xfrm>
        <a:graphic>
          <a:graphicData uri="http://schemas.openxmlformats.org/drawingml/2006/table">
            <a:tbl>
              <a:tblPr/>
              <a:tblGrid>
                <a:gridCol w="500040"/>
                <a:gridCol w="7039080"/>
                <a:gridCol w="588960"/>
                <a:gridCol w="587520"/>
              </a:tblGrid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ОПРОС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Е 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движени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 между двумя  точками.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рулеткой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, пройденное телом за     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диницу времени.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быстрая езда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часам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ем больше скорость предмета, тем дольше он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аходится в пу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ремя движения объекта зависит от его  скорос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ли тела движутся одинаковое время, то и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сстояние они пройдут одинаково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тобы найти скорость, нужно расстояние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зделить на время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«ВЕРИТЕ ЛИ ВЫ?» </a:t>
            </a:r>
            <a:br>
              <a:rPr sz="44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Урок физики в 7 классе по теме «Скорость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19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4200" y="1454040"/>
          <a:ext cx="8715600" cy="5189760"/>
        </p:xfrm>
        <a:graphic>
          <a:graphicData uri="http://schemas.openxmlformats.org/drawingml/2006/table">
            <a:tbl>
              <a:tblPr/>
              <a:tblGrid>
                <a:gridCol w="500040"/>
                <a:gridCol w="7039080"/>
                <a:gridCol w="588960"/>
                <a:gridCol w="587520"/>
              </a:tblGrid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ОПРОС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Е 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движени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 между двумя  точкам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рулеткой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, пройденное телом за     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диницу времени.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быстрая езда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часам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ем больше скорость предмета, тем дольше он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аходится в пу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ремя движения объекта зависит от его  скорос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ли тела движутся одинаковое время, то и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сстояние они пройдут одинаково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тобы найти скорость, нужно расстояние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зделить на время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«ВЕРИТЕ ЛИ ВЫ?» </a:t>
            </a:r>
            <a:br>
              <a:rPr sz="44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Урок физики в 7 классе по теме «Скорость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9:30:10Z</dcterms:created>
  <dc:creator>Asup</dc:creator>
  <dc:description/>
  <dc:language>en-US</dc:language>
  <cp:lastModifiedBy>Нина</cp:lastModifiedBy>
  <dcterms:modified xsi:type="dcterms:W3CDTF">2015-11-19T20:40:15Z</dcterms:modified>
  <cp:revision>133</cp:revision>
  <dc:subject/>
  <dc:title>Проблемное обучение на уроках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