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492D-F984-4A9C-8BAD-B30D465CAC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031-41CB-4C73-B3BF-ABA899A837D5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5C1-0922-43C5-B9BA-E4ECF764510B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3B7-3D6C-4A3F-A97D-4BDFC304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508-A2BB-4A86-AC12-AFD4694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4DE-7517-4020-8AA4-2B8D9F3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AB4-E849-4F1D-9179-AC4BD868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41BA-F67C-4CCC-90C3-486B3226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D425-7AC0-45A3-A6B7-EA6D53B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3DC-67E1-462C-8A0D-CC981C7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9DC-8970-4379-AC2E-1453D232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09E4-C0EB-40E0-A849-568AF5F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6E1-4AE4-4530-B3E8-ADCFDEB6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C19-F05D-4494-B091-F5895A6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CB4-3F14-495C-AB4A-D823365A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F56-489C-4044-A72F-4C76F0E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4704-EA06-404E-BE82-9A58E44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176-1C86-46FE-AE0A-D020FD3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3ED-BA4F-4594-A588-2EB73C9E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291D-F557-4228-94F1-E3D4646B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207-49C1-4FE7-8986-08615B3E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5A9-8BE2-4588-914B-303C049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08B-4CB2-418F-A1C4-93D11C33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D2D-2644-404F-9D37-C725232F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0AD-36ED-4F09-833A-4DD75176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237-98EC-4951-97AE-27D7F35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1E2-7744-4232-8411-008F25E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C29-9818-4813-8D6E-3238E3CE84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262-E312-4B59-8B55-418B71F30269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7;&#1058;&#1054;%20&#1069;&#1049;&#1053;&#1064;&#1058;&#1045;&#1049;&#1053;%2011&#1072;%20&#1050;&#1051;&#1040;&#1057;&#1057;.pptx" TargetMode="External"/><Relationship Id="rId2" Type="http://schemas.openxmlformats.org/officeDocument/2006/relationships/hyperlink" Target="file:///9%20&#1082;&#1083;&#1072;&#1089;&#1089;%20&#1092;&#1080;&#1079;&#1080;&#1082;&#1072;%20&#1050;&#1054;&#1051;&#1045;&#1041;&#1040;&#1053;&#1048;&#1071;%20&#1048;%20&#1042;&#1054;&#1051;&#1053;&#1067;.ppt" TargetMode="External"/><Relationship Id="rId3" Type="http://schemas.openxmlformats.org/officeDocument/2006/relationships/hyperlink" Target="file:///&#1051;&#1040;&#1041;&#1054;&#1056;&#1040;&#1058;&#1054;&#1056;&#1053;&#1040;&#1071;%20&#1056;&#1040;&#1041;&#1054;&#1058;&#1040;%20%20&#1055;&#1045;&#1056;&#1048;&#1054;&#1044;%20&#1048;%20&#1063;&#1040;&#1057;&#1058;&#1054;&#1058;&#1040;%20&#1050;&#1054;&#1051;&#1045;&#1041;&#1040;&#1053;&#1048;&#1049;%20&#1053;&#1048;&#1058;&#1071;&#1053;&#1054;&#1043;&#1054;%20&#1052;&#1040;&#1071;&#1058;&#1053;&#1048;&#1050;&#1040;.ppt" TargetMode="External"/><Relationship Id="rId4" Type="http://schemas.openxmlformats.org/officeDocument/2006/relationships/hyperlink" Target="file:///&#1059;&#1083;&#1100;&#1090;&#1088;&#1072;&#1079;&#1074;&#1091;&#1082;.pptx" TargetMode="External"/><Relationship Id="rId5" Type="http://schemas.openxmlformats.org/officeDocument/2006/relationships/slide" Target="slide10.xml"/><Relationship Id="rId6" Type="http://schemas.openxmlformats.org/officeDocument/2006/relationships/hyperlink" Target="file:///&#1043;&#1072;&#1083;&#1080;&#1083;&#1077;&#1086;.%20&#1069;&#1082;&#1089;&#1087;&#1077;&#1088;&#1080;&#1084;&#1077;&#1085;&#1090;.%20&#1042;&#1086;&#1079;&#1076;&#1091;&#1096;&#1085;&#1099;&#1081;%20&#1096;&#1072;&#1088;%20(&#1088;&#1072;&#1079;&#1085;&#1080;&#1094;&#1072;%20&#1076;&#1072;&#1074;&#1083;&#1077;&#1085;&#1080;&#1103;).mp4" TargetMode="External"/><Relationship Id="rId7" Type="http://schemas.openxmlformats.org/officeDocument/2006/relationships/hyperlink" Target="file:///&#1051;&#1077;&#1095;&#1077;&#1085;&#1080;&#1077;%20&#1093;&#1086;&#1083;&#1086;&#1076;&#1086;&#1084;%20&#1087;&#1088;&#1086;&#1075;&#1088;&#1072;&#1084;&#1084;&#1072;%20&#1047;&#1044;&#1054;&#1056;&#1054;&#1042;&#1068;&#1045;%20&#1089;%20&#1045;&#1083;&#1077;&#1085;&#1086;&#1081;%20&#1052;&#1072;&#1083;&#1099;&#1096;&#1077;&#1074;&#1086;&#1081;.mp4" TargetMode="External"/><Relationship Id="rId8" Type="http://schemas.openxmlformats.org/officeDocument/2006/relationships/hyperlink" Target="file:///&#1089;&#1084;&#1082;&#1096;&#1072;&#1088;&#1080;&#1082;&#1080;%20&#1079;&#1074;&#1091;&#1082;%20&#1092;&#1080;&#1079;&#1080;&#1082;&#1072;%209%20&#1082;&#1083;&#1072;&#1089;&#1089;.mkv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ПРИЁМЫ и МЕТОДЫ  формирования  </a:t>
            </a:r>
            <a:br>
              <a:rPr sz="3600"/>
            </a:b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ИКТ - компетентности обучающихся  </a:t>
            </a:r>
            <a:br>
              <a:rPr sz="3600"/>
            </a:b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НА УРОКАХ ФИЗИКИ </a:t>
            </a:r>
            <a:endParaRPr b="0" lang="en-US" sz="36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О учителей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естественных дисциплин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5 февраля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ПРОЕКЦИЯ ВЕКТОРА на ось.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457200" y="4648320"/>
            <a:ext cx="8153280" cy="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5345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 flipV="1">
            <a:off x="1066680" y="2743200"/>
            <a:ext cx="1905120" cy="914400"/>
          </a:xfrm>
          <a:prstGeom prst="line">
            <a:avLst/>
          </a:prstGeom>
          <a:ln w="76320">
            <a:solidFill>
              <a:srgbClr val="a82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1066680" y="3657600"/>
            <a:ext cx="0" cy="91440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971800" y="2743200"/>
            <a:ext cx="0" cy="190512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62120" y="4800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038480" y="2438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5909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85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666880" y="4800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419720" y="3200400"/>
            <a:ext cx="0" cy="144792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934320" y="3429000"/>
            <a:ext cx="0" cy="114300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4343040" y="3200040"/>
            <a:ext cx="2590920" cy="228600"/>
          </a:xfrm>
          <a:prstGeom prst="line">
            <a:avLst/>
          </a:prstGeom>
          <a:ln w="7632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8229600" y="1295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19112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781680" y="4800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68580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7924680" y="1523880"/>
            <a:ext cx="0" cy="213372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822960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7924680" y="3581280"/>
            <a:ext cx="0" cy="106704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oup 44" descr=""/>
          <p:cNvPicPr/>
          <p:nvPr/>
        </p:nvPicPr>
        <p:blipFill>
          <a:blip r:embed="rId1"/>
          <a:stretch/>
        </p:blipFill>
        <p:spPr>
          <a:xfrm>
            <a:off x="822240" y="2719440"/>
            <a:ext cx="340848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cxnSp>
        <p:nvCxnSpPr>
          <p:cNvPr id="134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Прямая соединительная линия 65"/>
          <p:cNvSpPr/>
          <p:nvPr/>
        </p:nvSpPr>
        <p:spPr>
          <a:xfrm>
            <a:off x="1187280" y="4143240"/>
            <a:ext cx="7164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Прямая соединительная линия 90"/>
          <p:cNvSpPr/>
          <p:nvPr/>
        </p:nvSpPr>
        <p:spPr>
          <a:xfrm>
            <a:off x="1176480" y="386856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Прямая соединительная линия 91"/>
          <p:cNvSpPr/>
          <p:nvPr/>
        </p:nvSpPr>
        <p:spPr>
          <a:xfrm>
            <a:off x="1192320" y="358308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Прямая соединительная линия 92"/>
          <p:cNvSpPr/>
          <p:nvPr/>
        </p:nvSpPr>
        <p:spPr>
          <a:xfrm>
            <a:off x="1176480" y="33195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Box 101"/>
          <p:cNvSpPr/>
          <p:nvPr/>
        </p:nvSpPr>
        <p:spPr>
          <a:xfrm>
            <a:off x="928800" y="39513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TextBox 104"/>
          <p:cNvSpPr/>
          <p:nvPr/>
        </p:nvSpPr>
        <p:spPr>
          <a:xfrm>
            <a:off x="928800" y="341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TextBox 105"/>
          <p:cNvSpPr/>
          <p:nvPr/>
        </p:nvSpPr>
        <p:spPr>
          <a:xfrm>
            <a:off x="928800" y="30718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TextBox 118"/>
          <p:cNvSpPr/>
          <p:nvPr/>
        </p:nvSpPr>
        <p:spPr>
          <a:xfrm>
            <a:off x="500040" y="257184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Group 44" descr=""/>
          <p:cNvPicPr/>
          <p:nvPr/>
        </p:nvPicPr>
        <p:blipFill>
          <a:blip r:embed="rId2"/>
          <a:stretch/>
        </p:blipFill>
        <p:spPr>
          <a:xfrm>
            <a:off x="4968720" y="271944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69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cxnSp>
        <p:nvCxnSpPr>
          <p:cNvPr id="170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sp>
        <p:nvSpPr>
          <p:cNvPr id="171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Прямая соединительная линия 149"/>
          <p:cNvSpPr/>
          <p:nvPr/>
        </p:nvSpPr>
        <p:spPr>
          <a:xfrm>
            <a:off x="5330880" y="442908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Прямая соединительная линия 150"/>
          <p:cNvSpPr/>
          <p:nvPr/>
        </p:nvSpPr>
        <p:spPr>
          <a:xfrm>
            <a:off x="5330880" y="414324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Прямая соединительная линия 160"/>
          <p:cNvSpPr/>
          <p:nvPr/>
        </p:nvSpPr>
        <p:spPr>
          <a:xfrm>
            <a:off x="5319720" y="386856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Прямая соединительная линия 161"/>
          <p:cNvSpPr/>
          <p:nvPr/>
        </p:nvSpPr>
        <p:spPr>
          <a:xfrm>
            <a:off x="5335560" y="358308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Прямая соединительная линия 162"/>
          <p:cNvSpPr/>
          <p:nvPr/>
        </p:nvSpPr>
        <p:spPr>
          <a:xfrm>
            <a:off x="5319720" y="33195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TextBox 167"/>
          <p:cNvSpPr/>
          <p:nvPr/>
        </p:nvSpPr>
        <p:spPr>
          <a:xfrm>
            <a:off x="5072040" y="39513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TextBox 169"/>
          <p:cNvSpPr/>
          <p:nvPr/>
        </p:nvSpPr>
        <p:spPr>
          <a:xfrm>
            <a:off x="5072040" y="341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TextBox 170"/>
          <p:cNvSpPr/>
          <p:nvPr/>
        </p:nvSpPr>
        <p:spPr>
          <a:xfrm>
            <a:off x="5072040" y="30718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TextBox 179"/>
          <p:cNvSpPr/>
          <p:nvPr/>
        </p:nvSpPr>
        <p:spPr>
          <a:xfrm>
            <a:off x="4286160" y="257184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Прямая соединительная линия 183"/>
          <p:cNvSpPr/>
          <p:nvPr/>
        </p:nvSpPr>
        <p:spPr>
          <a:xfrm>
            <a:off x="1278000" y="5256360"/>
            <a:ext cx="2363760" cy="9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Прямая соединительная линия 185"/>
          <p:cNvSpPr/>
          <p:nvPr/>
        </p:nvSpPr>
        <p:spPr>
          <a:xfrm>
            <a:off x="5429160" y="5261040"/>
            <a:ext cx="2363760" cy="1116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TextBox 186"/>
          <p:cNvSpPr/>
          <p:nvPr/>
        </p:nvSpPr>
        <p:spPr>
          <a:xfrm>
            <a:off x="2213280" y="1714680"/>
            <a:ext cx="46414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ло находится в покое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Прямоугольник 127"/>
          <p:cNvSpPr/>
          <p:nvPr/>
        </p:nvSpPr>
        <p:spPr>
          <a:xfrm>
            <a:off x="285840" y="7358040"/>
            <a:ext cx="7929360" cy="3571920"/>
          </a:xfrm>
          <a:prstGeom prst="rect">
            <a:avLst/>
          </a:prstGeom>
          <a:solidFill>
            <a:srgbClr val="ff9776">
              <a:alpha val="14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0" name="Рисунок 131" descr="Taxi.gif"/>
          <p:cNvPicPr/>
          <p:nvPr/>
        </p:nvPicPr>
        <p:blipFill>
          <a:blip r:embed="rId3"/>
          <a:stretch/>
        </p:blipFill>
        <p:spPr>
          <a:xfrm>
            <a:off x="6858000" y="16430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Овал 120"/>
          <p:cNvSpPr/>
          <p:nvPr/>
        </p:nvSpPr>
        <p:spPr>
          <a:xfrm>
            <a:off x="1204920" y="5222880"/>
            <a:ext cx="8748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TextBox 118"/>
          <p:cNvSpPr/>
          <p:nvPr/>
        </p:nvSpPr>
        <p:spPr>
          <a:xfrm>
            <a:off x="2071800" y="5786280"/>
            <a:ext cx="12142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TextBox 179"/>
          <p:cNvSpPr/>
          <p:nvPr/>
        </p:nvSpPr>
        <p:spPr>
          <a:xfrm>
            <a:off x="6143760" y="5786280"/>
            <a:ext cx="11430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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TextBox 178"/>
          <p:cNvSpPr/>
          <p:nvPr/>
        </p:nvSpPr>
        <p:spPr>
          <a:xfrm>
            <a:off x="407196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Прямоугольник 132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ff9776">
              <a:alpha val="14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457200" y="30492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вижение тела с ускорением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раектория полёта пчелы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ипени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Управляющая кнопка: возврат 2"/>
          <p:cNvSpPr/>
          <p:nvPr/>
        </p:nvSpPr>
        <p:spPr>
          <a:xfrm>
            <a:off x="79246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7493"/>
                </a:moveTo>
                <a:lnTo>
                  <a:pt x="11356" y="7493"/>
                </a:lnTo>
                <a:lnTo>
                  <a:pt x="11356" y="12828"/>
                </a:lnTo>
                <a:cubicBezTo>
                  <a:pt x="11356" y="13751"/>
                  <a:pt x="12157" y="14482"/>
                  <a:pt x="13192" y="14482"/>
                </a:cubicBezTo>
                <a:lnTo>
                  <a:pt x="14855" y="14482"/>
                </a:lnTo>
                <a:cubicBezTo>
                  <a:pt x="15891" y="14482"/>
                  <a:pt x="16691" y="13751"/>
                  <a:pt x="16691" y="12828"/>
                </a:cubicBezTo>
                <a:lnTo>
                  <a:pt x="16691" y="7493"/>
                </a:lnTo>
                <a:lnTo>
                  <a:pt x="14855" y="7493"/>
                </a:lnTo>
                <a:lnTo>
                  <a:pt x="18362" y="3985"/>
                </a:lnTo>
                <a:lnTo>
                  <a:pt x="22035" y="7493"/>
                </a:lnTo>
                <a:lnTo>
                  <a:pt x="20199" y="7493"/>
                </a:lnTo>
                <a:lnTo>
                  <a:pt x="20199" y="12828"/>
                </a:lnTo>
                <a:cubicBezTo>
                  <a:pt x="20199" y="15596"/>
                  <a:pt x="17623" y="18155"/>
                  <a:pt x="14855" y="18155"/>
                </a:cubicBezTo>
                <a:lnTo>
                  <a:pt x="13192" y="18155"/>
                </a:lnTo>
                <a:cubicBezTo>
                  <a:pt x="10425" y="18155"/>
                  <a:pt x="7848" y="15596"/>
                  <a:pt x="7848" y="12828"/>
                </a:cubicBezTo>
                <a:close/>
              </a:path>
            </a:pathLst>
          </a:custGeom>
          <a:solidFill>
            <a:srgbClr val="d0ffd0"/>
          </a:solidFill>
          <a:ln w="255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компьютерной поддержкой</a:t>
            </a: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Использование дисков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Тестирова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он-лай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на диск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выходом во всемирную сеть ИНТЕРНЕТ</a:t>
            </a:r>
            <a:br>
              <a:rPr sz="3800"/>
            </a:b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поиск информации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н-лайн тестирова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ткрытый банк данных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оздание интернет-продукта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Преимущества использования ИКТ - технологий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ДЛЯ УЧИТЕЛ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ДЛЯ УЧАЩИХС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Преимущества использования </a:t>
            </a:r>
            <a:br>
              <a:rPr sz="28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ИКТ – технологий для учителя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Экономия учебного времени (до 30%)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Возможность обеспечить аудио – визуальное восприятие информации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Включение учащихся в активную деятельность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Развитие коммуникативных умений учащихся на уроке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Осуществление дифференцированного и индивидуального подхода в обучении учащихс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Рациональное использование различных форм, методов и приемов работы;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Освобождение от рутинной бумажной работы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Создание положительного эмоционального фона урока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вышение мотивации и познавательного интереса учащихс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реимущества использования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ИКТ – технологий для учащегося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Обеспечивает более эффективную доступность информации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Приближает урок к мировосприятию современного ребенка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Позволяет ученику работать в своем темп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Развивает нестандартное мышлени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Воспитывает самостоятельность, способность принимать решения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Формирует уверенность в своих возможностях, способностях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Использование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ПОВЫШАЕТ КАЧЕСТВО ОБУЧЕ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РАЗВИВАЕТ ТВОРЧЕСТВО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СОВЕРШЕНСТВУЕТ ПРОЦЕСС ОБУЧЕ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Дитя требует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деятельности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беспрестанно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утомляется не деятельностью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ее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однообразие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К.Д. Ушинск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СИНКВЕЙН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информационно-коммуникационные технологии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2 прилогат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3 глагол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фраз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,………(слово-ассоциация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Компьютерные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технологии обучения –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то </a:t>
            </a:r>
            <a:r>
              <a:rPr b="1" lang="ru-RU" sz="4000" spc="-1" strike="noStrike">
                <a:solidFill>
                  <a:srgbClr val="a82800"/>
                </a:solidFill>
                <a:latin typeface="Arial"/>
              </a:rPr>
              <a:t>процесс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Arial"/>
              </a:rPr>
              <a:t>подготовки и передачи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 информации обучаемому, средством осуществления которого является </a:t>
            </a: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Актуальность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использования 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Использование ИКТ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УРОК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ВНЕКЛАССНАЯ РАБОТА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КОНКУРСЫ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Garamond"/>
              </a:rPr>
              <a:t>На каких этапах урока</a:t>
            </a:r>
            <a:br>
              <a:rPr sz="3800"/>
            </a:br>
            <a:r>
              <a:rPr b="1" lang="ru-RU" sz="3800" spc="-1" strike="noStrike">
                <a:solidFill>
                  <a:srgbClr val="a82800"/>
                </a:solidFill>
                <a:latin typeface="Garamond"/>
              </a:rPr>
              <a:t>можно применять ИКТ?</a:t>
            </a: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и изучении нового материала, 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едъявлении новой информации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при закреплении пройденного материала, отработки учебных умений и навыков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и повторении, практическом применении полученных знаний, умений, навыков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при обобщении, систематизации знаний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32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мультимедийной поддержкой</a:t>
            </a:r>
            <a:br>
              <a:rPr sz="3800"/>
            </a:b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Презентации  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1"/>
              </a:rPr>
              <a:t>СТО Эйнштейна 11а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2"/>
              </a:rPr>
              <a:t>Волны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Лабораторная работа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4"/>
              </a:rPr>
              <a:t>Ультразвук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hlinkClick r:id="rId5" action="ppaction://hlinksldjump"/>
              </a:rPr>
              <a:t>Анимация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Фильм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Аудио- и видео- фрагменты.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Программа Галилео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6"/>
              </a:rPr>
              <a:t>«Опыт с воздушным шаром»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 с 1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Программа Здоровье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7"/>
              </a:rPr>
              <a:t>«Лечение холодом»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 с 1,5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Мультфильмы. «Смешарики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8"/>
              </a:rPr>
              <a:t>Слуховой аппарат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» с 6,5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Опыт по измерению давления в воде с Единой коллекции ЦОР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Опыт по химическому действию тока с сайта  «Классная физика»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Научный телефильм:  «Голос галактики»,  «Звуковое оружие»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Управляющая кнопка: в конец 3"/>
          <p:cNvSpPr/>
          <p:nvPr/>
        </p:nvSpPr>
        <p:spPr>
          <a:xfrm>
            <a:off x="79246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20769" y="10800"/>
                </a:moveTo>
                <a:lnTo>
                  <a:pt x="10263" y="17806"/>
                </a:lnTo>
                <a:lnTo>
                  <a:pt x="10263" y="3794"/>
                </a:lnTo>
                <a:close/>
              </a:path>
              <a:path fill="darken" w="34540" h="21600">
                <a:moveTo>
                  <a:pt x="22614" y="3794"/>
                </a:moveTo>
                <a:lnTo>
                  <a:pt x="22614" y="17806"/>
                </a:lnTo>
                <a:lnTo>
                  <a:pt x="24276" y="17806"/>
                </a:lnTo>
                <a:lnTo>
                  <a:pt x="24276" y="3794"/>
                </a:lnTo>
                <a:close/>
              </a:path>
            </a:pathLst>
          </a:custGeom>
          <a:solidFill>
            <a:srgbClr val="d0ffd0"/>
          </a:solidFill>
          <a:ln w="255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6-02-05T02:45:3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