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88D2-DFF3-4C56-8FE8-7780E749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1C8-C070-48CE-9243-5008463F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B38-1506-4FD6-993E-F0F51773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90B-D65F-4F05-82C3-7877C721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EB0-582B-4184-9A0F-42C57929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978-0229-4DDB-BA53-920D1E87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60A-4141-4DBA-BF4D-E19FE71C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7E2D-0DB8-4523-A809-B575C1A0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DB7-7FFF-4C0E-9ABA-5D88C45A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E5E-86F1-4856-B9CE-1EAD188F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4A6-3A5F-4E24-8D86-0305EA6F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F44-AFBF-4C4B-A58A-47986DBB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0F29-41B0-4444-82EA-B5483A886A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6786720" y="6643800"/>
            <a:ext cx="2357280" cy="214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34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партамент  образования администрации города Нижнего Новгорода 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"Детский сад № 111" (МБДОУ "Детский сад № 111")</a:t>
            </a:r>
            <a:br>
              <a:rPr sz="1800"/>
            </a:b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оект на тему: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то заботится о нас» </a:t>
            </a:r>
            <a:br>
              <a:rPr sz="44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знакомство детей младшей группы №9          с профессиями сотрудников детского са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2268360" y="4941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Подготовила: Ревина Н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137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апы реализаци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96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 этап-заключительны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тоговое занятие «Все профессии нужны, все профессии важны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ть у детей младшего дошкольного возраста интерес к профессиональной деятельности взросл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342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 работы с детьми на перспектив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424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ширять знания детей о следующих профессиях сотрудников детского сада: воспитатель, помощник воспитателя, работник на прачечной, двор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вивать представления об основных атрибутах каждой профе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имулировать речевые высказывания детей о данных профессиях сотрудников детского са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ть умения организовывать сюжетно-ролевые игры, дидактические игры на основе полученных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2" descr=""/>
          <p:cNvPicPr/>
          <p:nvPr/>
        </p:nvPicPr>
        <p:blipFill>
          <a:blip r:embed="rId1"/>
          <a:stretch/>
        </p:blipFill>
        <p:spPr>
          <a:xfrm>
            <a:off x="628560" y="1292400"/>
            <a:ext cx="7661520" cy="24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68360" y="620640"/>
          <a:ext cx="8209080" cy="4248360"/>
        </p:xfrm>
        <a:graphic>
          <a:graphicData uri="http://schemas.openxmlformats.org/drawingml/2006/table">
            <a:tbl>
              <a:tblPr/>
              <a:tblGrid>
                <a:gridCol w="4103640"/>
                <a:gridCol w="4105440"/>
              </a:tblGrid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оект: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ткосрочный, групповой, информационно-творческ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частники проекта: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 младшей группы №9; родители воспитанников, педагогический коллекти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Сроки реализации проекта: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 – ноябрь 2018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роблема: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нство  детей имеют недостаточно знаний и представлений о профессиях родителей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профессии сотрудников детского сада - ближайшее познавательное пространство ребён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5"/>
          <p:cNvSpPr/>
          <p:nvPr/>
        </p:nvSpPr>
        <p:spPr>
          <a:xfrm>
            <a:off x="6786720" y="6643800"/>
            <a:ext cx="2357280" cy="214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5640" y="1413000"/>
            <a:ext cx="79200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младшего дошкольного возраста интереса к профессиям взрослых, своих родителей происходит через ближайшее познавательное пространство, а именно через профессии сотрудников детского са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9912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 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218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ть у детей младшего дошкольного возраста интерес к профессиональной деятельности работников детского с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000" y="1557360"/>
            <a:ext cx="8280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ть представления о названиях профессий сотрудников детского сада: повар, врач/медицинская сес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вивать представления об основных атрибутах каждой профе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имулировать речевые высказывания детей о профессиях сотрудников детского са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пражнять в передаче своих знаний в процессе построения речевого диа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ый результа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267920"/>
            <a:ext cx="8136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детей младшего дошкольного возраста сформированы представления о профессиях сотрудников детского сада: ребёнок знает и называет професс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ладшие дошкольники используют полученные знания в сюжетно-ролевых игр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младшего дошкольного возраста используют в сюжетно-ролевых играх элементарные ролевые диа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апы реализаци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496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 этап – подготовительны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Создание игровых ситуаций: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«Кукла Аня ждёт гостей, поможем ей накрыть на стол», «Поможем кукле Маше сварить вкусный суп», «Поможем кукле Кате испечь праздничный торт», «Врача вызывали», «Оденем куклу на работу» и т.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Создание предметно-развивающей среды в групп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Модуль « КУХНЯ»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- пополнить следующими атрибутами: фартук, посуда, овощи, фрукты, картинки-подсказки «Варим суп», «Варим компот», «Печём торт», «Сервировка обеденного стола» и т.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Модуль «БОЛЬНИЦА»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- пополнить атрибутами: медицинский халат, градусники, шприци, фонендоскоп и т.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Изготовление </a:t>
            </a:r>
            <a:r>
              <a:rPr b="1" lang="ru-RU" sz="16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дидактических игр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теме: «Профессии детского сада», «Кому и что нужно для работы», «Спецодежда», «Собери цепочку» и т.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дбор </a:t>
            </a:r>
            <a:r>
              <a:rPr b="1" lang="ru-RU" sz="16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иллюстраций, презентаций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профессиям сотрудников детского сада: повар, вр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дбор </a:t>
            </a:r>
            <a:r>
              <a:rPr b="1" lang="ru-RU" sz="16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стихов и художественной литературы </a:t>
            </a:r>
            <a:r>
              <a:rPr b="0" lang="ru-RU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т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02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ерспективное  планирование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90792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седы  с детьми на темы: «Все профессии нужны, все профессии важны», «Какая профессия важней», «Профессии сотрудников детского сада», «Правила поведения в детском саду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ение стихов В. Маяковского «Кем быть», серия книг Инны Карповой «Кем быть? », Ирина Солнышко «Поиграем в докторов, поваров», Е. Пермек «Мамина работа» и т.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зкультминутки и пальчиковая гимнастика по теме. («Мы капустку рубим-рубим», «Мальчик-пальчик где ты был?» и т.д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сматривание иллюстрированного материала на темы: «Профессии сотрудников детского сада», «Кому и что нужно для работы», «Спецодежда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дактические игры: «Кому, что нужно для работы», разрезное лото «Профессии», «Подбери пару» (орудия труда – профессия), «Собери цепочку» (орудия труда, спецодежда, трудовые действ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а-путешествие по детскому саду: на кухню, в медицинский кабин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ыгрывание профессии в сюжетно – ролевых играх: «Врача вызывали», «Готовим вкусный обед», «Я –повар»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ворческая мастерская: лепка «Овощи для борща», «Фрукты для гостей», «Баранки», «Посуда», аппликация «Овощи», «Фрукты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629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апы реализации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 этап – основн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оследовательность  ознакомлен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детей младшего дошколь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 профессиями сотрудников детского с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здание игров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знакомление с атрибу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знакомление с трудовыми действ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ыражение отношения к профес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а-путеше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274680"/>
            <a:ext cx="8497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Знакомство с профессией сотрудника детского сада – пов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76500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здание игровой ситуации: 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Кукла Аня ждёт гостей на обед. Что она может приготовить на обед? Кто ей поможет? Поварёнок – кто он такой и где он живёт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гости приходит кукла – Поварё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Цель </a:t>
            </a: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развивать у детей младшего дошкольного возраста интереса к профессиональной деятельности повара в детском са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накомство с атрибутами профе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куда берутся продукты для приготовления супа? – «Нужно сходить в «магазин»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ие продукты нам нужны (овощи)? – «Найди овощи», «Что лишне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ие предметы посуды используем для приготовления суп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накомство с трудовыми действия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варёнок приглашает к себе на кухню- распределяет трудовые действия: моем овощи, чистим овощи, нарезаем. Используем пальчиковую гимнастику «Мы капустку рубим-рубим», картинки-подсказки «Из чего варим суп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ражение отношения к профе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не будет Поварёнка на кухне, то никто не сварит суп и мы останемся головными. А ещё повара нужно благодарить за сваренный обе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гра-путешеств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варёнок приглашает детей в путешествие на настоящую кухню детского сада, где нас встречает повар (рассматриваем спецодежду, атрибуты, трудовые действия, результат труда пова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арим подарок повару – корзиночку с овощами из пластелина. А ещё коробочку, в которую собираем слова благодарности за тру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озращение в груп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K:\Фото к педсовету 2018\DSC_1113.JPG"/>
          <p:cNvPicPr/>
          <p:nvPr/>
        </p:nvPicPr>
        <p:blipFill>
          <a:blip r:embed="rId1"/>
          <a:stretch/>
        </p:blipFill>
        <p:spPr>
          <a:xfrm>
            <a:off x="2371680" y="4827600"/>
            <a:ext cx="2340000" cy="1738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K:\Фото к педсовету 2018\DSC_1142.JPG"/>
          <p:cNvPicPr/>
          <p:nvPr/>
        </p:nvPicPr>
        <p:blipFill>
          <a:blip r:embed="rId2"/>
          <a:stretch/>
        </p:blipFill>
        <p:spPr>
          <a:xfrm>
            <a:off x="5608800" y="4827600"/>
            <a:ext cx="32540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ePack by Diakov</cp:lastModifiedBy>
  <dcterms:modified xsi:type="dcterms:W3CDTF">2018-12-05T17:31:10Z</dcterms:modified>
  <cp:revision>840</cp:revision>
  <dc:subject/>
  <dc:title>Diapositiva 1</dc:title>
</cp:coreProperties>
</file>