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camera.wav" ContentType="audio/x-wav"/>
  <Override PartName="/ppt/media/explode.wav" ContentType="audio/x-wav"/>
  <Override PartName="/ppt/media/image16.png" ContentType="image/png"/>
  <Override PartName="/ppt/media/chimes.wav" ContentType="audio/x-wav"/>
  <Override PartName="/ppt/media/image1.jpeg" ContentType="image/jpeg"/>
  <Override PartName="/ppt/media/image2.png" ContentType="image/png"/>
  <Override PartName="/ppt/media/image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639-D869-4A71-82CD-C047092B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353-9E15-48A4-B5B1-F5CEBCB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EAF99-D1A5-4928-BE70-2B99375E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DCEE6-06F4-410F-B04E-7FC3A938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DFBE5-2BBB-49FC-BEFE-6C67D89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56BB8-B773-4687-9A19-0BA381D2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0FC18-2272-47C2-8271-5C8992C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69DA3-9D15-42C4-8AD1-025F847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EE6E4-7C1E-4DBD-BBBB-3C93377C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7541E-D407-47C4-A198-6AFBC80A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992BD-138E-42D9-88C5-F051FE0E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1364AB-CDC7-44E7-BDD0-4275DE1F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C69-3B00-4D80-BC6D-8FC91C19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95587-F027-45B4-BA42-78516989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1300D-7B9F-4A57-B6BE-9DFC1AEF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2FA0-471C-4FA6-9BD1-4798A2A1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B9E7B-B396-42E7-8771-47794D7A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E98DC-1592-427E-BDCD-BB988750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FE899-1DE9-4A20-93AB-7A7C0F6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3E069-4F07-4D51-B314-56BA048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CE57E-F309-44D2-A1F1-E66631B0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E8DD6-8504-4C78-BC66-C1EFC630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61FAB-50BE-4B49-BAE7-3926EF9B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E44-4575-4CD7-B092-D6702354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5E5A2-484E-4CA0-9D8E-7CC99019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51AE-ED4A-4799-B234-F70F1051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53AB-952D-4B7D-9301-AC55AED4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862E-76E8-480A-A912-3CB0F8E6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3EB7-FCF4-4BC2-9AD1-DA9BB381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8E11-76AF-4613-AB55-F52B9138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2F6-6388-4550-A443-46FC1AFF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85CB-9D0B-4944-B2EE-849ADE26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4F9-77CD-4AA6-8E9C-4EA0CC63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8A37-5396-4FBD-906C-497C1DB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2642-3C52-484A-A8EE-B5BFEEDD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F8F3-2803-424E-9538-ACD3A391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B2A-D4DC-44BE-BB7F-A70CDE0E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910D-EAE3-4209-B7ED-DFD4E0FB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85B4-D3C4-4EE9-8A4F-01947FDC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DF06-503A-4B9D-B874-59688B49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C363-FE90-4536-BAB2-5316CFC5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F5AE-B865-4EF1-AB03-2F026BAE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E570-00D4-477F-992B-CBB37293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721-665B-429C-A0EA-081D3A27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0B06-8FF3-43FF-A46F-C180595B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B7EDA-60E6-49E3-B25A-276245C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5AC0-9058-4845-A57B-89EC25E6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45BCB-E56E-4B76-8218-2AAB9E5E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830D5-D879-493B-BC67-DF8F166C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980E-C1B3-4A0D-AE90-E5269E5A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96DF-AE00-479C-86F1-93FE555F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DD309-53A7-427B-8AEF-6621B8A9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2C41-3133-4B29-AB2A-FF754648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2D02-5705-45A5-A78A-3FADDE0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CC4-4385-4B6B-BEFC-B6046BA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4088C-7481-42C7-B9DE-D9DEA577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3E25-FFE6-4A75-AB85-AA613995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E80A-B3BA-4F1E-A833-A83746B7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3B91-FAF0-4FBA-A691-7D280115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6BEF-3D3D-417A-BC99-28AF33A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E34B5-8D17-47E4-B1F5-6EC4FF7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EF435-C0F9-4B41-B3B9-B9B01EDC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150B8-6189-4B47-BB23-F358D0E1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6549-42BA-4926-A608-E216A9DE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33DB0-7296-44CD-8D45-6071EC70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91C-6E9A-4099-BEF6-5527C85D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E06C1-DE13-4C58-901D-69DF8208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93B89-2C81-4AE5-8A00-8B405AD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CEDC5-2B9B-4492-9E4E-F7B1AEFA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33B1-D3F3-4F21-9856-1524D398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2FD86-771C-4C85-BACC-3D19F18B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350DA-10DC-4479-B259-67F7E87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249B-3BA8-4DDE-98B6-040C548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28FDF-8D8F-4041-917E-9323282E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57F6-E5B5-4D0A-B8ED-5EFF72EE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6996-EC76-4BC7-91FE-14381627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619-45DC-4ED3-9F2D-94BF5CBE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7DBB-05CA-4E14-8633-25A55ABB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0E30C-8413-497E-A772-9602AFFB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2B7C1-7A91-4DA8-A564-6C0BE290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5C7A2-190E-4CF7-BFEA-2E7FFEED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2FB63-657F-46E9-9CCF-DA231AD5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37F2A-64DF-428B-BB33-5D2B03B9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654B-7028-4012-8581-C7A1D4E6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BE107-6F88-4714-AC22-8A83C5CE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3E320-80A7-45AB-83D5-002AB31C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BEBA-2ADF-4F76-B7BD-97E37403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6E3-A452-4E90-A138-9224BF0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5C03C-E400-4D42-A706-CBD31A7F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BAB3-B835-4A1D-B755-2FF9F34F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9384E-B053-41E2-88A8-50A896FE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947C-C8D8-43A3-BFE6-D8CB6A66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5E60F-408A-458E-99A8-0595F536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AB750-8E78-4D27-8F6F-B78A85E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8C58D-A3AD-45F0-8EAC-FEE974F2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BADD-2002-4C40-8BA8-CC1F59E5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98837-D70E-4693-82BD-F1EE07D0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5F4E0-9ABF-43AC-A83C-E848A83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E08-5977-45E1-8566-B6AAC91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23AE8-5657-4A6B-9F8B-104CB0A5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A0EE0-4B07-4DC3-B157-81E4F0E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4C23D-1FA0-400D-9AEB-408ED52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52B4A-36F4-40DE-B66D-5746F067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A7CB-7D09-46F7-895A-D810578B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6EE1-70A2-4E05-8C89-C68837DC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E704-309B-4596-A5F9-E4E9586D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4EFD-09C4-451D-8DF8-A38CE97D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75A64-B942-4BC2-B498-F1BF7FAF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21B5B-5F2D-4AFB-8C1D-A7A5C3A8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6CD7-0FFB-4553-A35B-91F9CD08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BE2E5-C309-444C-9241-8FECF257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BD2D6-5B46-47CB-AB98-E516FCD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4DB6A-AB5A-40EF-B0D2-04CF189E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40F1E-7968-48E5-8ED3-4D8B2BF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E526D-6E53-44B5-AA82-9BFAE131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A6827-80B0-4D91-B1F2-630197CD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15B31-9DC8-4ED7-A7D7-102109B4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65B7B-9CAB-4BCE-A207-A02A91DF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D5BA3-5CB4-4C0D-A528-5FB6CD8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EFB37-87E6-4A48-B239-EFFAB9F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6A0A-668D-4434-834D-609D66D16C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1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044A-686A-4120-BE59-D89F3C12006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007-6EA1-49BA-9FCC-03121D83F4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BAB8-E041-4686-B557-1869F48DC52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2EB2-85BF-40E1-BEDE-33BED6F262B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1ADC-52F2-4ABC-B503-766EFFAE78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4B4F-92FF-4205-9B01-7AACF581431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0CE9-7B5F-4C07-84C8-44313D46DA7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2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F20F-D48D-46FF-B7FF-A13FE02AFA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6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6631-B15A-46C1-8149-C46766ABBD3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" Target="slide8.xml"/><Relationship Id="rId5" Type="http://schemas.openxmlformats.org/officeDocument/2006/relationships/image" Target="../media/image21.png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42960" y="1267920"/>
            <a:ext cx="850104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«Приготовление препарата   кожицы чешуи лука»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500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дготовила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учитель биологии МКОУ СОШ № 15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Айрапетян Анжелика Вагиф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037040" cy="54864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58920" y="333360"/>
            <a:ext cx="5545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ff"/>
                </a:solidFill>
                <a:latin typeface="Georgia"/>
              </a:rPr>
              <a:t>Микроскоп поставили,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2"/>
          <a:stretch/>
        </p:blipFill>
        <p:spPr>
          <a:xfrm rot="18922800">
            <a:off x="2268360" y="3860280"/>
            <a:ext cx="2016360" cy="439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"/>
          <p:cNvPicPr/>
          <p:nvPr/>
        </p:nvPicPr>
        <p:blipFill>
          <a:blip r:embed="rId3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"/>
          <p:cNvPicPr/>
          <p:nvPr/>
        </p:nvPicPr>
        <p:blipFill>
          <a:blip r:embed="rId4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"/>
          <p:cNvPicPr/>
          <p:nvPr/>
        </p:nvPicPr>
        <p:blipFill>
          <a:blip r:embed="rId5"/>
          <a:stretch/>
        </p:blipFill>
        <p:spPr>
          <a:xfrm>
            <a:off x="5076720" y="2997360"/>
            <a:ext cx="3311640" cy="331128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9"/>
          <p:cNvSpPr/>
          <p:nvPr/>
        </p:nvSpPr>
        <p:spPr>
          <a:xfrm>
            <a:off x="3348000" y="1052640"/>
            <a:ext cx="540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Препарат - на столи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3492360" y="1700280"/>
            <a:ext cx="56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Объектив направи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Georgia"/>
              </a:rPr>
              <a:t>Глядь, а лук – из долек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692360" y="404640"/>
            <a:ext cx="6121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Дольки это клет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052720" y="1919160"/>
            <a:ext cx="5113080" cy="404028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5"/>
          <p:cNvSpPr/>
          <p:nvPr/>
        </p:nvSpPr>
        <p:spPr>
          <a:xfrm>
            <a:off x="2195640" y="3645000"/>
            <a:ext cx="1224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"/>
          <p:cNvSpPr/>
          <p:nvPr/>
        </p:nvSpPr>
        <p:spPr>
          <a:xfrm flipV="1">
            <a:off x="1476360" y="4005000"/>
            <a:ext cx="9349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7"/>
          <p:cNvSpPr/>
          <p:nvPr/>
        </p:nvSpPr>
        <p:spPr>
          <a:xfrm flipH="1">
            <a:off x="250920" y="4724280"/>
            <a:ext cx="1225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8"/>
          <p:cNvSpPr txBox="1"/>
          <p:nvPr/>
        </p:nvSpPr>
        <p:spPr>
          <a:xfrm>
            <a:off x="324000" y="4365720"/>
            <a:ext cx="1137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лет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10" name="Line 9"/>
          <p:cNvSpPr/>
          <p:nvPr/>
        </p:nvSpPr>
        <p:spPr>
          <a:xfrm flipH="1">
            <a:off x="5219280" y="3789360"/>
            <a:ext cx="20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0"/>
          <p:cNvSpPr/>
          <p:nvPr/>
        </p:nvSpPr>
        <p:spPr>
          <a:xfrm flipH="1">
            <a:off x="4788000" y="3789360"/>
            <a:ext cx="2520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1"/>
          <p:cNvSpPr/>
          <p:nvPr/>
        </p:nvSpPr>
        <p:spPr>
          <a:xfrm flipH="1">
            <a:off x="5724360" y="3789360"/>
            <a:ext cx="1656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2"/>
          <p:cNvSpPr txBox="1"/>
          <p:nvPr/>
        </p:nvSpPr>
        <p:spPr>
          <a:xfrm>
            <a:off x="7524720" y="3429000"/>
            <a:ext cx="934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1692360" y="1052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Georgia"/>
              </a:rPr>
              <a:t>С ядрами внут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987640" y="476280"/>
            <a:ext cx="4608720" cy="34383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4363560"/>
            <a:ext cx="822960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ff"/>
                </a:solidFill>
                <a:latin typeface="Georgia"/>
              </a:rPr>
              <a:t>Вакуоли круп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ff"/>
                </a:solidFill>
                <a:latin typeface="Georgia"/>
              </a:rPr>
              <a:t>В клетке рассмотр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3564000" y="1916280"/>
            <a:ext cx="1152360" cy="28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3564000" y="2205000"/>
            <a:ext cx="86364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>
            <a:off x="971640" y="2205000"/>
            <a:ext cx="2592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WordArt 8"/>
          <p:cNvSpPr txBox="1"/>
          <p:nvPr/>
        </p:nvSpPr>
        <p:spPr>
          <a:xfrm>
            <a:off x="900000" y="1773360"/>
            <a:ext cx="194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куо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393516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545440" cy="3600360"/>
          </a:xfrm>
          <a:prstGeom prst="rect">
            <a:avLst/>
          </a:prstGeom>
          <a:ln w="0">
            <a:noFill/>
          </a:ln>
        </p:spPr>
      </p:pic>
      <p:sp>
        <p:nvSpPr>
          <p:cNvPr id="526" name="WordArt 6"/>
          <p:cNvSpPr txBox="1"/>
          <p:nvPr/>
        </p:nvSpPr>
        <p:spPr>
          <a:xfrm>
            <a:off x="611280" y="3933720"/>
            <a:ext cx="55432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dc765"/>
                </a:solidFill>
                <a:latin typeface="Times New Roman"/>
              </a:rPr>
              <a:t>Снаружи - оболоч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dc765"/>
              </a:solidFill>
              <a:latin typeface="Times New Roman"/>
              <a:ea typeface="Times New Roman"/>
            </a:endParaRPr>
          </a:p>
        </p:txBody>
      </p:sp>
      <p:sp>
        <p:nvSpPr>
          <p:cNvPr id="527" name="Line 7"/>
          <p:cNvSpPr/>
          <p:nvPr/>
        </p:nvSpPr>
        <p:spPr>
          <a:xfrm flipH="1" flipV="1">
            <a:off x="1979280" y="3068280"/>
            <a:ext cx="1297080" cy="108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8"/>
          <p:cNvSpPr txBox="1"/>
          <p:nvPr/>
        </p:nvSpPr>
        <p:spPr>
          <a:xfrm>
            <a:off x="1908000" y="4581360"/>
            <a:ext cx="5328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7dec9"/>
                </a:solidFill>
                <a:latin typeface="Times New Roman"/>
              </a:rPr>
              <a:t>Под нею - цитоплазм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7dec9"/>
              </a:solidFill>
              <a:latin typeface="Times New Roman"/>
              <a:ea typeface="Times New Roman"/>
            </a:endParaRPr>
          </a:p>
        </p:txBody>
      </p:sp>
      <p:sp>
        <p:nvSpPr>
          <p:cNvPr id="529" name="Line 9"/>
          <p:cNvSpPr/>
          <p:nvPr/>
        </p:nvSpPr>
        <p:spPr>
          <a:xfrm flipH="1" flipV="1">
            <a:off x="4643280" y="1341000"/>
            <a:ext cx="216072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WordArt 10"/>
          <p:cNvSpPr txBox="1"/>
          <p:nvPr/>
        </p:nvSpPr>
        <p:spPr>
          <a:xfrm>
            <a:off x="2987640" y="5300640"/>
            <a:ext cx="5472000" cy="129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Зелёные плас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Искать будешь напрасн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ransition>
    <p:cover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914400" y="2854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2" name="Picture 6" descr=""/>
          <p:cNvPicPr/>
          <p:nvPr/>
        </p:nvPicPr>
        <p:blipFill>
          <a:blip r:embed="rId1"/>
          <a:stretch/>
        </p:blipFill>
        <p:spPr>
          <a:xfrm>
            <a:off x="2428920" y="3286080"/>
            <a:ext cx="4357800" cy="26560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142920" y="100008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Monotype Corsiva"/>
              </a:rPr>
              <a:t>1.Растения состоят из кле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214200" y="1714680"/>
            <a:ext cx="864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Monotype Corsiva"/>
              </a:rPr>
              <a:t>2. Разные клетки имеют одинаковое строение: оболочку, цитоплазму, ядр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WordArt 11"/>
          <p:cNvSpPr txBox="1"/>
          <p:nvPr/>
        </p:nvSpPr>
        <p:spPr>
          <a:xfrm>
            <a:off x="642960" y="6072120"/>
            <a:ext cx="784872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Georgia"/>
              </a:rPr>
              <a:t>Запиши выводы в тетрадь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Georgia"/>
              <a:ea typeface="Georgia"/>
            </a:endParaRPr>
          </a:p>
        </p:txBody>
      </p:sp>
    </p:spTree>
  </p:cSld>
  <p:transition>
    <p:newsflash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cc66"/>
                </a:solidFill>
                <a:latin typeface="Times New Roman"/>
              </a:rPr>
              <a:t>Вопросы для закрепления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68360" y="1484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ак вы готовили препарат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кожицы лука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1800360" cy="14652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2268360" y="3789360"/>
            <a:ext cx="1944720" cy="1677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4356000" y="4437000"/>
            <a:ext cx="2089080" cy="161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16720" y="4797360"/>
            <a:ext cx="2158920" cy="164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F:\МОИ ДОКУМЕНТЫ-2\картинки биология\растения\морфоллогия и внутреннее строение растений\клетка , увеличительные приборы, гербарии\современный микроскоп.jpg"/>
          <p:cNvPicPr/>
          <p:nvPr/>
        </p:nvPicPr>
        <p:blipFill>
          <a:blip r:embed="rId1"/>
          <a:stretch/>
        </p:blipFill>
        <p:spPr>
          <a:xfrm>
            <a:off x="285840" y="428760"/>
            <a:ext cx="4500360" cy="64483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http://im0-tub-ru.yandex.net/i?id=71eb7e7f045190345fed39f103ff6a29&amp;n=24"/>
          <p:cNvPicPr/>
          <p:nvPr/>
        </p:nvPicPr>
        <p:blipFill>
          <a:blip r:embed="rId2"/>
          <a:stretch/>
        </p:blipFill>
        <p:spPr>
          <a:xfrm>
            <a:off x="4714920" y="1346040"/>
            <a:ext cx="4214880" cy="4440240"/>
          </a:xfrm>
          <a:prstGeom prst="rect">
            <a:avLst/>
          </a:prstGeom>
          <a:ln w="0">
            <a:noFill/>
          </a:ln>
        </p:spPr>
      </p:pic>
      <p:sp>
        <p:nvSpPr>
          <p:cNvPr id="466" name="Прямоугольник 4"/>
          <p:cNvSpPr/>
          <p:nvPr/>
        </p:nvSpPr>
        <p:spPr>
          <a:xfrm>
            <a:off x="3857760" y="28584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ительные приборы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0040" y="6429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 определить увеличение светового микроскопа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68" name="Picture 2" descr="F:\МОИ ДОКУМЕНТЫ-2\картинки биология\общая биология\цитология\микроскоп и приготовление препаратов\окуляры и объективы.jpg"/>
          <p:cNvPicPr/>
          <p:nvPr/>
        </p:nvPicPr>
        <p:blipFill>
          <a:blip r:embed="rId1"/>
          <a:srcRect l="2213" t="8310" r="8510" b="12726"/>
          <a:stretch/>
        </p:blipFill>
        <p:spPr>
          <a:xfrm>
            <a:off x="857160" y="178596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00000"/>
                </a:solidFill>
                <a:latin typeface="Arial"/>
                <a:ea typeface="Calibri"/>
              </a:rPr>
              <a:t>Определите порядок слов</a:t>
            </a:r>
            <a:r>
              <a:rPr b="0" lang="ru-RU" sz="3900" spc="-1" strike="noStrike">
                <a:solidFill>
                  <a:srgbClr val="c00000"/>
                </a:solidFill>
                <a:latin typeface="Times New Roman"/>
                <a:ea typeface="Calibri"/>
              </a:rPr>
              <a:t>.</a:t>
            </a:r>
            <a:br>
              <a:rPr sz="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50"/>
                </a:solidFill>
                <a:latin typeface="Times New Roman"/>
                <a:ea typeface="Calibri"/>
              </a:rPr>
              <a:t>Живое, все, из, состоит, клеток.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42960" y="107136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b050"/>
                </a:solidFill>
                <a:latin typeface="Corbel"/>
              </a:rPr>
              <a:t>Правильный ответ</a:t>
            </a:r>
            <a:r>
              <a:rPr b="1" lang="en-US" sz="3900" spc="-1" strike="noStrike">
                <a:solidFill>
                  <a:srgbClr val="00b050"/>
                </a:solidFill>
                <a:latin typeface="Gill Sans MT"/>
              </a:rPr>
              <a:t>: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Все живое состоит из клеток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Составьте схему из предложенных слов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rbel"/>
              </a:rPr>
              <a:t>Ядро, цитоплазма , клетка, вакуоли, оболочка, пластиды, хлоропласты, лейкопласты,  хромопласты, органоиды, хлорофилл.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b050"/>
                </a:solidFill>
                <a:latin typeface="Corbel"/>
              </a:rPr>
              <a:t>Правильный ответ</a:t>
            </a:r>
            <a:r>
              <a:rPr b="1" lang="en-US" sz="4300" spc="-1" strike="noStrike">
                <a:solidFill>
                  <a:srgbClr val="00b050"/>
                </a:solidFill>
                <a:latin typeface="Gill Sans MT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8760" y="107136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    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Клет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                    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органои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Оболочка ядро цитоплазма вакуоли пластид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</a:t>
            </a: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хлоропласты           хромопла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00b050"/>
                </a:solidFill>
                <a:latin typeface="Corbel"/>
              </a:rPr>
              <a:t>лейкопла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77" name="Прямая со стрелкой 7"/>
          <p:cNvCxnSpPr/>
          <p:nvPr/>
        </p:nvCxnSpPr>
        <p:spPr>
          <a:xfrm flipH="1">
            <a:off x="3571560" y="2000160"/>
            <a:ext cx="2160" cy="21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8" name="Прямая со стрелкой 10"/>
          <p:cNvCxnSpPr/>
          <p:nvPr/>
        </p:nvCxnSpPr>
        <p:spPr>
          <a:xfrm flipH="1">
            <a:off x="1213920" y="2286000"/>
            <a:ext cx="2286720" cy="714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9" name="Прямая со стрелкой 12"/>
          <p:cNvCxnSpPr/>
          <p:nvPr/>
        </p:nvCxnSpPr>
        <p:spPr>
          <a:xfrm flipH="1">
            <a:off x="2714040" y="2286000"/>
            <a:ext cx="857880" cy="714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0" name="Прямая со стрелкой 14"/>
          <p:cNvCxnSpPr/>
          <p:nvPr/>
        </p:nvCxnSpPr>
        <p:spPr>
          <a:xfrm>
            <a:off x="3643200" y="2286000"/>
            <a:ext cx="572400" cy="714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1" name="Прямая со стрелкой 16"/>
          <p:cNvCxnSpPr/>
          <p:nvPr/>
        </p:nvCxnSpPr>
        <p:spPr>
          <a:xfrm>
            <a:off x="3571560" y="2286000"/>
            <a:ext cx="2143800" cy="643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2" name="Прямая со стрелкой 18"/>
          <p:cNvCxnSpPr/>
          <p:nvPr/>
        </p:nvCxnSpPr>
        <p:spPr>
          <a:xfrm>
            <a:off x="3857760" y="2286000"/>
            <a:ext cx="3572640" cy="643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3" name="Прямая со стрелкой 20"/>
          <p:cNvCxnSpPr/>
          <p:nvPr/>
        </p:nvCxnSpPr>
        <p:spPr>
          <a:xfrm flipH="1">
            <a:off x="4071600" y="3285000"/>
            <a:ext cx="3286800" cy="786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4" name="Прямая со стрелкой 22"/>
          <p:cNvCxnSpPr/>
          <p:nvPr/>
        </p:nvCxnSpPr>
        <p:spPr>
          <a:xfrm flipH="1">
            <a:off x="7286040" y="3285720"/>
            <a:ext cx="143640" cy="8578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5" name="Прямая со стрелкой 24"/>
          <p:cNvCxnSpPr/>
          <p:nvPr/>
        </p:nvCxnSpPr>
        <p:spPr>
          <a:xfrm flipH="1">
            <a:off x="6786720" y="3143160"/>
            <a:ext cx="643320" cy="1643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6" name="Прямая со стрелкой 28"/>
          <p:cNvCxnSpPr/>
          <p:nvPr/>
        </p:nvCxnSpPr>
        <p:spPr>
          <a:xfrm flipH="1">
            <a:off x="-1800" y="5573520"/>
            <a:ext cx="360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87" name="Прямая со стрелкой 41"/>
          <p:cNvCxnSpPr/>
          <p:nvPr/>
        </p:nvCxnSpPr>
        <p:spPr>
          <a:xfrm flipH="1">
            <a:off x="3641400" y="1571400"/>
            <a:ext cx="2160" cy="214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547640" y="1566720"/>
            <a:ext cx="5975640" cy="45529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Corbel"/>
              </a:rPr>
              <a:t>Пластиды 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20840" y="2588760"/>
            <a:ext cx="8229600" cy="15606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rbel"/>
              </a:rPr>
              <a:t>Хлоропласты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cxnSp>
        <p:nvCxnSpPr>
          <p:cNvPr id="491" name="Прямая со стрелкой 4"/>
          <p:cNvCxnSpPr/>
          <p:nvPr/>
        </p:nvCxnSpPr>
        <p:spPr>
          <a:xfrm>
            <a:off x="4535280" y="1267920"/>
            <a:ext cx="1477080" cy="2017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F:\МОИ ДОКУМЕНТЫ-2\картинки биология\общая биология\цитология\микроскоп и приготовление препаратов\этапы приготовления препарата.jpg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2"/>
          <p:cNvSpPr/>
          <p:nvPr/>
        </p:nvSpPr>
        <p:spPr>
          <a:xfrm>
            <a:off x="1643040" y="571680"/>
            <a:ext cx="5929200" cy="128556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так, повторите еще этапы приготовления микропрепа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5:09:28Z</dcterms:created>
  <dc:creator>user</dc:creator>
  <dc:description/>
  <dc:language>en-US</dc:language>
  <cp:lastModifiedBy>Анжелика</cp:lastModifiedBy>
  <dcterms:modified xsi:type="dcterms:W3CDTF">2018-12-05T17:56:38Z</dcterms:modified>
  <cp:revision>99</cp:revision>
  <dc:subject/>
  <dc:title>Особенности ЕГЭ по биологии 2012 год</dc:title>
</cp:coreProperties>
</file>