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4.png" ContentType="image/png"/>
  <Override PartName="/ppt/media/camera.wav" ContentType="audio/x-wav"/>
  <Override PartName="/ppt/media/explode.wav" ContentType="audio/x-wav"/>
  <Override PartName="/ppt/media/image16.png" ContentType="image/png"/>
  <Override PartName="/ppt/media/chimes.wav" ContentType="audio/x-wav"/>
  <Override PartName="/ppt/media/image1.jpeg" ContentType="image/jpeg"/>
  <Override PartName="/ppt/media/image2.png" ContentType="image/pn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ADA-9A40-416F-B6E6-CCCFBC84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175-CD43-409B-8FFE-B376BE48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932F8-6180-4BB2-B474-1C4D0C8C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82713-53DE-46DB-92E9-15EF55BA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2EBC3-AA0C-4C23-9A52-2A82AA9E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385E2-C9CF-4F58-BDAF-8F69FD5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70ACD-87EE-4E75-B57B-B4D10AD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1CE95-30EF-4701-AEEE-F4606EAC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00B75-9C9A-4A11-86E7-48B43703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25499-7D14-4492-A854-9583D3B0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D5FD9-74AB-40FC-9BCF-069177B1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6AE26-4AA5-41AF-911C-D40FC7C6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62F-3E16-4B41-87D6-37556D1B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31B0F-2BA8-4CC4-B10F-C1266DCC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68760-ACF9-4CA5-939B-798BBA90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E17C2-78F7-4CD1-BDAB-65C4CF63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5A251-8055-4049-B074-6FCF7FC5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DA5F0-3D91-4660-B538-6DAA4CE8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C3F2A-A7BB-4D83-A868-E8BCBD57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FB6ED-4955-4D36-BADE-B47E609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BFB72-3C28-4CD0-A775-E310CE2A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B517D-DBC1-4272-9CBB-15A737E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B5B7B-89DB-4C20-B07D-8A09CD8B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EED-4C3F-498B-978D-766BE38C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DD943-6838-4585-B8C9-BE28626B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7CED-2651-4C6B-AA3A-E49CA938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CEBE-A576-4E4F-9681-DDEEFC0A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12E8-73A0-4B65-A994-1C2108C2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C98F-DB4F-484E-894A-11DBF13D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15A1-1A19-4E30-BC6C-11B64CFC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7B2E-EFC4-472A-8E2D-114F5500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A361-B916-4E06-9261-2524BA9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416-2529-4329-BFA9-C2943ED7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8611-20B6-4BD5-887E-84809756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5D46-1759-4248-BE8F-91F9A934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90DC-AB93-4502-8F6C-DEA62E62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E77F-860C-4C01-B4BE-FA0EC6C3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D8B5-4656-41E3-AC5B-30011230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D373-285F-49CA-AD8B-AA944350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E25B-F2C9-463D-8055-0FA0F9CF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C4B1-811A-422E-9938-0F730195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A990-9732-49DB-BA1B-AF2F63F0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E8963-8BFD-40FC-85D9-337DE15D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024-EE29-4F83-A455-EAC40AD2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81702-55CA-4F5F-B8F6-2FAC8539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4FB1-ED05-4F53-BC72-EA1A7D0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0AFD-B0CE-42F7-B526-B045D32E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29BC-8349-4DA0-A30F-ABF3C4B7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F8D9-4979-4946-82AA-5AB53812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98C5-1B61-408E-827F-97B07174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0A11-B1E3-4C3B-80A4-B03E71AB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D6888-7AE8-4163-BD20-F746071D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4D1BD-5DC2-4333-8934-205F5742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911B9-CAE1-4097-98AF-145E9305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57C-F1AC-457B-983A-125B7A54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472C5-672F-47E1-B92D-37A59685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E7CD-95A8-4D71-989A-22BFE8CE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65B33-70C2-4161-A0D8-81B3A304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21A3-EA42-4DC7-B7BE-34DA6C6D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75DAF-E7A3-4E16-A662-04A5181B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6D7E1-EED8-4B0F-AB3B-30C73401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22886-5E7F-4051-B398-2082EBAB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D4C10-915E-439B-8C6E-60E592C1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C7C8-E84B-47E4-88EC-D2DA611A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0319A-F191-4B5E-A7E7-0A6DD5AC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181-87FF-40E6-BF39-3D9D0EA2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C1D53-3402-4F8D-8E1D-25AFEF14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790EF-B0D7-4801-8CB3-269AE93D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74F26-3F63-4126-9696-034CFD1A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EC621-0E2F-4ADF-8A3C-83E3BF85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6FA6B-B56E-41A3-B9D0-42F72F13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C3458-C530-4C69-85FA-96A5A9BB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2FAD7-E138-4759-9A40-589EF9F3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B9728-44A0-4C32-A9FF-64756A0E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53B8-ED60-45DE-9168-7F607BEF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DD12C-DC5A-492F-9BDE-6049F5D1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286-6074-4D62-A869-5315980F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F4BDB-CFDC-4504-9280-7FD992EA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86ACF-399D-4062-86E3-80777D84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62D57-706C-408E-9601-719552EF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EDF82-4FCE-4F7A-9AAF-3D4281E0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06E32-736C-47AB-A38C-9FEBE48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D609F-3E27-4FB4-8FA9-100619D9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5F585-056F-476C-BA2B-65FD582D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85FE5-8913-4083-8734-34A7ACB2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69DAC-D25A-43DF-A3D2-D000E578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39E26-AD44-4803-A3D1-8BBA0C22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DCF-81C8-48E7-8110-B6556AB5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E59EC-B002-447C-BF7A-D7A3B399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C35DC-15B1-499C-969E-DC2D8FCF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572F7-E750-4C21-8638-2F8646AC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73B94-FDD4-4655-972D-6D4E2FFD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42EF2-661B-40C8-A2CF-E13B9236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BC6B7-2729-4D29-AF65-7C99B3BC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59C53-ABB5-49FD-A5F0-8736F9C1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E33D4-9977-453A-9F93-83648A91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F7C75-396A-4823-B3A0-3AA4B46F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8F44E-CCFF-491E-9D4B-C40011B3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C9D-8830-4F7B-AAF2-93D41BF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16AB5-497E-4A2B-B739-77882A3D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61FC5-1AE0-4B27-BFFA-B4650DC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76367-9DCE-4EB0-96D5-F2B9B607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A343B-E874-4411-8CF7-8B486FDA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03824-F715-47C9-A87B-202AE9B9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5B363-5AE0-4A94-8147-3F912EB2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73758-6A80-4A87-9C43-D9193D73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72D81-F960-4733-A926-2F8D65CE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4F14D-408C-4440-BF68-E4A25371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5C3CF-CB52-4009-A894-98CC859C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76E-5D59-4D3B-9487-F88F8632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915CF-0BF2-40F7-8C4C-B02BF812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25496-C149-444B-83B9-1D86C256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03B09-FFF4-438B-80D7-18DA5670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98CB1-08FD-43B8-A170-35B4D3B6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038E1-85CC-4169-AF45-4F4E631E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A3DB3-6472-4274-BEBE-E01D180A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A4DBB-C788-4E75-AF01-44D7D056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4E44C-0372-45A1-AE20-69B20DAA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DE014-0AC1-4B49-8268-620596F0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CB356-35E5-4883-8BB6-400576BE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450E-FB11-4C2E-8C87-E6C7D69F98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FE7B-D5A2-4B82-8C4E-D981F296AA0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D43D-494F-4F6F-B16C-41A753666DF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E41B-163A-41D6-89E0-0BD92964215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F696-9899-4B31-98F0-BBC8F4651F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52B5-7BB3-467F-A5E7-36CF3E2F0A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32A-00E1-4CBF-A7A7-A091D5F9E0B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5BC3-9F1D-427D-8F6E-877D6C3A52C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F398-15A8-497D-A5D8-888B73AEF1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C0CE-86C2-4F4C-93D5-176F7CB2C2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audio" Target="../media/explode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" Target="slide8.xml"/><Relationship Id="rId5" Type="http://schemas.openxmlformats.org/officeDocument/2006/relationships/image" Target="../media/image21.png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42960" y="1267920"/>
            <a:ext cx="850104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rbel"/>
              </a:rPr>
              <a:t>«Приготовление препарата   кожицы чешуи лука»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250020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одготовила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учитель биологии МКОУ СОШ № 15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Айрапетян Анжелика Вагиф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037040" cy="54864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58920" y="333360"/>
            <a:ext cx="5545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ff"/>
                </a:solidFill>
                <a:latin typeface="Georgia"/>
              </a:rPr>
              <a:t>Микроскоп поставили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 rot="18922800">
            <a:off x="2268360" y="3860280"/>
            <a:ext cx="2016360" cy="439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"/>
          <p:cNvPicPr/>
          <p:nvPr/>
        </p:nvPicPr>
        <p:blipFill>
          <a:blip r:embed="rId3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"/>
          <p:cNvPicPr/>
          <p:nvPr/>
        </p:nvPicPr>
        <p:blipFill>
          <a:blip r:embed="rId4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"/>
          <p:cNvPicPr/>
          <p:nvPr/>
        </p:nvPicPr>
        <p:blipFill>
          <a:blip r:embed="rId5"/>
          <a:stretch/>
        </p:blipFill>
        <p:spPr>
          <a:xfrm>
            <a:off x="5076720" y="2997360"/>
            <a:ext cx="3311640" cy="33112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9"/>
          <p:cNvSpPr/>
          <p:nvPr/>
        </p:nvSpPr>
        <p:spPr>
          <a:xfrm>
            <a:off x="3348000" y="1052640"/>
            <a:ext cx="540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Препарат - на сто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3492360" y="1700280"/>
            <a:ext cx="56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Объектив направ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Глядь, а лук – из дол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692360" y="40464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Georgia"/>
              </a:rPr>
              <a:t>Дольки это клет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052720" y="1919160"/>
            <a:ext cx="5113080" cy="4040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5"/>
          <p:cNvSpPr/>
          <p:nvPr/>
        </p:nvSpPr>
        <p:spPr>
          <a:xfrm>
            <a:off x="2195640" y="3645000"/>
            <a:ext cx="1224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"/>
          <p:cNvSpPr/>
          <p:nvPr/>
        </p:nvSpPr>
        <p:spPr>
          <a:xfrm flipV="1">
            <a:off x="1476360" y="4005000"/>
            <a:ext cx="93492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 flipH="1">
            <a:off x="250920" y="4724280"/>
            <a:ext cx="1225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8"/>
          <p:cNvSpPr txBox="1"/>
          <p:nvPr/>
        </p:nvSpPr>
        <p:spPr>
          <a:xfrm>
            <a:off x="324000" y="4365720"/>
            <a:ext cx="1137960" cy="2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ле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10" name="Line 9"/>
          <p:cNvSpPr/>
          <p:nvPr/>
        </p:nvSpPr>
        <p:spPr>
          <a:xfrm flipH="1">
            <a:off x="5219280" y="3789360"/>
            <a:ext cx="20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0"/>
          <p:cNvSpPr/>
          <p:nvPr/>
        </p:nvSpPr>
        <p:spPr>
          <a:xfrm flipH="1">
            <a:off x="4788000" y="3789360"/>
            <a:ext cx="2520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1"/>
          <p:cNvSpPr/>
          <p:nvPr/>
        </p:nvSpPr>
        <p:spPr>
          <a:xfrm flipH="1">
            <a:off x="5724360" y="3789360"/>
            <a:ext cx="1656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2"/>
          <p:cNvSpPr txBox="1"/>
          <p:nvPr/>
        </p:nvSpPr>
        <p:spPr>
          <a:xfrm>
            <a:off x="7524720" y="342900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1692360" y="1052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Georgia"/>
              </a:rPr>
              <a:t>С ядрами вну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4608720" cy="34383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4363560"/>
            <a:ext cx="822960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ff"/>
                </a:solidFill>
                <a:latin typeface="Georgia"/>
              </a:rPr>
              <a:t>Вакуоли круп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ff"/>
                </a:solidFill>
                <a:latin typeface="Georgia"/>
              </a:rPr>
              <a:t>В клетке рассмотр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3564000" y="1916280"/>
            <a:ext cx="115236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3564000" y="2205000"/>
            <a:ext cx="86364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>
            <a:off x="971640" y="2205000"/>
            <a:ext cx="259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WordArt 8"/>
          <p:cNvSpPr txBox="1"/>
          <p:nvPr/>
        </p:nvSpPr>
        <p:spPr>
          <a:xfrm>
            <a:off x="900000" y="1773360"/>
            <a:ext cx="19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акуо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393516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545440" cy="3600360"/>
          </a:xfrm>
          <a:prstGeom prst="rect">
            <a:avLst/>
          </a:prstGeom>
          <a:ln w="0">
            <a:noFill/>
          </a:ln>
        </p:spPr>
      </p:pic>
      <p:sp>
        <p:nvSpPr>
          <p:cNvPr id="526" name="WordArt 6"/>
          <p:cNvSpPr txBox="1"/>
          <p:nvPr/>
        </p:nvSpPr>
        <p:spPr>
          <a:xfrm>
            <a:off x="611280" y="3933720"/>
            <a:ext cx="554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c765"/>
                </a:solidFill>
                <a:latin typeface="Times New Roman"/>
              </a:rPr>
              <a:t>Снаружи - оболочк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c765"/>
              </a:solidFill>
              <a:latin typeface="Times New Roman"/>
              <a:ea typeface="Times New Roman"/>
            </a:endParaRPr>
          </a:p>
        </p:txBody>
      </p:sp>
      <p:sp>
        <p:nvSpPr>
          <p:cNvPr id="527" name="Line 7"/>
          <p:cNvSpPr/>
          <p:nvPr/>
        </p:nvSpPr>
        <p:spPr>
          <a:xfrm flipH="1" flipV="1">
            <a:off x="1979280" y="3068280"/>
            <a:ext cx="1297080" cy="108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WordArt 8"/>
          <p:cNvSpPr txBox="1"/>
          <p:nvPr/>
        </p:nvSpPr>
        <p:spPr>
          <a:xfrm>
            <a:off x="1908000" y="4581360"/>
            <a:ext cx="5328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7dec9"/>
                </a:solidFill>
                <a:latin typeface="Times New Roman"/>
              </a:rPr>
              <a:t>Под нею - цитоплазм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7dec9"/>
              </a:solidFill>
              <a:latin typeface="Times New Roman"/>
              <a:ea typeface="Times New Roman"/>
            </a:endParaRPr>
          </a:p>
        </p:txBody>
      </p:sp>
      <p:sp>
        <p:nvSpPr>
          <p:cNvPr id="529" name="Line 9"/>
          <p:cNvSpPr/>
          <p:nvPr/>
        </p:nvSpPr>
        <p:spPr>
          <a:xfrm flipH="1" flipV="1">
            <a:off x="4643280" y="1341000"/>
            <a:ext cx="216072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10"/>
          <p:cNvSpPr txBox="1"/>
          <p:nvPr/>
        </p:nvSpPr>
        <p:spPr>
          <a:xfrm>
            <a:off x="2987640" y="5300640"/>
            <a:ext cx="5472000" cy="1297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Зелёные пласт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Искать будешь напрас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914400" y="28548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2" name="Picture 6" descr=""/>
          <p:cNvPicPr/>
          <p:nvPr/>
        </p:nvPicPr>
        <p:blipFill>
          <a:blip r:embed="rId1"/>
          <a:stretch/>
        </p:blipFill>
        <p:spPr>
          <a:xfrm>
            <a:off x="2428920" y="3286080"/>
            <a:ext cx="4357800" cy="26560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7"/>
          <p:cNvSpPr/>
          <p:nvPr/>
        </p:nvSpPr>
        <p:spPr>
          <a:xfrm>
            <a:off x="142920" y="10000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Monotype Corsiva"/>
              </a:rPr>
              <a:t>1.Растения состоят из клет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214200" y="1714680"/>
            <a:ext cx="8643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Monotype Corsiva"/>
              </a:rPr>
              <a:t>2. Разные клетки имеют одинаковое строение: оболочку, цитоплазму, ядр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11"/>
          <p:cNvSpPr txBox="1"/>
          <p:nvPr/>
        </p:nvSpPr>
        <p:spPr>
          <a:xfrm>
            <a:off x="642960" y="6072120"/>
            <a:ext cx="784872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Запиши выводы в тетрадь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cc66"/>
                </a:solidFill>
                <a:latin typeface="Times New Roman"/>
              </a:rPr>
              <a:t>Вопросы для закреплени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68360" y="1484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Как вы готовили препарат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кожицы лук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1800360" cy="14652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2268360" y="3789360"/>
            <a:ext cx="1944720" cy="1677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3"/>
          <a:stretch/>
        </p:blipFill>
        <p:spPr>
          <a:xfrm>
            <a:off x="4356000" y="4437000"/>
            <a:ext cx="2089080" cy="161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4797360"/>
            <a:ext cx="2158920" cy="1641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F:\МОИ ДОКУМЕНТЫ-2\картинки биология\растения\морфоллогия и внутреннее строение растений\клетка , увеличительные приборы, гербарии\современный микроскоп.jpg"/>
          <p:cNvPicPr/>
          <p:nvPr/>
        </p:nvPicPr>
        <p:blipFill>
          <a:blip r:embed="rId1"/>
          <a:stretch/>
        </p:blipFill>
        <p:spPr>
          <a:xfrm>
            <a:off x="285840" y="428760"/>
            <a:ext cx="4500360" cy="64483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http://im0-tub-ru.yandex.net/i?id=71eb7e7f045190345fed39f103ff6a29&amp;n=24"/>
          <p:cNvPicPr/>
          <p:nvPr/>
        </p:nvPicPr>
        <p:blipFill>
          <a:blip r:embed="rId2"/>
          <a:stretch/>
        </p:blipFill>
        <p:spPr>
          <a:xfrm>
            <a:off x="4714920" y="1346040"/>
            <a:ext cx="4214880" cy="444024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4"/>
          <p:cNvSpPr/>
          <p:nvPr/>
        </p:nvSpPr>
        <p:spPr>
          <a:xfrm>
            <a:off x="3857760" y="2858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личительные приборы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к определить увеличение светового микроскопа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68" name="Picture 2" descr="F:\МОИ ДОКУМЕНТЫ-2\картинки биология\общая биология\цитология\микроскоп и приготовление препаратов\окуляры и объективы.jpg"/>
          <p:cNvPicPr/>
          <p:nvPr/>
        </p:nvPicPr>
        <p:blipFill>
          <a:blip r:embed="rId1"/>
          <a:srcRect l="2213" t="8310" r="8510" b="12726"/>
          <a:stretch/>
        </p:blipFill>
        <p:spPr>
          <a:xfrm>
            <a:off x="857160" y="1785960"/>
            <a:ext cx="746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Arial"/>
                <a:ea typeface="Calibri"/>
              </a:rPr>
              <a:t>Определите порядок слов</a:t>
            </a: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Calibri"/>
              </a:rPr>
              <a:t>.</a:t>
            </a:r>
            <a:br>
              <a:rPr sz="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Calibri"/>
              </a:rPr>
              <a:t>Живое, все, из, состоит, клеток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b050"/>
                </a:solidFill>
                <a:latin typeface="Corbel"/>
              </a:rPr>
              <a:t>Правильный ответ</a:t>
            </a:r>
            <a:r>
              <a:rPr b="1" lang="en-US" sz="3900" spc="-1" strike="noStrike">
                <a:solidFill>
                  <a:srgbClr val="00b050"/>
                </a:solidFill>
                <a:latin typeface="Gill Sans MT"/>
              </a:rPr>
              <a:t>: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rbel"/>
              </a:rPr>
              <a:t>Все живое состоит из клеток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Составьте схему из предложенных слов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rbel"/>
              </a:rPr>
              <a:t>Ядро, цитоплазма , клетка, вакуоли, оболочка, пластиды, хлоропласты, лейкопласты,  хромопласты, органоиды, хлорофилл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b050"/>
                </a:solidFill>
                <a:latin typeface="Corbel"/>
              </a:rPr>
              <a:t>Правильный ответ</a:t>
            </a:r>
            <a:r>
              <a:rPr b="1" lang="en-US" sz="4300" spc="-1" strike="noStrike">
                <a:solidFill>
                  <a:srgbClr val="00b050"/>
                </a:solidFill>
                <a:latin typeface="Gill Sans MT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8760" y="107136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Клет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органои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Оболочка ядро цитоплазма вакуоли пласти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хлоропласты           хромопла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                                                      </a:t>
            </a: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лейкопла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77" name="Прямая со стрелкой 7"/>
          <p:cNvCxnSpPr/>
          <p:nvPr/>
        </p:nvCxnSpPr>
        <p:spPr>
          <a:xfrm flipH="1">
            <a:off x="3571560" y="2000160"/>
            <a:ext cx="216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78" name="Прямая со стрелкой 10"/>
          <p:cNvCxnSpPr/>
          <p:nvPr/>
        </p:nvCxnSpPr>
        <p:spPr>
          <a:xfrm flipH="1">
            <a:off x="1213920" y="2286000"/>
            <a:ext cx="2286720" cy="714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79" name="Прямая со стрелкой 12"/>
          <p:cNvCxnSpPr/>
          <p:nvPr/>
        </p:nvCxnSpPr>
        <p:spPr>
          <a:xfrm flipH="1">
            <a:off x="2714040" y="2286000"/>
            <a:ext cx="857880" cy="714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0" name="Прямая со стрелкой 14"/>
          <p:cNvCxnSpPr/>
          <p:nvPr/>
        </p:nvCxnSpPr>
        <p:spPr>
          <a:xfrm>
            <a:off x="3643200" y="2286000"/>
            <a:ext cx="572400" cy="714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1" name="Прямая со стрелкой 16"/>
          <p:cNvCxnSpPr/>
          <p:nvPr/>
        </p:nvCxnSpPr>
        <p:spPr>
          <a:xfrm>
            <a:off x="3571560" y="2286000"/>
            <a:ext cx="2143800" cy="643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2" name="Прямая со стрелкой 18"/>
          <p:cNvCxnSpPr/>
          <p:nvPr/>
        </p:nvCxnSpPr>
        <p:spPr>
          <a:xfrm>
            <a:off x="3857760" y="2286000"/>
            <a:ext cx="3572640" cy="643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3" name="Прямая со стрелкой 20"/>
          <p:cNvCxnSpPr/>
          <p:nvPr/>
        </p:nvCxnSpPr>
        <p:spPr>
          <a:xfrm flipH="1">
            <a:off x="4071600" y="3285000"/>
            <a:ext cx="328680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4" name="Прямая со стрелкой 22"/>
          <p:cNvCxnSpPr/>
          <p:nvPr/>
        </p:nvCxnSpPr>
        <p:spPr>
          <a:xfrm flipH="1">
            <a:off x="7286040" y="3285720"/>
            <a:ext cx="143640" cy="8578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5" name="Прямая со стрелкой 24"/>
          <p:cNvCxnSpPr/>
          <p:nvPr/>
        </p:nvCxnSpPr>
        <p:spPr>
          <a:xfrm flipH="1">
            <a:off x="6786720" y="3143160"/>
            <a:ext cx="643320" cy="1643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6" name="Прямая со стрелкой 28"/>
          <p:cNvCxnSpPr/>
          <p:nvPr/>
        </p:nvCxnSpPr>
        <p:spPr>
          <a:xfrm flipH="1">
            <a:off x="-1800" y="5573520"/>
            <a:ext cx="360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7" name="Прямая со стрелкой 41"/>
          <p:cNvCxnSpPr/>
          <p:nvPr/>
        </p:nvCxnSpPr>
        <p:spPr>
          <a:xfrm flipH="1">
            <a:off x="3641400" y="157140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547640" y="1566720"/>
            <a:ext cx="5975640" cy="45529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orbel"/>
              </a:rPr>
              <a:t>Пластиды 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20840" y="2588760"/>
            <a:ext cx="8229600" cy="156060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Хлоропласты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91" name="Прямая со стрелкой 4"/>
          <p:cNvCxnSpPr/>
          <p:nvPr/>
        </p:nvCxnSpPr>
        <p:spPr>
          <a:xfrm>
            <a:off x="4535280" y="1267920"/>
            <a:ext cx="1477080" cy="20170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F:\МОИ ДОКУМЕНТЫ-2\картинки биология\общая биология\цитология\микроскоп и приготовление препаратов\этапы приготовления препарата.jpg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2"/>
          <p:cNvSpPr/>
          <p:nvPr/>
        </p:nvSpPr>
        <p:spPr>
          <a:xfrm>
            <a:off x="1643040" y="571680"/>
            <a:ext cx="5929200" cy="12855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так, повторите еще этапы приготовления микропрепар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5:09:28Z</dcterms:created>
  <dc:creator>user</dc:creator>
  <dc:description/>
  <dc:language>en-US</dc:language>
  <cp:lastModifiedBy>Анжелика</cp:lastModifiedBy>
  <dcterms:modified xsi:type="dcterms:W3CDTF">2018-12-05T17:56:38Z</dcterms:modified>
  <cp:revision>99</cp:revision>
  <dc:subject/>
  <dc:title>Особенности ЕГЭ по биологии 2012 год</dc:title>
</cp:coreProperties>
</file>