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B16-0301-4ED6-9C3B-98EC7443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EBB-3874-4555-985D-1ABA35E9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460-2A2B-46E8-8223-20912B28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27B-CEAB-491F-91EE-129482BD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5634-8A50-436A-9694-A9D5068C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C28E-ABB0-4D1C-9BD7-67F76B06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0178-A436-452B-8B98-87CF3F3E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CB23-8078-488D-A3C8-3B28862E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4338-C98C-406F-B4E2-336030A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1104-E8BC-4140-81E7-7D6CE488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AA9B-A9FE-40F2-B2D1-F77282D6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550-376B-4200-8588-89499A0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8BCA-23BD-4423-8DC5-AE0046F8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753A-51CD-42D2-9BB7-2058C6C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247B-5184-4DE2-8DD4-CE379566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CF05-0986-462B-A3E6-99DEAA03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0306-DF25-4346-94BD-C68738C7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5326-D026-4618-8C5C-D9ED8640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55AF-BCD7-4455-BFFC-041B6772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B7AB-8EAA-4B94-8973-F58E0A48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996F-DC91-48B0-B90C-E8B220A3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FB71-834C-4BE0-87AA-A2E9310B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368-D978-4A4A-89DC-8EF9EB59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2374-3914-485C-B40C-0A77CCB7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41BD0-BBAE-4D7F-8F1B-34940E75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CA48-FBF8-4A9C-B7FA-F5A5D1B0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F3412-ACEC-4319-89A3-13F36AE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8938-F7EA-4FF4-9B98-BD23B5AB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8A10-1372-4A35-94DD-9411CC62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496C-4EAE-4C39-AD96-92DADFF9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5198-C0DC-4139-811F-FC6011A1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A195B-6F3A-4200-B7B9-91759DD9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D311-AAAC-4E6A-9B7D-42D0AD05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A13-446A-4DF4-9AB7-7971AA63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D5DF-41A3-49CB-BEC6-D6A612D7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2B7B-F7BA-49A3-8BEA-87669721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8040-2F18-481A-B12E-3FAA7DB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8ACA0-E43C-478D-9ECA-74971E1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5F58-5A76-4F54-975D-0709AFB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8665-392F-44CC-89F0-B7AA07D5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0667E-FF3F-46A7-8343-5E2DF52B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B77D-A85B-47F2-87DB-E30B4D6B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D86A-3EE9-4AD8-A68E-0A889263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DC1A1-2BB5-489B-B8D0-504CAB74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794-7B8F-4338-8310-405244E9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7E6C-3AEB-4168-80E6-19C511C5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FAD3A-A29D-481F-AEE7-3A505DD3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08909-453A-48A9-BADA-0743A435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9098E-3CF4-4708-A380-1FBB5A5A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6185B-ED82-4821-B735-711DBD44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CA832-9876-4C55-8AB8-BED438D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01BF5-DB19-44E2-BC84-7F516DF3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6140-CC3A-4F5C-95B8-3CE924EF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5381C-9C42-483C-B38C-79BEB458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67519-B432-4965-86A1-98682054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072-1541-4FEC-A52F-4F777ECC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75A69-5149-4BE9-8FB2-BDC6391B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45D-C6E3-4E1F-90CB-A310831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692-4ABB-4AEC-9D7B-2BEAE28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786-DF99-479B-9F96-851CF648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AB10-BB80-4C67-A19F-AEDDCDD469E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0E32-8197-44BC-8B67-FE8375A61F0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CF0E-7C9B-4788-819A-6AABBA47B67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17E7-DE35-4C5F-8899-8D4BC502440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405C-7993-42DA-B661-7D992F6048B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rebuchet MS"/>
              </a:rPr>
              <a:t>WHO </a:t>
            </a:r>
            <a:r>
              <a:rPr b="0" lang="ru-RU" sz="6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???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Trebuchet MS"/>
              </a:rPr>
              <a:t>WHICH</a:t>
            </a:r>
            <a:r>
              <a:rPr b="0" lang="ru-RU" sz="6600" spc="-1" strike="noStrike">
                <a:solidFill>
                  <a:srgbClr val="000000"/>
                </a:solidFill>
                <a:latin typeface="Trebuchet MS"/>
              </a:rPr>
              <a:t> - ???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Trebuchet MS"/>
              </a:rPr>
              <a:t>NOW fill  in your form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240" y="380520"/>
            <a:ext cx="79246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I hope one day cars ______ are made in Russia will be better than Japanese ones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 Brad Pitt ______ has been married twice is Rachel’s favourite acto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. The CD ______ you gave me for my birthday is my favourite now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. I want to know ______ actress is your favourit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. Stephen Hawking _______ wrote the book A Brief History Of Time is my favourite scientis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. People ______ live near the sea are healthier than people _____ live far away from i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. All these girls are so beautiful! _______ girl do you want to marr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8. Kiwi birds ____ only live in New Zealand can’t fly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7285320" cy="1109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914400"/>
            <a:ext cx="7238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ye specialist –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улис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mean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озна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asy-to-lear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легко выуч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foster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льнейше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spell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пись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ception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ключ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mainly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основн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more simila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больше похож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flectional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окончание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near flue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поним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assume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- дум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fully express yourself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ясно выразить мыс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nable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воз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limited amou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ограниченное количеств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finity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сконеч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04560" y="1609200"/>
            <a:ext cx="73911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</a:rPr>
              <a:t>3  5  2  4  6 1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7302600" cy="1695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33520" y="137160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peranto was designed over 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r Zamenhof was  an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peranto means ___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pelling is____  in Esperanto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words come from  _______languag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grammar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 only takes ____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11-24T10:02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