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674-225D-4A49-853E-30D4F63F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B60-0273-4A8A-9C8B-50E645A8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7DB1-E562-4C9D-A3EF-C19E0372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38F-07FB-41C4-8F66-4592349C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45D-E47C-453B-96E8-A6A11DFA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5978-9146-46B9-9ED3-C477B8C8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BB3-FEE4-4D27-B830-D4064DFB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FFCC-BE88-4B13-8011-E632630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FB09-5497-4835-8FD1-22D5AB2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0AB6-63BA-4FC2-BA74-60841FF4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317-3274-4508-927B-84CFAF8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455-60CA-47B8-BBE0-9AD75241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5AAF-21B8-467D-B4A6-A2B8C1A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1F9F-EC3A-450A-A51C-92D9E19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48D9-0387-4BAC-B27C-F91B465E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C03A-3249-433C-8036-A9C38FEF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1A26-CB64-45AB-83A7-6EE62A12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8059-585C-4068-9A6E-0196D3BA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26F0-33A8-477F-9698-21EB2D0C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4CFE4-3F40-4AFD-880F-15C4937E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3382-8946-403E-A5F7-796CB355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8ADC-BFB0-4EB0-B60E-262791C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5CB-F353-4C7E-8BD0-4BDFF7CF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C8803-88A4-4BC3-BEC7-51A4E76E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C9E5-2C6F-4291-93C9-179CCC3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8C70-7C4E-4F5D-8928-F3B85B6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0C6F-ED40-422F-AA82-0917643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01F3-1B00-4CD8-BE90-1FE86CC7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1A74-FAC7-49C4-B100-8B2CECEA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401F2-C918-49D3-8D77-F673C4B3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293D-426F-4A3A-87C9-4C805343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59065-F34E-4FB9-AC60-E4782A1C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B636E-E6EF-4523-BC7A-C02CB4A2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220-0498-48B2-941C-F14C37A0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6736-F5A1-42D2-9C40-A9E8670F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7CE38-A12A-4A5C-926B-CBF53CFE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4BEC-907E-48C4-91CA-79052582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DFBFC-D639-4306-8A14-C140EE9C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C078-0CE6-4970-86CE-1CF4C599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F078-A619-49D4-8ADE-034A335B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7F03-C66A-45FA-87FC-9CB445E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4B76-8874-4FAA-8EFC-BA8033A1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C388-98CA-46D9-B234-4CB1F231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3378-7012-4644-AA6E-DE749098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CF2-487E-470A-8A96-E3972128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6025B-6448-49FF-9E38-7098C3A6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E614-51EF-4C4A-A530-3AEE3DA6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E2E46-721F-44C3-9578-B232983A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A9CE-1E08-444D-BE52-87B6827D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014FE-3C8B-4DAB-A0EE-E987E4D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F7D6-4DAB-4DA7-8971-A7B1930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BD9B9-687F-4BF1-8B96-E7EEA2DB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4EA1D-0511-4B1D-B1FD-982A8B5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3D4C9-DB26-4FCC-88E8-EABA0E4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C5334-0CEE-4E25-BC81-8916217A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56E-D1C7-4DAC-BB0E-D8F77D9B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C7AD-C717-4199-9C35-020BA61B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359-72B3-4531-AC66-4B2B58F9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D93-6368-465D-9C7B-68B4801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E1F-FCF4-4F32-B874-5C9B9499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C5EF-3A14-40C5-B30F-3FA945937C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F41D-2391-4F21-9B40-A10FF5E9366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1B0F-AB0B-4150-BC4A-D63B1A4B014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E01-A760-458F-90BA-C415E918BD2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F648-E45A-4CA2-AD9A-A526F1C91A8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WHO </a:t>
            </a: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rebuchet MS"/>
              </a:rPr>
              <a:t>???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Trebuchet MS"/>
              </a:rPr>
              <a:t>WHICH</a:t>
            </a:r>
            <a:r>
              <a:rPr b="0" lang="ru-RU" sz="6600" spc="-1" strike="noStrike">
                <a:solidFill>
                  <a:srgbClr val="000000"/>
                </a:solidFill>
                <a:latin typeface="Trebuchet MS"/>
              </a:rPr>
              <a:t> - ???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Trebuchet MS"/>
              </a:rPr>
              <a:t>NOW fill  in your form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380520"/>
            <a:ext cx="79246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.I hope one day cars ______ are made in Russia will be better than Japanese ones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. Brad Pitt ______ has been married twice is Rachel’s favourite acto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. The CD ______ you gave me for my birthday is my favourite no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. I want to know ______ actress is your favouri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. Stephen Hawking _______ wrote the book A Brief History Of Time is my favourite scientis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. People ______ live near the sea are healthier than people _____ live far away from i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. All these girls are so beautiful! _______ girl do you want to marry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8. Kiwi birds ____ only live in New Zealand can’t fly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7285320" cy="1109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914400"/>
            <a:ext cx="7238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ye specialist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улис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ea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- озна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asy-to-lear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легко выучи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oster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льнейше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spell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письм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xception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клю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ainly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основн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ore simila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больше похож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flectional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окончание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near flue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поним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assume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дум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ully express yourself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ясно выразить мыс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enable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возможн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limited amount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– ограниченное количеств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Infinity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rebuchet MS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есконеч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04560" y="1609200"/>
            <a:ext cx="73911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rebuchet MS"/>
              </a:rPr>
              <a:t>3  5  2  4  6 1</a:t>
            </a: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7302600" cy="16952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533520" y="137160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peranto was designed over 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r Zamenhof was  an 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speranto means ___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pelling is____  in Esperanto.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words come from  _______languag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grammar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 only takes ____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11-24T10:02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