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14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44C-421D-4C12-A590-9D1865787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FE67-9422-40CC-84D4-412D04542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9FB-B1EE-46BA-88E1-6FA2DED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CFE-F918-47E6-A237-98FBCB9A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8A-BBAB-440A-B35C-698EDE76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3C9-6530-4B4A-B104-933DE876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990-31EC-4A7F-AE42-A9124EAF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50E-8A32-4CD3-B799-0B63CB6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6FA-6B77-4516-A35C-856A18E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1C2-F247-4A20-89F3-B55233E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ACE-6F08-47D6-8463-5935E26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081-8696-4461-A4A5-3F3500B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521-84C1-4F4E-8D8C-4EDA4D4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569-2227-43AE-808E-B0ABFCAF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47C-21FC-4263-A279-B8D770BC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0800" y="2708280"/>
            <a:ext cx="751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Землю красит солнц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а человека – труд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2236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07720" y="3442680"/>
            <a:ext cx="6858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недовольн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604a7b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радос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неуверенно    возмущё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с оби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3457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3644640"/>
            <a:ext cx="3529080" cy="21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едовольн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 обидой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озмущё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456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5280" y="2276640"/>
            <a:ext cx="292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гор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2960" y="3429000"/>
            <a:ext cx="8341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Желание исправить свой пром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5320" y="4508640"/>
            <a:ext cx="320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блег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1360" y="2349360"/>
            <a:ext cx="2216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Рад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90160" y="4581360"/>
            <a:ext cx="1841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би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2737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216720" y="260280"/>
            <a:ext cx="95853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дчеркни синим карандашом какой Котьк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начале, а зелёным – каким стал в кон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160" y="3006720"/>
            <a:ext cx="78343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итрый, сообразительный, заботли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ленивый, непредусмотритель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удолюб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500280"/>
            <a:ext cx="1439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3500280"/>
            <a:ext cx="3240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3500280"/>
            <a:ext cx="237636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229360"/>
            <a:ext cx="3240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63640" y="-108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522936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79560"/>
            <a:ext cx="8820000" cy="21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Составьте картин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ссказа. Озаглавьте каждую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79640" y="2592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024360" cy="2206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384720" cy="214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916360" cy="195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3240000" cy="224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17720" y="6338880"/>
            <a:ext cx="3231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Друж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0600" y="2565000"/>
            <a:ext cx="34635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Котька посып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горку пес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6103080"/>
            <a:ext cx="4032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ебята возмущ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1560" y="2997000"/>
            <a:ext cx="3087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ебята стро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нежную го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520" y="1052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3520" y="1052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20" y="4149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99520" y="39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8360" y="907920"/>
            <a:ext cx="822960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Поспешишь – людей насмеш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 Семь раз отмерь, а один раз отре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Умел ошибиться, умей и поп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0960" y="3142080"/>
            <a:ext cx="482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хлопали лопатой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сделали горбатой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били, колотили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едяной водой обли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И скатились все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 моего хребта гу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652920" cy="244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438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640" cy="144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120" y="155664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Горк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74520" y="1483200"/>
            <a:ext cx="758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озвышенность, поднимающая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д окружающей мест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276560" cy="252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120" y="321228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Горк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0120" y="328356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шкаф для красивой посу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263680" cy="169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635280" y="4508640"/>
            <a:ext cx="2352600" cy="17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0920" y="-45360"/>
            <a:ext cx="51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Толковый сло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78920" y="1628640"/>
            <a:ext cx="95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Можно ли ленивого человека на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трудиться и уважать чужой тру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14796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7480" y="33264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2675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. П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720" y="1988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с произведением Н. Носова «На горк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7075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2. У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03120" y="3357360"/>
            <a:ext cx="73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можно ли ленивого человека на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трудиться и уважать чужой тру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580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4651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характеристику геро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271840"/>
            <a:ext cx="47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 Проанализиров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594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поступки геро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40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6912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СГРЕ-БА-ЛИ - СГРЕБ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ВЗОБ-РАЛ-СЯ - ВЗОБР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56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ОТ-ТОЛК-НУЛ-СЯ - ОТТОЛКНУ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6439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СКОЛЬЗ-КА-Я - СКОЛЬЗ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76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Четверень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28519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вор-ниц-ка-я – дворницка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5480" y="393336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помещение, в котором  дворник хра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приспособления для уборки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40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6:42:28Z</dcterms:created>
  <dc:creator>а-пк</dc:creator>
  <dc:description/>
  <dc:language>en-US</dc:language>
  <cp:lastModifiedBy>а-пк</cp:lastModifiedBy>
  <dcterms:modified xsi:type="dcterms:W3CDTF">2014-12-04T19:02:54Z</dcterms:modified>
  <cp:revision>12</cp:revision>
  <dc:subject/>
  <dc:title>Слайд 1</dc:title>
</cp:coreProperties>
</file>