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gif" ContentType="image/gif"/>
  <Override PartName="/ppt/media/image14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3D10-4630-4F37-BF96-D99216D819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19F1-6388-46A3-8D8E-E249672B25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162-DA1E-412C-A561-A1B21127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82C-0045-4698-A710-B71C2641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3DD-E2B5-4B2C-8AB9-DE680075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4C9-D833-4A86-8CC6-C6028F55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8A6-91C5-425F-99FE-5F66694C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D2F-6DAD-464C-B85A-262AE393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A5E-BBF5-4338-B369-2ADD57BE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714E-B6E9-42EF-BE57-859AFAD5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C96-76E7-40E0-9710-C24D9EB1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786-9C34-40C1-B0BB-296986ED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1A1-30C5-44E2-BB35-90EE1CE7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094-D977-43D5-8A61-071F5107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4BB0-B13E-4E49-9129-4D5736A69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0800" y="2708280"/>
            <a:ext cx="751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Землю красит солнце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а человека – труд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43640" y="5013360"/>
            <a:ext cx="2162160" cy="142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68360" y="404640"/>
            <a:ext cx="2236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07720" y="3442680"/>
            <a:ext cx="68580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         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604a7b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недовольно</a:t>
            </a: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604a7b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604a7b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радост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неуверенно    возмущё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Arial"/>
              </a:rPr>
              <a:t>с обидо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260280"/>
            <a:ext cx="34574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3644640"/>
            <a:ext cx="3529080" cy="21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недовольн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о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с обидой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озмущён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700360" y="404640"/>
            <a:ext cx="3456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5280" y="2276640"/>
            <a:ext cx="2926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Огор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2960" y="3429000"/>
            <a:ext cx="8341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Желание исправить свой пром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5320" y="4508640"/>
            <a:ext cx="320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Облегч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1360" y="2349360"/>
            <a:ext cx="2216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Рад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90160" y="4581360"/>
            <a:ext cx="18417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Обид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273708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216720" y="260280"/>
            <a:ext cx="958536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Подчеркни синим карандашом какой Котька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вначале, а зелёным – каким стал в конц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расск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160" y="3006720"/>
            <a:ext cx="78343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Хитрый, сообразительный, заботлив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ленивый, непредусмотритель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рудолюбив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500280"/>
            <a:ext cx="14396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292640"/>
            <a:ext cx="15825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3500280"/>
            <a:ext cx="3240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3500280"/>
            <a:ext cx="237636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229360"/>
            <a:ext cx="3240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63640" y="-108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Работа в груп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20000" y="522936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979560"/>
            <a:ext cx="8820000" cy="21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Составьте картинный 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рассказа. Озаглавьте каждую ч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79640" y="25920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Работа в груп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3024360" cy="2206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219640" y="981000"/>
            <a:ext cx="3384720" cy="214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2916360" cy="195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508720" y="4076640"/>
            <a:ext cx="3240000" cy="224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17720" y="6338880"/>
            <a:ext cx="3231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Друж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40600" y="2565000"/>
            <a:ext cx="34635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Котька посып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горку пес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6103080"/>
            <a:ext cx="4032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Ребята возмущ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1560" y="2997000"/>
            <a:ext cx="3087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Ребята стро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снежную гор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520" y="1052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83520" y="1052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520" y="4149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99520" y="39337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468360" y="907920"/>
            <a:ext cx="822960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 Поспешишь – людей насмешиш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  Семь раз отмерь, а один раз отре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 Умел ошибиться, умей и поправ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90960" y="3142080"/>
            <a:ext cx="482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Меня хлопали лопатой,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Меня сделали горбатой,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Меня били, колотили,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Ледяной водой обли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И скатились все по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С моего хребта гу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652920" cy="244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64000" y="333360"/>
            <a:ext cx="3438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8640" cy="144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4120" y="1556640"/>
            <a:ext cx="21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Горка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74520" y="1483200"/>
            <a:ext cx="758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возвышенность, поднимающая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над окружающей местно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451640" y="3933720"/>
            <a:ext cx="1276560" cy="252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120" y="3212280"/>
            <a:ext cx="21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Горка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0120" y="328356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шкаф для красивой посу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4724280"/>
            <a:ext cx="2263680" cy="1697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635280" y="4508640"/>
            <a:ext cx="2352600" cy="1766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050920" y="-45360"/>
            <a:ext cx="510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Толковый слова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78920" y="1628640"/>
            <a:ext cx="95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Можно ли ленивого человека науч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трудиться и уважать чужой труд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5280" y="4581360"/>
            <a:ext cx="14796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7480" y="332640"/>
            <a:ext cx="166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26756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. П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720" y="198828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с произведением Н. Носова «На горке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70756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2. У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03120" y="3357360"/>
            <a:ext cx="739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можно ли ленивого человека науч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трудиться и уважать чужой тру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4580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 Д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46519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характеристику геро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271840"/>
            <a:ext cx="47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4. Проанализиров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594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поступки геро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52405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6912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СГРЕ-БА-ЛИ - СГРЕБ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55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ВЗОБ-РАЛ-СЯ - ВЗОБР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2564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ОТ-ТОЛК-НУЛ-СЯ - ОТТОЛКНУ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36439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СКОЛЬЗ-КА-Я - СКОЛЬЗ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763920"/>
            <a:ext cx="45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Четверень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292720" y="47628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285192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Двор-ниц-ка-я – дворницкая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5480" y="3933360"/>
            <a:ext cx="795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помещение, в котором  дворник хран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приспособления для уборки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52405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16:42:28Z</dcterms:created>
  <dc:creator>а-пк</dc:creator>
  <dc:description/>
  <dc:language>en-US</dc:language>
  <cp:lastModifiedBy>а-пк</cp:lastModifiedBy>
  <dcterms:modified xsi:type="dcterms:W3CDTF">2014-12-04T19:02:54Z</dcterms:modified>
  <cp:revision>12</cp:revision>
  <dc:subject/>
  <dc:title>Слайд 1</dc:title>
</cp:coreProperties>
</file>